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E68A-7F6C-448D-B5F4-6089195F8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REPLACEMENT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BORATORY EXAMINATION OF DOUBLE REPLACEMEN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1 GRAM OF EACH “SALT” TO 20 mL OF WATER IN TWO SEPARATE BEAKERS AND DISSOLVE, THEN MIX SOLUTIONS IN COMMON BEA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R THE CONTENTS OF THE BEAKER THROUGH THE FILTER PAPER FUNNEL 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, PRE-MASS THE DRY FILTER PAPER BEFORE FILT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ND CONCLU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UCT A DATA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WHY THE LAB RESULTS OCCURRED IN 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ORETICAL YIELD,  THEN PERCENT YIELD AND PERCENT ERR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CAL WRITING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FOR A SPECIFIC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LOWERY PROSE, GET TO THE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IS A LANGUAGE, CALCULATIONS ARE VITAL TO WRITE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 INFORM, MAKE A DECISION OR LEARN HOW TO DO SOME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GET A SPECIFIC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ROUP IS MIXED AUDIENCE, IF YOU CAN WRITE DIRECTIONS TO PUT A SWING SET TOGETHER YOU CAN WRITE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FOLLOW THE PROBLEM, CAUSE, SOLUTION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LENDS ITSELF TO THE LABORATORY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THE DETAIL, AMOUNT OF DESCRIP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S ENHANCE THE IMPACT OF A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. TO THE POINT, DESCRIPTIVE OF THE LA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. STATES CLEARLY THE QUESTION/PROBLEM AND WHY LAB WAS PER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DETAILS/RESULTS: EXPLAINS WHAT YOU DID AND WHY, AND LIST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G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R TIED 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S &amp; DISCUSSION ANALYZE THE RESULTS AND EXPLAIN WHAT HAPPENED IN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ONS: “REAL WORLD” USES OF THIS REACTION AND L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 MORE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NOWLEDGMENTS. LIST WHO CONTRIBUTED TO THE COMPLETION OF THE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. LIST ANY TEXTS OR MATERIAL USED IN THE WRITING OF YOU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TS &amp; BO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IN BLUE OR BLACK INK OR WORD PROC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 OF PAPER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S/ILLUSTRATION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POSTS, GOALPOSTS, GOALPO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ANY TYPES DOUBLE REPLACEMENT REACTIONS, SUCH AS ACID-BASE NEUTRALIZATION AND PRECIPI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IPITAT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REACTIONS IN WHICH AN INSOLUBLE SOLID IS FORMED AND SETTLES OUT OF SOLUTION, THE PRECIPI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/FORM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 + CD ----&gt; AD +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TIONS “TRADE” 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BALANCED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l2(aq) + Na2CO3(aq) -----&gt; 2NaCl(aq) + CaCO3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INGSTAND/WIRE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# 1 WHATMAN FILTER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BEAK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RTED FL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STIRRING R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ING O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8f8f8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a2CO3  SODIUM CARBO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aCl2  CALC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6CB-91E5-4837-A588-6BFB3B5F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30C-943F-4C38-8CDD-F832974A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FDE-4306-47CB-A905-297E1849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E717-3E48-45C8-BA04-8FD35CFC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82AE-75F5-4EA5-80C3-E83F3260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4C4E-E91C-4B53-8C58-8ABB2ED5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D698-84B2-43AF-9243-547B640F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4089-999E-4001-B2A9-D836CF81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8CE4-3AA4-4ED3-ABDE-E908661C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A042-9B68-46B6-8E97-34ECF4D9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784F-7E76-4A99-A2A3-074AE185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A937-C986-4962-8317-29C3EE98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C341-EF58-4FC5-B8D2-25FEA5EA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597E-4354-4655-A703-08E4D388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7C80-A9B9-4F35-9A3B-D33474350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0534-24B4-49F2-A4B6-C1919AB4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0517-B7E5-4927-BD09-94A2999E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EE2C-0A5D-46C0-8A36-4F39157A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E7B-BF81-4876-8A0E-18F4ACA2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5CBF-706C-494E-B8CA-89FDF3D4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D1C-41F3-49F3-832B-DAAC9C6C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A28-7EC2-4F29-A06F-FC645523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DB39-1A08-4ABA-A6D9-33B77A88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D03-F272-4B65-9D80-7C638BB6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5E08-A5F4-4DA7-8C78-B5C65C143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72E3-664E-480E-AD22-F3C6A99503B1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OUBLE REPLAC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7960" y="914400"/>
            <a:ext cx="380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 LABORATORY EXAMINATION OF DOUBLE REPLACEMENT REAC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5" descr="9"/>
          <p:cNvPicPr/>
          <p:nvPr/>
        </p:nvPicPr>
        <p:blipFill>
          <a:blip r:embed="rId1"/>
          <a:stretch/>
        </p:blipFill>
        <p:spPr>
          <a:xfrm>
            <a:off x="685800" y="19432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DD 1 GRAM OF EACH “SALT” TO 20 mL OF WATER IN TWO SEPARATE BEAKERS AND DISSOLVE, THEN MIX SOLUTIONS IN COMMON BEAKE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CEDURE CONTINUE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POUR THE CONTENTS OF THE BEAKER THROUGH THE FILTER PAPER FUNNEL ASSEMBLY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PROCEDU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REMEMBER, PRE-MASS THE DRY FILTER PAPER BEFORE FILTERING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ATA AND CONCLUS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ONSTRUCT A DATA TABL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ESCRIBE WHY THE LAB RESULTS OCCURRED IN CONCLUS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CALCULATE THEORETICAL YIELD,  THEN PERCENT YIELD AND PERCENT ERROR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CHNICAL WRITING PORTFOLI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RITING FOR A SPECIFIC PURPOS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NO FLOWERY PROSE, GET TO THE POIN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MATH IS A LANGUAGE, CALCULATIONS ARE VITAL TO WRITE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RPO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WRITING TO </a:t>
            </a:r>
            <a:r>
              <a:rPr b="1" lang="en-US" sz="4800" spc="-1" strike="noStrike">
                <a:solidFill>
                  <a:srgbClr val="f8f8f8"/>
                </a:solidFill>
                <a:latin typeface="Tahoma"/>
              </a:rPr>
              <a:t>INFORM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, MAKE A DECISION OR LEARN HOW TO DO SOMETHING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UDIE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ARGET A SPECIFIC GROU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OUR GROUP IS MIXED AUDIENCE, IF YOU CAN WRITE DIRECTIONS TO PUT A SWING SET TOGETHER YOU CAN WRITE ANYTHIN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WE WILL FOLLOW THE PROBLEM, CAUSE, SOLUTION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HIS LENDS ITSELF TO THE LABORATORY ORGANIZAT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RIT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CHOOSE THE DETAIL, AMOUNT OF DESCRIPI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GRAPHICS ENHANCE THE IMPACT OF A PAP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TITLE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. TO THE POINT, DESCRIPTIVE OF THE LAB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INTRODUCTION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STATES CLEARLY THE QUESTION/PROBLEM AND WHY LAB WAS PERFORMED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PERIMENTAL DETAILS/RESUL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: EXPLAINS WHAT YOU DID AND WHY, AND LISTS RESULT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SAFE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GOGGLE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HAIR TIED BACK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APRONS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CONCLUSIONS &amp; DISCUSSION</a:t>
            </a: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 ANALYZE THE RESULTS AND EXPLAIN WHAT HAPPENED IN THE LAB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EXTENSIONS: “REAL WORLD” USES OF THIS REACTION AND LI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ILL MORE COMPON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ACKNOWLEDGMENT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WHO CONTRIBUTED TO THE COMPLETION OF THE LAB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REFERENCES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. LIST ANY TEXTS OR MATERIAL USED IN THE WRITING OF YOUR PAP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UTS &amp; BOL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PAPER IN BLUE OR BLACK INK OR WORD PROCESS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FRONT OF PAPER ONL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TITLE PAG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RAWINGS/ILLUSTRATIONS REQUIRE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GOALPOSTS, GOALPOSTS, GOALPOST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EMICAL THEO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RE ARE MANY TYPES DOUBLE REPLACEMENT REACTIONS, SUCH AS ACID-BASE NEUTRALIZATION AND PRECIPITATION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CIPITATE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THESE ARE REACTIONS IN WHICH AN INSOLUBLE SOLID IS FORMED AND SETTLES OUT OF SOLUTION, TH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PRECIPITATE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/FORM EQU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 + 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----&gt; </a:t>
            </a: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D +  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n-US" sz="5400" spc="-1" strike="noStrike">
                <a:solidFill>
                  <a:srgbClr val="3333ff"/>
                </a:solidFill>
                <a:latin typeface="Tahoma"/>
              </a:rPr>
              <a:t>C</a:t>
            </a: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B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THE CATIONS “TRADE” PLACE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REAC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RITE THE BALANCED REACTION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6699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Na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2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CO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3(aq) 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-----&gt; 2NaCl</a:t>
            </a:r>
            <a:r>
              <a:rPr b="1" lang="en-US" sz="5400" spc="-1" strike="noStrike" baseline="-25000">
                <a:solidFill>
                  <a:srgbClr val="f8f8f8"/>
                </a:solidFill>
                <a:latin typeface="Courier New"/>
              </a:rPr>
              <a:t>(aq)</a:t>
            </a:r>
            <a:r>
              <a:rPr b="1" lang="en-US" sz="5400" spc="-1" strike="noStrike">
                <a:solidFill>
                  <a:srgbClr val="f8f8f8"/>
                </a:solidFill>
                <a:latin typeface="Courier New"/>
              </a:rPr>
              <a:t> + 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CaCO</a:t>
            </a:r>
            <a:r>
              <a:rPr b="1" lang="en-US" sz="5400" spc="-1" strike="noStrike" baseline="-25000">
                <a:solidFill>
                  <a:srgbClr val="0000ff"/>
                </a:solidFill>
                <a:latin typeface="Courier New"/>
              </a:rPr>
              <a:t>3(s)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RINGSTAND/WIRE TRIANGLE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FUNNEL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Tahoma"/>
              </a:rPr>
              <a:t># 1 WHATMAN FILTER PAPER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TERIA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BEAKER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ASSORTED FLASKS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GLASS STIRRING ROD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Tahoma"/>
              </a:rPr>
              <a:t>DRYING OVEN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G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Na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O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SODIUM CARBONAT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CaCl</a:t>
            </a:r>
            <a:r>
              <a:rPr b="1" lang="en-US" sz="4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  CALCIUM CHLOR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14:42:34Z</dcterms:created>
  <dc:creator>Graves County High School</dc:creator>
  <dc:description/>
  <dc:language>en-US</dc:language>
  <cp:lastModifiedBy>RomaK</cp:lastModifiedBy>
  <dcterms:modified xsi:type="dcterms:W3CDTF">2015-09-02T05:53:52Z</dcterms:modified>
  <cp:revision>23</cp:revision>
  <dc:subject/>
  <dc:title>DOUBLE REPLACEMENT reaction</dc:title>
</cp:coreProperties>
</file>