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6F4B-63EC-4BC9-A390-DEE11E41F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OUBLE REPLACEMENT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LABORATORY EXAMINATION OF DOUBLE REPLACEMENT REAC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REPLACEMENT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BORATORY EXAMINATION OF DOUBLE REPLACEMENT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DD 1 GRAM OF EACH “SALT” TO 20 mL OF WATER IN TWO SEPARATE BEAKERS AND DISSOLVE, THEN MIX SOLUTIONS IN COMMON BEAKE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1 GRAM OF EACH “SALT” TO 20 mL OF WATER IN TWO SEPARATE BEAKERS AND DISSOLVE, THEN MIX SOLUTIONS IN COMMON BEA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ROCEDURE CONTINUE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OUR THE CONTENTS OF THE BEAKER THROUGH THE FILTER PAPER FUNNEL ASSEMBL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 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UR THE CONTENTS OF THE BEAKER THROUGH THE FILTER PAPER FUNNE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ORE PROCEDUR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EMEMBER, PRE-MASS THE DRY FILTER PAPER BEFORE FILTER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 PRE-MASS THE DRY FILTER PAPER BEFORE FILT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ATA AND CONCLUSION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NSTRUCT A DATA TABL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SCRIBE WHY THE LAB RESULTS OCCURRED IN CONCLUS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ALCULATE THEORETICAL YIELD,  THEN PERCENT YIELD AND PERCENT ERROR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AND CONCLU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TRUCT A DATA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WHY THE LAB RESULTS OCCURRED IN 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ORETICAL YIELD,  THEN PERCENT YIELD AND PERCENT ERR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ECHNICAL WRITING PORTFOLIO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RITING FOR A SPECIFIC PURPOS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NO FLOWERY PROSE, GET TO THE POIN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ATH IS A LANGUAGE, CALCULATIONS ARE VITAL TO WRITEUP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CAL WRITING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FOR A SPECIFIC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FLOWERY PROSE, GET TO THE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IS A LANGUAGE, CALCULATIONS ARE VITAL TO WRITE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RITING TO INFORM, MAKE A DECISION OR LEARN HOW TO DO SOMETH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TO INFORM, MAKE A DECISION OR LEARN HOW TO DO SOME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UDIENC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ARGET A SPECIFIC GROUP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UR GROUP IS MIXED AUDIENCE, IF YOU CAN WRITE DIRECTIONS TO PUT A SWING SET TOGETHER YOU CAN WRITE ANYTH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D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RGET A SPECIFIC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GROUP IS MIXED AUDIENCE, IF YOU CAN WRITE DIRECTIONS TO PUT A SWING SET TOGETHER YOU CAN WRITE ANY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RGANIZA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E WILL FOLLOW THE PROBLEM, CAUSE, SOLUTION FORMA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IS LENDS ITSELF TO THE LABORATORY ORGANIZA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FOLLOW THE PROBLEM, CAUSE, SOLUTION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ENDS ITSELF TO THE LABORATORY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RIT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HOOSE THE DETAIL, AMOUNT OF DESCRIP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GRAPHICS ENHANCE THE IMPACT OF A PAPE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OSE THE DETAIL, AMOUNT OF DESCRIP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S ENHANCE THE IMPACT OF A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MPONEN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ITLE. TO THE POINT, DESCRIPTIVE OF THE LAB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NTRODUCTION. STATES CLEARLY THE QUESTION/PROBLEM AND WHY LAB WAS PERFORME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EXPERIMENTAL DETAILS/RESULTS: EXPLAINS WHAT YOU DID AND WHY, AND LISTS RESUL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LE. TO THE POINT, DESCRIPTIVE OF THE LA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. STATES CLEARLY THE QUESTION/PROBLEM AND WHY LAB WAS PER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DETAILS/RESULTS: EXPLAINS WHAT YOU DID AND WHY, AND LISTS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AFET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GOGGLE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AIR TIED BACK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PRON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G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IR TIED 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ORE COMPONEN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NCLUSIONS &amp; DISCUSSION ANALYZE THE RESULTS AND EXPLAIN WHAT HAPPENED IN THE LAB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EXTENSIONS: “REAL WORLD” USES OF THIS REACTION AND LI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S &amp; DISCUSSION ANALYZE THE RESULTS AND EXPLAIN WHAT HAPPENED IN THE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ONS: “REAL WORLD” USES OF THIS REACTION AND L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ILL MORE COMPONEN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CKNOWLEDGMENTS. LIST WHO CONTRIBUTED TO THE COMPLETION OF THE LAB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EFERENCES. LIST ANY TEXTS OR MATERIAL USED IN THE WRITING OF YOUR PAPE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 MORE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KNOWLEDGMENTS. LIST WHO CONTRIBUTED TO THE COMPLETION OF THE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. LIST ANY TEXTS OR MATERIAL USED IN THE WRITING OF YOUR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NUTS &amp; BOL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APER IN BLUE OR BLACK INK OR WORD PROCESSE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FRONT OF PAPER ONL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ITLE PAG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RAWINGS/ILLUSTRATIONS REQUIRE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GOALPOSTS, GOALPOSTS, GOALPOS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TS &amp; BO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IN BLUE OR BLACK INK OR WORD PROC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NT OF PAPER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LE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INGS/ILLUSTRATIONS REQU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POSTS, GOALPOSTS, GOALPO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HEMICAL THEOR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RE ARE MANY TYPES DOUBLE REPLACEMENT REACTIONS, SUCH AS ACID-BASE NEUTRALIZATION AND PRECIPITATION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ANY TYPES DOUBLE REPLACEMENT REACTIONS, SUCH AS ACID-BASE NEUTRALIZATION AND PRECIPI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RECIPITATE REACTION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SE ARE REACTIONS IN WHICH AN INSOLUBLE SOLID IS FORMED AND SETTLES OUT OF SOLUTION, THE PRECIPITAT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CIPITATE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REACTIONS IN WHICH AN INSOLUBLE SOLID IS FORMED AND SETTLES OUT OF SOLUTION, THE PRECIPI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EXAMPLE/FORM EQUATION</a:t>
            </a:r>
            <a:br>
              <a:rPr sz="1200"/>
            </a:b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B + CD ----&gt; AD +  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B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CATIONS “TRADE” PLACE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/FORM EQU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 + CD ----&gt; AD +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TIONS “TRADE” PL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EAC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RITE THE BALANCED REACTION: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aCl2(aq) + Na2CO3(aq) -----&gt; 2NaCl(aq) + CaCO3(s)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E BALANCED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l2(aq) + Na2CO3(aq) -----&gt; 2NaCl(aq) + CaCO3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ATERIAL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INGSTAND/WIRE TRIANGL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FUNNEL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# 1 WHATMAN FILTER PAPE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INGSTAND/WIRE TRI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# 1 WHATMAN FILTER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ATERIAL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SSORTED BEAK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SSORTED FLASK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GLASS STIRRING RO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RYING OVE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RTED BEAK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RTED FLA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STIRRING R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ING O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8f8f8"/>
                </a:solidFill>
                <a:latin typeface="Times New Roman"/>
              </a:rPr>
              <a:t>REAGEN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8f8f8"/>
                </a:solidFill>
                <a:latin typeface="Times New Roman"/>
              </a:rPr>
              <a:t>Na2CO3  SODIUM CARBONAT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8f8f8"/>
                </a:solidFill>
                <a:latin typeface="Times New Roman"/>
              </a:rPr>
              <a:t>CaCl2  CALCIUM CHLORID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EAG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a2CO3  SODIUM CARBO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aCl2  CALCIUM CHLO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C321-1DD2-4DBE-9DBB-A00160FE9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6ACE-BE50-40A3-B830-8293FE54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493D-A099-4060-BF71-B12823FD9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8BA3-D996-4D17-8BCC-B0224929F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58C3-9F2C-4701-9BD5-755C4484E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6EAA-F014-4651-92E7-5C86A454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5DDED-4031-4F6D-92F9-61B629B2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60E2-13A7-4BFF-9293-0FB1EA7E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4BD1-2835-4E82-9F43-808F15A0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22B4F-809B-4638-BE26-91650434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80A0-5941-4A35-B8D0-6E5F8584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132E-FA32-4D3E-923B-7488A28C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7114-1073-48CB-9ABC-B4CF380A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A425-02CA-4D16-AFB7-8FE26E17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D140-2013-4C82-9F9D-59D75444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FAD4-5674-49BD-AF3F-54CD43A4C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E7800-95F7-483F-A943-B1DA661FC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8A6F-DB3A-4CAE-BD6D-A4D41AF8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A09A-A1FD-45E7-A840-23908F12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3D6D-4AF7-4718-BF7E-256A936D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503E-E716-43CA-A7B9-9D221745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4AC7-3ABC-43B9-94A1-8A6287EA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FA84-C085-45F9-BC4F-E93581E1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A639-9AA7-4DCE-8005-F8E28ABA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CDA4-53F8-424C-8AF1-3770AD723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32A9-E941-4894-AF5B-0840A00128E7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OUBLE REPLACEMENT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7960" y="91440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A LABORATORY EXAMINATION OF DOUBLE REPLACEMENT REACTIO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Picture 5" descr="9"/>
          <p:cNvPicPr/>
          <p:nvPr/>
        </p:nvPicPr>
        <p:blipFill>
          <a:blip r:embed="rId1"/>
          <a:stretch/>
        </p:blipFill>
        <p:spPr>
          <a:xfrm>
            <a:off x="685800" y="194328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OCEDU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ADD 1 GRAM OF EACH “SALT” TO 20 mL OF WATER IN TWO SEPARATE BEAKERS AND DISSOLVE, THEN MIX SOLUTIONS IN COMMON BEAKER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OCEDURE CONTINUE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POUR THE CONTENTS OF THE BEAKER THROUGH THE FILTER PAPER FUNNEL ASSEMBLY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RE PROCEDU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REMEMBER, PRE-MASS THE DRY FILTER PAPER BEFORE FILTERING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ATA AND CONCLUS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CONSTRUCT A DATA TABL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DESCRIBE WHY THE LAB RESULTS OCCURRED IN CONCLUSIO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CALCULATE THEORETICAL YIELD,  THEN PERCENT YIELD AND PERCENT ERROR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ECHNICAL WRITING PORTFOLI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WRITING FOR A SPECIFIC PURPOS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NO FLOWERY PROSE, GET TO THE POIN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MATH IS A LANGUAGE, CALCULATIONS ARE VITAL TO WRITEUP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URPOS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WRITING TO </a:t>
            </a:r>
            <a:r>
              <a:rPr b="1" lang="en-US" sz="4800" spc="-1" strike="noStrike">
                <a:solidFill>
                  <a:srgbClr val="f8f8f8"/>
                </a:solidFill>
                <a:latin typeface="Tahoma"/>
              </a:rPr>
              <a:t>INFORM</a:t>
            </a: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, MAKE A DECISION OR LEARN HOW TO DO SOMETHING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UDIEN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TARGET A SPECIFIC GROUP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OUR GROUP IS MIXED AUDIENCE, IF YOU CAN WRITE DIRECTIONS TO PUT A SWING SET TOGETHER YOU CAN WRITE ANYTHING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RGANIZ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WE WILL FOLLOW THE PROBLEM, CAUSE, SOLUTION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THIS LENDS ITSELF TO THE LABORATORY ORGANIZATIO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RIT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CHOOSE THE DETAIL, AMOUNT OF DESCRIPI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GRAPHICS ENHANCE THE IMPACT OF A PAPER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MPON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TITLE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. TO THE POINT, DESCRIPTIVE OF THE LAB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INTRODUCTION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. STATES CLEARLY THE QUESTION/PROBLEM AND WHY LAB WAS PERFORMED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EXPERIMENTAL DETAILS/RESULTS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: EXPLAINS WHAT YOU DID AND WHY, AND LISTS RESULT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SAFET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GOGGLES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HAIR TIED BACK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APRONS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RE COMPON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CONCLUSIONS &amp; DISCUSSION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 ANALYZE THE RESULTS AND EXPLAIN WHAT HAPPENED IN THE LAB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EXTENSIONS: “REAL WORLD” USES OF THIS REACTION AND LIM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TILL MORE COMPON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ACKNOWLEDGMENTS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. LIST WHO CONTRIBUTED TO THE COMPLETION OF THE LAB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REFERENCES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. LIST ANY TEXTS OR MATERIAL USED IN THE WRITING OF YOUR PAPE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NUTS &amp; BOL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PAPER IN BLUE OR BLACK INK OR WORD PROCESSED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FRONT OF PAPER ONLY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TITLE PAG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DRAWINGS/ILLUSTRATIONS REQUIRED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GOALPOSTS, GOALPOSTS, GOALPOST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HEMICAL THEO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THERE ARE MANY TYPES DOUBLE REPLACEMENT REACTIONS, SUCH AS ACID-BASE NEUTRALIZATION AND PRECIPITATION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ECIPITATE REAC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THESE ARE REACTIONS IN WHICH AN INSOLUBLE SOLID IS FORMED AND SETTLES OUT OF SOLUTION, THE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PRECIPITATE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AMPLE/FORM EQU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B + </a:t>
            </a:r>
            <a:r>
              <a:rPr b="0" lang="en-US" sz="5400" spc="-1" strike="noStrike">
                <a:solidFill>
                  <a:srgbClr val="3333ff"/>
                </a:solidFill>
                <a:latin typeface="Tahoma"/>
              </a:rPr>
              <a:t>C</a:t>
            </a: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D ----&gt; </a:t>
            </a: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D +  </a:t>
            </a: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n-US" sz="5400" spc="-1" strike="noStrike">
                <a:solidFill>
                  <a:srgbClr val="3333ff"/>
                </a:solidFill>
                <a:latin typeface="Tahoma"/>
              </a:rPr>
              <a:t>C</a:t>
            </a: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B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THE CATIONS “TRADE” PLACES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REAC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WRITE THE BALANCED REACTION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6699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8f8f8"/>
                </a:solidFill>
                <a:latin typeface="Courier New"/>
              </a:rPr>
              <a:t>CaCl</a:t>
            </a:r>
            <a:r>
              <a:rPr b="1" lang="en-US" sz="5400" spc="-1" strike="noStrike" baseline="-25000">
                <a:solidFill>
                  <a:srgbClr val="f8f8f8"/>
                </a:solidFill>
                <a:latin typeface="Courier New"/>
              </a:rPr>
              <a:t>2(aq)</a:t>
            </a:r>
            <a:r>
              <a:rPr b="1" lang="en-US" sz="5400" spc="-1" strike="noStrike">
                <a:solidFill>
                  <a:srgbClr val="f8f8f8"/>
                </a:solidFill>
                <a:latin typeface="Courier New"/>
              </a:rPr>
              <a:t> + Na</a:t>
            </a:r>
            <a:r>
              <a:rPr b="1" lang="en-US" sz="5400" spc="-1" strike="noStrike" baseline="-25000">
                <a:solidFill>
                  <a:srgbClr val="f8f8f8"/>
                </a:solidFill>
                <a:latin typeface="Courier New"/>
              </a:rPr>
              <a:t>2</a:t>
            </a:r>
            <a:r>
              <a:rPr b="1" lang="en-US" sz="5400" spc="-1" strike="noStrike">
                <a:solidFill>
                  <a:srgbClr val="f8f8f8"/>
                </a:solidFill>
                <a:latin typeface="Courier New"/>
              </a:rPr>
              <a:t>CO</a:t>
            </a:r>
            <a:r>
              <a:rPr b="1" lang="en-US" sz="5400" spc="-1" strike="noStrike" baseline="-25000">
                <a:solidFill>
                  <a:srgbClr val="f8f8f8"/>
                </a:solidFill>
                <a:latin typeface="Courier New"/>
              </a:rPr>
              <a:t>3(aq) </a:t>
            </a:r>
            <a:r>
              <a:rPr b="1" lang="en-US" sz="5400" spc="-1" strike="noStrike">
                <a:solidFill>
                  <a:srgbClr val="f8f8f8"/>
                </a:solidFill>
                <a:latin typeface="Courier New"/>
              </a:rPr>
              <a:t>-----&gt; 2NaCl</a:t>
            </a:r>
            <a:r>
              <a:rPr b="1" lang="en-US" sz="5400" spc="-1" strike="noStrike" baseline="-25000">
                <a:solidFill>
                  <a:srgbClr val="f8f8f8"/>
                </a:solidFill>
                <a:latin typeface="Courier New"/>
              </a:rPr>
              <a:t>(aq)</a:t>
            </a:r>
            <a:r>
              <a:rPr b="1" lang="en-US" sz="5400" spc="-1" strike="noStrike">
                <a:solidFill>
                  <a:srgbClr val="f8f8f8"/>
                </a:solidFill>
                <a:latin typeface="Courier New"/>
              </a:rPr>
              <a:t> + </a:t>
            </a:r>
            <a:r>
              <a:rPr b="1" lang="en-US" sz="5400" spc="-1" strike="noStrike">
                <a:solidFill>
                  <a:srgbClr val="0000ff"/>
                </a:solidFill>
                <a:latin typeface="Courier New"/>
              </a:rPr>
              <a:t>CaCO</a:t>
            </a:r>
            <a:r>
              <a:rPr b="1" lang="en-US" sz="5400" spc="-1" strike="noStrike" baseline="-25000">
                <a:solidFill>
                  <a:srgbClr val="0000ff"/>
                </a:solidFill>
                <a:latin typeface="Courier New"/>
              </a:rPr>
              <a:t>3(s)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TERIA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RINGSTAND/WIRE TRIANGLE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FUNNEL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# 1 WHATMAN FILTER PAPER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TERIA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ASSORTED BEAKERS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ASSORTED FLASKS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GLASS STIRRING ROD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DRYING OVEN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EAG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Na</a:t>
            </a:r>
            <a:r>
              <a:rPr b="1" lang="en-US" sz="4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CO</a:t>
            </a:r>
            <a:r>
              <a:rPr b="1" lang="en-US" sz="4000" spc="-1" strike="noStrike" baseline="-25000">
                <a:solidFill>
                  <a:srgbClr val="f8f8f8"/>
                </a:solidFill>
                <a:latin typeface="Tahoma"/>
              </a:rPr>
              <a:t>3</a:t>
            </a: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  SODIUM CARBONAT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CaCl</a:t>
            </a:r>
            <a:r>
              <a:rPr b="1" lang="en-US" sz="4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  CALCIUM CHLOR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14:42:34Z</dcterms:created>
  <dc:creator>Graves County High School</dc:creator>
  <dc:description/>
  <dc:language>en-US</dc:language>
  <cp:lastModifiedBy>RomaK</cp:lastModifiedBy>
  <dcterms:modified xsi:type="dcterms:W3CDTF">2015-09-02T05:53:52Z</dcterms:modified>
  <cp:revision>23</cp:revision>
  <dc:subject/>
  <dc:title>DOUBLE REPLACEMENT reaction</dc:title>
</cp:coreProperties>
</file>