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C068-9233-4580-9BEA-194B49BCFD0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EA5-F056-4442-A49B-C7A2F386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815-40B5-440C-94E2-7311BF8F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66F-9525-4B40-B0EA-73C08C36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96F-9E9A-437B-BBFC-7BAF2141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F2E-BA71-499F-9ECF-8131660F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B0D-F3AB-4AED-94FB-CD944C80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804-3BA6-4C8D-925D-7F40679F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2B0-EAD0-402C-BD4C-7CF2DE11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8AA-3B51-467C-AA29-1E395F8B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E69-AC8B-4DC4-9DA5-34DA0D91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0BD-F4CB-48FF-80A6-32327BCF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668-D54C-42E4-9F91-84E648B8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B7B3-A63A-400D-84B2-7C5FD780E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24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30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38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45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3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5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85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LEGION</cp:lastModifiedBy>
  <dcterms:modified xsi:type="dcterms:W3CDTF">2017-07-03T11:26:41Z</dcterms:modified>
  <cp:revision>46</cp:revision>
  <dc:subject/>
  <dc:title>Middle Ages of Europe</dc:title>
</cp:coreProperties>
</file>