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65F8-5861-4787-9F0A-28EE6CDED35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A12-4C03-4F2D-B106-00858E5D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910-DBC5-481F-B8CA-BCD29FBC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720-9F0E-4047-95B7-C31ED60A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23C-AEA7-4862-B718-E9B15AB6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E21-EF61-4DD1-93B0-69074973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CD5-7B96-4D69-A890-F9CBAC9E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44D-BC88-4D72-83E6-CEA55C1F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C6D-4525-4589-B272-7BB11E9D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C35-A2DA-47ED-BD73-AD69C58F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821-BF02-47C4-BB8F-6B8C506D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5859-5A8D-4675-A731-7F588BCE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309-C69A-43BB-B7C0-41CAAE2F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54D6-F1D7-479E-BE35-D469D429E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12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24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30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38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45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3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9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5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85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LEGION</cp:lastModifiedBy>
  <dcterms:modified xsi:type="dcterms:W3CDTF">2017-07-03T11:26:41Z</dcterms:modified>
  <cp:revision>46</cp:revision>
  <dc:subject/>
  <dc:title>Middle Ages of Europe</dc:title>
</cp:coreProperties>
</file>