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74AA-919F-459F-9C1E-5C41A9DEF2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8AE-BFC9-4E86-889F-ED2C2A8C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8A8-F9D3-428C-93A1-7449E81A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5F1-B9FB-4EC3-9D46-4C00EE55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5F7-5DD0-4FB1-A43F-9A1F6443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807-3CF8-4120-97C4-85710205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4FE-21E2-49A5-850C-44D174D2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D50-B150-437D-AFEA-060D0B21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54A-E114-4B22-B03C-65D5014C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CEC-8F5E-429C-B554-73280C91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6FA-B697-41EE-B98D-862EE32B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6D1-ABD3-4650-9FD6-98C1E13E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B79-D88B-45D0-9A5D-3E133D9B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80A4-4C25-4F2F-851A-82AB74B408A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LEGION</cp:lastModifiedBy>
  <dcterms:modified xsi:type="dcterms:W3CDTF">2017-07-03T11:24:11Z</dcterms:modified>
  <cp:revision>10</cp:revision>
  <dc:subject>Louis Pasteur &amp; Germ Theory</dc:subject>
  <dc:title>Louis Pasteur &amp; Germ Theory</dc:title>
</cp:coreProperties>
</file>