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2CDF-37FC-41BC-B724-CF58001F3C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Louis Pasteur &amp; Germ The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uis Pasteur &amp; Germ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liefs about disease in19th Centu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ople knew there was a link between dirt and disease, but could not explain the lin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ople explained disease as seeds bad seeds in the air known as miasm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50s &amp;1860s breakthrough in the cause of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fs about disease in19th Cent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ew there was a link between dirt and disease, but could not explain the lin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explained disease as seeds bad seeds in the air known as mias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0s &amp;1860s breakthrough in the cause of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1: Discovery of Micro-organism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thony Van Leeuwenhoek made one of the earliest microscop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scovered micro-organisms which he called animalcul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scopes not as good as toda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Discovery of Micro-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hony Van Leeuwenhoek made one of the earliest microsc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micro-organisms which he called animal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s not as good as to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2: Improved microscop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00s purer glass produced = better lenses for microscop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30 Joseph Lister develops a microscope which can magnify x10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Improved micro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00s purer glass produced = better lenses for microsco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30 Joseph Lister develops a microscope which can magnify x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3: Louis Pasteur’s germ the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ld Theory: spontaneous gener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-organisms are the result of decaying mat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w Theory: germ the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-organisms cause decaying mat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showed you could kill the micro-organisms by applying heat - PASTEURIS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Louis Pasteur’s germ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d Theory: spontaneous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-organisms are the result of decaying m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Theory: germ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-organisms cause decaying m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showed you could kill the micro-organisms by applying heat - PASTEURIS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4: Germ theory vs spontaneous gener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now had to prove his theor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 competition with French scientist Pouch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ducted an experiment showing that microbes in the air caused deca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61 published his ‘germ theory’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4: Germ theory vs spontaneous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now had to prove his the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mpetition with French scientist Pouch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ed an experiment showing that microbes in the air caused dec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1 published his ‘germ theory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5: Linking micro-organisms to disea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showed micro-organisms made wine and beer go ba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uld germs cause disease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other experiment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ved that a micro-organism was causing disease in silk worm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5: Linking micro-organisms to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showed micro-organisms made wine and beer go b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germs cause dise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experim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ed that a micro-organism was causing disease in silk w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6: Proving the link between bacteria and human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never showed the link between bacteria and human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was left to Robert Koc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6: Proving the link between bacteria and human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never showed the link between bacteria and human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 left to Robert Ko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r Task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need to create a flow chart with the tit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 steps to discovering the causes of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 the slides to help you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 each step you must explain how this helped to discover the cause of disease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cannot use more then three sentences per ste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dditional information can be found on p.128 - 129 of the textboo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create a flow chart with the tit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steps to discovering the causes of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slides to help yo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ach step you must explain how this helped to discover the cause of diseas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not use more then three sentences per st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information can be found on p.128 - 129 of the text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C3BE-2FD2-4180-9598-9D884C048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8B6A-698C-4329-9AD6-82061C7F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895A-04A7-40E3-A8A4-87919350C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5E22-B884-4D97-99CA-032F75727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E304-DD90-45A1-B253-B0EAEB33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734B-52E5-4FE3-8596-5536C1A6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914C-B41C-4204-847C-326A8108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81D7-E463-4FA4-9313-3B85282D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0842-8A45-4C6B-BF76-8946F83F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FE16-FC57-4CF2-B811-2C468541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EBBF-BB91-4A34-BA48-D1D8CAAB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9CAB-E78B-4AE6-ABC9-6FEAA18E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8872-458D-49FD-97FF-2A96AEFB600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uis Pasteur &amp; Germ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s about disease in19th Centu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ople knew there was a link between dirt and disease, but could not explain the link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ople explained disease as seeds bad seeds in the air known as miasm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850s &amp;1860s breakthrough in the cause of 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1: Discovery of Micro-org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thony Van Leeuwenhoek made one of the earliest microscop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iscovered micro-organisms which he called animalcul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croscopes not as good as toda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2: Improved microsco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800s purer glass produced = better lenses for microscop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830 Joseph Lister develops a microscope which can magnify x10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3: Louis Pasteur’s germ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ld Theory: spontaneous gener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cro-organisms are the result of decaying mat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w Theory: germ the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cro-organisms cause decaying mat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steur showed you could kill the micro-organisms by applying heat - PASTEURISATI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4: Germ theory vs spontaneous gen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steur now had to prove his theor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 competition with French scientist Pouche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ducted an experiment showing that microbes in the air caused deca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861 published his ‘germ theory’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5: Linking micro-organisms to dise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steur showed micro-organisms made wine and beer go ba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uld germs cause diseas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other experiment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ved that a micro-organism was causing disease in silk worm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6: Proving the link between bacteria and human disea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steur never showed the link between bacteria and human 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was left to Robert Ko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5105520" y="2133720"/>
            <a:ext cx="3047760" cy="35622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685800" y="17524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914400" y="1600200"/>
            <a:ext cx="76201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need to create a flow chart with the titl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 steps to discovering the causes of diseas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se the slides to help you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 each step you must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xplain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how this helped to discover the cause of disease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cannot use more then three sentences per ste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dditional information can be found on p.128 - 129 of the textbook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3T12:13:33Z</dcterms:created>
  <dc:creator>Ben Leach</dc:creator>
  <dc:description>Louis Pasteur &amp; Germ Theory</dc:description>
  <cp:keywords>Louis Pasteur &amp; Germ Theory</cp:keywords>
  <dc:language>en-US</dc:language>
  <cp:lastModifiedBy>LEGION</cp:lastModifiedBy>
  <dcterms:modified xsi:type="dcterms:W3CDTF">2017-07-03T11:24:11Z</dcterms:modified>
  <cp:revision>10</cp:revision>
  <dc:subject>Louis Pasteur &amp; Germ Theory</dc:subject>
  <dc:title>Louis Pasteur &amp; Germ Theory</dc:title>
</cp:coreProperties>
</file>