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2C40-A456-4F30-BC84-758E9EC6558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 and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ce Relations in the South 1863-19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otives lay behind Lincoln’s issuing of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derlying 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effects did the Emancipation Proclamation have on slave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was the Emancipation Proclamation issu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Zin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g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oughby p.19-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paratcus.schoolnet.co.uk/USASproclamation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archives.gov/exhibits/featured_documents/emancipation_proclamation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c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nd ma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say ques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nuary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as the Emancipation Procla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proclamation issued  22nd Sept 18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d all slaves who were in Confederate states fighting against the U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not free all slaves!  Was very limi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break of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tenden Resol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 March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lment of Fugitive Slav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 April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agree t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ensate slave ow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 June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gress rule slavery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egal in U.S.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e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ly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scation 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on victory at Antiet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 Sept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liminary Emanci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lamation 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Jan 18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ancipation Proclamation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su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1 Jan 18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th Amendment to th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it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Lincoln issue the Emancipation Proclamation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idea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onal vi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itical 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’s views on sla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avery and the Civil W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8DD3-571F-484E-8D56-6118D9B6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8EEA-D395-4481-B1EF-708C7CCBA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6991F-7028-4F2F-A384-1365DA44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CE20-E4AF-4518-B12C-154033967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DD82A-5A61-4931-8B97-F807CE7B1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5B59-6488-4829-AF07-7BA04F106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BC7FA-7636-4668-8043-A36FFAD44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A121B-4C19-43ED-81F8-1313D694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BA3B-39B9-44E5-A6FB-9F0592A87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F8E5-F445-4B56-B2D2-1D3E2A7E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50BA8-38BC-4D09-AAE1-64C810BB1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DD26-EF6A-4300-88E7-566971FDB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3C2C8-B7B7-4922-A46D-BD5D0963E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6F81-DC29-4343-A2D4-46FABB613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D3C6D-C34F-45E7-AE06-52F15D95D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AD230-2F62-4694-BC0E-80DF5BD39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5352-5A85-494E-90BA-343CFACCC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9CBB-AFCD-4D8D-9476-4F4EFF8BC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0E0E-717C-4E79-84E0-57A32108B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409B-F0E8-4035-9BBD-B7C4BC94E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FA9C4-5FBC-4FEC-8BCA-9FECC235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B9AE-241C-42BC-9B05-230AECF6B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97C7-C868-4A78-A774-2B36B1FB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467-948B-4807-903F-3F0B1ED43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F7BD-DBA1-47FF-90D2-B697BD3E5DA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54A57-05D2-4214-8EA6-3E7BA5FDF397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ffff"/>
                </a:solidFill>
                <a:latin typeface="Arial"/>
              </a:rPr>
              <a:t>Lincoln and the Emancipation Procla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Race Relations in the South 1863-191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Unit 4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motives lay behind Lincoln’s issuing of the Emancipation Proclamatio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278080"/>
            <a:ext cx="8229600" cy="38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lying question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was the Emancipation Proclam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at effects did the Emancipation Proclamation have on slav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Why was the Emancipation Proclamation issu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4 handou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nc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m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Zi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rog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lloughby p.19-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sparatcus.schoolnet.co.uk/USASproclamation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ww.archives.gov/exhibits/featured_documents/emancipation_proclamation/index.htm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Outcom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ind ma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ssay ques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what extent was Lincoln’s Emancipation Proclamation (1863) the result of a genuine desire to free black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anuary 200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at was the Emancipation Proclam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eliminary proclamation issued  22</a:t>
            </a:r>
            <a:r>
              <a:rPr b="0" lang="en-GB" sz="2800" spc="-1" strike="noStrike" baseline="30000">
                <a:solidFill>
                  <a:srgbClr val="ffffff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ept 1862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Freed all slaves who were in Confederate states fighting against the Un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id not free all slaves!  Was very limit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" descr="Emancipation Proclamation, page 1"/>
          <p:cNvPicPr/>
          <p:nvPr/>
        </p:nvPicPr>
        <p:blipFill>
          <a:blip r:embed="rId4"/>
          <a:stretch/>
        </p:blipFill>
        <p:spPr>
          <a:xfrm>
            <a:off x="684360" y="1557360"/>
            <a:ext cx="3527280" cy="460836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Outbreak of Civil W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1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rittenden Resol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 March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nulment of Fugitive Slav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Law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0 April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agree to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pensate slave ow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9 June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gress rule slavery i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llegal in U.S. territor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imeli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July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fiscation A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7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ion victory at Antiet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22 Sept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eliminary Eman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roclamation 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 Jan 186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mancipation Proclamation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ssu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31 Jan 1865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3200" spc="-1" strike="noStrike" baseline="30000">
                <a:solidFill>
                  <a:srgbClr val="ffffff"/>
                </a:solidFill>
                <a:latin typeface="Arial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Amendment to the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nstitutio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Why did Lincoln issue the Emancipation Proclamation?</a:t>
            </a:r>
            <a:br>
              <a:rPr sz="4000"/>
            </a:b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Lincoln’s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4038480" cy="39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idea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Picture 8" descr="Abraham%20Lincoln%20(06-1831a)"/>
          <p:cNvPicPr/>
          <p:nvPr/>
        </p:nvPicPr>
        <p:blipFill>
          <a:blip r:embed="rId5"/>
          <a:stretch/>
        </p:blipFill>
        <p:spPr>
          <a:xfrm>
            <a:off x="4859280" y="2133720"/>
            <a:ext cx="3060720" cy="3963960"/>
          </a:xfrm>
          <a:prstGeom prst="rect">
            <a:avLst/>
          </a:prstGeom>
          <a:ln w="0">
            <a:noFill/>
          </a:ln>
        </p:spPr>
      </p:pic>
      <p:sp>
        <p:nvSpPr>
          <p:cNvPr id="194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nodeType="clickEffect" fill="hold">
                      <p:stCondLst>
                        <p:cond delay="0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sing extracts from Lincoln’s letters and speeches brainstorm his views on slavery and the rights of Blacks under the following head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onal vie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litical stan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incoln’s views on slave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lavery and the Civil W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7T10:09:19Z</dcterms:created>
  <dc:creator>cjames</dc:creator>
  <dc:description>Lincoln and the Emancipation Proclamation</dc:description>
  <cp:keywords>Lincoln and the Emancipation Proclamation</cp:keywords>
  <dc:language>en-US</dc:language>
  <cp:lastModifiedBy>LEGION</cp:lastModifiedBy>
  <dcterms:modified xsi:type="dcterms:W3CDTF">2017-07-03T11:24:00Z</dcterms:modified>
  <cp:revision>11</cp:revision>
  <dc:subject>Lincoln and the Emancipation Proclamation</dc:subject>
  <dc:title>Lincoln and the Emancipation Proclamation</dc:title>
</cp:coreProperties>
</file>