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0518-2ACD-400D-8EB8-A8E5ED1498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44BB-292C-438C-8361-1012D498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8BC-117F-4629-92A9-9C5FE498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BC5-5E2B-4869-B909-18C10289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E2F-BB77-407C-BD84-CF055C8B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F131-245D-4CE8-B272-935A38A2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C207-0047-439F-8119-4956FDD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7D21-FE92-4C88-8ED3-63F8A2C0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31E7-BC2B-4039-B237-0898FCE7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BB57-2E9C-49E9-85BB-A21FFA90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7C3C-1736-4C0D-B588-82A7FE33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56DA-67D5-42B1-9F05-01A5F8A6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DF9-982D-469D-9E93-C17F5FA9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2034-95DE-4422-8432-C1525687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60E98-0A4C-45B6-99F6-07D81EC9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180-50BE-4D16-B358-AB3C0C5B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5A7D-EAD7-4084-8E5C-065420D9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4939-33DF-4951-82CF-E42FC98A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91EB-E360-462F-B995-CDD6D6B4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9293-85D1-45D8-8372-4CCECD1C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FEA-555A-4F44-B77A-854CE8E1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498-87E8-4633-8935-2FF7B411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1643-C880-4C60-9EBD-AEE98D36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49F-2E40-43F4-81E1-3C30A2CD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EAA-C0C5-44B3-82E5-4BBB180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8F0D-B878-4837-A028-6A50E7B9FD0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20D2-548B-409D-8759-7710C697E55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LEGION</cp:lastModifiedBy>
  <dcterms:modified xsi:type="dcterms:W3CDTF">2017-07-03T11:24:00Z</dcterms:modified>
  <cp:revision>11</cp:revision>
  <dc:subject>Lincoln and the Emancipation Proclamation</dc:subject>
  <dc:title>Lincoln and the Emancipation Proclamation</dc:title>
</cp:coreProperties>
</file>