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80D4-2A41-4BE9-9E1B-8E7C915CE1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93C-34BC-4149-A863-8FA223AE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519-DF58-4EC1-AC59-0F2869D1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4ED-E1C6-4985-B54B-55970E51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F96-2355-4B95-8CC4-A19E8E5B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55FD-465D-48F5-AAB6-D6A1B559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1D31-524F-49EE-99EB-B53265C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60E5-D386-43D0-A787-3C9E9321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9529-0664-49A2-BA32-71870D3D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996B-8D10-436C-9ACE-EC46DC03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D42E-5BB2-4348-8515-E6353B77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3A1F-235A-4761-BA45-9C200213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770-ACF6-41A5-B74E-B1590196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BD6F-19B4-4A18-A0BE-6525EC9C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3779-47A5-485B-AA9B-20EACF5B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D3BF-EDB6-47C1-BBB4-7D103060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075E-4FBB-4CF3-9870-D4AC36E2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C012-CC91-49B0-B428-D294B48E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E97-4D12-43FA-9C76-6E761CD6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54E-624A-4DB1-9689-E53F2462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731-C2C8-4CCD-A53B-B23D6B7B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488-93E1-49C7-8CF8-06D2BB38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D76-FC5C-4EAC-9C8C-93D702B9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69A-A1A5-45FB-856E-048103E3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4FA-6B0B-45F5-A766-6560696E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DE60-BA06-4153-94C2-AC6F59CDA2B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2A8E-20FE-4105-8C0D-1202276B1CE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LEGION</cp:lastModifiedBy>
  <dcterms:modified xsi:type="dcterms:W3CDTF">2017-07-03T11:24:00Z</dcterms:modified>
  <cp:revision>11</cp:revision>
  <dc:subject>Lincoln and the Emancipation Proclamation</dc:subject>
  <dc:title>Lincoln and the Emancipation Proclamation</dc:title>
</cp:coreProperties>
</file>