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E7AC52-C255-48B5-886E-782E295D9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637-5F03-4659-96C5-475C856B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351-3935-48DD-AA3B-526E2AE3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886-B2D7-4CD3-8485-5547A642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24C-BE7F-4576-837E-46330C87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2C3-B773-4CDD-B399-BEAAEB70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E99-CE1B-4B2E-A6A9-A975C672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11A-4BEF-4CAF-875F-7D4B5273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80D-8789-43D6-91C6-900D35A9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1DB-E326-4687-9F1E-71C3D691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5BC-BF50-4EE2-AC40-0E60A4C3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C1F-7BA7-4426-9EB3-C570903C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9DE-0337-4AA5-ABFC-84B7D163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9D9D-E457-44E4-8A44-E9B79015E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6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77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LEGION</cp:lastModifiedBy>
  <cp:lastPrinted>2002-01-16T21:03:42Z</cp:lastPrinted>
  <dcterms:modified xsi:type="dcterms:W3CDTF">2017-07-03T11:23:14Z</dcterms:modified>
  <cp:revision>39</cp:revision>
  <dc:subject/>
  <dc:title>No Slide Title</dc:title>
</cp:coreProperties>
</file>