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5A1AE11-F852-4E80-B693-3C05380BB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- 632-6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elected official. Wise leader, crisis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Ibn Elkhattab - 634-6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scus (9 / 635)  and Jerusalem (5 / 638) surrender peac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man bin Affan - 644-6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 Bin Abitalib - 656-66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-661: the Four Elected Successors (Calip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82680" y="685800"/>
            <a:ext cx="3759120" cy="28195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32920" y="3657600"/>
            <a:ext cx="64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u-Bakr - 632-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rst elected official. Wise leader, crisis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 Ibn Elkhattab - 634-64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first-rate statesman. Honest, modest and j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quered the Levant, Egypt, Iraq, Per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ascus (9 / 635)  and Jerusalem (5 / 638) surrender peace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’s pledge to the Jerusalem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dern state:  Treasury, communication, defense.  Engraved currenc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man bin Affan - 644-6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ected and compiled the Qu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wer strug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i Bin Abitalib - 656-66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struggle escalated to armed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litical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of democracy. Ummayah Dynasty in Damascus, Muawyia (661-68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32-661: the Four Elected Successors (Calip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90680" y="231840"/>
            <a:ext cx="3816360" cy="2862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232920" y="3325680"/>
            <a:ext cx="65293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717560" y="685800"/>
            <a:ext cx="3006720" cy="22543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10680" y="2939760"/>
            <a:ext cx="645156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730520" y="685800"/>
            <a:ext cx="2901960" cy="21765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228600" y="2939760"/>
            <a:ext cx="647712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ld his companions as they go home after a battle "We are returning from the lesser jihad [the battle] to the greater jihad, at home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 most excellent jihad is the speaking of truth in the face of a tyrant" 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ly misunderstood in today's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 told his companions as they go home after a battle "We are returning from the lesser jihad [the battle] to the greater jihad, at home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 most excellent jihad is the speaking of truth in the face of a tyrant"  (Hadi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oundly misunderstood in today's wor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403280" y="685800"/>
            <a:ext cx="3841920" cy="2881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ory Re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torical overview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as a monotheistic relig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 and civiliz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today, and Arab Americ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ggested reading, distribu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mater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s &amp; 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 (2: 1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Fight in the cause of Allah those who fight you, but do not transgress limits; for Allah loves not transgressors." (2: 19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Do not attack a temple, a church, a synagogue. Do not bring a tree or a plant down. Do not harm a horse or a came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like the Gospels, it says “it is meritorious to forgo revenge in a spirit of charity (5: 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the good prophets of G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us was not killed (e.g., 4:155-159; 5:17-19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66200" y="4419360"/>
            <a:ext cx="5985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, like the Gospels, it says 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, Solomon, Zacharia, Jesus, John the paptist, and others as the “the good prophets of G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us was not killed (e.g., 4:155-159; 5:17-19)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must be no coercion in matters of faith" (2: 256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nd dispute ye not with the People of the Book, except with means bet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you; Our Allah and your Allah is one; and it is to Him we b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tells all human beings, "O people! We have formed you into n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4680" y="4419360"/>
            <a:ext cx="598464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re must be no coercion in matters of faith" (2: 256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And dispute ye not with the People of the Book, except with means bett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you; Our Allah and your Allah is one; and it is to Him we bow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tells all human beings, 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, subjugate, revile or slaughter but to reach out toward other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evant remained mainly Christian for almost 200 Y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one was forced to convert to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ght of all faiths to warship was res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s of warship, holy places and shrines of all faiths were protected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jab or head 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ijab or head sca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795320" y="619200"/>
            <a:ext cx="2783160" cy="2087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232920" y="2706480"/>
            <a:ext cx="652932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Elrazzy; 9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Seena (Avisai)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Rushd (Aviros):  13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nafe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lkassim Alzahrawi (Abulcasis or Albucasis): 11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Elrazzy; 9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Seena (Avisai)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Rushd (Aviros):  13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nafe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lkassim Alzahrawi (Abulcasis or Albucasis): 11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Physic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 of acids (H2SO4, HCl, HNO3) and bases (Na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ation of acids (H2SO4, HCl, HNO3) and bases (NaO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 Left.  English. But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=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3.14159653589873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 Left.  English. But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 =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= 3.14159653589873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logy (myth)  Astronomy (sc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logy (myth)  Astronomy (sci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y Kasem and Don Bustany (Lebanon) creators of radio's Ameri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pha Elaqqad (Syria), Hollywood movie dire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rector of the ‘Halloween’ se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Shadyac (Lebanon), Hollywood movie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 Hayic (Lebanon), a Hollywood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asser Seirawan (Syria), US Chess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ques Nasser, president and CEO of Ford Motor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 Irani CEO of Occidental Petroleum (Exxon Mobil)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att, Hagar, and Farah enterp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b Ame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y Kasem and Don Bustany (Lebanon) creators of radio's Americ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apha Elaqqad (Syria), Hollywood movie dir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irector of the ‘Halloween’ se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Shadyac (Lebanon), Hollywood movie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ma Hayic (Lebanon), a Hollywood 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sser Seirawan (Syria), US Chess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ques Nasser, president and CEO of Ford Motor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 Irani CEO of Occidental Petroleum (Exxon Mobil)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yatt, Hagar, and Farah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ina McAuliffe, an astronaut who died aboard the space shutt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y Lightner, founder of M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mneh+) Abdallah   Abutalib   Hamzeh   Alabb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belmutta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574640" y="685800"/>
            <a:ext cx="3353040" cy="2514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040" y="3276720"/>
            <a:ext cx="5614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ssai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man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sha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mneh+) Abdallah   Abutalib   Hamzeh   Alabb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Abulahab   Alhar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661-7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50-12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belmutta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mayah Dynas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Abbbassides Dyna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c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pota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rtile Cr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027160" y="0"/>
            <a:ext cx="2336760" cy="17524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80520" y="1701720"/>
            <a:ext cx="6459480" cy="72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cc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n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A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989000" y="387360"/>
            <a:ext cx="2475000" cy="18558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232920" y="2396880"/>
            <a:ext cx="6529320" cy="6653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iddle East, 7th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Arabian Penins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ource of Arabs and the Semitic 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ostly desert, few urbanized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rban centers, Mec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inly tribal soci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rst mention of ‘Arabs’, 854 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rabs of the North and Arabs of the Sou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ynasties in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li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(inclusive), Judaism (exclusive), polythe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assanid or Persi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Byzantine or Eastern Rom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is the state religion, 3rd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 foreign occupying po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ctarian conflicts with the lo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781280" y="154080"/>
            <a:ext cx="2268360" cy="17017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52280" y="1855440"/>
            <a:ext cx="6553440" cy="68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434960" y="68580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41360" y="3557520"/>
            <a:ext cx="655488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A9AB-5974-4279-8EE8-CC8CC57B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E03-A283-4A91-BC16-37E4E743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B46-17F3-4FDA-9E4B-1310C6A9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FFAA-7DD4-4C63-8EFF-4185A876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937-2F30-45B8-9A46-36C08DAC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884A-37F6-4CC4-8BCA-FBDABFDC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16D-F823-4CE9-9BA0-D4DC27E8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01F-9DD5-4F53-A683-CF195E1E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D9F4-3888-42E5-9A3E-3E0A017F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5B1-5A88-4208-AB49-72C6B71C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CF9F-1417-4366-815C-1AF1BF2C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0C1-FCBD-4741-8B1F-5AE7EC7A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744A-4DC8-465A-97C8-660BCE4F8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838080"/>
            <a:ext cx="7924680" cy="19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Arial"/>
              </a:rPr>
              <a:t>Islam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istory, values and cul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170680" y="49165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494240" cy="5410080"/>
          </a:xfrm>
          <a:prstGeom prst="rect">
            <a:avLst/>
          </a:prstGeom>
          <a:ln w="0">
            <a:noFill/>
          </a:ln>
        </p:spPr>
      </p:pic>
      <p:sp>
        <p:nvSpPr>
          <p:cNvPr id="153" name="Line 3"/>
          <p:cNvSpPr/>
          <p:nvPr/>
        </p:nvSpPr>
        <p:spPr>
          <a:xfrm>
            <a:off x="3657600" y="2895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3657600" y="2895480"/>
            <a:ext cx="106668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3657600" y="3429000"/>
            <a:ext cx="8380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4495680" y="4952880"/>
            <a:ext cx="76212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 flipV="1">
            <a:off x="5257800" y="4038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 flipH="1" flipV="1">
            <a:off x="4800600" y="2971440"/>
            <a:ext cx="14479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1752480" y="152280"/>
            <a:ext cx="685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2439360" y="1522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32920" y="890640"/>
            <a:ext cx="8506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u-Bakr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-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ficial. Wise leader, crisis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ar Ibn Elkhatta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4-6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39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scus (9 / 635)  and Jerusalem (5 / 638) surren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300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man bin Affan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4-6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 Bin Abitali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6-6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6720" y="228600"/>
            <a:ext cx="77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2-661: the Four Elected Successors (Cali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66840" y="533520"/>
            <a:ext cx="4810320" cy="5790960"/>
          </a:xfrm>
          <a:prstGeom prst="rect">
            <a:avLst/>
          </a:prstGeom>
          <a:ln w="0">
            <a:noFill/>
          </a:ln>
        </p:spPr>
      </p:pic>
      <p:sp>
        <p:nvSpPr>
          <p:cNvPr id="167" name="Oval 3"/>
          <p:cNvSpPr/>
          <p:nvPr/>
        </p:nvSpPr>
        <p:spPr>
          <a:xfrm>
            <a:off x="2133720" y="1905120"/>
            <a:ext cx="4647960" cy="358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2209680" y="304920"/>
            <a:ext cx="53352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745360" y="22860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061000" y="2286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52280" y="914400"/>
            <a:ext cx="883944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457200" y="8380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235400" cy="5257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184640" cy="5486400"/>
          </a:xfrm>
          <a:prstGeom prst="rect">
            <a:avLst/>
          </a:prstGeom>
          <a:ln w="0">
            <a:noFill/>
          </a:ln>
        </p:spPr>
      </p:pic>
      <p:sp>
        <p:nvSpPr>
          <p:cNvPr id="177" name="Line 4"/>
          <p:cNvSpPr/>
          <p:nvPr/>
        </p:nvSpPr>
        <p:spPr>
          <a:xfrm flipH="1">
            <a:off x="1676520" y="2209680"/>
            <a:ext cx="45720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1371240" y="2286000"/>
            <a:ext cx="30492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1371600" y="3276720"/>
            <a:ext cx="190512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 flipV="1">
            <a:off x="4495680" y="3733920"/>
            <a:ext cx="221004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 flipH="1" flipV="1">
            <a:off x="5181480" y="1980720"/>
            <a:ext cx="1524240" cy="175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 flipH="1">
            <a:off x="3580920" y="1981080"/>
            <a:ext cx="1676520" cy="60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 flipH="1">
            <a:off x="2819520" y="2590920"/>
            <a:ext cx="7617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 flipH="1" flipV="1">
            <a:off x="2133360" y="2209680"/>
            <a:ext cx="68580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133720" y="2209680"/>
            <a:ext cx="68580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276720" y="3809880"/>
            <a:ext cx="129528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606600" y="60948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304920" y="685800"/>
            <a:ext cx="3045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062800" y="83808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93640" y="1789200"/>
            <a:ext cx="808380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914400" y="15238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762120" y="1981080"/>
            <a:ext cx="7543800" cy="2133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lam as Monotheistic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822240" y="156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52280" y="53352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a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</a:t>
            </a:r>
            <a:r>
              <a:rPr b="0" lang="en-US" sz="16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 statements of Muhamm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r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 scriptur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’s wo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is messeng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233280" y="1066680"/>
            <a:ext cx="81435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akat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ligatory charitable giv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alth belong to God and it is held in trust by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aka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r, "purification" by setting aside a portion (2.5%) for the ne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grim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2512440" y="22860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57200" y="8380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2280" y="773280"/>
            <a:ext cx="876312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his companions as they go home after a batt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e are returning from the lesser jih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he battle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the greater jihad, at home"</a:t>
            </a:r>
            <a:r>
              <a:rPr b="0" i="1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most excellent jihad is the speaking of truth in the face of a ty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oundly misunderstood in today's wor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45720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914400" y="203040"/>
            <a:ext cx="717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47280" y="1114560"/>
            <a:ext cx="63572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over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066680" y="99072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-70200" y="838080"/>
            <a:ext cx="91890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one finds 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nemies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rever you find them!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, 4: 89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most every case it is followed by something li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if they let you b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harm the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90; 4: 90; 5: 2; 8: 61; 22: 3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04920" y="914400"/>
            <a:ext cx="86104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2: 1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747520" y="304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268200" y="990720"/>
            <a:ext cx="8875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like the Gospels, it s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good prophets of Go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us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illed (e.g., 4:155-159; 5:17-19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6858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49680" y="914400"/>
            <a:ext cx="911016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There must be no coercion in matters of faith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 256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nd dispute ye not with th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ople of the Boo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except with means bet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you;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r Allah and your Allah is on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 and it is to Him we b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tells all human being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671200" y="22860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304920" y="76212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52280" y="762120"/>
            <a:ext cx="873144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9: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people are equal like the teeth of a co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brot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d, others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hat you like for your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4: 8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128040" y="2286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313920" y="1066680"/>
            <a:ext cx="85734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hij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head sc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2819880" y="2811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1219320" y="1905120"/>
            <a:ext cx="662940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cience and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369360" y="304920"/>
            <a:ext cx="8641800" cy="65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212920" y="1954080"/>
            <a:ext cx="423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057040" y="5256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04920" y="685800"/>
            <a:ext cx="851364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spi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rg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utops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380880" y="685800"/>
            <a:ext cx="8534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583800" y="17928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982440" y="1117440"/>
            <a:ext cx="69732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838080" y="838080"/>
            <a:ext cx="6782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34360" y="533520"/>
            <a:ext cx="791964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-bakr Elrazz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9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hayth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Seena (Avisa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Rushd (Avir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13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na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lkassim Alzahrawi (Abulcasis or Albucas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1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809080" y="396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380880" y="53352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311400" y="1066680"/>
            <a:ext cx="82731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 of acids 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Cl,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bases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2594520" y="38088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84840" y="949320"/>
            <a:ext cx="7224480" cy="50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glish. But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.14159653589873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2743200" y="129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"/>
          <p:cNvSpPr/>
          <p:nvPr/>
        </p:nvSpPr>
        <p:spPr>
          <a:xfrm flipH="1">
            <a:off x="39625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3125880" y="2286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312480" y="878040"/>
            <a:ext cx="8462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rology (myth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tronomy (sci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278520" y="2286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533520" y="762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2977200" y="68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540000" y="1424160"/>
            <a:ext cx="793044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>
            <a:off x="762120" y="129528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2898360" y="4572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85560" y="1274760"/>
            <a:ext cx="81756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-adhaa (the sacrifi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fe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rthday of Muham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380880" y="9907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3431160" y="7621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467280" y="1676520"/>
            <a:ext cx="80460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609480" y="14479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234000" y="762120"/>
            <a:ext cx="764064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arouq Elbaz (Egypt), NASA, the moon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hmed H. Zewail (Egypt) Winner of the 1999 Nobel Prize in Chemist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l. 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aleh Wakeel (Iraq), member of the Nat’l Acad. Sci., Bio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ais Elawqati (Iraq), member of the Nat’l Acad. Sci., Micro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jdi Yacub, first open heart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ichael Debakee (Lebanon), chief cardiologist of the Whit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lph Nader (Lebanon), consumer advocate, Green Party foun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2000 presidential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(Palestine), White House Ex-Chief of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JR., current state gove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nna E. Shalala (Lebanon), Ex secretary of H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 Thomas, Ex dean of the White House press cor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ward Attiyeh (Syria), Ex governor of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encer Abraham (Lebanon), Secretary of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e Mitch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051000" y="152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533520" y="609480"/>
            <a:ext cx="784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127320" y="3049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07440" y="1042920"/>
            <a:ext cx="82213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sey Kasem and Don Bustany (Lebanon) creators of radio's Ameri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p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ustapha Elaqqad (Syria), Hollywood movie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director of the ‘Halloween’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m Shadyac (Lebanon), Hollywood movi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alma Hayic (Lebanon), a Hollywood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asser Seirawan (Syria), US Chess Champ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Jacques Nasser, president and CEO of Ford Motor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ay Irani CEO of Occidental Petroleum (Exxon Mobil)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Hyatt, Hagar, and Farah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237960" y="785880"/>
            <a:ext cx="8709120" cy="5579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rab People”, Albert Hou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lam, An Empire of Faith”, PBS Video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lam: A Short History”,  Karen Armstrong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ihad: A Commitment to Universal Peac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el A. Boisard, American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om Difference to Equas”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orge Kindy, and Philip Saliba, eds., NYAS,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190320" y="3960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457200" y="6858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905120" y="35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16920" y="2610000"/>
            <a:ext cx="7619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Amneh+) Abdalla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Abutali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Hamzeh   Alabb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4724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4724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4800600" y="3809880"/>
            <a:ext cx="7621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4038120" y="3809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480060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2971800" y="41911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5638680" y="4343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H="1">
            <a:off x="5105520" y="4876920"/>
            <a:ext cx="3045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 flipH="1">
            <a:off x="3352320" y="4800600"/>
            <a:ext cx="1676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H="1">
            <a:off x="4495320" y="4876920"/>
            <a:ext cx="6858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2819520" y="5334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4267080" y="53341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2286000" y="5638680"/>
            <a:ext cx="14479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2361960" y="43434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6172200" y="48769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536760" y="632448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5718240" y="63244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2"/>
          <p:cNvSpPr/>
          <p:nvPr/>
        </p:nvSpPr>
        <p:spPr>
          <a:xfrm flipH="1">
            <a:off x="1599840" y="4572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3"/>
          <p:cNvSpPr/>
          <p:nvPr/>
        </p:nvSpPr>
        <p:spPr>
          <a:xfrm flipH="1">
            <a:off x="1219320" y="48769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2287800" y="56386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4116960" y="5638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4953240" y="45720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dbelmutta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>
            <a:off x="60199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8"/>
          <p:cNvSpPr/>
          <p:nvPr/>
        </p:nvSpPr>
        <p:spPr>
          <a:xfrm>
            <a:off x="6324480" y="480060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457200" y="60958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0"/>
          <p:cNvSpPr/>
          <p:nvPr/>
        </p:nvSpPr>
        <p:spPr>
          <a:xfrm>
            <a:off x="6019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1"/>
          <p:cNvSpPr/>
          <p:nvPr/>
        </p:nvSpPr>
        <p:spPr>
          <a:xfrm>
            <a:off x="6019920" y="57150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2"/>
          <p:cNvSpPr/>
          <p:nvPr/>
        </p:nvSpPr>
        <p:spPr>
          <a:xfrm>
            <a:off x="6019920" y="6019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3"/>
          <p:cNvSpPr/>
          <p:nvPr/>
        </p:nvSpPr>
        <p:spPr>
          <a:xfrm>
            <a:off x="4117320" y="652320"/>
            <a:ext cx="10584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brah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4"/>
          <p:cNvSpPr/>
          <p:nvPr/>
        </p:nvSpPr>
        <p:spPr>
          <a:xfrm>
            <a:off x="457200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5"/>
          <p:cNvSpPr/>
          <p:nvPr/>
        </p:nvSpPr>
        <p:spPr>
          <a:xfrm>
            <a:off x="45720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46483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7"/>
          <p:cNvSpPr/>
          <p:nvPr/>
        </p:nvSpPr>
        <p:spPr>
          <a:xfrm>
            <a:off x="46483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8"/>
          <p:cNvSpPr/>
          <p:nvPr/>
        </p:nvSpPr>
        <p:spPr>
          <a:xfrm>
            <a:off x="4648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057400" y="2590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295280" y="2286000"/>
            <a:ext cx="6553440" cy="1523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istorical Over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905120" y="-227160"/>
            <a:ext cx="5884920" cy="70851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4114800" y="4016520"/>
            <a:ext cx="11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098960" y="3641760"/>
            <a:ext cx="90144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648320" y="3733920"/>
            <a:ext cx="53316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505320" y="1633680"/>
            <a:ext cx="944280" cy="1338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4343400" y="1447920"/>
            <a:ext cx="1295280" cy="14475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30440" y="118728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371600" y="1523880"/>
            <a:ext cx="25146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7665120" y="16495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H="1">
            <a:off x="5334120" y="1820880"/>
            <a:ext cx="2427120" cy="236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 rot="5863800">
            <a:off x="4093920" y="1370160"/>
            <a:ext cx="954000" cy="18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400" y="166068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1981080" y="1981080"/>
            <a:ext cx="2757600" cy="1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 rot="20250000">
            <a:off x="3964320" y="2666520"/>
            <a:ext cx="3452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 flipV="1">
            <a:off x="2971800" y="220500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 flipH="1">
            <a:off x="2895120" y="212868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286000" y="320040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4648320" y="4038480"/>
            <a:ext cx="6858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 rot="20232000">
            <a:off x="5030280" y="2890440"/>
            <a:ext cx="43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 flipH="1" flipV="1">
            <a:off x="1828800" y="4038480"/>
            <a:ext cx="17524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1905120" y="22096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 flipH="1">
            <a:off x="4419360" y="5329080"/>
            <a:ext cx="1066680" cy="914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4"/>
          <p:cNvSpPr/>
          <p:nvPr/>
        </p:nvSpPr>
        <p:spPr>
          <a:xfrm flipH="1">
            <a:off x="4343400" y="5253120"/>
            <a:ext cx="9907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5"/>
          <p:cNvSpPr/>
          <p:nvPr/>
        </p:nvSpPr>
        <p:spPr>
          <a:xfrm rot="20277000">
            <a:off x="4495320" y="4571640"/>
            <a:ext cx="25909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8003520" y="4572000"/>
            <a:ext cx="113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H="1">
            <a:off x="6552720" y="51055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133720" y="20484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533520" y="838080"/>
            <a:ext cx="7619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81000" y="1230480"/>
            <a:ext cx="6956640" cy="55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513540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Oval 3"/>
          <p:cNvSpPr/>
          <p:nvPr/>
        </p:nvSpPr>
        <p:spPr>
          <a:xfrm>
            <a:off x="1905120" y="1295280"/>
            <a:ext cx="266688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4"/>
          <p:cNvSpPr/>
          <p:nvPr/>
        </p:nvSpPr>
        <p:spPr>
          <a:xfrm>
            <a:off x="4572000" y="1600200"/>
            <a:ext cx="2514600" cy="1752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 rot="2422800">
            <a:off x="4723920" y="3123720"/>
            <a:ext cx="6098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 rot="2953800">
            <a:off x="4380120" y="3239280"/>
            <a:ext cx="712800" cy="330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901080" y="127944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745000" y="1295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7530120" y="2117880"/>
            <a:ext cx="9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 flipH="1">
            <a:off x="6400440" y="2362320"/>
            <a:ext cx="106668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1447920" y="1905120"/>
            <a:ext cx="114300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4419720" y="4038480"/>
            <a:ext cx="761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7529400" y="379404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 flipH="1" flipV="1">
            <a:off x="5105160" y="3352320"/>
            <a:ext cx="251460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992160" y="411480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V="1">
            <a:off x="2057400" y="3504960"/>
            <a:ext cx="2743200" cy="99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116240" y="41148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3963600" y="37339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97280" y="966960"/>
            <a:ext cx="7880040" cy="45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22320" indent="-2253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conquers Mecc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 REVEN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821320" y="22860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22:53:44Z</dcterms:created>
  <dc:creator>KASSIS00</dc:creator>
  <dc:description>R&amp;D</dc:description>
  <dc:language>en-US</dc:language>
  <cp:lastModifiedBy>LEGION</cp:lastModifiedBy>
  <cp:lastPrinted>2002-01-16T21:03:42Z</cp:lastPrinted>
  <dcterms:modified xsi:type="dcterms:W3CDTF">2017-07-03T11:23:14Z</dcterms:modified>
  <cp:revision>39</cp:revision>
  <dc:subject/>
  <dc:title>No Slide Title</dc:title>
</cp:coreProperties>
</file>