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EBF0E99-7358-4DBD-830D-15D4C91B2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EE1-3CDD-40DF-8EA5-DAEB2E22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B37-C43F-4C20-B0A2-A570A22F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E22-7C0B-4499-A008-B10811BD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88F-1067-4261-BE3F-1EF8C1A2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11C-7087-4CEE-8C6C-721B0835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0C0-614C-498F-B935-C3E564E5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3F7E-12F8-46A6-A88C-74AAE7FD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40B-AEAC-4255-AC61-783886B1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518-5DDA-4080-BC9E-FBAE9B2D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5D0-69BB-46FC-9C66-2DE90522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6BD-B73A-4592-9509-89E7A777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230-C93B-4853-BFB3-23FEA27A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78D9-7788-43AE-9FDB-5640BE169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6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77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LEGION</cp:lastModifiedBy>
  <cp:lastPrinted>2002-01-16T21:03:42Z</cp:lastPrinted>
  <dcterms:modified xsi:type="dcterms:W3CDTF">2017-07-03T11:23:14Z</dcterms:modified>
  <cp:revision>39</cp:revision>
  <dc:subject/>
  <dc:title>No Slide Title</dc:title>
</cp:coreProperties>
</file>