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A7E5-25E5-4263-9F32-620E2C16A7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43A-3CFD-4A54-AD4E-246A17F0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41F-146D-4A8F-BC96-E2C69C3C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6C3-E009-4E19-9F7A-B85250FE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9B4-5149-4E49-958B-F2FDD1AB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76F2-3C2A-4358-8DB7-3381A337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2FE9-6D8E-4EA1-B968-2C575487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3922-23E5-4C03-BF09-68EF21C1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942B-6D18-4498-B500-F7C88C87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C1A5-5E26-4EB2-A791-354B57C8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069A-2973-4167-9A38-129939BE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ECB3-EC87-451D-A593-4FA0A7B5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4D0-CF64-4FF5-97CF-AE483010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8875-BEA9-4518-9684-E175E019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08F0-D0CB-42F8-9D34-44EA66C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848C-BE47-4EC5-B9F2-FCE80D28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12AE-4E6E-4535-AC78-D1CCB853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08B5-7DB6-4478-A022-7212D773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97F-B1EC-4895-8EC5-048CF2F9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B2E-C205-46D3-9E3B-BFEBAB3B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AEF-FDE6-461E-B130-3B1CC2D3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FC5-1996-4B31-BA7C-8FD761CC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8D7-10EE-496D-A091-5C382D0F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A21-693A-4B8F-A42D-5F2EE7F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BF2-C0E5-4E18-AD9C-5A6A8EF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A676-6079-4B88-9B06-F8CA99173484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CF10-B09B-4CD4-9681-72C558F5E14E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LEGION</cp:lastModifiedBy>
  <dcterms:modified xsi:type="dcterms:W3CDTF">2017-07-03T11:23:03Z</dcterms:modified>
  <cp:revision>9</cp:revision>
  <dc:subject/>
  <dc:title>No Slide Title</dc:title>
</cp:coreProperties>
</file>