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8F8B-731F-4235-B3AB-525188AA0F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CFB1-94F2-42FE-B93C-CACAFB9B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62E5-66A4-4374-B0DB-E5928DF0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E022-2DBE-432B-A8AE-30F3D0E8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65BB-B3B6-458B-9AE3-22D94724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A115-6D96-4794-B200-47C754BC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73E7-60F3-416C-B277-AEF7A724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B85C-00B4-468C-A8B4-4324539A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6974-88DF-4E30-8C4B-39F16431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CBDF-8244-409D-82A2-51BA372D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C0CB-AA21-4629-9E94-40354E33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826D-4C86-46D8-A4BE-C89A2691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7CB7-73F1-4680-8791-39920902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B2F5-5F29-45C4-8291-0BBB824E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BE09-A289-4F65-81C9-495E67EB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ADC2-B665-4166-8F2C-6CF13A71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2F4F-01F2-43A6-972A-D6C795E3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5236-21C7-4F1B-A7AC-49DE8A02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E9B7-5FFA-4D6D-BE9A-E3E8E55D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C484-4ECF-4141-A64B-1741DEAB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E5A5-C8FA-407E-B217-5DCE8E9A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290E-880D-46FA-B162-C118665A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B752-0C99-4D75-A3C9-D7A535F2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0D26-834E-4986-AFF5-8A77CF6B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12D6-1F81-423C-AC14-F8156CF4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380B-BDBB-4C25-AC96-7150BB8240A4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BFD5-A7CF-45AB-995E-54C8BC507927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5"/>
          <p:cNvSpPr/>
          <p:nvPr/>
        </p:nvSpPr>
        <p:spPr>
          <a:xfrm>
            <a:off x="1137600" y="1219320"/>
            <a:ext cx="67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st your knowledge of who’s who in the Ireland in Confli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opic with the following slide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5257800" y="57895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3300"/>
                </a:solidFill>
                <a:latin typeface="Arial"/>
              </a:rPr>
              <a:t>Click here t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987480" y="457200"/>
            <a:ext cx="69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RELAND IN CONFLICT 1909 - 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4680" y="2057400"/>
            <a:ext cx="824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As the images of historical personalities from the topic appe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try to work out who they are and what view they held over Ireland’s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-10800" y="2768760"/>
            <a:ext cx="91357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            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Home Rule = limited government/self-rule for Ireland still linked to British Cr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	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(perhaps with Northern Ireland still part of United Kingd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Nationalist= the whole of Ireland having self-government (including Nor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Republican= Ireland being independent and totally self-governing (no link to Brit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      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Cr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Socialist= workers/people governing 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81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MIc Collins in general's outfit"/>
          <p:cNvPicPr/>
          <p:nvPr/>
        </p:nvPicPr>
        <p:blipFill>
          <a:blip r:embed="rId1"/>
          <a:stretch/>
        </p:blipFill>
        <p:spPr>
          <a:xfrm>
            <a:off x="3059280" y="1197000"/>
            <a:ext cx="3538440" cy="486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539640" y="333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 CANNOT AFFORD YOU GOING AROUND RIDDLI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James Craig"/>
          <p:cNvPicPr/>
          <p:nvPr/>
        </p:nvPicPr>
        <p:blipFill>
          <a:blip r:embed="rId1"/>
          <a:stretch/>
        </p:blipFill>
        <p:spPr>
          <a:xfrm>
            <a:off x="3059280" y="1268280"/>
            <a:ext cx="3803400" cy="460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NOTHING WRONG WITH A STIFF WHIS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WE WILL DO A DEAL WITH YOU MR ASQUITH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Picture 4" descr="John Redmond"/>
          <p:cNvPicPr/>
          <p:nvPr/>
        </p:nvPicPr>
        <p:blipFill>
          <a:blip r:embed="rId1"/>
          <a:stretch/>
        </p:blipFill>
        <p:spPr>
          <a:xfrm>
            <a:off x="3203640" y="907920"/>
            <a:ext cx="2849400" cy="52578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I DID NOT HAVE</a:t>
            </a:r>
            <a:r>
              <a:rPr b="0" lang="en-US" sz="3800" spc="-1" strike="noStrike">
                <a:solidFill>
                  <a:srgbClr val="009900"/>
                </a:solidFill>
                <a:latin typeface="Franklin Gothic Demi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A HAPPY EASTER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THEY DID NOT TELL ME THE TRUTH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5" name="Picture 4" descr="Eoin MacNeill"/>
          <p:cNvPicPr/>
          <p:nvPr/>
        </p:nvPicPr>
        <p:blipFill>
          <a:blip r:embed="rId1"/>
          <a:stretch/>
        </p:blipFill>
        <p:spPr>
          <a:xfrm>
            <a:off x="3203640" y="1557360"/>
            <a:ext cx="3041640" cy="46069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NOT SHOT IN 1916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8" name="Picture 4" descr="Eammon De Valera"/>
          <p:cNvPicPr/>
          <p:nvPr/>
        </p:nvPicPr>
        <p:blipFill>
          <a:blip r:embed="rId1"/>
          <a:stretch/>
        </p:blipFill>
        <p:spPr>
          <a:xfrm>
            <a:off x="3635280" y="1341360"/>
            <a:ext cx="1716120" cy="482436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HIMSELF STARTED IT</a:t>
            </a:r>
            <a:r>
              <a:rPr b="0" lang="en-US" sz="4200" spc="-1" strike="noStrike">
                <a:solidFill>
                  <a:srgbClr val="006633"/>
                </a:solidFill>
                <a:latin typeface="Franklin Gothic Demi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1" name="Picture 4" descr="Griffith image"/>
          <p:cNvPicPr/>
          <p:nvPr/>
        </p:nvPicPr>
        <p:blipFill>
          <a:blip r:embed="rId1"/>
          <a:stretch/>
        </p:blipFill>
        <p:spPr>
          <a:xfrm>
            <a:off x="2616120" y="1125360"/>
            <a:ext cx="3441960" cy="49626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-6840" y="2209680"/>
            <a:ext cx="300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dward CA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Ulster Unionist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181560" y="2590920"/>
            <a:ext cx="196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Arthur GRIFF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Foun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29840" y="5791320"/>
            <a:ext cx="239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Patrick PE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IRB member and leader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aster R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732400" y="5867280"/>
            <a:ext cx="277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James CONNO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Founder of Irish Citizens Ar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SOCI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5858640" y="5715000"/>
            <a:ext cx="30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avid LLOYD GEO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British Prime Minister 1916 - 19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2854080" y="2743200"/>
            <a:ext cx="264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Michael CO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Leader of IRA forces and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5" descr="carson face only"/>
          <p:cNvPicPr/>
          <p:nvPr/>
        </p:nvPicPr>
        <p:blipFill>
          <a:blip r:embed="rId1"/>
          <a:stretch/>
        </p:blipFill>
        <p:spPr>
          <a:xfrm>
            <a:off x="533520" y="304920"/>
            <a:ext cx="1422360" cy="1803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Griffith image"/>
          <p:cNvPicPr/>
          <p:nvPr/>
        </p:nvPicPr>
        <p:blipFill>
          <a:blip r:embed="rId2"/>
          <a:stretch/>
        </p:blipFill>
        <p:spPr>
          <a:xfrm>
            <a:off x="6705720" y="152280"/>
            <a:ext cx="1577880" cy="2274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MIc Collins in general's outfit"/>
          <p:cNvPicPr/>
          <p:nvPr/>
        </p:nvPicPr>
        <p:blipFill>
          <a:blip r:embed="rId3"/>
          <a:stretch/>
        </p:blipFill>
        <p:spPr>
          <a:xfrm>
            <a:off x="3200400" y="152280"/>
            <a:ext cx="1830240" cy="2514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Patrick Pearse"/>
          <p:cNvPicPr/>
          <p:nvPr/>
        </p:nvPicPr>
        <p:blipFill>
          <a:blip r:embed="rId4"/>
          <a:stretch/>
        </p:blipFill>
        <p:spPr>
          <a:xfrm>
            <a:off x="533520" y="3505320"/>
            <a:ext cx="2133360" cy="1950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9" descr="Connolly face"/>
          <p:cNvPicPr/>
          <p:nvPr/>
        </p:nvPicPr>
        <p:blipFill>
          <a:blip r:embed="rId5"/>
          <a:stretch/>
        </p:blipFill>
        <p:spPr>
          <a:xfrm>
            <a:off x="3581280" y="3809880"/>
            <a:ext cx="1435320" cy="2108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dlgsmallphoto"/>
          <p:cNvPicPr/>
          <p:nvPr/>
        </p:nvPicPr>
        <p:blipFill>
          <a:blip r:embed="rId6"/>
          <a:stretch/>
        </p:blipFill>
        <p:spPr>
          <a:xfrm>
            <a:off x="6553080" y="3809880"/>
            <a:ext cx="1160640" cy="15145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82680" y="2819520"/>
            <a:ext cx="200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ammon DE VAL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740200" y="2590920"/>
            <a:ext cx="286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John RED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Leader of Irish National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18520" y="5791320"/>
            <a:ext cx="281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oin MAC NE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Leader of Irish Volunteer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406680" y="5867280"/>
            <a:ext cx="174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oger CAS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Member of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402160" y="5715000"/>
            <a:ext cx="344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James CRA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eputy Leader of Ulster Union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662920" y="2743200"/>
            <a:ext cx="202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Herbert ASQU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British Prime Min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5" descr="Eammon De Valera"/>
          <p:cNvPicPr/>
          <p:nvPr/>
        </p:nvPicPr>
        <p:blipFill>
          <a:blip r:embed="rId1"/>
          <a:stretch/>
        </p:blipFill>
        <p:spPr>
          <a:xfrm>
            <a:off x="990720" y="304920"/>
            <a:ext cx="888840" cy="2504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Herbert Asquith"/>
          <p:cNvPicPr/>
          <p:nvPr/>
        </p:nvPicPr>
        <p:blipFill>
          <a:blip r:embed="rId2"/>
          <a:stretch/>
        </p:blipFill>
        <p:spPr>
          <a:xfrm>
            <a:off x="2895480" y="152280"/>
            <a:ext cx="1578240" cy="254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John Redmond"/>
          <p:cNvPicPr/>
          <p:nvPr/>
        </p:nvPicPr>
        <p:blipFill>
          <a:blip r:embed="rId3"/>
          <a:stretch/>
        </p:blipFill>
        <p:spPr>
          <a:xfrm>
            <a:off x="6553080" y="304920"/>
            <a:ext cx="1189080" cy="2193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Eoin MacNeill"/>
          <p:cNvPicPr/>
          <p:nvPr/>
        </p:nvPicPr>
        <p:blipFill>
          <a:blip r:embed="rId4"/>
          <a:stretch/>
        </p:blipFill>
        <p:spPr>
          <a:xfrm>
            <a:off x="990720" y="3657600"/>
            <a:ext cx="1371600" cy="2077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Roger Casement"/>
          <p:cNvPicPr/>
          <p:nvPr/>
        </p:nvPicPr>
        <p:blipFill>
          <a:blip r:embed="rId5"/>
          <a:stretch/>
        </p:blipFill>
        <p:spPr>
          <a:xfrm>
            <a:off x="3505320" y="3276720"/>
            <a:ext cx="1554120" cy="2504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James Craig"/>
          <p:cNvPicPr/>
          <p:nvPr/>
        </p:nvPicPr>
        <p:blipFill>
          <a:blip r:embed="rId6"/>
          <a:stretch/>
        </p:blipFill>
        <p:spPr>
          <a:xfrm>
            <a:off x="6172200" y="3429000"/>
            <a:ext cx="1785960" cy="21636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Herbert Asquith"/>
          <p:cNvPicPr/>
          <p:nvPr/>
        </p:nvPicPr>
        <p:blipFill>
          <a:blip r:embed="rId1"/>
          <a:stretch/>
        </p:blipFill>
        <p:spPr>
          <a:xfrm>
            <a:off x="2987640" y="981000"/>
            <a:ext cx="3214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24000" y="260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MY BUDGET WAS REJECTED BY THE HOUSE OF L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Patrick Pearse"/>
          <p:cNvPicPr/>
          <p:nvPr/>
        </p:nvPicPr>
        <p:blipFill>
          <a:blip r:embed="rId1"/>
          <a:stretch/>
        </p:blipFill>
        <p:spPr>
          <a:xfrm>
            <a:off x="1547640" y="765000"/>
            <a:ext cx="5545440" cy="5070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46836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FOOLS, THE FOOLS, THE FOO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carson face only"/>
          <p:cNvPicPr/>
          <p:nvPr/>
        </p:nvPicPr>
        <p:blipFill>
          <a:blip r:embed="rId1"/>
          <a:stretch/>
        </p:blipFill>
        <p:spPr>
          <a:xfrm>
            <a:off x="2340000" y="836640"/>
            <a:ext cx="4089240" cy="5184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539640" y="18900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 RULE? OVER MY DEAD BO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Roger Casement"/>
          <p:cNvPicPr/>
          <p:nvPr/>
        </p:nvPicPr>
        <p:blipFill>
          <a:blip r:embed="rId1"/>
          <a:stretch/>
        </p:blipFill>
        <p:spPr>
          <a:xfrm>
            <a:off x="2814480" y="907920"/>
            <a:ext cx="3262320" cy="52578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684360" y="2602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Y GOODNESS, I HATE SUBMA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OCIALIST REVOLUTION WILL SOLVE IRELAND’S PROBLEM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0" name="Picture 3" descr="Connolly face"/>
          <p:cNvPicPr/>
          <p:nvPr/>
        </p:nvPicPr>
        <p:blipFill>
          <a:blip r:embed="rId1"/>
          <a:stretch/>
        </p:blipFill>
        <p:spPr>
          <a:xfrm>
            <a:off x="2700360" y="1052640"/>
            <a:ext cx="3478320" cy="511164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dlgsmallphoto"/>
          <p:cNvPicPr/>
          <p:nvPr/>
        </p:nvPicPr>
        <p:blipFill>
          <a:blip r:embed="rId1"/>
          <a:stretch/>
        </p:blipFill>
        <p:spPr>
          <a:xfrm>
            <a:off x="2987640" y="1341360"/>
            <a:ext cx="3640320" cy="4751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539640" y="404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LL BOYO, YOU WILL HAVE TO SPLIT IRE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06:45:49Z</dcterms:created>
  <dc:creator>O'Brien</dc:creator>
  <dc:description/>
  <dc:language>en-US</dc:language>
  <cp:lastModifiedBy>LEGION</cp:lastModifiedBy>
  <dcterms:modified xsi:type="dcterms:W3CDTF">2017-07-03T11:23:03Z</dcterms:modified>
  <cp:revision>9</cp:revision>
  <dc:subject/>
  <dc:title>No Slide Title</dc:title>
</cp:coreProperties>
</file>