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voltage.wav" ContentType="audio/x-wav"/>
  <Override PartName="/ppt/media/coin.wav" ContentType="audio/x-wav"/>
  <Override PartName="/ppt/media/bomb.wav" ContentType="audio/x-wav"/>
  <Override PartName="/ppt/media/camera.wav" ContentType="audio/x-wav"/>
  <Override PartName="/ppt/media/wind.wav" ContentType="audio/x-wav"/>
  <Override PartName="/ppt/media/image2.jpeg" ContentType="image/jpeg"/>
  <Override PartName="/ppt/media/image3.png" ContentType="image/png"/>
  <Override PartName="/ppt/media/breeze.wav" ContentType="audio/x-wav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B97A-65CA-4D2F-A18B-83A070F348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015F-94E6-4287-AC80-F6C042D7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24D0-4223-46B6-8BC4-28A6373C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CD92-1B14-4060-A875-EACD7B9D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768F-6ACB-4A3B-8D45-41BBC647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86E-1D41-427C-86FB-BFFDB9C9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748-32C2-47A8-9D4B-F10A3A30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0A1F-2BEA-4282-BB90-C5FA8815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44AC-7D84-4EAA-8BE9-017FDC74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49BD-ED31-4A9A-A2F5-EBBD5241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32C5-E847-45F1-8222-4C78CBFC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571C-DC10-405F-826B-F4246D3C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B5DD-CAD7-4BF4-B415-90C97F30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0502-55FF-4AA5-886A-D11044385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psites.net/gotham01/webpages/isaacs/Immigrants%2520seeing%2520Statue.jpg&amp;imgrefurl=http://www.mapsites.net/gotham01/webpages/isaacs/index.htm&amp;h=514&amp;w=640&amp;sz=86&amp;hl=en&amp;start=5&amp;tbnid=-hGJN2xi_QjhTM:&amp;tbnh=110&amp;tbnw=137&amp;prev=/images%3Fq%3Dimmigrants%26svnum%3D10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91440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Berlin Sans FB Demi"/>
              </a:rPr>
              <a:t>Immigrants in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Millions of immigrants moved to the United States in the late 1800’s &amp; early 19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Immigrants%2520seeing%2520Statu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2120"/>
            <a:ext cx="2209680" cy="23922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  <p:sndAc>
      <p:stSnd>
        <p:snd r:embed="rId3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Berlin Sans FB Demi"/>
              </a:rPr>
              <a:t>Immigration 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erlin Sans FB Demi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228600"/>
          <a:ext cx="9144000" cy="62946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71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33"/>
                          </a:solidFill>
                          <a:latin typeface="Berlin Sans FB Demi"/>
                        </a:rPr>
                        <a:t>New immigrants arriving at Ellis Island. At Ellis they will be "processed" before they are allowed to continue their journey to find a new hom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5" descr="Photo of immigrants arriving at Ellis Island"/>
          <p:cNvPicPr/>
          <p:nvPr/>
        </p:nvPicPr>
        <p:blipFill>
          <a:blip r:embed="rId1"/>
          <a:stretch/>
        </p:blipFill>
        <p:spPr>
          <a:xfrm>
            <a:off x="1981080" y="685800"/>
            <a:ext cx="476280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growthcenters-big"/>
          <p:cNvPicPr/>
          <p:nvPr/>
        </p:nvPicPr>
        <p:blipFill>
          <a:blip r:embed="rId1"/>
          <a:stretch/>
        </p:blipFill>
        <p:spPr>
          <a:xfrm>
            <a:off x="914400" y="781200"/>
            <a:ext cx="7848720" cy="56829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erlin Sans FB Demi"/>
              </a:rPr>
              <a:t>Laws Against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882 Congress passed Chinese Exclusion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most all Chinese immigrants were kept out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921 &amp; 1924 Congress passed laws that lowered  the number of Europeans &amp; A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l immigrants faced prejudice upon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Berlin Sans FB Demi"/>
              </a:rPr>
              <a:t>Immigrants helped the U.S. become one of the richest and fastest-growing countries in the world.  They built railroads, dug mines, and worked in facto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day_without_immigrants"/>
          <p:cNvPicPr/>
          <p:nvPr/>
        </p:nvPicPr>
        <p:blipFill>
          <a:blip r:embed="rId1"/>
          <a:stretch/>
        </p:blipFill>
        <p:spPr>
          <a:xfrm>
            <a:off x="2666880" y="3124080"/>
            <a:ext cx="3581640" cy="34750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im2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5627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6:16:47Z</dcterms:created>
  <dc:creator>Your User Name</dc:creator>
  <dc:description/>
  <dc:language>en-US</dc:language>
  <cp:lastModifiedBy>LEGION</cp:lastModifiedBy>
  <dcterms:modified xsi:type="dcterms:W3CDTF">2017-07-03T11:22:33Z</dcterms:modified>
  <cp:revision>8</cp:revision>
  <dc:subject/>
  <dc:title>Immigrants in America</dc:title>
</cp:coreProperties>
</file>