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5B15-F908-48D4-8F2E-DC74267B5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B9E-594A-4AB9-8AEB-C7FAA8A6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636-81C4-4C28-8347-B5A25A4E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AAA-89EB-4390-ABAF-530F3A54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07A-D806-4918-9204-512826C0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EB4-89B0-4FC7-BE17-404BC0A0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4A0-A8DC-4042-A83C-097F928E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165-2D69-489A-BAE3-5CEB5D7A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895-D9A5-496B-9546-1767D095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096-B0BD-4B11-86D6-29C96404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A91-A24E-48E3-A8BF-D142DDBD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D02-D21B-48E2-B4AC-331CC039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720-E857-466C-8163-3D5589C2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3A85-5845-4BE8-9AC7-C4C08EC46DF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LEGION</cp:lastModifiedBy>
  <dcterms:modified xsi:type="dcterms:W3CDTF">2017-07-03T11:22:12Z</dcterms:modified>
  <cp:revision>7</cp:revision>
  <dc:subject>How did Life in Egypt affect Medicine?</dc:subject>
  <dc:title>How did Life in Egypt affect Medicine?</dc:title>
</cp:coreProperties>
</file>