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A5A5-B933-47B9-863A-BBC818248D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pictog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Life in Egypt affect Medicine?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ic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Life in Egypt affect Medic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0BC – 500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ians 3000BC-10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s 1000BC – 500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500BC – 500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– examine patterns and themes across th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: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gypt – A 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– A 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y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ful ru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o various improvements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ecialists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ts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e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raoh had his own physic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the rich could afford do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researched new ways to treat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lled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tools and jewell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developed new surg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ed to doctors who would use medical instr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with India, Africa and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d Egyptian goods for h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herbal reme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y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was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dies and records were k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ould be passed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g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natural appr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e.g. Sekh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mm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ection forb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ile and Farm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le and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important to wa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tors based medical ideas on the N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152F-559E-4102-864D-A15D75F3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E015-AC34-4233-A6B4-3A8EF801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B70-5F2D-4786-80DA-AAF64DA0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B8AD-F11C-4B24-B056-915DCFB3B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BEE7-BA37-46FB-A109-028E0616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687-7A1A-49B8-8AA5-4232FEAC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D30-F534-412E-9829-B824EC30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D310-75A4-48FB-8F87-4A032436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FAB-4A84-4296-9FFE-384AC0A7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6A50-B07E-489E-8984-75A71370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0B08-4650-40CA-B22A-AD83BBBE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5B3C-43AE-4D20-8F87-3EF2327C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E5EC-FEDD-4AB1-A9E1-B5661CD6F3A0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athstat.carleton.ca/~rhfischl/great_pyramid/pyramid.jpg&amp;imgrefurl=http://mathstat.carleton.ca/~rhfischl/great_pyramid/great_pyramid.html&amp;h=398&amp;w=547&amp;sz=68&amp;tbnid=U_AXrTzMU0co1M:&amp;tbnh=94&amp;tbnw=130&amp;hl=en&amp;start=1&amp;prev=/images%3Fq%3Dpyramid%26svnum%3D10%26hl%3Den%26lr%3D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roche.ie/HR/Insite/email_vorlage_files/cartoon_money_01.jpg&amp;imgrefurl=http://www.roche.ie/HR/Insite/Insite_July05_Web.html&amp;h=180&amp;w=240&amp;sz=15&amp;tbnid=b24KDO9DGCKRAM:&amp;tbnh=78&amp;tbnw=104&amp;hl=en&amp;start=1&amp;prev=/images%3Fq%3Dmoney%2Bcartoon%26svnum%3D10%26hl%3Den%26lr%3D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bradfitzpatrick.com/stock_illustration/images/cartoon_doctor_001.gif&amp;imgrefurl=http://www.bradfitzpatrick.com/stock_illustration/cartoon_doctor_001.htm&amp;h=180&amp;w=240&amp;sz=9&amp;tbnid=Av5TK6Y4mwRv6M:&amp;tbnh=78&amp;tbnw=104&amp;hl=en&amp;start=1&amp;prev=/images%3Fq%3Dcartoon%2Bdoctor%26svnum%3D10%26hl%3Den%26lr%3D%26sa%3D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istockphoto.com/file_thumbview_approve/319828/2/istockphoto_319828_the_blacksmith.jpg&amp;imgrefurl=http://www.istockphoto.com/imageindex/319/8/319828/The_Blacksmith.html&amp;h=270&amp;w=266&amp;sz=20&amp;tbnid=yl740sy3YV-cZM:&amp;tbnh=108&amp;tbnw=106&amp;hl=en&amp;start=2&amp;prev=/images%3Fq%3Dcartoon%2Bblacksmith%26svnum%3D10%26hl%3Den%26lr%3D%26sa%3D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axelnelson.com/antik/antik.jpg&amp;imgrefurl=http://www.axelnelson.com/skepp/egypt.htm&amp;h=259&amp;w=354&amp;sz=15&amp;tbnid=imVII-HbhbKlLM:&amp;tbnh=85&amp;tbnw=117&amp;hl=en&amp;start=1&amp;prev=/images%3Fq%3Degyptian%2Bships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earlham.edu/~seidti/iam/papyrus_66a.gif&amp;imgrefurl=http://www.earlham.edu/~seidti/iam/tc_pap66.html&amp;h=650&amp;w=568&amp;sz=334&amp;tbnid=ojruY8Oig9YPLM:&amp;tbnh=135&amp;tbnw=117&amp;hl=en&amp;start=17&amp;prev=/images%3Fq%3Dpapyrus%26svnum%3D10%26hl%3Den%26lr%3D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members.aol.com/egyptnew/myth/sekmet1.gif&amp;imgrefurl=http://members.aol.com/egyptart/sekmet.html&amp;h=441&amp;w=238&amp;sz=61&amp;tbnid=yLPfAyL_47DV_M:&amp;tbnh=123&amp;tbnw=66&amp;hl=en&amp;start=8&amp;prev=/images%3Fq%3Dsekhmet%26svnum%3D10%26hl%3Den%26lr%3D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cient Medic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yrami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59280" y="836640"/>
            <a:ext cx="3025440" cy="165564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Create a pictogram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635280" y="321300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830960" y="3213000"/>
            <a:ext cx="57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fd293"/>
                </a:solidFill>
                <a:latin typeface="Arial"/>
              </a:rPr>
              <a:t>How did Life in Egypt affect Medicin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84360" y="148428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istockphoto_319828_the_blacksmit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1557360"/>
            <a:ext cx="1225800" cy="136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antik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64360" y="162864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papyrus_66a"/>
          <p:cNvPicPr/>
          <p:nvPr/>
        </p:nvPicPr>
        <p:blipFill>
          <a:blip r:embed="rId7"/>
          <a:stretch/>
        </p:blipFill>
        <p:spPr>
          <a:xfrm>
            <a:off x="539640" y="4508640"/>
            <a:ext cx="1295640" cy="1657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sekmet1"/>
          <p:cNvPicPr/>
          <p:nvPr/>
        </p:nvPicPr>
        <p:blipFill>
          <a:blip r:embed="rId8"/>
          <a:stretch/>
        </p:blipFill>
        <p:spPr>
          <a:xfrm>
            <a:off x="3924360" y="4581360"/>
            <a:ext cx="1873080" cy="151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08"/>
          <p:cNvPicPr/>
          <p:nvPr/>
        </p:nvPicPr>
        <p:blipFill>
          <a:blip r:embed="rId9"/>
          <a:stretch/>
        </p:blipFill>
        <p:spPr>
          <a:xfrm>
            <a:off x="7236000" y="4221000"/>
            <a:ext cx="1728720" cy="2167200"/>
          </a:xfrm>
          <a:prstGeom prst="rect">
            <a:avLst/>
          </a:prstGeom>
          <a:ln w="0">
            <a:noFill/>
          </a:ln>
        </p:spPr>
      </p:pic>
      <p:sp>
        <p:nvSpPr>
          <p:cNvPr id="93" name="Line 14"/>
          <p:cNvSpPr/>
          <p:nvPr/>
        </p:nvSpPr>
        <p:spPr>
          <a:xfrm flipH="1">
            <a:off x="1619280" y="364500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4858920" y="3789360"/>
            <a:ext cx="7308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6804000" y="3716280"/>
            <a:ext cx="50472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 flipV="1">
            <a:off x="6516720" y="2565000"/>
            <a:ext cx="57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 flipH="1" flipV="1">
            <a:off x="1908000" y="2924280"/>
            <a:ext cx="43200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 flipV="1">
            <a:off x="4716360" y="29239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Ancient Medicin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00BC – 500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gyptians 3000BC-10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eeks 1000BC – 500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omans 500BC – 500 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– examine patterns and themes across the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cus: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Egypt – A Wealthy Country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althy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werful ru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ed to various improvements in medic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6" descr="cartoon_money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6720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Specialists Docto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ucate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haraoh had his own phys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nly the rich could afford do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researched new ways to treat pati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cartoon_doctor_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557360"/>
            <a:ext cx="3168720" cy="431964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Metal Workers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killed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duced tools and jewell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developed new surg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ed to doctors who would use medical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9" descr="istockphoto_319828_the_blacksmit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628640"/>
            <a:ext cx="3600360" cy="43927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ks with India, Africa and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raded Egyptian goods for her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de herbal reme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anti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628640"/>
            <a:ext cx="3961080" cy="44658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Writ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riting was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medies and records were k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se could be passed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6" descr="papyrus_66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628640"/>
            <a:ext cx="3672000" cy="45370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ernatural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ds e.g. Sekhm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mm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ssection forbid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6" descr="sekmet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024360" cy="44640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fd293"/>
                </a:solidFill>
                <a:latin typeface="Arial"/>
              </a:rPr>
              <a:t>The Nile and Farming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ile important to way of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octors based medical ideas on the N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hanne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6" descr="08"/>
          <p:cNvPicPr/>
          <p:nvPr/>
        </p:nvPicPr>
        <p:blipFill>
          <a:blip r:embed="rId1"/>
          <a:stretch/>
        </p:blipFill>
        <p:spPr>
          <a:xfrm>
            <a:off x="539640" y="1773360"/>
            <a:ext cx="3816360" cy="403848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10:20:15Z</dcterms:created>
  <dc:creator>cjames</dc:creator>
  <dc:description>How did Life in Egypt affect Medicine?</dc:description>
  <cp:keywords>How did Life in Egypt affect Medicine?</cp:keywords>
  <dc:language>en-US</dc:language>
  <cp:lastModifiedBy>LEGION</cp:lastModifiedBy>
  <dcterms:modified xsi:type="dcterms:W3CDTF">2017-07-03T11:22:12Z</dcterms:modified>
  <cp:revision>7</cp:revision>
  <dc:subject>How did Life in Egypt affect Medicine?</dc:subject>
  <dc:title>How did Life in Egypt affect Medicine?</dc:title>
</cp:coreProperties>
</file>