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E63C-250E-4107-964E-E22619D4C6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E05-3BEF-4F5D-B813-3A7C7082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EF9-4493-4433-86FC-AE41914C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26E-4DC5-44F5-8E7D-95D7F2A1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11A-FE23-4913-A99F-26D20C1E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71E-6023-4283-AFDF-7EC141D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ACF-6473-4281-9385-035E9CD1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967-7E33-4CD1-9E2C-D9C88DDA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8F7-5B18-4A48-91E1-8DEB9DFD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031-5B08-4CE5-92B2-BEFC3F46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61B-0B51-4BBB-A97C-8E0E9EC9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18F-E945-4569-A74A-FB5EA35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1BD-0011-408E-B074-06730BD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CEF4-1B07-4A34-BA25-B8F91B906A2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LEGION</cp:lastModifiedBy>
  <dcterms:modified xsi:type="dcterms:W3CDTF">2017-07-03T11:22:12Z</dcterms:modified>
  <cp:revision>7</cp:revision>
  <dc:subject>How did Life in Egypt affect Medicine?</dc:subject>
  <dc:title>How did Life in Egypt affect Medicine?</dc:title>
</cp:coreProperties>
</file>