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BB27-00C4-4AC1-A76F-A5CA2DBF07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D8E-1B6E-4FDB-9424-E25D9B21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BF4-01B7-47B3-8F37-C6B94CE3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EC0-3482-443D-84C0-51BF3C0A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01E-351D-4884-9203-84A89ED5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E2E-3DBF-4E89-94A7-5B5CB748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BB3-8008-4037-9DF7-35ABD4AB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836-8FDD-48E5-9BEA-CE568186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223-BB04-4AD5-B904-25B8710D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DA6-22B5-4148-86AE-38B01DC2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DB65-E5CC-4970-B511-DAC573A5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2C6-569A-4832-A4AF-F8D7C89C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593-6427-4F24-908B-DEDF1D6E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19F3-305A-48BC-B9BA-0D02F7337E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1CEB-58F1-4434-9E0B-1DEE87CC1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io001.jpg"/>
          <p:cNvPicPr/>
          <p:nvPr/>
        </p:nvPicPr>
        <p:blipFill>
          <a:blip r:embed="rId1"/>
          <a:stretch/>
        </p:blipFill>
        <p:spPr>
          <a:xfrm>
            <a:off x="304920" y="0"/>
            <a:ext cx="8553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bio01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bio0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bio01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bio01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bio01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bio01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bio01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bio01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bio01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bio01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bio00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bio02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bio02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bio02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bio02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bio02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bio02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bio02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bio02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bio02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bio03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io00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bio03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bio03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bio03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bio03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bio03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bio03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bio03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bio03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bio04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bio04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bio00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bio04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bio04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bio04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bio00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bio00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bio00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bio00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bio00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36:26Z</dcterms:created>
  <dc:creator>User</dc:creator>
  <dc:description/>
  <dc:language>en-US</dc:language>
  <cp:lastModifiedBy>LEGION</cp:lastModifiedBy>
  <dcterms:modified xsi:type="dcterms:W3CDTF">2017-07-03T11:22:42Z</dcterms:modified>
  <cp:revision>5</cp:revision>
  <dc:subject/>
  <dc:title>Photo Album</dc:title>
</cp:coreProperties>
</file>