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EB85-9889-46DE-9643-747C9B08D8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D36-5B41-4A91-BFAB-7D708B7A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676-625E-4B7D-B8F4-DB9C6DDD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9B0-6462-4364-BB62-70F9AA8F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A5E-8499-4E66-9115-D93B8784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13D-32BB-469D-BC0B-67667CA2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FDE-A371-4158-A054-A0E70674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067-B529-4355-9F60-EF43BFD0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6D6-B867-48FE-A547-F2D291B7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672-365F-4EAB-8287-D7253ECD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2AD-1C04-4E66-B55D-5B0393C1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BB4-F0BB-45A7-935A-4486AF27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841-E9AE-48AA-B550-B9D0F74A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309A-A33A-489B-8CC0-40AC988C7A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FE71-190F-4622-BAB4-3534345F8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io001.jpg"/>
          <p:cNvPicPr/>
          <p:nvPr/>
        </p:nvPicPr>
        <p:blipFill>
          <a:blip r:embed="rId1"/>
          <a:stretch/>
        </p:blipFill>
        <p:spPr>
          <a:xfrm>
            <a:off x="304920" y="0"/>
            <a:ext cx="8553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bio01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bio0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bio01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bio01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bio01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bio01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bio01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bio01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bio01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bio01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bio00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bio02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bio02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bio02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bio02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bio02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bio02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bio02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bio02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bio02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bio03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io00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bio03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bio03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bio03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bio03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bio03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bio03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bio03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bio03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bio04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bio04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bio00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bio04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bio04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bio04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bio00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bio00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bio00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bio00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bio00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36:26Z</dcterms:created>
  <dc:creator>User</dc:creator>
  <dc:description/>
  <dc:language>en-US</dc:language>
  <cp:lastModifiedBy>LEGION</cp:lastModifiedBy>
  <dcterms:modified xsi:type="dcterms:W3CDTF">2017-07-03T11:22:42Z</dcterms:modified>
  <cp:revision>5</cp:revision>
  <dc:subject/>
  <dc:title>Photo Album</dc:title>
</cp:coreProperties>
</file>