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B247-54BA-4EAA-82FC-5CDBD3E9AA4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D12-13D2-457A-9E2A-73E935E4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5F5-24EC-42D5-B446-7FD8961D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A67-09F2-45AD-A5A3-36FF1A653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E5A-4C99-4FA9-9AAF-9D0F0FB6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34E9-B363-4D65-9951-E2A6E404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0E1-368C-4C1D-B5EC-38BC00F1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525-4276-45E5-BE51-6661EAEF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763-6EF9-4F8A-9F4D-1DA1A86B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049-394E-479C-9B3C-9353B169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482-D655-4BEA-971F-41E4BD4E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6E05-D568-4A30-B3EB-9E378283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9A6-3EC5-405F-9D7F-292EED00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7743-95DA-46D5-9F8A-69CD7E17B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AB17-99B9-45FC-95B5-F88610DF0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bio001.jpg"/>
          <p:cNvPicPr/>
          <p:nvPr/>
        </p:nvPicPr>
        <p:blipFill>
          <a:blip r:embed="rId1"/>
          <a:stretch/>
        </p:blipFill>
        <p:spPr>
          <a:xfrm>
            <a:off x="304920" y="0"/>
            <a:ext cx="85532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" descr="bio01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bio01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bio01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bio01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bio01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bio01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bio01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bio01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bio01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bio01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bio00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bio02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bio02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bio02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bio02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bio02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bio02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bio02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bio02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bio02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bio03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bio00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bio03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bio03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bio03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bio03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bio03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bio03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bio03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bio03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bio040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bio041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bio00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bio042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bio043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bio044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bio005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bio006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bio007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bio008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bio009.jpg"/>
          <p:cNvPicPr/>
          <p:nvPr/>
        </p:nvPicPr>
        <p:blipFill>
          <a:blip r:embed="rId1"/>
          <a:stretch/>
        </p:blipFill>
        <p:spPr>
          <a:xfrm>
            <a:off x="285840" y="0"/>
            <a:ext cx="85723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0T12:36:26Z</dcterms:created>
  <dc:creator>User</dc:creator>
  <dc:description/>
  <dc:language>en-US</dc:language>
  <cp:lastModifiedBy>LEGION</cp:lastModifiedBy>
  <dcterms:modified xsi:type="dcterms:W3CDTF">2017-07-03T11:22:42Z</dcterms:modified>
  <cp:revision>5</cp:revision>
  <dc:subject/>
  <dc:title>Photo Album</dc:title>
</cp:coreProperties>
</file>