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987-E223-48B2-BDF9-BA8637B67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6E1-5D98-4F39-9407-55365655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C44-9C98-442B-B26F-581B3C6B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9F2-5B2A-4F06-8FAA-CFA2548B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783-668E-4477-B715-151DD7E2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615-7394-4442-A9D7-32DA8ADE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EEC-5655-493E-A987-06264E7A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C27-9549-4BF4-8FAD-01537F66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14F-C942-4FF9-B13B-679C9B58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F5B-5BD7-490D-AAD8-EDDBA768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161-642C-48DC-8A02-8D6E54E2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C77-6A71-4114-AB58-57D82F8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C1E-B0EC-4262-A1B4-085336C0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966D-2445-45E4-B892-AA555F0517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7-07-03T10:10:37Z</dcterms:modified>
  <cp:revision>10</cp:revision>
  <dc:subject>England in 1060 hastings 1066</dc:subject>
  <dc:title>England in 1060 hastings 1066</dc:title>
</cp:coreProperties>
</file>