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F6D3-2BED-406D-A526-BC262A1419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3E9-9ED7-49E2-9509-BADECC30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7A3-0F99-4596-A363-F4A97346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5B6-3C2F-48FA-83CF-A12E55A6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EFF-E099-4892-9A2B-64C22AE4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542-6864-492F-801C-CD22A919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A0FD-D2DF-4292-92A4-FF7B2567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C9D-F48A-42E4-845F-49470B25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791-CB20-495B-A30A-1FA7F9E8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040-C4E7-46C3-818A-27476642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7E9-AE9C-4AF4-8F51-7BB87CEC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967-6689-4C31-914F-F4573474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648-07BB-4CFE-B55B-36784597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B946-85C5-4827-B62D-C6284BC2E8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8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7-07-03T10:10:37Z</dcterms:modified>
  <cp:revision>10</cp:revision>
  <dc:subject>England in 1060 hastings 1066</dc:subject>
  <dc:title>England in 1060 hastings 1066</dc:title>
</cp:coreProperties>
</file>