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A4F5-A1C4-4A80-A364-3103BDE705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277-21A1-4233-B2C5-0F5BE146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8FB-2DB4-4CFD-B21E-AA653672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30A-E5AA-4B6F-AF89-15984923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767-751A-4997-A4BE-76E617E4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162C-B663-4B8C-9C7C-E464AC95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808A-1D17-426A-B5C2-27D4089B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23BE-F2F5-44B5-8703-414F00CA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A35B-5943-43B7-B36A-3A7A9CC3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F13C-99E9-402C-AAB2-F34AE99D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AA96-25FC-43CD-BAAD-68E27255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E296-3A0E-43A4-86F5-F24440F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427-2D34-4A9D-AD08-D92B997C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1E1D-9AD1-4D5E-9DB7-C491B38D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7D13-8B42-44F2-8347-6047F907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8D51-A330-443E-B434-939E651A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3297-FFC9-43B9-BD23-1EA75742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14D7-3E3C-4AB4-A554-0DA8F074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160-A65C-4453-A11A-98228D13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6CB-4555-4B90-ABAB-0B99DEF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870-F9E3-4E7D-BD00-C03FE87A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DAE-CD89-4C49-B035-735B1A1A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726-B3BC-4048-AF1E-D4E8DF1B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095-CF67-4FAC-9063-E08F4322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5A7-DD29-4732-B82A-8D5BC88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599E-23EE-458A-898F-6DC4133BF6E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304D-0985-487C-A34C-C76FC515BBF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LEGION</cp:lastModifiedBy>
  <dcterms:modified xsi:type="dcterms:W3CDTF">2017-07-03T10:43:17Z</dcterms:modified>
  <cp:revision>75</cp:revision>
  <dc:subject/>
  <dc:title>Units 4 &amp; 5 </dc:title>
</cp:coreProperties>
</file>