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23.jpeg" ContentType="image/jpeg"/>
  <Override PartName="/ppt/media/image12.png" ContentType="image/png"/>
  <Override PartName="/ppt/media/image21.jpeg" ContentType="image/jpeg"/>
  <Override PartName="/ppt/media/chimes.wav" ContentType="audio/x-wav"/>
  <Override PartName="/ppt/media/image19.jpeg" ContentType="image/jpeg"/>
  <Override PartName="/ppt/media/image42.jpeg" ContentType="image/jpeg"/>
  <Override PartName="/ppt/media/image18.jpeg" ContentType="image/jpeg"/>
  <Override PartName="/ppt/media/image15.png" ContentType="image/png"/>
  <Override PartName="/ppt/media/image16.jpeg" ContentType="image/jpeg"/>
  <Override PartName="/ppt/media/laser.wav" ContentType="audio/x-wav"/>
  <Override PartName="/ppt/media/drumroll.wav" ContentType="audio/x-wav"/>
  <Override PartName="/ppt/media/image13.jpeg" ContentType="image/jpeg"/>
  <Override PartName="/ppt/media/image40.jpeg" ContentType="image/jpeg"/>
  <Override PartName="/ppt/media/applause.wav" ContentType="audio/x-wav"/>
  <Override PartName="/ppt/media/image5.png" ContentType="image/png"/>
  <Override PartName="/ppt/media/image43.jpeg" ContentType="image/jpeg"/>
  <Override PartName="/ppt/media/glass.wav" ContentType="audio/x-wav"/>
  <Override PartName="/ppt/media/image20.jpeg" ContentType="image/jpeg"/>
  <Override PartName="/ppt/media/image2.png" ContentType="image/png"/>
  <Override PartName="/ppt/media/image25.jpeg" ContentType="image/jpeg"/>
  <Override PartName="/ppt/media/image17.jpeg" ContentType="image/jpeg"/>
  <Override PartName="/ppt/media/carbrake.wav" ContentType="audio/x-wav"/>
  <Override PartName="/ppt/media/image10.jpeg" ContentType="image/jpeg"/>
  <Override PartName="/ppt/media/image29.jpeg" ContentType="image/jpeg"/>
  <Override PartName="/ppt/media/image24.jpeg" ContentType="image/jpeg"/>
  <Override PartName="/ppt/media/image30.jpeg" ContentType="image/jpeg"/>
  <Override PartName="/ppt/media/image27.jpeg" ContentType="image/jpeg"/>
  <Override PartName="/ppt/media/image11.jpeg" ContentType="image/jpeg"/>
  <Override PartName="/ppt/media/image9.jpeg" ContentType="image/jpeg"/>
  <Override PartName="/ppt/media/image36.jpeg" ContentType="image/jpeg"/>
  <Override PartName="/ppt/media/image31.jpeg" ContentType="image/jpeg"/>
  <Override PartName="/ppt/media/image26.jpeg" ContentType="image/jpeg"/>
  <Override PartName="/ppt/media/image32.jpeg" ContentType="image/jpeg"/>
  <Override PartName="/ppt/media/image37.jpeg" ContentType="image/jpeg"/>
  <Override PartName="/ppt/media/image38.jpeg" ContentType="image/jpeg"/>
  <Override PartName="/ppt/media/image8.jpeg" ContentType="image/jpeg"/>
  <Override PartName="/ppt/media/image39.jpeg" ContentType="image/jpeg"/>
  <Override PartName="/ppt/media/whoosh.wav" ContentType="audio/x-wav"/>
  <Override PartName="/ppt/media/image28.jpeg" ContentType="image/jpeg"/>
  <Override PartName="/ppt/media/image34.jpeg" ContentType="image/jpeg"/>
  <Override PartName="/ppt/media/image7.png" ContentType="image/png"/>
  <Override PartName="/ppt/media/image35.jpeg" ContentType="image/jpeg"/>
  <Override PartName="/ppt/media/image1.jpeg" ContentType="image/jpeg"/>
  <Override PartName="/ppt/media/image22.jpeg" ContentType="image/jpeg"/>
  <Override PartName="/ppt/media/image41.jpeg" ContentType="image/jpeg"/>
  <Override PartName="/ppt/media/image14.jpeg" ContentType="image/jpeg"/>
  <Override PartName="/ppt/media/explode.wav" ContentType="audio/x-wav"/>
  <Override PartName="/ppt/media/image6.png" ContentType="image/png"/>
  <Override PartName="/ppt/media/image4.png" ContentType="image/png"/>
  <Override PartName="/ppt/media/image33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BE221-C88B-47BA-978A-A0061269B0A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h of Cultures and Marching No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h of Cultures and Marching No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ght Makes Right!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zar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arched west coast of South Amer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 treasures on in Per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eated the Inc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illed their leader (Atahualpa) after he demanded all their gold for his rele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ed all silver and gold into bar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ght Makes Right!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zar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arched west coast of South Amer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 treasures on in Per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eated the Inc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illed their leader (Atahualpa) after he demanded all their gold for his rele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ed all silver and gold into bar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4: Gloom, Doom, &amp; Che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nish gave the Indian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ll Pox and Meas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4: Gloom, Doom, &amp; Che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nish gave the Indian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ll Pox and Meas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4: Gloom, Doom, &amp; Che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panish also gav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ig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ucati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51-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39-Printing Press to Mexico 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4: Gloom, Doom, &amp; Che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panish also gav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ig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ucati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51-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39-Printing Press to Mexico 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4: Gloom, Doom, &amp; Che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nish end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man Sacrif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4: Gloom, Doom, &amp; Che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nish end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man Sacrif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5: North of New Sp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orers search for Cibo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 cities of go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ed by 7 pries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d to be in the no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in Africa or Eur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5: North of New Sp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orers search for Cibo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 cities of go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ed by 7 pries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d to be in the no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in Africa or Eur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teban-sent by the mayor of Mexico City to find Cibola with Fray Marc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of 4 survivors from Narv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ptured by Indians (learned their cultu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lked to Mexico in 8 ye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d to many female followers for Fray Marco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d crosses to show Cibola fo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illed when he sent Indians an symbol of w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cos went back to Mexico City and said they found Cibo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teban-sent by the mayor of Mexico City to find Cibola with Fray Marc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of 4 survivors from Narv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ptured by Indians (learned their cultu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lked to Mexico in 8 ye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d to many female followers for Fray Marco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d crosses to show Cibola fo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illed when he sent Indians an symbol of w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cos went back to Mexico City and said they found Cibo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6:Looking for Cibola with Coronad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onado: good leader/soldi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40:leaves in search of Cibo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ts to Hawiku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eblo 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ick Indians out and take o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go west and discover the Grand Cany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6:Looking for Cibola with Coronad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onado: good leader/soldi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40:leaves in search of Cibo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ts to Hawiku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eblo 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ick Indians out and take o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go west and discover the Grand Cany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6:Looking for Cibola with Coronad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urk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Indian captured by the Spani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s sign language to communic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nish assume he’s telling them where the gold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s them to Quivira-city full of mud hu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angled for ly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wasn’t the gold and silver were underground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6:Looking for Cibola with Coronad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urk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Indian captured by the Spani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s sign language to communic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nish assume he’s telling them where the gold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s them to Quivira-city full of mud hu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angled for ly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wasn’t the gold and silver were underground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7: California to Flori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40-1549:Spanish looking for Cibola all over! (California/Texas/Florid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39: De Soto- Florida (land of gol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lects 200lbs of pearls on his explo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s in Peru w/Pizar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ok over Indian vill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ills/tortures if they don’t give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 survivor from Narv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s the Mississippi 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ed of fever and was buried in the 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7: California to Flori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40-1549:Spanish looking for Cibola all over! (California/Texas/Florid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39: De Soto- Florida (land of gol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lects 200lbs of pearls on his explo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s in Peru w/Pizar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ok over Indian vill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ills/tortures if they don’t give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 survivor from Narv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s the Mississippi 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ed of fever and was buried in the 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7: California to Flori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40-Alac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st to reach Californ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iled up the Gulf of California and Colorado River in the Grand Cany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24-Cabrillo (“lil goat”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lieved California was run by Griff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ed being chased by Indi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7: California to Flori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40-Alac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st to reach Californ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iled up the Gulf of California and Colorado River in the Grand Cany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24-Cabrillo (“lil goat”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lieved California was run by Griff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ed being chased by Indi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1: Beliefs and Id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th century~ Roman Catholic and Eastern Orthodox~only Christian relig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th Century~Martin Lu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eform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sts 95 complaints against the Catholic Chur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95 Thes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s Protestantis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1: Beliefs and Id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th century~ Roman Catholic and Eastern Orthodox~only Christian relig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th Century~Martin Lu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eform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sts 95 complaints against the Catholic Chur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95 Thes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s Protestantis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8:A Place Called Santa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F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ed in 16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t on a plate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 permanent European colony in North West Amer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30-60,000 Indians converted to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istian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8:A Place Called Santa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F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ed in 16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t on a plate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 permanent European colony in North West Amer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30-60,000 Indians converted to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istian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9: Las Casas Car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42-King Charles 1 outlaws Indian slave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s Casa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d an Indian slave as a chi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12-became a priest &amp; owned sl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14-gave his slaves their freed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 1520- established Venezuela (peaceful are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ive Americans and Spani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dn’t want to work toge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9: Las Casas Car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42-King Charles 1 outlaws Indian slave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s Casa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d an Indian slave as a chi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12-became a priest &amp; owned sl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14-gave his slaves their freed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 1520- established Venezuela (peaceful are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ive Americans and Spani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dn’t want to work toge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9: Las Casa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pulve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posed Las Casas opin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ive Americans “needed” Spani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aves were g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glish read about Spanis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ll treat Native Americans differen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9: Las Casa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pulve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posed Las Casas opin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ive Americans “needed” Spani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aves were g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glish read about Spanis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ll treat Native Americans differen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END!!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END!!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e of Re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time of change and re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religions forming (Protestantis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u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vel and explo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e of Re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time of change and re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religions forming (Protestantis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u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vel and explo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ert, Leave, OR be Tortured and Die!!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panish Inqui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en Isabella’s “special” religious cou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slims, Jews, and Pagans would have to convert to Christianit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conversion = leaving Spain or dy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ert, Leave, OR be Tortured and Die!!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panish Inqui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en Isabella’s “special” religious cou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slims, Jews, and Pagans would have to convert to Christianit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conversion = leaving Spain or dy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Sp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nando Cort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ught to be a god (Quetzacoatl) by Montezu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veled with 900 peo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k his own ship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ched towards Tenochtitla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Sp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nando Cort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ught to be a god (Quetzacoatl) by Montezu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veled with 900 peo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k his own ship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ched towards Tenochtitla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map of the Aztec Empi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map of the Aztec Empi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tez Marches Ah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esn’t listen to Montezuma and marches towards Tenochtitl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s army as he g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we of 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ing gard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ivate Zo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LD!!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tez Marches Ah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esn’t listen to Montezuma and marches towards Tenochtitl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s army as he g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we of 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ing gard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ivate Zo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LD!!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Aztecs f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ontezuma d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uauhtemoc (the new Aztec leader) surrenders to the Spani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panish destroy the Aztec cul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ename Tenochtitl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xico 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Aztecs f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ontezuma d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uauhtemoc (the new Aztec leader) surrenders to the Spani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panish destroy the Aztec cul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ename Tenochtitl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xico 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3: “Might Makes Right!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nce de Le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n &amp; Bloodthirs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quered Puerto Ri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 Flori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s for all its flow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 gold in Puerto Ri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ally shot with a poison arr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dies from th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3: “Might Makes Right!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nce de Le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n &amp; Bloodthirs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quered Puerto Ri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 Flori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s for all its flow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 gold in Puerto Ri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ally shot with a poison arr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dies from th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3525C-A909-40EF-8ABA-0C6F8669E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C74F2-5969-48A5-AD16-5A74286A0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67D50-2BEC-410D-9C72-66788F228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1D5EA-66A7-4564-B88C-541D89B81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4D744-461B-4214-BE68-7DF63F906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688CA-6392-4F74-92BC-A7683B513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CBDEA-DDCF-4C3A-AE99-1F503B1FC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E6522-8C5F-4E29-BFB0-7643A0D12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FDE63-E964-437E-B4BF-264654D16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E5972-A625-4B82-9E86-841741DD1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EF2A2-7AC9-4D62-89F1-16DA1F425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02A12-7313-4922-9770-9A45F9465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D1AA0-D62F-432E-B0DA-BF28B1B1B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23A29-D3B7-461E-A9D4-A03267B47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E3A08-9BEB-4112-8400-BBDF3A437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7EEE3-B37D-4DB5-A687-F1293CBC1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9A9FF-0196-4C9C-970F-3AEF2189A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0BB4F-BB73-499B-85A2-934D736A7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99746-D191-4CB3-8E7D-BA8D81B17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C557E-330A-4413-986A-8F37AE948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164AC-33A1-421A-B9F9-4D6E168DB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7883E-B5FF-4AAA-AB5B-DE18E9DA0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8EB2B-0DD5-48BD-9889-17DD62D14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AC1F4-80FC-47CC-A601-7A1C9E1D9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026" descr="Expbanna"/>
          <p:cNvPicPr/>
          <p:nvPr/>
        </p:nvPicPr>
        <p:blipFill>
          <a:blip r:embed="rId3"/>
          <a:stretch/>
        </p:blipFill>
        <p:spPr>
          <a:xfrm>
            <a:off x="0" y="0"/>
            <a:ext cx="6858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E1989-DEE3-4F7C-8365-70FE9E53BD62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1031" descr="EXPHORSA"/>
          <p:cNvPicPr/>
          <p:nvPr/>
        </p:nvPicPr>
        <p:blipFill>
          <a:blip r:embed="rId4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Group 7"/>
          <p:cNvGrpSpPr/>
          <p:nvPr/>
        </p:nvGrpSpPr>
        <p:grpSpPr>
          <a:xfrm>
            <a:off x="0" y="0"/>
            <a:ext cx="6362640" cy="6858000"/>
            <a:chOff x="0" y="0"/>
            <a:chExt cx="6362640" cy="6858000"/>
          </a:xfrm>
        </p:grpSpPr>
        <p:pic>
          <p:nvPicPr>
            <p:cNvPr id="44" name="Picture 8" descr="Expbanna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6858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Picture 9" descr="EXPHORSA"/>
            <p:cNvPicPr/>
            <p:nvPr/>
          </p:nvPicPr>
          <p:blipFill>
            <a:blip r:embed="rId4"/>
            <a:stretch/>
          </p:blipFill>
          <p:spPr>
            <a:xfrm>
              <a:off x="3505320" y="5715000"/>
              <a:ext cx="2857320" cy="95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6" name="Picture 10" descr="EXPHORSA"/>
          <p:cNvPicPr/>
          <p:nvPr/>
        </p:nvPicPr>
        <p:blipFill>
          <a:blip r:embed="rId5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E6D75-D88B-41F8-9618-AA5E94A638C3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arbrake.wav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image" Target="../media/image22.jpeg"/><Relationship Id="rId7" Type="http://schemas.openxmlformats.org/officeDocument/2006/relationships/audio" Target="../media/whoosh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audio" Target="../media/laser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25.jpeg"/><Relationship Id="rId7" Type="http://schemas.openxmlformats.org/officeDocument/2006/relationships/image" Target="../media/image26.jpeg"/><Relationship Id="rId8" Type="http://schemas.openxmlformats.org/officeDocument/2006/relationships/image" Target="../media/image27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image" Target="../media/image28.jpe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2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7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30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33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34.jpeg"/><Relationship Id="rId9" Type="http://schemas.openxmlformats.org/officeDocument/2006/relationships/image" Target="../media/image35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4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32.jpeg"/><Relationship Id="rId8" Type="http://schemas.openxmlformats.org/officeDocument/2006/relationships/image" Target="../media/image36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4.png"/><Relationship Id="rId5" Type="http://schemas.openxmlformats.org/officeDocument/2006/relationships/image" Target="../media/image25.jpeg"/><Relationship Id="rId6" Type="http://schemas.openxmlformats.org/officeDocument/2006/relationships/image" Target="../media/image37.jpeg"/><Relationship Id="rId7" Type="http://schemas.openxmlformats.org/officeDocument/2006/relationships/image" Target="../media/image38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39.jpeg"/><Relationship Id="rId8" Type="http://schemas.openxmlformats.org/officeDocument/2006/relationships/image" Target="../media/image40.jpeg"/><Relationship Id="rId9" Type="http://schemas.openxmlformats.org/officeDocument/2006/relationships/audio" Target="../media/explode.wav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41.jpeg"/><Relationship Id="rId7" Type="http://schemas.openxmlformats.org/officeDocument/2006/relationships/image" Target="../media/image42.jpeg"/><Relationship Id="rId8" Type="http://schemas.openxmlformats.org/officeDocument/2006/relationships/image" Target="../media/image43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9.jpeg"/><Relationship Id="rId7" Type="http://schemas.openxmlformats.org/officeDocument/2006/relationships/audio" Target="../media/explode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png"/><Relationship Id="rId8" Type="http://schemas.openxmlformats.org/officeDocument/2006/relationships/audio" Target="../media/glass.wav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13.jpeg"/><Relationship Id="rId7" Type="http://schemas.openxmlformats.org/officeDocument/2006/relationships/image" Target="../media/image14.jpeg"/><Relationship Id="rId8" Type="http://schemas.openxmlformats.org/officeDocument/2006/relationships/audio" Target="../media/applause.wav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16.jpeg"/><Relationship Id="rId8" Type="http://schemas.openxmlformats.org/officeDocument/2006/relationships/image" Target="../media/image17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7.png"/><Relationship Id="rId6" Type="http://schemas.openxmlformats.org/officeDocument/2006/relationships/audio" Target="../media/glass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18.jpeg"/><Relationship Id="rId8" Type="http://schemas.openxmlformats.org/officeDocument/2006/relationships/image" Target="../media/image19.jpeg"/><Relationship Id="rId9" Type="http://schemas.openxmlformats.org/officeDocument/2006/relationships/audio" Target="../media/drumroll.wav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7524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ash of Cultures and Marching Nor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Місце для нижнього колонтитула 1"/>
          <p:cNvSpPr/>
          <p:nvPr/>
        </p:nvSpPr>
        <p:spPr>
          <a:xfrm>
            <a:off x="350532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Might Makes Right!”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izar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arched west coast of South Amer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nd treasures on in Per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eated the Inc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lled their leader (Atahualpa) after he demanded all their gold for his rel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lted all silver and gold into ba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4" descr="inca"/>
          <p:cNvPicPr/>
          <p:nvPr/>
        </p:nvPicPr>
        <p:blipFill>
          <a:blip r:embed="rId4"/>
          <a:stretch/>
        </p:blipFill>
        <p:spPr>
          <a:xfrm>
            <a:off x="6629400" y="4343400"/>
            <a:ext cx="2209680" cy="22096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5" descr="pizzaro"/>
          <p:cNvPicPr/>
          <p:nvPr/>
        </p:nvPicPr>
        <p:blipFill>
          <a:blip r:embed="rId5"/>
          <a:stretch/>
        </p:blipFill>
        <p:spPr>
          <a:xfrm>
            <a:off x="152280" y="3886200"/>
            <a:ext cx="1844640" cy="26971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6" descr="inca2"/>
          <p:cNvPicPr/>
          <p:nvPr/>
        </p:nvPicPr>
        <p:blipFill>
          <a:blip r:embed="rId6"/>
          <a:stretch/>
        </p:blipFill>
        <p:spPr>
          <a:xfrm>
            <a:off x="6858000" y="457200"/>
            <a:ext cx="1787400" cy="1940040"/>
          </a:xfrm>
          <a:prstGeom prst="rect">
            <a:avLst/>
          </a:prstGeom>
          <a:ln w="0">
            <a:noFill/>
          </a:ln>
        </p:spPr>
      </p:pic>
      <p:sp>
        <p:nvSpPr>
          <p:cNvPr id="138" name="Місце для нижнього колонтитула 1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5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hapter 24: Gloom, Doom, &amp; Cheer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anish gave the Indians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Pox and Meas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Picture 4" descr="small pox"/>
          <p:cNvPicPr/>
          <p:nvPr/>
        </p:nvPicPr>
        <p:blipFill>
          <a:blip r:embed="rId3"/>
          <a:stretch/>
        </p:blipFill>
        <p:spPr>
          <a:xfrm>
            <a:off x="380880" y="3124080"/>
            <a:ext cx="3810240" cy="27590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5" descr="small pox 2"/>
          <p:cNvPicPr/>
          <p:nvPr/>
        </p:nvPicPr>
        <p:blipFill>
          <a:blip r:embed="rId4"/>
          <a:stretch/>
        </p:blipFill>
        <p:spPr>
          <a:xfrm>
            <a:off x="4572000" y="3352680"/>
            <a:ext cx="4343400" cy="2621160"/>
          </a:xfrm>
          <a:prstGeom prst="rect">
            <a:avLst/>
          </a:prstGeom>
          <a:ln w="0">
            <a:noFill/>
          </a:ln>
        </p:spPr>
      </p:pic>
      <p:sp>
        <p:nvSpPr>
          <p:cNvPr id="143" name="Місце для нижнього колонтитула 1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5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8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hapter 24: Gloom, Doom, &amp; Cheer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panish also gav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lig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duc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51-Univers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39-Printing Press to Mexico 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Picture 4" descr="cross"/>
          <p:cNvPicPr/>
          <p:nvPr/>
        </p:nvPicPr>
        <p:blipFill>
          <a:blip r:embed="rId6"/>
          <a:stretch/>
        </p:blipFill>
        <p:spPr>
          <a:xfrm>
            <a:off x="6477120" y="914400"/>
            <a:ext cx="2249280" cy="26859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5" descr="sp art 2"/>
          <p:cNvPicPr/>
          <p:nvPr/>
        </p:nvPicPr>
        <p:blipFill>
          <a:blip r:embed="rId7"/>
          <a:stretch/>
        </p:blipFill>
        <p:spPr>
          <a:xfrm>
            <a:off x="6705720" y="3733920"/>
            <a:ext cx="2139840" cy="27432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6" descr="span art"/>
          <p:cNvPicPr/>
          <p:nvPr/>
        </p:nvPicPr>
        <p:blipFill>
          <a:blip r:embed="rId8"/>
          <a:stretch/>
        </p:blipFill>
        <p:spPr>
          <a:xfrm>
            <a:off x="0" y="4114800"/>
            <a:ext cx="1647720" cy="2438280"/>
          </a:xfrm>
          <a:prstGeom prst="rect">
            <a:avLst/>
          </a:prstGeom>
          <a:ln w="0">
            <a:noFill/>
          </a:ln>
        </p:spPr>
      </p:pic>
      <p:sp>
        <p:nvSpPr>
          <p:cNvPr id="149" name="Місце для нижнього колонтитула 1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hapter 24: Gloom, Doom, &amp; Cheer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anish end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uman Sacrif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Picture 4" descr="aztecsacrifice"/>
          <p:cNvPicPr/>
          <p:nvPr/>
        </p:nvPicPr>
        <p:blipFill>
          <a:blip r:embed="rId3"/>
          <a:stretch/>
        </p:blipFill>
        <p:spPr>
          <a:xfrm>
            <a:off x="2209680" y="2895480"/>
            <a:ext cx="5867640" cy="3610080"/>
          </a:xfrm>
          <a:prstGeom prst="rect">
            <a:avLst/>
          </a:prstGeom>
          <a:ln w="0">
            <a:noFill/>
          </a:ln>
        </p:spPr>
      </p:pic>
      <p:sp>
        <p:nvSpPr>
          <p:cNvPr id="153" name="Місце для нижнього колонтитула 1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22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25" dur="5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30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hapter 25: North of New Spain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plorers search for Cibo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7 cities of go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nded by 7 prie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d to be in the nor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in Africa or Euro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Picture 4" descr="cibola"/>
          <p:cNvPicPr/>
          <p:nvPr/>
        </p:nvPicPr>
        <p:blipFill>
          <a:blip r:embed="rId5"/>
          <a:stretch/>
        </p:blipFill>
        <p:spPr>
          <a:xfrm>
            <a:off x="5334120" y="2895480"/>
            <a:ext cx="3394080" cy="3259080"/>
          </a:xfrm>
          <a:prstGeom prst="rect">
            <a:avLst/>
          </a:prstGeom>
          <a:ln w="0">
            <a:noFill/>
          </a:ln>
        </p:spPr>
      </p:pic>
      <p:sp>
        <p:nvSpPr>
          <p:cNvPr id="157" name="Місце для нижнього колонтитула 1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Esteban-</a:t>
            </a:r>
            <a:r>
              <a:rPr b="0" lang="en-US" sz="2800" spc="-1" strike="noStrike">
                <a:solidFill>
                  <a:srgbClr val="482400"/>
                </a:solidFill>
                <a:latin typeface="Times New Roman"/>
              </a:rPr>
              <a:t>sent by the mayor of Mexico City to find Cibola with Fray Marcos</a:t>
            </a:r>
            <a:endParaRPr b="0" lang="en-US" sz="28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77080" cy="46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 of 4 survivors from Narve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ptured by Indians (learned their cultur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alked to Mexico in 8 yea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d to many female followers for Fray Marco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d crosses to show Cibola fo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illed when he sent Indians an symbol of w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rcos went back to Mexico City and said they found Cibo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Picture 4" descr="gourd"/>
          <p:cNvPicPr/>
          <p:nvPr/>
        </p:nvPicPr>
        <p:blipFill>
          <a:blip r:embed="rId8"/>
          <a:stretch/>
        </p:blipFill>
        <p:spPr>
          <a:xfrm>
            <a:off x="7086600" y="990720"/>
            <a:ext cx="1828800" cy="1487520"/>
          </a:xfrm>
          <a:prstGeom prst="rect">
            <a:avLst/>
          </a:prstGeom>
          <a:ln w="0">
            <a:noFill/>
          </a:ln>
        </p:spPr>
      </p:pic>
      <p:sp>
        <p:nvSpPr>
          <p:cNvPr id="161" name="Місце для нижнього колонтитула 1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3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0" fill="hold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0" fill="hold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0" fill="hold"/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0" fill="hold"/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hapter 26:Looking for Cibola with Coronado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ronado: good leader/soldi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540:leaves in search of Cibo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ts to Hawiku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eblo 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ck Indians out and take o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go west and discover the Grand Cany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Picture 4" descr="coro"/>
          <p:cNvPicPr/>
          <p:nvPr/>
        </p:nvPicPr>
        <p:blipFill>
          <a:blip r:embed="rId4"/>
          <a:stretch/>
        </p:blipFill>
        <p:spPr>
          <a:xfrm>
            <a:off x="7089840" y="1066680"/>
            <a:ext cx="1628640" cy="29718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5" descr="gc"/>
          <p:cNvPicPr/>
          <p:nvPr/>
        </p:nvPicPr>
        <p:blipFill>
          <a:blip r:embed="rId5"/>
          <a:stretch/>
        </p:blipFill>
        <p:spPr>
          <a:xfrm>
            <a:off x="762120" y="4648320"/>
            <a:ext cx="3504960" cy="1752480"/>
          </a:xfrm>
          <a:prstGeom prst="rect">
            <a:avLst/>
          </a:prstGeom>
          <a:ln w="0">
            <a:noFill/>
          </a:ln>
        </p:spPr>
      </p:pic>
      <p:sp>
        <p:nvSpPr>
          <p:cNvPr id="166" name="Місце для нижнього колонтитула 1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6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1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4" dur="5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7" dur="5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0" dur="500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3" dur="5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6" dur="500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1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6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hapter 26:Looking for Cibola with Coronado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Turk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Indian captured by the Spani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s sign language to communic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anish assume he’s telling them where the gold 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kes them to Quivira-city full of mud hu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angled for ly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 wasn’t the gold and silver were underground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Picture 4" descr="hanging"/>
          <p:cNvPicPr/>
          <p:nvPr/>
        </p:nvPicPr>
        <p:blipFill>
          <a:blip r:embed="rId7"/>
          <a:stretch/>
        </p:blipFill>
        <p:spPr>
          <a:xfrm>
            <a:off x="0" y="4495680"/>
            <a:ext cx="1600200" cy="2079720"/>
          </a:xfrm>
          <a:prstGeom prst="rect">
            <a:avLst/>
          </a:prstGeom>
          <a:ln w="0">
            <a:noFill/>
          </a:ln>
        </p:spPr>
      </p:pic>
      <p:sp>
        <p:nvSpPr>
          <p:cNvPr id="170" name="Місце для нижнього колонтитула 1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3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nodeType="clickEffect" fill="hold">
                      <p:stCondLst>
                        <p:cond delay="indefinite"/>
                      </p:stCondLst>
                      <p:childTnLst>
                        <p:par>
                          <p:cTn id="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8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hapter 27: California to Florida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540-1549:Spanish looking for Cibola all over! (California/Texas/Florid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39: De Soto- Florida (land of gol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cts 200lbs of pearls on his expl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s in Peru w/Pizar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k over Indian vill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ills/tortures if they don’t give 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nd survivor from Narve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s the Mississippi Ri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ed of fever and was buried in the ri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Picture 4" descr="miss riv"/>
          <p:cNvPicPr/>
          <p:nvPr/>
        </p:nvPicPr>
        <p:blipFill>
          <a:blip r:embed="rId8"/>
          <a:stretch/>
        </p:blipFill>
        <p:spPr>
          <a:xfrm>
            <a:off x="7170840" y="2362320"/>
            <a:ext cx="1973160" cy="293364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5" descr="pearls"/>
          <p:cNvPicPr/>
          <p:nvPr/>
        </p:nvPicPr>
        <p:blipFill>
          <a:blip r:embed="rId9"/>
          <a:stretch/>
        </p:blipFill>
        <p:spPr>
          <a:xfrm>
            <a:off x="0" y="5667480"/>
            <a:ext cx="1787400" cy="1190520"/>
          </a:xfrm>
          <a:prstGeom prst="rect">
            <a:avLst/>
          </a:prstGeom>
          <a:ln w="0">
            <a:noFill/>
          </a:ln>
        </p:spPr>
      </p:pic>
      <p:sp>
        <p:nvSpPr>
          <p:cNvPr id="175" name="Місце для нижнього колонтитула 1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2" dur="indefinite" restart="never" nodeType="tmRoot">
          <p:childTnLst>
            <p:seq>
              <p:cTn id="613" dur="indefinite" nodeType="mainSeq">
                <p:childTnLst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5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5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nodeType="clickEffect" fill="hold">
                      <p:stCondLst>
                        <p:cond delay="indefinite"/>
                      </p:stCondLst>
                      <p:childTnLst>
                        <p:par>
                          <p:cTn id="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1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1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nodeType="clickEffect" fill="hold">
                      <p:stCondLst>
                        <p:cond delay="indefinite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6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hapter 27: California to Florida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540-Alacr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reach Californ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iled up the Gulf of California and Colorado River in the Grand Cany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524-Cabrillo (“lil goat”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lieved California was run by Griffi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ed being chased by Indi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Picture 4" descr="gc"/>
          <p:cNvPicPr/>
          <p:nvPr/>
        </p:nvPicPr>
        <p:blipFill>
          <a:blip r:embed="rId7"/>
          <a:stretch/>
        </p:blipFill>
        <p:spPr>
          <a:xfrm>
            <a:off x="0" y="5410080"/>
            <a:ext cx="2438280" cy="14320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griffin2"/>
          <p:cNvPicPr/>
          <p:nvPr/>
        </p:nvPicPr>
        <p:blipFill>
          <a:blip r:embed="rId8"/>
          <a:stretch/>
        </p:blipFill>
        <p:spPr>
          <a:xfrm>
            <a:off x="6095880" y="4772160"/>
            <a:ext cx="3048120" cy="1969920"/>
          </a:xfrm>
          <a:prstGeom prst="rect">
            <a:avLst/>
          </a:prstGeom>
          <a:ln w="0">
            <a:noFill/>
          </a:ln>
        </p:spPr>
      </p:pic>
      <p:sp>
        <p:nvSpPr>
          <p:cNvPr id="180" name="Місце для нижнього колонтитула 1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8" dur="indefinite" restart="never" nodeType="tmRoot">
          <p:childTnLst>
            <p:seq>
              <p:cTn id="669" dur="indefinite" nodeType="mainSeq">
                <p:childTnLst>
                  <p:par>
                    <p:cTn id="670" nodeType="clickEffect" fill="hold">
                      <p:stCondLst>
                        <p:cond delay="indefinite"/>
                      </p:stCondLst>
                      <p:childTnLst>
                        <p:par>
                          <p:cTn id="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674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9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1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nodeType="clickEffect" fill="hold">
                      <p:stCondLst>
                        <p:cond delay="indefinite"/>
                      </p:stCondLst>
                      <p:childTnLst>
                        <p:par>
                          <p:cTn id="6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7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nodeType="clickEffect" fill="hold">
                      <p:stCondLst>
                        <p:cond delay="indefinite"/>
                      </p:stCondLst>
                      <p:childTnLst>
                        <p:par>
                          <p:cTn id="6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nodeType="clickEffect" fill="hold">
                      <p:stCondLst>
                        <p:cond delay="indefinite"/>
                      </p:stCondLst>
                      <p:childTnLst>
                        <p:par>
                          <p:cTn id="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01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hapter 21: Beliefs and Ideas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6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entury~ Roman Catholic and Eastern Orthodox~only Christian relig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entury~Martin Lut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form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sts 95 complaints against the Catholic Chur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95 Thes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nds Protestantism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4" descr="martin_luther"/>
          <p:cNvPicPr/>
          <p:nvPr/>
        </p:nvPicPr>
        <p:blipFill>
          <a:blip r:embed="rId6"/>
          <a:stretch/>
        </p:blipFill>
        <p:spPr>
          <a:xfrm>
            <a:off x="6477120" y="4419720"/>
            <a:ext cx="2273040" cy="2438280"/>
          </a:xfrm>
          <a:prstGeom prst="rect">
            <a:avLst/>
          </a:prstGeom>
          <a:ln w="0">
            <a:noFill/>
          </a:ln>
        </p:spPr>
      </p:pic>
      <p:sp>
        <p:nvSpPr>
          <p:cNvPr id="100" name="Місце для нижнього колонтитула 1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hapter 28:A Place Called Santa </a:t>
            </a:r>
            <a:br>
              <a:rPr sz="4400"/>
            </a:b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            F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nded in 16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ilt on a platea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rst permanent European colony in North West Amer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630-60,000 Indians converted to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ristian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Picture 4" descr="cross"/>
          <p:cNvPicPr/>
          <p:nvPr/>
        </p:nvPicPr>
        <p:blipFill>
          <a:blip r:embed="rId5"/>
          <a:stretch/>
        </p:blipFill>
        <p:spPr>
          <a:xfrm>
            <a:off x="6975360" y="3581280"/>
            <a:ext cx="2168640" cy="327672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6" descr="sf2"/>
          <p:cNvPicPr/>
          <p:nvPr/>
        </p:nvPicPr>
        <p:blipFill>
          <a:blip r:embed="rId6"/>
          <a:stretch/>
        </p:blipFill>
        <p:spPr>
          <a:xfrm>
            <a:off x="4648320" y="914400"/>
            <a:ext cx="4208400" cy="19494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7" descr="sf3"/>
          <p:cNvPicPr/>
          <p:nvPr/>
        </p:nvPicPr>
        <p:blipFill>
          <a:blip r:embed="rId7"/>
          <a:stretch/>
        </p:blipFill>
        <p:spPr>
          <a:xfrm>
            <a:off x="380880" y="4464000"/>
            <a:ext cx="3200400" cy="2394000"/>
          </a:xfrm>
          <a:prstGeom prst="rect">
            <a:avLst/>
          </a:prstGeom>
          <a:ln w="0">
            <a:noFill/>
          </a:ln>
        </p:spPr>
      </p:pic>
      <p:sp>
        <p:nvSpPr>
          <p:cNvPr id="186" name="Місце для нижнього колонтитула 1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2" dur="indefinite" restart="never" nodeType="tmRoot">
          <p:childTnLst>
            <p:seq>
              <p:cTn id="703" dur="indefinite" nodeType="mainSeq">
                <p:childTnLst>
                  <p:par>
                    <p:cTn id="704" nodeType="clickEffect" fill="hold">
                      <p:stCondLst>
                        <p:cond delay="indefinite"/>
                      </p:stCondLst>
                      <p:childTnLst>
                        <p:par>
                          <p:cTn id="7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8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nodeType="clickEffect" fill="hold">
                      <p:stCondLst>
                        <p:cond delay="indefinite"/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nodeType="clickEffect" fill="hold">
                      <p:stCondLst>
                        <p:cond delay="indefinite"/>
                      </p:stCondLst>
                      <p:childTnLst>
                        <p:par>
                          <p:cTn id="7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nodeType="clickEffect" fill="hold">
                      <p:stCondLst>
                        <p:cond delay="indefinite"/>
                      </p:stCondLst>
                      <p:childTnLst>
                        <p:par>
                          <p:cTn id="7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nodeType="clickEffect" fill="hold">
                      <p:stCondLst>
                        <p:cond delay="indefinite"/>
                      </p:stCondLst>
                      <p:childTnLst>
                        <p:par>
                          <p:cTn id="7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nodeType="clickEffect" fill="hold">
                      <p:stCondLst>
                        <p:cond delay="indefinite"/>
                      </p:stCondLst>
                      <p:childTnLst>
                        <p:par>
                          <p:cTn id="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hapter 29: Las Casas Cares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542-King Charles 1 outlaw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ndia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la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s Casa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d an Indian slave as a chi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12-became a priest &amp; owned sla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14-gave his slaves their freed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 1520- established Venezuela (peaceful are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tive Americans and Spanis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482400"/>
              </a:buClr>
              <a:buFont typeface="Wingding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dn’t want to work toget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Picture 4" descr="crosses"/>
          <p:cNvPicPr/>
          <p:nvPr/>
        </p:nvPicPr>
        <p:blipFill>
          <a:blip r:embed="rId7"/>
          <a:stretch/>
        </p:blipFill>
        <p:spPr>
          <a:xfrm>
            <a:off x="5562720" y="4478400"/>
            <a:ext cx="3581280" cy="237960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5" descr="ven"/>
          <p:cNvPicPr/>
          <p:nvPr/>
        </p:nvPicPr>
        <p:blipFill>
          <a:blip r:embed="rId8"/>
          <a:stretch/>
        </p:blipFill>
        <p:spPr>
          <a:xfrm>
            <a:off x="-33480" y="2895480"/>
            <a:ext cx="1694160" cy="3962520"/>
          </a:xfrm>
          <a:prstGeom prst="rect">
            <a:avLst/>
          </a:prstGeom>
          <a:ln w="0">
            <a:noFill/>
          </a:ln>
        </p:spPr>
      </p:pic>
      <p:sp>
        <p:nvSpPr>
          <p:cNvPr id="191" name="Місце для нижнього колонтитула 1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7" dur="indefinite" restart="never" nodeType="tmRoot">
          <p:childTnLst>
            <p:seq>
              <p:cTn id="748" dur="indefinite" nodeType="mainSeq">
                <p:childTnLst>
                  <p:par>
                    <p:cTn id="749" nodeType="clickEffect" fill="hold">
                      <p:stCondLst>
                        <p:cond delay="indefinite"/>
                      </p:stCondLst>
                      <p:childTnLst>
                        <p:par>
                          <p:cTn id="7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3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nodeType="clickEffect" fill="hold">
                      <p:stCondLst>
                        <p:cond delay="indefinite"/>
                      </p:stCondLst>
                      <p:childTnLst>
                        <p:par>
                          <p:cTn id="7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nodeType="clickEffect" fill="hold">
                      <p:stCondLst>
                        <p:cond delay="indefinite"/>
                      </p:stCondLst>
                      <p:childTnLst>
                        <p:par>
                          <p:cTn id="7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6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9" dur="5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0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4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6" dur="5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8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2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6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nodeType="clickEffect" fill="hold">
                      <p:stCondLst>
                        <p:cond delay="indefinite"/>
                      </p:stCondLst>
                      <p:childTnLst>
                        <p:par>
                          <p:cTn id="7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4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nodeType="clickEffect" fill="hold">
                      <p:stCondLst>
                        <p:cond delay="indefinite"/>
                      </p:stCondLst>
                      <p:childTnLst>
                        <p:par>
                          <p:cTn id="7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hapter 29: Las Casas </a:t>
            </a:r>
            <a:br>
              <a:rPr sz="4400"/>
            </a:b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ares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pulve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posed Las Casas opin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tive Americans “needed” Spani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laves were go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glish read about Spanish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ll treat Native Americans different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4" name="Picture 4" descr="in Sl 2"/>
          <p:cNvPicPr/>
          <p:nvPr/>
        </p:nvPicPr>
        <p:blipFill>
          <a:blip r:embed="rId6"/>
          <a:stretch/>
        </p:blipFill>
        <p:spPr>
          <a:xfrm>
            <a:off x="6781680" y="0"/>
            <a:ext cx="2362320" cy="236232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5" descr="in slav"/>
          <p:cNvPicPr/>
          <p:nvPr/>
        </p:nvPicPr>
        <p:blipFill>
          <a:blip r:embed="rId7"/>
          <a:stretch/>
        </p:blipFill>
        <p:spPr>
          <a:xfrm>
            <a:off x="114480" y="4495680"/>
            <a:ext cx="1596960" cy="236232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6" descr="brits"/>
          <p:cNvPicPr/>
          <p:nvPr/>
        </p:nvPicPr>
        <p:blipFill>
          <a:blip r:embed="rId8"/>
          <a:stretch/>
        </p:blipFill>
        <p:spPr>
          <a:xfrm>
            <a:off x="4800600" y="4981680"/>
            <a:ext cx="3733920" cy="1876320"/>
          </a:xfrm>
          <a:prstGeom prst="rect">
            <a:avLst/>
          </a:prstGeom>
          <a:ln w="0">
            <a:noFill/>
          </a:ln>
        </p:spPr>
      </p:pic>
      <p:sp>
        <p:nvSpPr>
          <p:cNvPr id="197" name="Місце для нижнього колонтитула 1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nodeType="clickEffect" fill="hold">
                      <p:stCondLst>
                        <p:cond delay="indefinite"/>
                      </p:stCondLst>
                      <p:childTnLst>
                        <p:par>
                          <p:cTn id="8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nodeType="clickEffect" fill="hold">
                      <p:stCondLst>
                        <p:cond delay="indefinite"/>
                      </p:stCondLst>
                      <p:childTnLst>
                        <p:par>
                          <p:cTn id="8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7" dur="50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8" dur="50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1" dur="50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2" dur="50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50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50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nodeType="clickEffect" fill="hold">
                      <p:stCondLst>
                        <p:cond delay="indefinite"/>
                      </p:stCondLst>
                      <p:childTnLst>
                        <p:par>
                          <p:cTn id="8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1" dur="5000" fill="hold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2" dur="5000" fill="hold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5000" fill="hold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5000" fill="hold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nodeType="clickEffect" fill="hold">
                      <p:stCondLst>
                        <p:cond delay="indefinite"/>
                      </p:stCondLst>
                      <p:childTnLst>
                        <p:par>
                          <p:cTn id="8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nodeType="clickEffect" fill="hold">
                      <p:stCondLst>
                        <p:cond delay="indefinite"/>
                      </p:stCondLst>
                      <p:childTnLst>
                        <p:par>
                          <p:cTn id="8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47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nodeType="clickEffect" fill="hold">
                      <p:stCondLst>
                        <p:cond delay="indefinite"/>
                      </p:stCondLst>
                      <p:childTnLst>
                        <p:par>
                          <p:cTn id="8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2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THE END!!!!!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17524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Місце для нижнього колонтитула 1"/>
          <p:cNvSpPr/>
          <p:nvPr/>
        </p:nvSpPr>
        <p:spPr>
          <a:xfrm>
            <a:off x="350532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6" dur="indefinite" restart="never" nodeType="tmRoot">
          <p:childTnLst>
            <p:seq>
              <p:cTn id="857" dur="indefinite" nodeType="mainSeq">
                <p:childTnLst>
                  <p:par>
                    <p:cTn id="858" nodeType="clickEffect" fill="hold">
                      <p:stCondLst>
                        <p:cond delay="indefinite"/>
                      </p:stCondLst>
                      <p:childTnLst>
                        <p:par>
                          <p:cTn id="8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ge of Re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time of change and refo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w religions forming (Protestantism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du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vel and expl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icture 4" descr="methuen_4"/>
          <p:cNvPicPr/>
          <p:nvPr/>
        </p:nvPicPr>
        <p:blipFill>
          <a:blip r:embed="rId6"/>
          <a:stretch/>
        </p:blipFill>
        <p:spPr>
          <a:xfrm>
            <a:off x="5867280" y="3352680"/>
            <a:ext cx="2678400" cy="3200400"/>
          </a:xfrm>
          <a:prstGeom prst="rect">
            <a:avLst/>
          </a:prstGeom>
          <a:ln w="0">
            <a:noFill/>
          </a:ln>
        </p:spPr>
      </p:pic>
      <p:sp>
        <p:nvSpPr>
          <p:cNvPr id="104" name="Місце для нижнього колонтитула 1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explode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9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2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5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8" dur="5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1" dur="5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onvert, Leave, OR be Tortured and Die!!!!!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panish Inquisi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een Isabella’s “special” religious cou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slims, Jews, and Pagans would have to convert to Christianit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conversion = leaving Spain or dy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Picture 4" descr="imagesCA3SV3YM"/>
          <p:cNvPicPr/>
          <p:nvPr/>
        </p:nvPicPr>
        <p:blipFill>
          <a:blip r:embed="rId5"/>
          <a:stretch/>
        </p:blipFill>
        <p:spPr>
          <a:xfrm>
            <a:off x="380880" y="4379760"/>
            <a:ext cx="3581640" cy="23767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5" descr="inquisition1"/>
          <p:cNvPicPr/>
          <p:nvPr/>
        </p:nvPicPr>
        <p:blipFill>
          <a:blip r:embed="rId6"/>
          <a:stretch/>
        </p:blipFill>
        <p:spPr>
          <a:xfrm>
            <a:off x="1905120" y="7696080"/>
            <a:ext cx="1447560" cy="13575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6" descr="inquisition2"/>
          <p:cNvPicPr/>
          <p:nvPr/>
        </p:nvPicPr>
        <p:blipFill>
          <a:blip r:embed="rId7"/>
          <a:stretch/>
        </p:blipFill>
        <p:spPr>
          <a:xfrm>
            <a:off x="4724280" y="4267080"/>
            <a:ext cx="4023000" cy="2438640"/>
          </a:xfrm>
          <a:prstGeom prst="rect">
            <a:avLst/>
          </a:prstGeom>
          <a:ln w="0">
            <a:noFill/>
          </a:ln>
        </p:spPr>
      </p:pic>
      <p:sp>
        <p:nvSpPr>
          <p:cNvPr id="110" name="Місце для нижнього колонтитула 1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New Spain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rnando Corte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ought to be a god (Quetzacoatl) by Montezu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veled with 900 peo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nk his own ship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rched towards Tenochtitla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Picture 4" descr="imagesCAB9DS40"/>
          <p:cNvPicPr/>
          <p:nvPr/>
        </p:nvPicPr>
        <p:blipFill>
          <a:blip r:embed="rId6"/>
          <a:stretch/>
        </p:blipFill>
        <p:spPr>
          <a:xfrm>
            <a:off x="6705720" y="0"/>
            <a:ext cx="2438280" cy="22906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5" descr="imagesCAG2O0TE"/>
          <p:cNvPicPr/>
          <p:nvPr/>
        </p:nvPicPr>
        <p:blipFill>
          <a:blip r:embed="rId7"/>
          <a:stretch/>
        </p:blipFill>
        <p:spPr>
          <a:xfrm>
            <a:off x="0" y="4834080"/>
            <a:ext cx="3276720" cy="2023920"/>
          </a:xfrm>
          <a:prstGeom prst="rect">
            <a:avLst/>
          </a:prstGeom>
          <a:ln w="0">
            <a:noFill/>
          </a:ln>
        </p:spPr>
      </p:pic>
      <p:sp>
        <p:nvSpPr>
          <p:cNvPr id="115" name="Місце для нижнього колонтитула 1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A map of the Aztec Empir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Picture 4" descr="empmap1"/>
          <p:cNvPicPr/>
          <p:nvPr/>
        </p:nvPicPr>
        <p:blipFill>
          <a:blip r:embed="rId1"/>
          <a:stretch/>
        </p:blipFill>
        <p:spPr>
          <a:xfrm>
            <a:off x="1523880" y="1752480"/>
            <a:ext cx="6607440" cy="4572000"/>
          </a:xfrm>
          <a:prstGeom prst="rect">
            <a:avLst/>
          </a:prstGeom>
          <a:ln w="0">
            <a:noFill/>
          </a:ln>
        </p:spPr>
      </p:pic>
      <p:sp>
        <p:nvSpPr>
          <p:cNvPr id="119" name="Місце для нижнього колонтитула 1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ortez Marches Ahead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esn’t listen to Montezuma and marches towards Tenochtit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ilds army as he go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awe of c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loating gard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vate Zo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LD!!!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Picture 4" descr="zoo animals"/>
          <p:cNvPicPr/>
          <p:nvPr/>
        </p:nvPicPr>
        <p:blipFill>
          <a:blip r:embed="rId7"/>
          <a:stretch/>
        </p:blipFill>
        <p:spPr>
          <a:xfrm>
            <a:off x="6324480" y="2209680"/>
            <a:ext cx="2541600" cy="37339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5" descr="gards"/>
          <p:cNvPicPr/>
          <p:nvPr/>
        </p:nvPicPr>
        <p:blipFill>
          <a:blip r:embed="rId8"/>
          <a:stretch/>
        </p:blipFill>
        <p:spPr>
          <a:xfrm>
            <a:off x="3581280" y="4633920"/>
            <a:ext cx="3200400" cy="2041560"/>
          </a:xfrm>
          <a:prstGeom prst="rect">
            <a:avLst/>
          </a:prstGeom>
          <a:ln w="0">
            <a:noFill/>
          </a:ln>
        </p:spPr>
      </p:pic>
      <p:sp>
        <p:nvSpPr>
          <p:cNvPr id="124" name="Місце для нижнього колонтитула 1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4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9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4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7" dur="5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0" dur="5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3" dur="500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The Aztecs fall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ntezuma d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uauhtemoc (the new Aztec leader) surrenders to the Spanis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anish destroy the Aztec cul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ame Tenochtit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xico C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Місце для нижнього колонтитула 1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hapter 23: “Might Makes Right!”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nce de Le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an &amp; Bloodthirs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quered Puerto R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nd Flori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s for all its flow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nd gold in Puerto R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ally shot with a poison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 dies from 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4" descr="de leon"/>
          <p:cNvPicPr/>
          <p:nvPr/>
        </p:nvPicPr>
        <p:blipFill>
          <a:blip r:embed="rId7"/>
          <a:stretch/>
        </p:blipFill>
        <p:spPr>
          <a:xfrm>
            <a:off x="5943600" y="762120"/>
            <a:ext cx="2716200" cy="35049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fla flowers"/>
          <p:cNvPicPr/>
          <p:nvPr/>
        </p:nvPicPr>
        <p:blipFill>
          <a:blip r:embed="rId8"/>
          <a:stretch/>
        </p:blipFill>
        <p:spPr>
          <a:xfrm>
            <a:off x="0" y="2362320"/>
            <a:ext cx="1619280" cy="4495680"/>
          </a:xfrm>
          <a:prstGeom prst="rect">
            <a:avLst/>
          </a:prstGeom>
          <a:ln w="0">
            <a:noFill/>
          </a:ln>
        </p:spPr>
      </p:pic>
      <p:sp>
        <p:nvSpPr>
          <p:cNvPr id="132" name="Місце для нижнього колонтитула 1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1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4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7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0" dur="5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3" dur="5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6" dur="500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9" dur="500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2" dur="500"/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6T21:01:28Z</dcterms:created>
  <dc:creator>Alicia</dc:creator>
  <dc:description/>
  <dc:language>en-US</dc:language>
  <cp:lastModifiedBy>LEGION</cp:lastModifiedBy>
  <dcterms:modified xsi:type="dcterms:W3CDTF">2017-07-03T10:43:17Z</dcterms:modified>
  <cp:revision>75</cp:revision>
  <dc:subject/>
  <dc:title>Units 4 &amp; 5 </dc:title>
</cp:coreProperties>
</file>