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B414-7942-459F-A82A-AF69743EA7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3BDA1-CB08-4C97-9C78-76FBDF7DA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2496-3C26-47FB-9C22-314AC6287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28082-AD20-4F00-B527-D11A79880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8FAFD-6C1E-4619-A2F5-BFE48892E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56A3E-9BF4-4B51-8CEC-9E5183C40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96C4B-48FB-42FC-B87F-77C24F232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AB3FF-8027-4AED-85CA-99A929DE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5860E-5DDE-4926-80BF-F19B32357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339E8-24B9-46CD-8BF7-E1F2DD1C7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F0A82-3B8D-4202-904C-B4D3EF73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C7C8E-A77A-4EFC-918A-57F7F3EB3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28646-08DC-4D5A-98CF-F016E7274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2B55-7963-4B7C-9BCB-5D7919A3C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82" name="Picture 13" descr=""/>
          <p:cNvPicPr/>
          <p:nvPr/>
        </p:nvPicPr>
        <p:blipFill>
          <a:blip r:embed="rId1"/>
          <a:stretch/>
        </p:blipFill>
        <p:spPr>
          <a:xfrm>
            <a:off x="3059280" y="1981080"/>
            <a:ext cx="3024000" cy="1981440"/>
          </a:xfrm>
          <a:prstGeom prst="rect">
            <a:avLst/>
          </a:prstGeom>
          <a:ln w="0">
            <a:noFill/>
          </a:ln>
        </p:spPr>
      </p:pic>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86" name="Picture 5" descr=""/>
          <p:cNvPicPr/>
          <p:nvPr/>
        </p:nvPicPr>
        <p:blipFill>
          <a:blip r:embed="rId1"/>
          <a:stretch/>
        </p:blipFill>
        <p:spPr>
          <a:xfrm>
            <a:off x="4648320" y="1909800"/>
            <a:ext cx="3809880" cy="410364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90" name="Picture 5" descr=""/>
          <p:cNvPicPr/>
          <p:nvPr/>
        </p:nvPicPr>
        <p:blipFill>
          <a:blip r:embed="rId1"/>
          <a:stretch/>
        </p:blipFill>
        <p:spPr>
          <a:xfrm>
            <a:off x="5824440" y="1981080"/>
            <a:ext cx="1457280" cy="411480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94" name="Picture 7" descr=""/>
          <p:cNvPicPr/>
          <p:nvPr/>
        </p:nvPicPr>
        <p:blipFill>
          <a:blip r:embed="rId1"/>
          <a:stretch/>
        </p:blipFill>
        <p:spPr>
          <a:xfrm>
            <a:off x="4935600" y="1981080"/>
            <a:ext cx="323352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97" name="Picture 4" descr=""/>
          <p:cNvPicPr/>
          <p:nvPr/>
        </p:nvPicPr>
        <p:blipFill>
          <a:blip r:embed="rId1"/>
          <a:stretch/>
        </p:blipFill>
        <p:spPr>
          <a:xfrm>
            <a:off x="2666880" y="1981080"/>
            <a:ext cx="3581640" cy="233856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104" name="Picture 5" descr=""/>
          <p:cNvPicPr/>
          <p:nvPr/>
        </p:nvPicPr>
        <p:blipFill>
          <a:blip r:embed="rId1"/>
          <a:stretch/>
        </p:blipFill>
        <p:spPr>
          <a:xfrm>
            <a:off x="3271680" y="1981080"/>
            <a:ext cx="2600640" cy="19814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5" descr=""/>
          <p:cNvPicPr/>
          <p:nvPr/>
        </p:nvPicPr>
        <p:blipFill>
          <a:blip r:embed="rId1"/>
          <a:stretch/>
        </p:blipFill>
        <p:spPr>
          <a:xfrm>
            <a:off x="685800" y="2270160"/>
            <a:ext cx="3809880" cy="353520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3" name="Picture 13" descr=""/>
          <p:cNvPicPr/>
          <p:nvPr/>
        </p:nvPicPr>
        <p:blipFill>
          <a:blip r:embed="rId1"/>
          <a:stretch/>
        </p:blipFill>
        <p:spPr>
          <a:xfrm>
            <a:off x="3048120" y="1981080"/>
            <a:ext cx="3047760" cy="198144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117" name="Picture 4" descr=""/>
          <p:cNvPicPr/>
          <p:nvPr/>
        </p:nvPicPr>
        <p:blipFill>
          <a:blip r:embed="rId1"/>
          <a:stretch/>
        </p:blipFill>
        <p:spPr>
          <a:xfrm>
            <a:off x="1376280" y="1981080"/>
            <a:ext cx="6391440" cy="411480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4648320" y="2666880"/>
            <a:ext cx="3809880" cy="274320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09480" y="1914480"/>
            <a:ext cx="7772400" cy="28749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685800" y="2949480"/>
            <a:ext cx="3809880" cy="217656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801880" y="1981080"/>
            <a:ext cx="3538440" cy="19814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3292560" y="4114800"/>
            <a:ext cx="2557440" cy="198108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5" descr=""/>
          <p:cNvPicPr/>
          <p:nvPr/>
        </p:nvPicPr>
        <p:blipFill>
          <a:blip r:embed="rId1"/>
          <a:stretch/>
        </p:blipFill>
        <p:spPr>
          <a:xfrm>
            <a:off x="2954160" y="4114800"/>
            <a:ext cx="3235680" cy="198108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LEGION</cp:lastModifiedBy>
  <dcterms:modified xsi:type="dcterms:W3CDTF">2017-07-03T10:09:24Z</dcterms:modified>
  <cp:revision>45</cp:revision>
  <dc:subject/>
  <dc:title>The City-States of Greece </dc:title>
</cp:coreProperties>
</file>