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8581-0EA1-4DBC-86FA-9AA4A7E8BDA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lids, liquids and gas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0" name="PlaceHolder 1"/>
          <p:cNvSpPr>
            <a:spLocks noGrp="1"/>
          </p:cNvSpPr>
          <p:nvPr>
            <p:ph type="sldImg"/>
          </p:nvPr>
        </p:nvSpPr>
        <p:spPr>
          <a:xfrm>
            <a:off x="1130400" y="690480"/>
            <a:ext cx="4599000" cy="34498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lids, liquid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ifferent ways that matter can chang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ifferent ways that matter ca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hysical or chemical chang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6" name="PlaceHolder 1"/>
          <p:cNvSpPr>
            <a:spLocks noGrp="1"/>
          </p:cNvSpPr>
          <p:nvPr>
            <p:ph type="sldImg"/>
          </p:nvPr>
        </p:nvSpPr>
        <p:spPr>
          <a:xfrm>
            <a:off x="1130400" y="690480"/>
            <a:ext cx="4599000" cy="34498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hysical or chem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react chemicall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react chem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v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2" name="PlaceHolder 1"/>
          <p:cNvSpPr>
            <a:spLocks noGrp="1"/>
          </p:cNvSpPr>
          <p:nvPr>
            <p:ph type="sldImg"/>
          </p:nvPr>
        </p:nvSpPr>
        <p:spPr>
          <a:xfrm>
            <a:off x="1130400" y="690480"/>
            <a:ext cx="4599000" cy="34498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unit of a pure substance that still has the properties of that substanc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unit of a pure substance that still has the properties of that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8" name="PlaceHolder 1"/>
          <p:cNvSpPr>
            <a:spLocks noGrp="1"/>
          </p:cNvSpPr>
          <p:nvPr>
            <p:ph type="sldImg"/>
          </p:nvPr>
        </p:nvSpPr>
        <p:spPr>
          <a:xfrm>
            <a:off x="1130400" y="690480"/>
            <a:ext cx="4599000" cy="34498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er of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er of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ucleu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4" name="PlaceHolder 1"/>
          <p:cNvSpPr>
            <a:spLocks noGrp="1"/>
          </p:cNvSpPr>
          <p:nvPr>
            <p:ph type="sldImg"/>
          </p:nvPr>
        </p:nvSpPr>
        <p:spPr>
          <a:xfrm>
            <a:off x="1130400" y="690480"/>
            <a:ext cx="4599000" cy="3449880"/>
          </a:xfrm>
          <a:prstGeom prst="rect">
            <a:avLst/>
          </a:prstGeom>
          <a:ln w="0">
            <a:noFill/>
          </a:ln>
        </p:spPr>
      </p:sp>
      <p:sp>
        <p:nvSpPr>
          <p:cNvPr id="25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tom’s nucleus contains at least one of the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tom’s nucleus contains at least one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6" name="PlaceHolder 1"/>
          <p:cNvSpPr>
            <a:spLocks noGrp="1"/>
          </p:cNvSpPr>
          <p:nvPr>
            <p:ph type="sldImg"/>
          </p:nvPr>
        </p:nvSpPr>
        <p:spPr>
          <a:xfrm>
            <a:off x="1130400" y="690480"/>
            <a:ext cx="4599000" cy="344988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rot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0" name="PlaceHolder 1"/>
          <p:cNvSpPr>
            <a:spLocks noGrp="1"/>
          </p:cNvSpPr>
          <p:nvPr>
            <p:ph type="sldImg"/>
          </p:nvPr>
        </p:nvSpPr>
        <p:spPr>
          <a:xfrm>
            <a:off x="1130400" y="690480"/>
            <a:ext cx="4599000" cy="3449880"/>
          </a:xfrm>
          <a:prstGeom prst="rect">
            <a:avLst/>
          </a:prstGeom>
          <a:ln w="0">
            <a:noFill/>
          </a:ln>
        </p:spPr>
      </p:sp>
      <p:sp>
        <p:nvSpPr>
          <p:cNvPr id="26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pro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gatively charged subatomic partic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gatively charged subatomic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lectr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6" name="PlaceHolder 1"/>
          <p:cNvSpPr>
            <a:spLocks noGrp="1"/>
          </p:cNvSpPr>
          <p:nvPr>
            <p:ph type="sldImg"/>
          </p:nvPr>
        </p:nvSpPr>
        <p:spPr>
          <a:xfrm>
            <a:off x="1130400" y="690480"/>
            <a:ext cx="4599000" cy="3449880"/>
          </a:xfrm>
          <a:prstGeom prst="rect">
            <a:avLst/>
          </a:prstGeom>
          <a:ln w="0">
            <a:noFill/>
          </a:ln>
        </p:spPr>
      </p:sp>
      <p:sp>
        <p:nvSpPr>
          <p:cNvPr id="26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tomic numb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2" name="PlaceHolder 1"/>
          <p:cNvSpPr>
            <a:spLocks noGrp="1"/>
          </p:cNvSpPr>
          <p:nvPr>
            <p:ph type="sldImg"/>
          </p:nvPr>
        </p:nvSpPr>
        <p:spPr>
          <a:xfrm>
            <a:off x="1130400" y="690480"/>
            <a:ext cx="4599000" cy="3449880"/>
          </a:xfrm>
          <a:prstGeom prst="rect">
            <a:avLst/>
          </a:prstGeom>
          <a:ln w="0">
            <a:noFill/>
          </a:ln>
        </p:spPr>
      </p:sp>
      <p:sp>
        <p:nvSpPr>
          <p:cNvPr id="27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re substance that is made of only one kind of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re substance that is made of only one kind of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le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8" name="PlaceHolder 1"/>
          <p:cNvSpPr>
            <a:spLocks noGrp="1"/>
          </p:cNvSpPr>
          <p:nvPr>
            <p:ph type="sldImg"/>
          </p:nvPr>
        </p:nvSpPr>
        <p:spPr>
          <a:xfrm>
            <a:off x="113040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ment that conducts heat and electricity wel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ment that conducts heat and electricity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meta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me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erty of metal that allows it to be bent and rolled into shee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erty of metal that allows it to be bent and rolled into 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allea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alle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toms of the same element have this in comm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toms of the same element have this in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ame number of proton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ame number of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of organizing elements by their atomic numb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of organizing elements by their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eriodic tab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tance formed from the atoms of two or more eleme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tance formed from the atoms of two or mor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poun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und the reacts easily with other substances and turns blue litmus paper r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und the reacts easily with other substances and turns blue litmus paper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ac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ength of acids and bases are measured by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ength of acids and bases are measured by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rien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s and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as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Ga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s 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dea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2" name="PlaceHolder 1"/>
          <p:cNvSpPr>
            <a:spLocks noGrp="1"/>
          </p:cNvSpPr>
          <p:nvPr>
            <p:ph type="sldImg"/>
          </p:nvPr>
        </p:nvSpPr>
        <p:spPr>
          <a:xfrm>
            <a:off x="1130400" y="690480"/>
            <a:ext cx="4599000" cy="3449880"/>
          </a:xfrm>
          <a:prstGeom prst="rect">
            <a:avLst/>
          </a:prstGeom>
          <a:ln w="0">
            <a:noFill/>
          </a:ln>
        </p:spPr>
      </p:sp>
      <p:sp>
        <p:nvSpPr>
          <p:cNvPr id="2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d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 Sca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strength acids and bases do this to each oth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strength acids and bases do this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neutraliz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neutral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uses of acids and bases in manufacturing.</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uses of acids and bases in manufactu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oods, medicines, fertilizers, explosives or dy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oods, medicines, fertilizers, explosives or d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property of being able to bur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property of being able to b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mbusti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mbust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a substance from gas to a liqu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a substance from gas to a liq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ndens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nden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matter in an objec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matter in an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is made up of the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is made up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as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a liquid at which it changes to a ga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a liquid at which it changes to a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oiling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oiling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be dissolv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be dis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lu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solu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 matter in which the particles are closest togeth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 matter in which the particles are closest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ol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sol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tom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8" name="PlaceHolder 1"/>
          <p:cNvSpPr>
            <a:spLocks noGrp="1"/>
          </p:cNvSpPr>
          <p:nvPr>
            <p:ph type="sldImg"/>
          </p:nvPr>
        </p:nvSpPr>
        <p:spPr>
          <a:xfrm>
            <a:off x="1130400" y="690480"/>
            <a:ext cx="4599000" cy="3449880"/>
          </a:xfrm>
          <a:prstGeom prst="rect">
            <a:avLst/>
          </a:prstGeom>
          <a:ln w="0">
            <a:noFill/>
          </a:ln>
        </p:spPr>
      </p:sp>
      <p:sp>
        <p:nvSpPr>
          <p:cNvPr id="2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bond together to form these larger uni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bond together to form these large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molecul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4" name="PlaceHolder 1"/>
          <p:cNvSpPr>
            <a:spLocks noGrp="1"/>
          </p:cNvSpPr>
          <p:nvPr>
            <p:ph type="sldImg"/>
          </p:nvPr>
        </p:nvSpPr>
        <p:spPr>
          <a:xfrm>
            <a:off x="1130400" y="690480"/>
            <a:ext cx="4599000" cy="34498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exists in these 3 stat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exists in these 3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A5274-9E2D-41B2-AF26-FC7D0D977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78469-1A55-4BA2-B2F6-0266021E8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42E2C-DAAF-4D4C-8AA4-9CC092598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14DCC-AD0D-4D87-9EB5-13B35CFF7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6659C-6325-451A-90D2-4D5C7A3F9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CBBBA-DDDB-4C11-910E-EF5947771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A8A45-CDE7-49A5-A555-E37ACDF27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E6507-C64D-4711-88DD-F939A26BE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1C6F2-7F46-484E-B789-302DDA53F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18DF1-07E7-4DAE-9E32-08D10C049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065A7-59F7-4662-8675-0329AAF8C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6211D-8834-4B2A-87DC-987BA5D5D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A9709-AD1D-4D38-9BBE-203884E2F810}"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solids, liquids and gas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5238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wo different ways that matter can chan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physical or chemical chan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bility of a substance to react chemicall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activ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609480" y="6094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mallest unit of a pure substance that still has the properties of that substa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1905120"/>
            <a:ext cx="7696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center of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nucleu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very atom’s nucleus contains at least one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prot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6002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negatively charged subatomic partic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lectr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number of protons in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atomic numb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ure substance that is made of only one kind of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le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 element that conducts heat and electricity we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met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roperty of metal that allows it to be bent and rolled into shee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llea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atoms of the same element have this in comm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ame number of prot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7524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ethod of organizing elements by their atomic numb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eriodic t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ubstance formed from the atoms of two or more elemen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mpou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68580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ompound the reacts easily with other substances and turns blue litmus paper r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c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762120" y="19810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trength of acids and bases are measured by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y Frien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atom</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cids and </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ompound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nd base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Oh, My!</a:t>
            </a:r>
            <a:endParaRPr b="1" lang="en-US" sz="20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It’s a Gas!</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Or is it?</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lementary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y dear</a:t>
            </a:r>
            <a:endParaRPr b="1" lang="en-US" sz="2400" spc="-1" strike="noStrike">
              <a:solidFill>
                <a:srgbClr val="ff9933"/>
              </a:solidFill>
              <a:latin typeface="Times New Roman"/>
            </a:endParaRPr>
          </a:p>
        </p:txBody>
      </p:sp>
      <p:pic>
        <p:nvPicPr>
          <p:cNvPr id="86" name="boar423.wav"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hat’s th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atter?</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H Sca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981080"/>
            <a:ext cx="8153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qual strength acids and bases do this to each oth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neutraliz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60020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ree uses of acids and bases in manufactur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85800" y="129528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foods, medicines, fertilizers, explosives or dy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685800" y="198108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hemical property of being able to bur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mbusti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82880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anges a substance from gas to a liqu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ndens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mount of matter in an objec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21337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tter is made up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0948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temperature of a liquid at which it changes to a ga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oiling poi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213372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bility of a substance to be dissolv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olu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85800" y="13716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of matter in which the particles are closest togeth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sol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atom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1600200"/>
            <a:ext cx="74674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toms bond together to form these larger uni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molecul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18288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tter exists in these 3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RomaK</cp:lastModifiedBy>
  <dcterms:modified xsi:type="dcterms:W3CDTF">2015-09-02T05:53:43Z</dcterms:modified>
  <cp:revision>32</cp:revision>
  <dc:subject/>
  <dc:title>No Slide Title</dc:title>
</cp:coreProperties>
</file>