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2EFC-120F-4C07-ADF5-E45091E5D96D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 to you Anike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 and Chemical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(C2H3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at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, sharp od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 Point – -7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weight: 57.05 dal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ing point (760 mm Hg): 102ºF (39.1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zing point: -49º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pressure: 348 mm Hg at 68ºF (20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density: 1.42 (air = 1.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solubility: Reactive 6.7% at 68ºF (20º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ility: Highly flamm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le Range: 5.3% to 26% (concentration in ai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C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Isocyanate is on the Hazardous Substances List and is regulated by OSHA and cited by ACGIH, DOT, EPA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 the Special Health Hazard Substance List because it is flammable and re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ergenc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Dumped by Union Carbide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hazard dumping of Hazardous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, Nickel, Copper, Chromium, Hexachlorocyclohexane and chlorobenzenes were found in soil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was found to be between 20,000 to 6,000,000 times the standard level in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and Legal Asp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of $470 million ($500 per dea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years of passiv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was reviewed and put up in American Co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,000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,000 SEVERELY AF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you thought only weap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cause Mass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st the worst Industrail Disasters of it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rence: 3rd December 198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of occurrence: Bhopal, Madhya Pradesh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: Union Carbide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: Methyl Isocyanate (27 t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hopal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ed in 1969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gene, Monomethlyamine, Methyl Isocyanate (MIC) and the pesticide Carbaryl, also known as Sev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n over by DOW Chemicals in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Human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Disorders – Irritation to the lungs, causing coughing and/or shortness of breathing. Higher exposure caused build up of fluids (pulmonary edema). Caused Asth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Hazard – Caused mutation (genetic changes). It caused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Hazard – Association between exposure to Methyl Isocyanate and miscarriages. It may damage the growing fetus.May also affect fertility in men and wo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many toxins were found in the Brest Milk of mothers and were inturn transmitted to the recepient bab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Sl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A41-4B3E-4E8B-94EA-04026018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4511-EB1A-47F4-A2BC-EB1A4CB9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FDC-694A-4F08-8F19-27A1E609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9BA-1ADE-4611-B7ED-0FA805ED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A486-D988-46F4-9214-D0E009B1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FFE1-ECDB-4840-A46B-55954DEA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58A2-4FD7-42F5-8BC7-3D491FF1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653E-940D-4B45-8738-47AA8030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52D9-2DDD-464B-9827-20876F99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A191-FAC8-45EF-B160-C6573B65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AE44-61C0-4478-9A50-75932EEE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9E2-FAD4-4D7B-B95E-EAFAFEAF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721D-34B4-4729-BB88-C18AEC9B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B10B-C4CD-4A39-9685-7F464F2D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723B-0DBF-48C2-BB47-5D12DAC1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0BCA-5355-4F72-A96A-6DCB5120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3011-1C61-480F-AF2D-C62A0008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E0B72-A8D0-41E9-8E24-5EC23BD1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C3D72-E436-49EB-A15A-70770550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4F98C-8FB2-492B-925C-7116A987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06BE8-F52E-40DF-BED0-F649C38E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CEE8E-DD51-4F66-B4EB-CF4817A5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6351-E5C7-4079-AF06-E9FE6E19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FEF62-A612-40DD-B1E3-C25DBBA7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56B0A-C130-4EA0-BCD1-C907B89A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686FD-7617-4A4D-90FB-F493B79E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6D64D-07F1-4454-8176-E5F0493E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16CA0-F082-4BA7-B2B0-19C61810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265D3-2E85-486A-89C5-C071A9F8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A801D-4D56-486B-9C5E-B87C48C8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22AD4-F1F6-4743-B163-2361B484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9953A-DCDA-4D7B-8627-BA0843FE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56FC3-3FD4-4F32-AD47-5A97F9D7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2B0-F56B-43C4-B6E0-B1025B52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7FD6E-9CF0-4422-B8CE-CDC969B3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BE568-B607-4D32-A98A-AB9E533E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BDE03-B96A-4CD3-9675-34AD219D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CEEE6-084D-442C-89AF-B2302CEE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8902C-8D17-4A7A-82DD-37653A74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61310-7191-43B7-9834-1A17BA01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89074-D9E6-458C-9689-2FCC38EF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42A80-461F-4F68-B50E-87CCC522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65133-9176-436D-948E-8213C584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208D-F517-4641-845F-58035A72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172D-1DE8-4FCF-9A14-4AA8E8A6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CEF-5CA4-434A-92B9-44B3D107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D79-B515-4644-9F0D-37DCFF48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C99-11D6-48A8-A144-27B27838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875D-30B9-4BBD-A75B-F64756D31371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D302-182A-49B4-8D41-E69D7540A18E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2C2A-BEAD-4FD7-8823-8565EAC8B698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657D-A42A-44DF-92FD-DE5F1DCB6B7E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4800" spc="-1" strike="noStrike">
                <a:solidFill>
                  <a:srgbClr val="ff6600"/>
                </a:solidFill>
                <a:latin typeface="Monotype Corsiva"/>
              </a:rPr>
              <a:t>Bhopal Gas Tragedy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3200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Over to you Aniket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Methyl Isocyanate </a:t>
            </a:r>
            <a:br>
              <a:rPr sz="3800"/>
            </a:b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Physical  and Chemical Characterist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thyl Isocyanate (C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N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iquid 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olati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Strong, sharp od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sh Point – -7</a:t>
            </a:r>
            <a:r>
              <a:rPr b="0" lang="en-IN" sz="18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olecular weight: 57.05 dalt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Boiling point (760 mm Hg): 102ºF (39.1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reezing point: -49ºF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pressure: 348 mm Hg at 68ºF (20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density: 1.42 (air = 1.0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Water solubility: Reactive 6.7% at 68ºF (20º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ility: Highly flamma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le Range: 5.3% to 26% (concentration in ai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Reason for Ci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Methyl Isocyanate is on the Hazardous Substances List and is regulated by OSHA and cited by ACGIH, DOT, EPA and other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Is on the Special Health Hazard Substance List because it is flammable and reactiv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mergency 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38080" y="1787400"/>
          <a:ext cx="7162920" cy="3776760"/>
        </p:xfrm>
        <a:graphic>
          <a:graphicData uri="http://schemas.openxmlformats.org/drawingml/2006/table">
            <a:tbl>
              <a:tblPr/>
              <a:tblGrid>
                <a:gridCol w="2362320"/>
                <a:gridCol w="2413080"/>
                <a:gridCol w="2387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Hazard R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JDH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F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i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58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le and Reac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on Inhalation Haz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t us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ionous Gases are produced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iners may explode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N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zard Rating Key: 0-minimal, 1-slight, 2-moderate, 3-serious, 4-seve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600200" y="762120"/>
          <a:ext cx="6248520" cy="5673600"/>
        </p:xfrm>
        <a:graphic>
          <a:graphicData uri="http://schemas.openxmlformats.org/drawingml/2006/table">
            <a:tbl>
              <a:tblPr/>
              <a:tblGrid>
                <a:gridCol w="533520"/>
                <a:gridCol w="1523880"/>
                <a:gridCol w="914400"/>
                <a:gridCol w="1143000"/>
                <a:gridCol w="2133720"/>
              </a:tblGrid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N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in factor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 of original pol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ene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an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tho-idichlorobenz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n tetr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 methyl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y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benzyl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chloro 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dica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ary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ene Hex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methyl 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g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 chlor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sulphon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 Naphthol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tha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waste Ta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 Isocyan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37" name="Text Box 769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ff6600"/>
                </a:solidFill>
                <a:latin typeface="Monotype Corsiva"/>
              </a:rPr>
              <a:t>Chemicals Dumped by Union Carbide in Bhop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Haphazard dumping of Hazardous Mate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35" descr="cycleshed"/>
          <p:cNvPicPr/>
          <p:nvPr/>
        </p:nvPicPr>
        <p:blipFill>
          <a:blip r:embed="rId1"/>
          <a:stretch/>
        </p:blipFill>
        <p:spPr>
          <a:xfrm>
            <a:off x="6094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6" descr="soapstoneshed"/>
          <p:cNvPicPr/>
          <p:nvPr/>
        </p:nvPicPr>
        <p:blipFill>
          <a:blip r:embed="rId2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7" descr="formulationshed"/>
          <p:cNvPicPr/>
          <p:nvPr/>
        </p:nvPicPr>
        <p:blipFill>
          <a:blip r:embed="rId3"/>
          <a:stretch/>
        </p:blipFill>
        <p:spPr>
          <a:xfrm>
            <a:off x="327672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8" descr="poisonwastetanks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9" descr="small-shed"/>
          <p:cNvPicPr/>
          <p:nvPr/>
        </p:nvPicPr>
        <p:blipFill>
          <a:blip r:embed="rId5"/>
          <a:stretch/>
        </p:blipFill>
        <p:spPr>
          <a:xfrm>
            <a:off x="58672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0" descr="bhc_store"/>
          <p:cNvPicPr/>
          <p:nvPr/>
        </p:nvPicPr>
        <p:blipFill>
          <a:blip r:embed="rId6"/>
          <a:stretch/>
        </p:blipFill>
        <p:spPr>
          <a:xfrm>
            <a:off x="5867280" y="4114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523880" y="1752480"/>
          <a:ext cx="5181840" cy="3276720"/>
        </p:xfrm>
        <a:graphic>
          <a:graphicData uri="http://schemas.openxmlformats.org/drawingml/2006/table">
            <a:tbl>
              <a:tblPr/>
              <a:tblGrid>
                <a:gridCol w="3084480"/>
                <a:gridCol w="2097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nzene, oxyb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chlorobenzen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ynuclear Aromatic Hydrocarb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thala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chlorobenz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methyl Trianzintr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,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Napthalen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9,0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49" name="Rectangle 91"/>
          <p:cNvSpPr/>
          <p:nvPr/>
        </p:nvSpPr>
        <p:spPr>
          <a:xfrm>
            <a:off x="1447920" y="51814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32"/>
          <p:cNvSpPr/>
          <p:nvPr/>
        </p:nvSpPr>
        <p:spPr>
          <a:xfrm>
            <a:off x="762120" y="2209680"/>
            <a:ext cx="8153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ead, Nickel, Copper, Chromium, Hexachlorocyclohexane and chlorobenzenes were found in soil samp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rcury was found to be between 20,000 to 6,000,000 times the standard level in so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Compensation and Legal Aspe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ensation of $470 million ($500 per dead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wenty years of passiven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ase was reviewed and put up in American Cour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20,000 KILL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120,000 SEVERELY AFFECT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…</a:t>
            </a: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And you thought only weapon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could cause Mass Destr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Preview</a:t>
            </a:r>
            <a:br>
              <a:rPr sz="3400"/>
            </a:b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mongst the worst Industrail Disasters of its tim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Occurrence: 3</a:t>
            </a:r>
            <a:r>
              <a:rPr b="0" lang="en-IN" sz="17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December 1984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lace of occurrence: Bhopal, Madhya Pradesh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any: Union Carbide Corpora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hemical: Methyl Isocyanate (27 tons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487656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457200" y="304920"/>
            <a:ext cx="8381880" cy="3962160"/>
            <a:chOff x="457200" y="304920"/>
            <a:chExt cx="8381880" cy="3962160"/>
          </a:xfrm>
        </p:grpSpPr>
        <p:pic>
          <p:nvPicPr>
            <p:cNvPr id="194" name="Picture 4" descr="pic2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88620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7" descr="pic1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4038480" cy="396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Bhopal Scenar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3" descr="Union Carbide"/>
          <p:cNvPicPr/>
          <p:nvPr/>
        </p:nvPicPr>
        <p:blipFill>
          <a:blip r:embed="rId1"/>
          <a:stretch/>
        </p:blipFill>
        <p:spPr>
          <a:xfrm>
            <a:off x="2031840" y="1752480"/>
            <a:ext cx="5080320" cy="3645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2057400" y="5486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Union Carbide Corpo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Union Carbide Corp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Started in 1969 in bhop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hosgene, Monomethlyamine, Methyl Isocyanate (MIC) and the pesticide Carbaryl, also known as Sevi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aken over by DOW Chemicals in 200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5" descr="ScanImage001"/>
          <p:cNvPicPr/>
          <p:nvPr/>
        </p:nvPicPr>
        <p:blipFill>
          <a:blip r:embed="rId1"/>
          <a:srcRect l="0" t="0" r="23562" b="21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gasventscrubber"/>
          <p:cNvPicPr/>
          <p:nvPr/>
        </p:nvPicPr>
        <p:blipFill>
          <a:blip r:embed="rId1"/>
          <a:stretch/>
        </p:blipFill>
        <p:spPr>
          <a:xfrm>
            <a:off x="609480" y="438120"/>
            <a:ext cx="3714840" cy="5505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gasventscrubberstack"/>
          <p:cNvPicPr/>
          <p:nvPr/>
        </p:nvPicPr>
        <p:blipFill>
          <a:blip r:embed="rId2"/>
          <a:stretch/>
        </p:blipFill>
        <p:spPr>
          <a:xfrm>
            <a:off x="4800600" y="457200"/>
            <a:ext cx="3714840" cy="53722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609480" y="6095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4876920" y="6110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 S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ffects on Human Healt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spiratory Disorders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Irritation to the lungs, causing coughing and/or shortness of breathing. Higher exposure caused build up of fluids (</a:t>
            </a:r>
            <a:r>
              <a:rPr b="0" lang="en-IN" sz="1700" spc="-1" strike="noStrike">
                <a:solidFill>
                  <a:srgbClr val="ff0000"/>
                </a:solidFill>
                <a:latin typeface="Verdana"/>
              </a:rPr>
              <a:t>pulmonary edema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). Caused Astham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Cancer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Caused mutation (genetic changes). It caused canc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productive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Association between exposure to Methyl Isocyanate and miscarriages. It may damage the growing fetus.May also affect fertility in men and wome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races of many toxins were found in the Brest Milk of mothers and were inturn transmitted to the recepient bab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9" name="Group 8"/>
          <p:cNvGrpSpPr/>
          <p:nvPr/>
        </p:nvGrpSpPr>
        <p:grpSpPr>
          <a:xfrm>
            <a:off x="111240" y="1828800"/>
            <a:ext cx="8956080" cy="3200400"/>
            <a:chOff x="111240" y="1828800"/>
            <a:chExt cx="8956080" cy="3200400"/>
          </a:xfrm>
        </p:grpSpPr>
        <p:pic>
          <p:nvPicPr>
            <p:cNvPr id="220" name="Picture 4" descr="bhopal14"/>
            <p:cNvPicPr/>
            <p:nvPr/>
          </p:nvPicPr>
          <p:blipFill>
            <a:blip r:embed="rId1"/>
            <a:stretch/>
          </p:blipFill>
          <p:spPr>
            <a:xfrm>
              <a:off x="111240" y="1828800"/>
              <a:ext cx="44604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6" descr="bhopal09"/>
            <p:cNvPicPr/>
            <p:nvPr/>
          </p:nvPicPr>
          <p:blipFill>
            <a:blip r:embed="rId2"/>
            <a:stretch/>
          </p:blipFill>
          <p:spPr>
            <a:xfrm>
              <a:off x="4606560" y="1828800"/>
              <a:ext cx="446076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nimal Slaugh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8:50:55Z</dcterms:created>
  <dc:creator>Creative</dc:creator>
  <dc:description/>
  <dc:language>en-US</dc:language>
  <cp:lastModifiedBy>LEGION</cp:lastModifiedBy>
  <dcterms:modified xsi:type="dcterms:W3CDTF">2017-07-03T10:07:26Z</dcterms:modified>
  <cp:revision>114</cp:revision>
  <dc:subject/>
  <dc:title>Bhopal Gas Tragedy</dc:title>
</cp:coreProperties>
</file>