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B08F-3E13-44F1-BCFD-FC0204A5F585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727-C70B-44E7-8753-1EFFEE9D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826-44A0-48D8-B4E3-F448BECA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12D-E919-4712-BC62-61A8CEE3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6DE-06DC-4B90-9E90-315E23D0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B8E7-0ECC-480F-BF7C-9AD11150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0FCB-2BE9-49CA-A631-7FA95AA6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DC38-94A6-4E41-A40A-DF7BABD6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3A8A-B582-4610-A8CA-CEEF22FC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A779-9DC9-48CC-B65A-74E5A31D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6B76-B2AD-428B-903B-57CDAADF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AE68-7B64-495D-B8F0-24C2392C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11F-CBF2-42E1-94F2-B39B6D50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5452-72FA-4F33-968D-61484D96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5CBE-0C1A-448C-A550-C6106A99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ED6F-F155-412A-9996-2B272D6C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8EF7-BA15-418C-BAE2-842B7848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B466-74FE-41C4-AE57-F9574022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F0D0-E559-4320-B8B6-3C15C94D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6A55A-69F0-4094-B897-32DE2B81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7496-2417-4EB3-ABED-F863601E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8DB53-9884-45F2-B9DC-B84D4701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67F76-7E24-4AFD-A7A6-6798D1AC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866-EADD-46A7-925C-59059C90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DDAFD-5CB0-4A3F-93EE-829ED2CE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4891B-AB59-4302-A720-5020B8FE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629A3-49B2-4A74-BF82-17339ED1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6F204-B942-49CA-9F98-3B94AA4B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4651-480E-4BFE-8A23-A9245C14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99C64-D1E7-423B-B138-F225FF32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0D467-43F8-45AA-AE9F-C672E47C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B2936-D6B5-455C-906A-EC7FD1F9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CD1BA-908D-4F47-84D3-129D7E9C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5878B-2639-4962-8618-32D0E820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6D9-F4A1-4B5A-AD40-0F05AF76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96EFB-4456-4974-B4D0-71EC2876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5D742-7AAA-41F0-B5CC-37A7DA52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56B47-32B7-4655-B9F3-BDD40E0A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7D73F-4B3A-46AC-B660-2C4C6DE5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E90E9-E676-4F93-9720-D9805C5C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73699-478A-45B5-AEFD-15BFF5B1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CBD0E-9709-43EF-AB0B-DB2CCA84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22D99-CC41-4583-8EDE-FEE73DCD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38BE9-B2D1-4D8F-BA4E-60E8BAE2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97E-B761-4302-B2DF-AD09813A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1CAE-7EE3-49A6-8AB2-DF4C869F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6FC-106C-44E8-8AB2-3B0DC456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E6A-50B4-4EED-BEC1-5E8EA328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33C-0C38-4361-B940-EECEF77E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D433-225F-4F8C-9213-AA0406A5E433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1F91-C5FD-4BF7-B15D-2A5E2836F891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0758-9404-4824-A6D9-9396C41724B6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7046-8C08-4311-AE8D-CBC5B32B7B6D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4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20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LEGION</cp:lastModifiedBy>
  <dcterms:modified xsi:type="dcterms:W3CDTF">2017-07-03T10:07:26Z</dcterms:modified>
  <cp:revision>114</cp:revision>
  <dc:subject/>
  <dc:title>Bhopal Gas Tragedy</dc:title>
</cp:coreProperties>
</file>