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8E78-B04F-485E-B5F0-07F74DCA2813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 to you Anike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 and Chemical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(C2H3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at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, sharp od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 Point – -7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weight: 57.05 dal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ing point (760 mm Hg): 102ºF (39.1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zing point: -49º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pressure: 348 mm Hg at 68ºF (20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density: 1.42 (air = 1.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solubility: Reactive 6.7% at 68ºF (20º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ility: Highly flamm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le Range: 5.3% to 26% (concentration in ai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C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Isocyanate is on the Hazardous Substances List and is regulated by OSHA and cited by ACGIH, DOT, EPA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 the Special Health Hazard Substance List because it is flammable and re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ergenc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Dumped by Union Carbide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hazard dumping of Hazardous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, Nickel, Copper, Chromium, Hexachlorocyclohexane and chlorobenzenes were found in soil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was found to be between 20,000 to 6,000,000 times the standard level in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and Legal Asp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of $470 million ($500 per dea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years of passiv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was reviewed and put up in American Co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,000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,000 SEVERELY AF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you thought only weap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cause Mass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st the worst Industrail Disasters of it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rence: 3rd December 198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of occurrence: Bhopal, Madhya Pradesh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: Union Carbide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: Methyl Isocyanate (27 t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hopal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ed in 1969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gene, Monomethlyamine, Methyl Isocyanate (MIC) and the pesticide Carbaryl, also known as Sev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n over by DOW Chemicals in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Human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Disorders – Irritation to the lungs, causing coughing and/or shortness of breathing. Higher exposure caused build up of fluids (pulmonary edema). Caused Asth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Hazard – Caused mutation (genetic changes). It caused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Hazard – Association between exposure to Methyl Isocyanate and miscarriages. It may damage the growing fetus.May also affect fertility in men and wo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many toxins were found in the Brest Milk of mothers and were inturn transmitted to the recepient bab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Sl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2BC4-5E1E-407F-8FEE-AA6F97BB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0A5-2C8B-4A96-BA00-178971D5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2C1E-0335-4A37-B897-C7F1492A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88C9-A597-4B71-915E-2BB7FA90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E379-0B0B-4473-8F39-FF7CE000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82AD-15DB-45B8-B3DC-90D5E976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BA8A-3F46-4A1B-BFAB-96DF64A1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615E-6FBA-409D-BFA7-5208D71D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9A51-0962-4EA5-BA35-83F90325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9EEA-25F4-46BE-8D36-6AC4FF21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6CB7-9F88-473E-8D6C-6FFC0EFE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E87-4007-4629-8FCB-250A9EDD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9108-087D-4DA2-967E-386C2F9E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4453-A4CB-48E8-A887-B8C000F2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B41D-C561-4079-AB71-D88FA46A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1823-BC11-40A5-B8E1-C457F41F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A738-D6EA-4C84-9CB7-F518E32D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7A440-4DBC-46DB-B4E4-6D298CD2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295A0-A383-42F3-A53C-56775B72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C0FBC-21E2-41D6-BBD4-69931F61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5CEE6-6AD3-464B-9379-BB9873AB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D4F72-1DD2-4471-B25D-FB2D6370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E4F6-E1B9-4D3F-952A-5F142264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4545B-AA5D-4E56-9A61-840D4CB3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5BE8B-394C-4F44-B598-E346C37F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392DE-3EA4-410E-82E5-B15AC487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6DA87-C1D1-4E8D-85CC-4975CC02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8B423-DC1B-4D9F-B6CB-2417490E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6D647-1473-4E0E-9458-C4A1635C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6D512-6BF6-4C3A-A024-7130CED9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C5F1B-8BDF-4880-B420-FE8FF3CA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321D2-84BA-4DBF-B596-7D8CCF71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3D933-7BA5-4446-A8AF-257EC089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7E7-9551-4C19-87E9-BC52A2AB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E7B0F-41DA-4CE2-A6BE-A42E6A3F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3A373-1F13-44AA-9721-1DF2138F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D6936-964F-4B22-BEC1-DE36EC11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6A845-275B-46DC-82E0-DEE6DCD2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EB53A-BEF4-498A-9595-A63E575F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E3B2C-5059-4C8B-BFF8-61BD0CEF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C78CA-A16B-4C93-9567-F25E1B58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EE037-207B-42C5-AF74-908F4CEC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C1597-017F-4582-A17E-16219E4A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E2F0-68A6-4F7C-8F78-AC53BA11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797-9F4D-41AA-8653-C29FA5B9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B13D-2340-45A7-8E91-C93C2121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E99B-0CB5-48FF-BDDA-B7AB31E9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F506-C245-45CA-AACE-1CDC12D9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2CB6-CE69-4F32-9E8E-C9CB0356323A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CFD8-B7B0-48ED-8BF2-3D026838F241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2DBE-53B8-438D-8CDA-42D6F1C795F6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51FD-0169-42EB-9BFD-45DC68757D29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4800" spc="-1" strike="noStrike">
                <a:solidFill>
                  <a:srgbClr val="ff6600"/>
                </a:solidFill>
                <a:latin typeface="Monotype Corsiva"/>
              </a:rPr>
              <a:t>Bhopal Gas Tragedy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3200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Over to you Aniket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Methyl Isocyanate </a:t>
            </a:r>
            <a:br>
              <a:rPr sz="3800"/>
            </a:b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Physical  and Chemical Characterist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thyl Isocyanate (C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N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iquid 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olati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Strong, sharp od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sh Point – -7</a:t>
            </a:r>
            <a:r>
              <a:rPr b="0" lang="en-IN" sz="18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olecular weight: 57.05 dalt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Boiling point (760 mm Hg): 102ºF (39.1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reezing point: -49ºF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pressure: 348 mm Hg at 68ºF (20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density: 1.42 (air = 1.0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Water solubility: Reactive 6.7% at 68ºF (20º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ility: Highly flamma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le Range: 5.3% to 26% (concentration in ai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Reason for Ci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Methyl Isocyanate is on the Hazardous Substances List and is regulated by OSHA and cited by ACGIH, DOT, EPA and other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Is on the Special Health Hazard Substance List because it is flammable and reactiv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mergency 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38080" y="1787400"/>
          <a:ext cx="7162920" cy="3776760"/>
        </p:xfrm>
        <a:graphic>
          <a:graphicData uri="http://schemas.openxmlformats.org/drawingml/2006/table">
            <a:tbl>
              <a:tblPr/>
              <a:tblGrid>
                <a:gridCol w="2362320"/>
                <a:gridCol w="2413080"/>
                <a:gridCol w="2387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Hazard R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JDH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F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i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58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le and Reac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on Inhalation Haz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t us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ionous Gases are produced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iners may explode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N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zard Rating Key: 0-minimal, 1-slight, 2-moderate, 3-serious, 4-seve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600200" y="762120"/>
          <a:ext cx="6248520" cy="5673600"/>
        </p:xfrm>
        <a:graphic>
          <a:graphicData uri="http://schemas.openxmlformats.org/drawingml/2006/table">
            <a:tbl>
              <a:tblPr/>
              <a:tblGrid>
                <a:gridCol w="533520"/>
                <a:gridCol w="1523880"/>
                <a:gridCol w="914400"/>
                <a:gridCol w="1143000"/>
                <a:gridCol w="2133720"/>
              </a:tblGrid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N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in factor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 of original pol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ene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an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tho-idichlorobenz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n tetr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 methyl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y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benzyl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chloro 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dica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ary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ene Hex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methyl 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g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 chlor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sulphon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 Naphthol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tha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waste Ta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 Isocyan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37" name="Text Box 769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ff6600"/>
                </a:solidFill>
                <a:latin typeface="Monotype Corsiva"/>
              </a:rPr>
              <a:t>Chemicals Dumped by Union Carbide in Bhop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Haphazard dumping of Hazardous Mate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35" descr="cycleshed"/>
          <p:cNvPicPr/>
          <p:nvPr/>
        </p:nvPicPr>
        <p:blipFill>
          <a:blip r:embed="rId1"/>
          <a:stretch/>
        </p:blipFill>
        <p:spPr>
          <a:xfrm>
            <a:off x="6094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6" descr="soapstoneshed"/>
          <p:cNvPicPr/>
          <p:nvPr/>
        </p:nvPicPr>
        <p:blipFill>
          <a:blip r:embed="rId2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7" descr="formulationshed"/>
          <p:cNvPicPr/>
          <p:nvPr/>
        </p:nvPicPr>
        <p:blipFill>
          <a:blip r:embed="rId3"/>
          <a:stretch/>
        </p:blipFill>
        <p:spPr>
          <a:xfrm>
            <a:off x="327672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8" descr="poisonwastetanks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9" descr="small-shed"/>
          <p:cNvPicPr/>
          <p:nvPr/>
        </p:nvPicPr>
        <p:blipFill>
          <a:blip r:embed="rId5"/>
          <a:stretch/>
        </p:blipFill>
        <p:spPr>
          <a:xfrm>
            <a:off x="58672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0" descr="bhc_store"/>
          <p:cNvPicPr/>
          <p:nvPr/>
        </p:nvPicPr>
        <p:blipFill>
          <a:blip r:embed="rId6"/>
          <a:stretch/>
        </p:blipFill>
        <p:spPr>
          <a:xfrm>
            <a:off x="5867280" y="4114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523880" y="1752480"/>
          <a:ext cx="5181840" cy="3276720"/>
        </p:xfrm>
        <a:graphic>
          <a:graphicData uri="http://schemas.openxmlformats.org/drawingml/2006/table">
            <a:tbl>
              <a:tblPr/>
              <a:tblGrid>
                <a:gridCol w="3084480"/>
                <a:gridCol w="2097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nzene, oxyb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chlorobenzen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ynuclear Aromatic Hydrocarb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thala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chlorobenz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methyl Trianzintr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,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Napthalen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9,0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49" name="Rectangle 91"/>
          <p:cNvSpPr/>
          <p:nvPr/>
        </p:nvSpPr>
        <p:spPr>
          <a:xfrm>
            <a:off x="1447920" y="51814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32"/>
          <p:cNvSpPr/>
          <p:nvPr/>
        </p:nvSpPr>
        <p:spPr>
          <a:xfrm>
            <a:off x="762120" y="2209680"/>
            <a:ext cx="8153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ead, Nickel, Copper, Chromium, Hexachlorocyclohexane and chlorobenzenes were found in soil samp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rcury was found to be between 20,000 to 6,000,000 times the standard level in so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Compensation and Legal Aspe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ensation of $470 million ($500 per dead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wenty years of passiven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ase was reviewed and put up in American Cour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20,000 KILL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120,000 SEVERELY AFFECT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…</a:t>
            </a: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And you thought only weapon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could cause Mass Destr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Preview</a:t>
            </a:r>
            <a:br>
              <a:rPr sz="3400"/>
            </a:b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mongst the worst Industrail Disasters of its tim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Occurrence: 3</a:t>
            </a:r>
            <a:r>
              <a:rPr b="0" lang="en-IN" sz="17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December 1984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lace of occurrence: Bhopal, Madhya Pradesh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any: Union Carbide Corpora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hemical: Methyl Isocyanate (27 tons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487656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457200" y="304920"/>
            <a:ext cx="8381880" cy="3962160"/>
            <a:chOff x="457200" y="304920"/>
            <a:chExt cx="8381880" cy="3962160"/>
          </a:xfrm>
        </p:grpSpPr>
        <p:pic>
          <p:nvPicPr>
            <p:cNvPr id="194" name="Picture 4" descr="pic2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88620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7" descr="pic1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4038480" cy="396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Bhopal Scenar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3" descr="Union Carbide"/>
          <p:cNvPicPr/>
          <p:nvPr/>
        </p:nvPicPr>
        <p:blipFill>
          <a:blip r:embed="rId1"/>
          <a:stretch/>
        </p:blipFill>
        <p:spPr>
          <a:xfrm>
            <a:off x="2031840" y="1752480"/>
            <a:ext cx="5080320" cy="3645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2057400" y="5486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Union Carbide Corpo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Union Carbide Corp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Started in 1969 in bhop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hosgene, Monomethlyamine, Methyl Isocyanate (MIC) and the pesticide Carbaryl, also known as Sevi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aken over by DOW Chemicals in 200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5" descr="ScanImage001"/>
          <p:cNvPicPr/>
          <p:nvPr/>
        </p:nvPicPr>
        <p:blipFill>
          <a:blip r:embed="rId1"/>
          <a:srcRect l="0" t="0" r="23562" b="21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gasventscrubber"/>
          <p:cNvPicPr/>
          <p:nvPr/>
        </p:nvPicPr>
        <p:blipFill>
          <a:blip r:embed="rId1"/>
          <a:stretch/>
        </p:blipFill>
        <p:spPr>
          <a:xfrm>
            <a:off x="609480" y="438120"/>
            <a:ext cx="3714840" cy="5505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gasventscrubberstack"/>
          <p:cNvPicPr/>
          <p:nvPr/>
        </p:nvPicPr>
        <p:blipFill>
          <a:blip r:embed="rId2"/>
          <a:stretch/>
        </p:blipFill>
        <p:spPr>
          <a:xfrm>
            <a:off x="4800600" y="457200"/>
            <a:ext cx="3714840" cy="53722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609480" y="6095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4876920" y="6110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 S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ffects on Human Healt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spiratory Disorders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Irritation to the lungs, causing coughing and/or shortness of breathing. Higher exposure caused build up of fluids (</a:t>
            </a:r>
            <a:r>
              <a:rPr b="0" lang="en-IN" sz="1700" spc="-1" strike="noStrike">
                <a:solidFill>
                  <a:srgbClr val="ff0000"/>
                </a:solidFill>
                <a:latin typeface="Verdana"/>
              </a:rPr>
              <a:t>pulmonary edema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). Caused Astham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Cancer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Caused mutation (genetic changes). It caused canc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productive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Association between exposure to Methyl Isocyanate and miscarriages. It may damage the growing fetus.May also affect fertility in men and wome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races of many toxins were found in the Brest Milk of mothers and were inturn transmitted to the recepient bab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9" name="Group 8"/>
          <p:cNvGrpSpPr/>
          <p:nvPr/>
        </p:nvGrpSpPr>
        <p:grpSpPr>
          <a:xfrm>
            <a:off x="111240" y="1828800"/>
            <a:ext cx="8956080" cy="3200400"/>
            <a:chOff x="111240" y="1828800"/>
            <a:chExt cx="8956080" cy="3200400"/>
          </a:xfrm>
        </p:grpSpPr>
        <p:pic>
          <p:nvPicPr>
            <p:cNvPr id="220" name="Picture 4" descr="bhopal14"/>
            <p:cNvPicPr/>
            <p:nvPr/>
          </p:nvPicPr>
          <p:blipFill>
            <a:blip r:embed="rId1"/>
            <a:stretch/>
          </p:blipFill>
          <p:spPr>
            <a:xfrm>
              <a:off x="111240" y="1828800"/>
              <a:ext cx="44604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6" descr="bhopal09"/>
            <p:cNvPicPr/>
            <p:nvPr/>
          </p:nvPicPr>
          <p:blipFill>
            <a:blip r:embed="rId2"/>
            <a:stretch/>
          </p:blipFill>
          <p:spPr>
            <a:xfrm>
              <a:off x="4606560" y="1828800"/>
              <a:ext cx="446076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nimal Slaugh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8:50:55Z</dcterms:created>
  <dc:creator>Creative</dc:creator>
  <dc:description/>
  <dc:language>en-US</dc:language>
  <cp:lastModifiedBy>LEGION</cp:lastModifiedBy>
  <dcterms:modified xsi:type="dcterms:W3CDTF">2017-07-03T10:07:26Z</dcterms:modified>
  <cp:revision>114</cp:revision>
  <dc:subject/>
  <dc:title>Bhopal Gas Tragedy</dc:title>
</cp:coreProperties>
</file>