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2505-7DFA-470D-9825-FFE6614DBFD7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BA78-2527-43EB-97B9-7C4B5EB0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471-8B24-4874-88EA-BAF7EB9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DF2-ADB1-4155-A37D-D1E2E718F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715F-BAE6-41F9-B161-6455B37B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1401-BFC7-45B6-9A13-A766BFF0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4452-5288-4432-AEB4-7F8A0657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37FC-8680-411C-8053-0A44AD54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9D9F-8F73-4F34-B8CA-CC604173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8FC1-CAD8-435F-86F3-9214032A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1FB1-1072-4397-8AAF-BA6565B58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6914-BC9C-4AB1-ADFF-FA99AF31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C8CC-E408-4EBB-80DC-E2E8B951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784A-E64B-4D3E-AAF4-84F72040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84B9-C3F0-4A7E-8BBB-60172A3E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2280-938F-4B2E-99A8-C4F583CA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2455-5A8B-4C15-BF7E-B6C12BD7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32D7-0E0A-4BDF-807C-B9B5EA5B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B479F-2EF3-453A-BF68-0102A9D2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53B3-12D4-4AE1-A89C-A905A552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36CC8-421D-4884-8CE6-67E5C2B7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7CD5A-8857-42D8-A452-EF58CE7D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523C8-A867-4D10-B1FD-19662795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2938-9BA7-4E04-9B8D-E0150860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A0A69-4B3B-4F5C-BCD4-6BF6AA6C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3F635-8AA8-4C72-9020-FC0D8AC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EC9F3-6C81-483D-89C5-6F584F34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5115-07C8-4440-9999-1804BC50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C668B-16FF-447E-8336-83C6D0B3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7BA95-C1AB-4649-B324-8CEDD633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35DE-A796-4FEC-BBED-654CFEB94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C9C2-2CB1-457F-80F3-57B79235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E1AB7-DB9A-4402-BC64-0473B059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6A9C-3169-4842-BDEA-46E0D93D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3FF1-9D06-487E-BB9B-C7C0FD79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8A73E-D047-4D2F-80D1-B98EE88D1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0CC5-67BD-4A85-9DE3-B4020102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3834-D2E3-4028-B4C0-93E3E806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7B64-C30D-4FC5-900E-AB564B9A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9C66-7291-4AE7-8AFD-88C231A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F2D3-9CA9-47A6-A47A-55F1C989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0F02D-2302-4398-812D-D1C44B40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600F-7C3A-4C54-8D14-34B03E60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303C-7447-4AFC-BA56-3FA7BDE9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A2D-0C89-492E-8AD0-6DDA3648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17D-77F5-4C45-893D-98088D8E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07B-63D7-4CCE-8C92-7E05920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6E7-B73C-4EBF-99AE-7042F5FB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DE9-0A9D-4852-A49A-CAEADA61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DD54-6E3F-4BC4-A960-42E324E0D70F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5038-1F1B-4049-8D2C-1632EFFEE788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6F5A-EF62-4237-97E2-29849C75133D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4C63-E12F-47C6-B0B5-1EEBBE1692A7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7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4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9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20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LEGION</cp:lastModifiedBy>
  <dcterms:modified xsi:type="dcterms:W3CDTF">2017-07-03T10:07:26Z</dcterms:modified>
  <cp:revision>114</cp:revision>
  <dc:subject/>
  <dc:title>Bhopal Gas Tragedy</dc:title>
</cp:coreProperties>
</file>