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F03-F6D7-447B-8550-ADFA379053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25D-1B99-4D11-A54B-D133F583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ADB-C933-49B8-8755-85E71888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A79B4-06E3-49C4-B583-487B874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F1AA4-ACF1-49CB-B356-10F4CCC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F081-F4D5-48E4-937D-1A38CD2A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2CFE-5922-431B-942B-C626C6B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A9DB2-D0FE-4EAB-84A0-335949DB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BA1A3-DD26-4C1D-8EB8-15CB107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49A91-38AA-4B3D-BD87-471FC35A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E6F14-F18D-459B-A10F-46D2C93B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D126-26A5-4D21-A6CC-D8C80FF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07FC8-38DE-486A-BB53-74D14E09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9E0-09C3-417B-88AA-8888AAD0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4564A-4B90-49CB-8154-6ED7E42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3CEA6-22F2-4114-81E9-3B2A9C81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17F4A-3B33-4F8D-A094-9B52469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1134-5AEA-4A33-AAF8-C435D56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DCDAD-568D-4FCB-8E2E-709EBB5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BAC1A-EC0C-4E09-BCBA-DBFBAC7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C2583-6504-4F6C-9131-74BEAE8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A65F7-780D-4DD6-9350-FB397077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A7CE-77E1-4531-8523-D10282B0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13D91-57D6-402E-BB66-FB6234F4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F1C-CE63-4616-A450-3BF41970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D1D79-54D3-4F0A-942C-716E5FA9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FC26-ABE7-43A8-BBDB-2F61166D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2A250-8B33-473F-A21C-0B5FA695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FCA5-CD52-4380-A1E2-62616F2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6CD8E-5EEE-40E3-B63D-50578BF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81A96-C0B4-4B5E-8AA2-31EE7E8C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7C75D-40F6-4D06-9AF6-C32BC85F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7CC1-15DE-45EA-A73C-EDA35212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39D65-403E-45F3-AF82-AD48AA61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AD03-CD82-4C60-B4A2-6AED71E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917-C2FA-469E-8383-309AD53D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59AC-052B-49EF-B3AE-7C5FB74E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3C1B3-C79C-40A4-B141-7366325A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EE8E-6D4F-42E9-BCC3-71EA9918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76EA6-7083-457C-ADE5-48B658B5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570F3-5151-422B-A0C3-B017818A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1FE3A-CD4B-4F8E-BC19-75363AB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C8275-5720-4AD2-83CD-9D1F6CAB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D5ADA-6335-4115-9CFB-20E36F0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4A742-723B-4AAD-97DC-DACD7FD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EC78D-77F6-477A-98B9-08F5AFB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A30-5089-4B2B-9C23-32F48A1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EB3AE-392C-43A4-87DE-0EE622C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B0D24-E2D1-4268-AD69-1E0918D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F45DA-5878-42B4-BC20-7A8E64D9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76F05-5FAD-42C8-9338-01065DD7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A6DE9-C26A-4B00-A12A-91E0619A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D8AA4-0A5D-4EF9-B481-3433DD02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3D78E-067B-4E6B-A83C-13D1B3A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3038D-7584-44DE-9741-6DDDFD0C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3647B-DF91-48F6-86FE-7B6A4DFA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440FA-E4F9-4069-9161-CE02FEF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A4C3-FADE-4154-8EB4-EEBF9BC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D8B00-81D7-4374-B54E-EF5A479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B47E5-8E1C-4FAF-A8A1-1AA6511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FC092-DEBF-42BD-B5E2-F05A3A1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78803-B1AE-4A7B-A5DD-9E71C96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F8353-6832-447E-97E9-215906D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1A032-57C7-43DA-9AD4-4BD24E8B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7CAC8-65A3-468F-A1D0-0B110C76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AD60C-5100-4D71-A25E-6F9A4411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47715-E2DC-41EA-A36B-3D65FFD0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D1332-A63D-4878-8FF4-AFF9CC5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A76-56A7-48E0-80CC-94170932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309FE-E015-4EF6-B6F9-CDF0BBA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C3A59-BB27-45F0-9610-9EBDD1D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8AB97-DF86-4059-AECB-0F459F26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58F2D-3EBF-40B0-8B07-E4F30F5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65FE0-53E2-4725-AA5A-173D428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11132-C272-4EC3-B209-20BEAFE5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A6A9A-8642-49C8-9B48-72896A28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DB7C2-7CE6-41AD-8B3F-F7E3E8F3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A3B02-1E42-44B0-BE99-48629785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D271-05BE-43AD-8761-BE2716C3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1039-2A6C-434C-9FA6-22B39CD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3718-E79D-4312-AE9A-FED2A665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8B2-9239-4ED9-814D-1391212D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2699-FA72-41DF-92DC-8E285F0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1DB-6D08-4747-94AB-2A48569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23E5-70BB-4A97-BDEE-62167524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63CD-9B6B-4728-AE48-9629DD50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739-1D73-47B2-A5AE-EC73081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73E9-89BA-4008-9788-D35DB8D9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C132-8E3E-4008-8376-B3B4770F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FAEA-5891-4CFD-B406-B1C2A11E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9891-D9A1-4526-842E-D2619072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A1D4-DE2D-4A6E-9080-C497B9DC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C31-700E-4C04-9321-28025FFE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CD14-FF75-42F5-8C79-62B07A9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58F0-A339-4CDD-BBCE-8878F26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ECAC-121C-45A5-88AC-BFF295D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CED1-F199-454F-97DF-4085036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1379-0343-4520-94B4-91188FB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84D4-988B-4E96-B388-ED0DF0B2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7AC0-24AA-4244-A1AD-704F010D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8CA7-8D05-452A-AE82-945FF05C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FB1C-EF25-4AE0-AF85-5734D3F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E2E3-4EE8-409E-9624-330CC418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7B4-9424-423C-843B-4E131F2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D24B-687B-4436-8EF2-7691568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2481-20A3-439D-A828-428C7C85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EB730-E44E-43C6-B76B-9A2856A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033D-324A-4C55-AD73-A87ECE0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9403-D184-482D-BA65-783CDBBB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9C14-CBFA-44EF-85B3-EEAE6AA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1ED3-AC97-4DA5-A214-20A5024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32DA-978A-4032-B58F-361AD82D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FF12-0338-473F-B2F1-E88A1CA9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7169E-01B1-46FA-B6DA-0585BE25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D7F-E29C-4405-BC2B-FA411CF7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1B37-2AE1-4DBA-A8DB-5064F94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7849-6573-4077-B82E-1044D1F4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32F6-B66B-4FA4-BCB7-8A44F72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CCE6-722F-40DE-9471-7F8C23F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BF2E-FC08-4ABD-8FC5-E6F1BED3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1B71-2075-4EA6-8134-02B83293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551D-0257-4FEF-99CA-C4C8424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CCB4E-66BC-42E1-B907-40851CC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CAE4-8756-4278-AEE1-898288AC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8CAF4-6368-4222-A76E-AE57B65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BD4-55F2-4A0B-8773-930E0E9E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ED3E0-A720-4D35-B3D5-BF7BC002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58E5B-D6BD-413F-919B-2E316DB4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48179-FE6B-44A3-9113-26C6EF31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AD5E1-214F-407A-8501-DD980DF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BD38-3F06-4B44-AC22-C20E3C0D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D67A-B044-4DC1-8C79-9E18FA9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BFD8C-2D2D-4E83-8A97-4F7BEAD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B75E-2906-40D6-8BAC-AA3A6F5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F5C5-5D43-404B-9496-0587E85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6362-44CB-43EA-BBC9-58448E4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0B4-0C1D-42DD-A9BE-1D6E615F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FA3AF-6348-46C5-90AE-D3625B1A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4D9E-95FA-4791-921B-D8DF1C0B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023B5-8F70-4751-807F-BF5821A7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87236-A748-48F1-8448-55014F79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5A51-67E2-423C-BC46-27781E2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588C-BD09-4709-B947-BD3EA9C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6D3F2-82E5-484C-81AC-0DAD8A8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AD08-30A6-46D3-8ACB-805D47E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2DED4-22F1-4722-97BC-FE466B3D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A9FFF-2690-4752-8780-43B132A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AF1-E283-4210-9328-B827F35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2D7EC-444D-4A10-97AE-C25A328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2475-0C07-4DDD-83AA-11FC6E40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65CC1-6D10-4B56-88B4-AF916EB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22104-656A-4171-A746-955529E3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9C2D9-AC54-482E-BD0D-D1F5F43A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F5F85-1816-4736-86F2-F1C960B5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8BC2-806B-4851-8A0C-EFA19A2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C9101-D40E-491A-869F-3C1DE2A8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C8CBA-4680-4314-BD13-26204F17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81F61-CC96-419B-A50F-4E37E61C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1A9-9704-49EA-A285-01535BC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19857-A25F-4398-9E44-425F5B8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3FE3E-2C46-4C7A-8778-A70A651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3CE72-48A0-4E7C-8D73-4CADA4F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C976-9CDC-4D5B-8CBB-BED041DB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38D29-4598-425E-9D66-30D3D9D6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11FE-C9F0-43EB-AA8C-735D33D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C32F-7240-4AB6-96A9-122A5DDA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ADD34-ECD3-4142-B9BD-797DE611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5C72-75F4-4BFF-AD6E-8FF35C9E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A08DD-6885-48C4-A645-D37A3D0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032-1A65-402C-A376-7F004FB9CB6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BFF-F49E-4FB9-9AD4-B13A5EE82D0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DF1F-B5E8-4592-AD56-AF84C2474F3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8CE6-FAB1-438D-8907-D1FA5921A02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BF7-26BA-4ADB-9A80-D1FE2DB1767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16DB-10F5-46BC-AD04-9978D0608D4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BEBE-9D1B-4A09-B9F1-ED2696511F0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743-5E51-4777-8F94-A2C8B2232B7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186-AD74-487A-958E-495426213EA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CDAB-F0D4-48AC-A6DB-F0C3A5A10C65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AA7B-8311-4A69-B02E-B3369695799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839-1EE1-4929-ABC7-9787EC63F8A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6E4-BCA0-4256-B9A0-01DED2D405E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E89B-3538-461B-8446-D8CE9E9E4CE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66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  <p:sp>
        <p:nvSpPr>
          <p:cNvPr id="76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8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6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  <p:sp>
        <p:nvSpPr>
          <p:cNvPr id="738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  <p:sp>
        <p:nvSpPr>
          <p:cNvPr id="742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5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  <p:sp>
        <p:nvSpPr>
          <p:cNvPr id="746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9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  <p:sp>
        <p:nvSpPr>
          <p:cNvPr id="754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Місце для нижнього колонтитула 1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LEGION</cp:lastModifiedBy>
  <dcterms:modified xsi:type="dcterms:W3CDTF">2017-07-03T10:04:04Z</dcterms:modified>
  <cp:revision>16</cp:revision>
  <dc:subject/>
  <dc:title>Ancient Mexico</dc:title>
</cp:coreProperties>
</file>