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2CF0-F998-4129-B08D-2B3F891050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7E38-2D18-4164-95C9-49F153D2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F79B-E826-4694-952E-A3E8D826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86B9D-0E4C-43F0-AB5A-66202978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9A3AB-7828-49E7-B8CE-ECFF1F29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C55E0-629A-42C0-A171-0D0CB995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388BE-4EB1-4ABD-91F0-0EF25E30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980CA-6108-49D2-BCD0-C13624AF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D10FF-1A2A-4459-8A97-08109F04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DD44B-9622-444F-A8E7-2CD6A42A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024B9-1911-4B2C-AD88-7E0EBE06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835F8-DE4C-4FB0-A602-424D5A0D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C7052-04C0-40EA-8821-B259D5CD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B31-A96B-456F-B0AA-CF0F05FC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11A03-B8EC-4FC9-AF25-A86A1CB5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143C7-322C-471F-9106-89B0E9A5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FAEA4-FC4F-41F2-BC32-3E3EC81E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1A058-F0D1-4002-97A4-414A36AB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DCCF1-1DD9-43D3-9783-BCC9B6C2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67CA7-0E09-41F3-A7AE-59C88731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1775C-051A-4B48-B0E0-C9DCEE01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BBDA9-9CBD-425E-9847-26F7963A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4A08C-90AC-4C8D-AE18-053B89C6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9BE2F-4992-41DE-A20E-C598C413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BF31-5338-46F3-B499-51C98EE5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6C4DE-B3C7-4CBA-A412-7AC1A8A9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421D8-3700-4FA4-8F6F-C63576E0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097B0-0FAA-4CD4-A718-6B4E7FA0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EF8B8-7A4A-454F-B923-2579B201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78525-D017-4053-B42D-A015D10D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0EEC4-5B6A-4E9B-B634-2131D00B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32E8D-9EB0-4A20-91E6-FC2B0928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4DD7B-0D4B-4054-8F07-03651DE1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4180E-A5AC-450E-B5A1-1CD29EEA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1EEE7-0BCD-4BF1-9A5F-C4BA59FB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E42C-5B86-43C6-B87B-1B8D437B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B0900-5BFA-4F2E-93C7-F5CBCE92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AAF0F-45B8-4FAC-8E1C-0BD0B9C6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D356B-88F5-4405-ADED-4BC2CD01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4637C-B131-461D-95CE-78BFE01E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C9473-4BA4-4459-A7E2-D462243E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9136B-B15C-4055-8531-A6BC043F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EFA0A-672C-47E9-9FA2-AF77AC64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74AAF-3099-4EA3-980B-1025EA75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A530C-0D66-4DCA-8794-EF6201B8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A314A-1CB9-417D-845C-6D9628D0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C2B1-A13B-48B6-BFA6-13C87DF2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1BD1E-E2FA-4BAC-9053-8451B3DA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F6DBD-0580-4A61-8A80-EAE07B26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B86A2-D86C-4FD4-A4C7-26C28218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ABED9-5B9F-42D3-9407-BF899BEF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83F0C-635D-4A6E-A5F9-0EC5532D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73D24-144D-417B-85A7-7F28AFA7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9C09D-A2D3-440B-A0EE-5A750607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4F794-5F25-4593-A39A-3B174C8E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B3D1CC-1ED1-4BB4-B168-D0B868F3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86F5C-8D0E-4961-85EA-55352803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8A2D-0134-443E-ABAC-1E7AF5F6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415043-55FA-4D2B-837B-F484F439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AB0594-2F4C-46FB-B110-8943AC97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8FBD2B-5F5D-481D-ABE3-94853ABD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466660-8999-47AE-9306-023EB136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29411-406E-4BA2-BD40-6D669CA5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48A8B-E63C-490A-B003-6D01EE19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29D75F-7D25-4BCF-A191-65F5D511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F62CB7-26EA-4F94-BB2A-E361EEF5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2D408C-8440-44F1-9D66-247139D7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F3A851-9DB8-45D8-A59F-D0C9CBB0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45DF-D3DE-48D8-85D2-C4AB87FF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E2CA8-21AA-4496-BCF4-73C55A31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19A419-9E1B-433D-A59A-1AC8FA8D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52AF91-C5FB-491B-AA29-14B6539F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F744E4-E075-492D-9028-36125C0D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FC0833-DC59-41B9-9859-362F2F9A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0B7A51-B004-4B90-8DC5-DBF6BB5F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F01961-8B38-4A64-84DC-D5211CED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8BCDF0-9CDE-4573-9B66-EBA74260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EE758E-9EF0-4F83-8592-A7DF70DD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4EAF-88A8-414B-ABA1-51037A9E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99A2-9DB0-4256-BFAD-8451A0DA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332B-F366-4012-BAB3-4BB0B68B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6C0-7F7E-4DFF-818C-8120D8AD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386F-966A-4291-B6E9-BA80B456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229F-F808-4B26-B282-1A39E427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654C-1D4D-4356-BA6A-141F0362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BFFA-B721-4DAF-B691-DB0D6292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82AA-EEA8-4FA5-9508-996D027E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D3F0C-1513-46AC-AF1F-1362987A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AA5BE-0BAF-49C2-B8F6-18243444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F9AB2-DE54-4D9C-8F0B-487C5699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1BD93-76B5-4C0C-BBE8-33C19F11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C6871-1B78-4C63-9C1E-F0AC168E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961-866F-43A3-8CCD-529357A2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289F6-095B-4F3D-BE71-4C983EBD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9DF75-2A6D-4FF3-8403-C473C44B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29CB5-A5B8-412C-8551-AAF678D8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A8C14-2DD0-43A3-A606-C7957623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FFCC3-23CC-47BC-A9DC-DFA6A04C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35618-B886-4F1B-A31C-6BE59897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365A0-0608-4301-9812-F6465ADC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F7F82-9722-4DE3-B352-2966C21D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8B922-8ACF-43F5-B330-FE4C4DF2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81399-0E8D-41C2-8195-4099640C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C6CC-E64F-473F-975D-8DA0E779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BE3C0-9C1E-4969-993D-2E22FCB4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EE267-2033-47EC-B494-1AD6D8EC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28DB5-12A9-4917-9ADC-893E0B23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1CD8E-812A-4766-92B1-4B7D786C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B816B-3A97-4756-B153-587BF26B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532BD-1C05-4544-8AC4-15047E8C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95CC8-4790-4D4B-95A2-1F6AEE41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97274-58B4-409D-823A-CCDAD718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40762-C06F-4977-8C1F-E6EB9E97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B4425-E2F4-4093-B4DC-52D75221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6161-3964-428F-92ED-96BDC51D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2693E-3CBB-40C0-AB04-A59EE200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3D32C-136A-42B4-943E-042694FF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C2EDC-FBC6-49AF-9AA5-C22A1C26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2EA5B-63FE-4CA0-BB6F-3E01C8F2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C7EA6-F0FA-4E1B-9895-9250D752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CC950-9CE4-4434-818F-742270EC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FBDAB-5A00-48C5-BF43-B2B52665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66EE6-DB86-46F8-84AC-A5AA4A29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2406D-3919-4A7A-B7C5-542D763F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A1A6A-D260-424C-89CE-F73C9C83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AF39-BF97-411D-8285-C54C2BFD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3D339-CA28-4BA9-A7D1-F3D36B92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4F2AE-E13A-45DF-A3BF-AAF6A364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66EE5-3049-4ACC-8C7C-26EF9364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4D76D-A2E2-4A6B-BF9C-BA2BAB1E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7860D-24AF-418E-87E4-BCDCAD15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BF6C0-04A4-4C29-96D3-B7428B8E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CC854-A7DF-4838-88F9-91F6D8D8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A1B91-78A6-499D-956B-61D4EF77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D9A14-CC94-4443-ADEC-4D0BF363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85D39-93BF-44AA-A178-F17486C3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6691-73DE-45C2-A06E-995BE83E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F7159-5FF3-4579-8451-16AC8AA1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B6415-5402-4DD7-B0AC-2F27DD78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D545E-17FA-4CA4-B1C1-FA2F9591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8F4FA-9B1B-4366-817F-A913FFD5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E2AB2-FB1C-49ED-8DC5-D2F981BC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B1D9A-3426-4CA9-B1B0-283A4CED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78FE9-63D7-48BB-9ED7-55461600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310B5-1061-4D2B-BDA9-50D30CC9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ED89B-8974-441B-945D-9365A8E0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AF258-103E-4724-8A8C-E6AEF7D4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485B-6A20-4AEC-9389-CE3361DC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ABFB8-3FB0-433B-8D60-4608B454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4188E-889E-425B-93BB-96E87BE4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32D44-BD97-4DCE-86F0-BDCF23BA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74CAE-0D7B-4D2C-9A03-0CA5E532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F9D34-A9F5-4BFC-B26D-6CB7D38B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C0884-8393-481D-9B8E-8825C6D5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1CB3A-ED74-4918-8171-EA88E570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7EC7B-752A-40E4-82C5-6EB4E2B0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41CA1-80CB-4CFB-9402-6D71B772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4CBA8-A55F-45EB-897C-8D9AC2BC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C9E-7C81-4F9B-B844-8F046C54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0B7AA-E1EC-423C-9A2F-2A9CE2E2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B4BB6-572F-4E84-BF88-A735AE8D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5657C-E1EB-416C-9FFF-AAA8EDDF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3A83F-FA92-4C7D-B15D-128D8255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738F5-2CCA-47D2-8BC4-285FD9D6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512F2-C369-43CE-A4AE-D64583AF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65006-BCDE-495C-92D0-FE589D82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04694-F516-4987-8377-33DF0C46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1F471-00C9-43A3-8437-F42FB7A5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3E405-2C56-4F75-84E0-3F8F87B7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F3C8-0997-46FC-81DA-D1F4EA10577D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62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63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70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5920-F21C-4AEB-AB27-E6BF22758506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13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14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9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21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3994-F357-482B-A5C3-86031EEEA37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64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65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2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2F97-2226-410B-BE8B-4577710377DD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1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1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B609-F3A0-4691-82A5-BF33542AF10E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6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6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7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5FA8-340D-4905-BE86-9C856B685263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948F-13BC-4907-9296-259277977B7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0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0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1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B2EF-1BEE-4A21-861F-8631CA31B6F6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5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5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E764-0CD6-4AD0-9943-C57B13DBCF5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07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08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BACE-3C40-412C-9558-FCAD69AAFF5F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58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59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66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B49B-FFC0-4DBB-A0FC-1751A12CC396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09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10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5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7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F66D-9621-49C1-AC70-40F8C7BDB74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60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61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6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8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A59B-DF81-4331-A1B1-D60548633EC2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1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1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19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6030-F9C3-4213-B20C-1BDD37029B9B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670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Bookman Old Style"/>
              </a:rPr>
              <a:t>Ancient Mexi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3333"/>
                </a:solidFill>
                <a:latin typeface="Monotype Corsiva"/>
              </a:rPr>
              <a:t>Mayan, Incan, and Aztec Civilizations</a:t>
            </a:r>
            <a:endParaRPr b="0" lang="en-US" sz="65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Monotype Corsiva"/>
              </a:rPr>
              <a:t>By: Mrs. Meredith Sander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Місце для нижнього колонтитула 1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is ancient tribe wandered for many ye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ounded their greatest city, Tenochtitlan (this is the site of modern Mexico City)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belonged to a large family group called </a:t>
            </a:r>
            <a:r>
              <a:rPr b="0" i="1" lang="en-US" sz="2500" spc="-1" strike="noStrike">
                <a:solidFill>
                  <a:srgbClr val="333333"/>
                </a:solidFill>
                <a:latin typeface="Arial"/>
              </a:rPr>
              <a:t>calpolli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, meaning “big house” or clan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66" name="Picture 5" descr="bl00158_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3396960"/>
          </a:xfrm>
          <a:prstGeom prst="rect">
            <a:avLst/>
          </a:prstGeom>
          <a:ln w="0">
            <a:noFill/>
          </a:ln>
        </p:spPr>
      </p:pic>
      <p:sp>
        <p:nvSpPr>
          <p:cNvPr id="767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alpol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2574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ach calpolli elected its own officials to run its business. They were a true democracy and voted on decision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Women did not have a vote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alpolli expected all of its able-bodied men to fight any wars.  The men considered it an honor to fight for their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family arranged for all marriages.  A young person could only marry someone outside the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 woman who married now joined her husband’s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97600" cy="17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Monotype Corsiva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33"/>
                </a:solidFill>
                <a:latin typeface="Monotype Corsiva"/>
              </a:rPr>
              <a:t>End</a:t>
            </a:r>
            <a:endParaRPr b="0" lang="en-US" sz="10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3" name="Місце для нижнього колонтитула 1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otihuac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6957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4 well-known buildings in this ancient city: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8" name="Picture 5" descr="j0232310"/>
          <p:cNvPicPr/>
          <p:nvPr/>
        </p:nvPicPr>
        <p:blipFill>
          <a:blip r:embed="rId1"/>
          <a:stretch/>
        </p:blipFill>
        <p:spPr>
          <a:xfrm>
            <a:off x="1257480" y="2413080"/>
            <a:ext cx="4076640" cy="30495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8"/>
          <p:cNvSpPr/>
          <p:nvPr/>
        </p:nvSpPr>
        <p:spPr>
          <a:xfrm>
            <a:off x="5562720" y="2743200"/>
            <a:ext cx="288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Su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5334120" y="3733920"/>
            <a:ext cx="3276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Moo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5105520" y="4572000"/>
            <a:ext cx="4038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Quetzalcoat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Text Box 11"/>
          <p:cNvSpPr/>
          <p:nvPr/>
        </p:nvSpPr>
        <p:spPr>
          <a:xfrm>
            <a:off x="5334120" y="5486400"/>
            <a:ext cx="3504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the Jagu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lm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were the first major Indian Tribe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lmec means “rubber people.”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wo major cities were San Lorenzo and La Venta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used a form of picture writing; had a number system and calendar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6" name="Picture 5" descr="na01441_"/>
          <p:cNvPicPr/>
          <p:nvPr/>
        </p:nvPicPr>
        <p:blipFill>
          <a:blip r:embed="rId1"/>
          <a:stretch/>
        </p:blipFill>
        <p:spPr>
          <a:xfrm>
            <a:off x="6934320" y="609480"/>
            <a:ext cx="1890720" cy="21337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6" descr="j0215761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673360"/>
          </a:xfrm>
          <a:prstGeom prst="rect">
            <a:avLst/>
          </a:prstGeom>
          <a:ln w="0">
            <a:noFill/>
          </a:ln>
        </p:spPr>
      </p:pic>
      <p:sp>
        <p:nvSpPr>
          <p:cNvPr id="738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" dur="5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ber peopl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he Aztec Indians gave the tribe this name because the Olmecs supplied them with sap from rubber tree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1" name="Picture 5" descr="na01441_"/>
          <p:cNvPicPr/>
          <p:nvPr/>
        </p:nvPicPr>
        <p:blipFill>
          <a:blip r:embed="rId1"/>
          <a:stretch/>
        </p:blipFill>
        <p:spPr>
          <a:xfrm>
            <a:off x="1338120" y="1981080"/>
            <a:ext cx="3646800" cy="4114800"/>
          </a:xfrm>
          <a:prstGeom prst="rect">
            <a:avLst/>
          </a:prstGeom>
          <a:ln w="0">
            <a:noFill/>
          </a:ln>
        </p:spPr>
      </p:pic>
      <p:sp>
        <p:nvSpPr>
          <p:cNvPr id="742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7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ppearance: Short in height, straight black hair, painted their bodies, had tattoos, valued crossed-eyes and flat forehead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ree eras: pre-classic, classic, and post-classic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Mayans used glyphs in their writing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5" name="Picture 7" descr="bd08510_"/>
          <p:cNvPicPr/>
          <p:nvPr/>
        </p:nvPicPr>
        <p:blipFill>
          <a:blip r:embed="rId1"/>
          <a:stretch/>
        </p:blipFill>
        <p:spPr>
          <a:xfrm>
            <a:off x="1447920" y="2438280"/>
            <a:ext cx="3276360" cy="3073680"/>
          </a:xfrm>
          <a:prstGeom prst="rect">
            <a:avLst/>
          </a:prstGeom>
          <a:ln w="0">
            <a:noFill/>
          </a:ln>
        </p:spPr>
      </p:pic>
      <p:sp>
        <p:nvSpPr>
          <p:cNvPr id="746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yp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58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ir glyph writing (picture) expanded largely using about 800 different glyph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9" name="Picture 1028" descr="sy01455_"/>
          <p:cNvPicPr/>
          <p:nvPr/>
        </p:nvPicPr>
        <p:blipFill>
          <a:blip r:embed="rId1"/>
          <a:stretch/>
        </p:blipFill>
        <p:spPr>
          <a:xfrm>
            <a:off x="4343400" y="3689280"/>
            <a:ext cx="1789200" cy="31687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029" descr="an02038_"/>
          <p:cNvPicPr/>
          <p:nvPr/>
        </p:nvPicPr>
        <p:blipFill>
          <a:blip r:embed="rId2"/>
          <a:stretch/>
        </p:blipFill>
        <p:spPr>
          <a:xfrm>
            <a:off x="1600200" y="380880"/>
            <a:ext cx="1495440" cy="17337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030" descr="an02044_"/>
          <p:cNvPicPr/>
          <p:nvPr/>
        </p:nvPicPr>
        <p:blipFill>
          <a:blip r:embed="rId3"/>
          <a:stretch/>
        </p:blipFill>
        <p:spPr>
          <a:xfrm>
            <a:off x="7010280" y="380880"/>
            <a:ext cx="1689120" cy="16588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031" descr="an02045_"/>
          <p:cNvPicPr/>
          <p:nvPr/>
        </p:nvPicPr>
        <p:blipFill>
          <a:blip r:embed="rId4"/>
          <a:stretch/>
        </p:blipFill>
        <p:spPr>
          <a:xfrm>
            <a:off x="1219320" y="4724280"/>
            <a:ext cx="1827000" cy="196236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032" descr="an02041_"/>
          <p:cNvPicPr/>
          <p:nvPr/>
        </p:nvPicPr>
        <p:blipFill>
          <a:blip r:embed="rId5"/>
          <a:stretch/>
        </p:blipFill>
        <p:spPr>
          <a:xfrm>
            <a:off x="7162920" y="5410080"/>
            <a:ext cx="1457280" cy="954360"/>
          </a:xfrm>
          <a:prstGeom prst="rect">
            <a:avLst/>
          </a:prstGeom>
          <a:ln w="0">
            <a:noFill/>
          </a:ln>
        </p:spPr>
      </p:pic>
      <p:sp>
        <p:nvSpPr>
          <p:cNvPr id="754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n Relig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many different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day, month, city, and occupation had its special god or godd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d a variety of religious festivals and celebr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ceremonies includes human sacrific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many ceremonies, the priests cut themselves to get blood to present to the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ir religion taught that there were 13 layers of heaven above the earth &amp; 9 underworlds be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the d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an Sacrif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The Mayas had 3 methods of giving the human sacrifice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ook the victim to the altar at the temple and cut the heart out of the living victim and presented it to the g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ied the victim to a wooden pole and threw spears and arrows at the victim’s chest in the area of the hear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shipping the D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believed the dead became one with the god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worshipped their ancestors at many religious ceremoni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also built pyramids over the sacred remains of their dead rul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5:29:38Z</dcterms:created>
  <dc:creator>Pam Tucker</dc:creator>
  <dc:description/>
  <dc:language>en-US</dc:language>
  <cp:lastModifiedBy>LEGION</cp:lastModifiedBy>
  <dcterms:modified xsi:type="dcterms:W3CDTF">2017-07-03T10:04:04Z</dcterms:modified>
  <cp:revision>16</cp:revision>
  <dc:subject/>
  <dc:title>Ancient Mexico</dc:title>
</cp:coreProperties>
</file>