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F52B-364E-4796-BC86-C106BC2999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0CC-E701-4297-B197-934B54F3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68E3-F6A3-4350-98AC-C928D80E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7F539-5D7A-4CF8-9C55-8B485DA7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29AC4-E5B0-4A20-88FA-172810F9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E3C22-08E2-421C-9CF3-BE36F47E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645A4-B5FA-4377-BCCA-DD3BB186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44C54-A1BA-41A9-AFC4-49FDCE4B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F4204-C353-44EF-ADE1-A774CF72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8D9FE-82EC-4534-8599-11BC1643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A5AA2-8D2A-4B03-832C-544EBF58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2584B-DF4D-43C2-8E1C-204B014A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073D9-2EBB-4F97-8F60-40E6DFD3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E034-5FCA-4537-9B1B-7B6D3ECC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1AC1A-9281-4E71-B005-53F7FEDC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45129-019A-475B-9E2D-81ADBC0F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7CB14-C695-4639-A681-CDF9E061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C71B4-50B5-4DCD-828E-7CEA8FBA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E8164-DCED-42C5-BEA7-3A8D6852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7D02A-D63A-46A1-A400-20A98686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9A960-4560-4CC6-A677-F3E4D751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3C8BC-4601-4B6C-9DC1-37652371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F86FE-9E0C-4780-8153-60F16BE1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2C94A-8DCB-49E6-89F6-83E97CE3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39F0-0CD2-4AF5-B785-B38DCF38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65A88-6015-4D5C-BC67-E00DCF7A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D1317-4C46-4A4B-BD87-DBD8F2B1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B35C8-6507-46CE-973A-B02E8457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5B95D-0DC3-467A-99E0-F9AD0B2F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60D69-04D4-4497-B041-280B7F1D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012D2-3091-4443-B719-1E902B0A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56481-0A1E-46AB-AF47-1A5CB238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94C18-9C13-4317-9A3C-66FE83DC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803FE-A781-4B66-9412-EABC212D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EABF9-CACF-4671-8419-63B95F3F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F5F7-D35B-4F9F-BAE8-58A47CC3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8E3F7-D7F4-485C-BF34-B2CFB3DD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07FDC-FACE-48FC-B310-BC75E053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4E317-18F0-4D14-B682-5D3FD798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F4210-84F9-411B-BC35-809978D8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68580-4428-4815-A206-64DA6782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3C573-38C2-4FB6-8F1F-1183F854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401DC-EC6B-4EF0-B9B5-BE131B53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26C7A-CF77-4197-B2EA-B6695354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73117-10AA-4159-84F7-27672BDB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F2ED9-D5D4-486E-8492-E2E6B67A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63F5-DB75-402B-A2FE-1A281B93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A2B1F-4374-49C8-A53C-143B37BF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2E745-F86F-4387-A97C-567A5D5F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2AC87-6C64-4723-B28F-5089F3D2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AD164-EE25-4014-BDDD-373524DA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C0544-12F4-48AD-AC4D-6ADBF9FF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51D18-309E-4247-A8F2-92C9FEBC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611F0-7B7B-41E2-A998-FF25DFF0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D2024-069E-4EB3-8E09-53340321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7DFEE-B72B-47BE-A72C-1034BBAB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F2BE06-7CE8-4583-BB9D-B134ADEB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C806-B9D8-4C98-ACB3-288E21FC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7A937-86F0-4F08-AF64-804A4EA3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59F17-A1F6-4F2C-86E6-623611A0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03C58-09D6-4C31-AC43-22F7F205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B9741-B10B-44CD-946F-D712A0DA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25373-2C8E-4836-BA6B-8DD059E3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E3CD6-04A7-449A-979A-484ED18B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72AC2-3596-4CCA-B15B-0BAC7C9A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511409-3E81-43F3-AA09-C5397254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DD587-533C-46AB-A642-51FE16C8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BC15A7-24D3-4A0C-9EEF-E673DEA4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5852-5FA7-4F9B-ADF8-9CA38774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51482-D8E3-4472-B2B9-08443371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D3BF6-8FC3-4A3D-BE7A-15849C0A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B2AD2B-D8A1-40E7-92BA-137EF374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48DD4F-7896-434E-927F-3BEF7328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053C0-0C62-48E2-988B-5BAE40C0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37DBB-D006-4633-960A-C31B0CE8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CB6E6-2214-4A6E-8D20-DA12CD12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CB9D92-1E44-482A-BA26-3D4EE230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B034B2-241E-4118-8D5D-35EBCFEF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2FC3-8BA9-4E19-B198-F247965B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C947-7418-403E-BE41-818BA406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68E8-D466-42AA-9040-4AF075A9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1487-C422-49E5-AE14-F1EAEAEC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F653-9D66-4BA7-99B9-5F275861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DFF1-DA08-4DC8-90C3-5F0F2D53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53AC-1A78-45BE-B053-F1C2B6A4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4E9A-3A8D-4531-B06A-D6BA5A2E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4A78-3B90-47C0-92D3-344839D0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F93DC-9C56-4ACC-8A38-E9FD1C54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931C9-AD16-4002-A7B6-98B437A5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F6DD8-B700-4627-ACFF-98148F64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CAA0-ED4F-49C5-BBA5-41FC37B5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5963E-8380-4097-8F0B-CC4CAA7A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E7BA-EAEB-4D51-B746-9FBC7B30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49044-2C67-4342-9D31-4BAF562E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400D3-FA1C-42D4-A99B-9D0A2BB4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BEFD1-5E37-48E3-9ADA-BE51E27A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4EF2C-A812-40AF-A007-58E34EE9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41F94-BE1B-40C0-B42F-78DCB538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B6B8D-B25E-4B25-B169-8518D168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8E44A-77A0-4418-802C-ADBB7149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ACBFB-F352-4ADE-83C0-D446F316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C0C35-45C6-485C-B3F4-541143A8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44803-0677-4234-AE31-9A924EB9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BB2-2571-41ED-A36C-AF91642B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DC241-C3A3-4983-9ADF-5DD55B0E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FE7D0-504E-4D23-BFA8-F8FDEE90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30FE7-84C3-4ED4-A020-FF230B8C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82A4C-C9F6-4A04-9FE0-8730D5A5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3CB53-B710-4D3B-9A70-C7B7E9A7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CF08D-EF99-4265-87D3-CBF436E6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702A3-69D1-41A3-8547-72BD9142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4358B-D9D9-4361-9A16-398E53CE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7281C-56DC-40DB-9577-80B5B94A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3B797-7108-4A8B-8978-203EFB9C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327-0BD1-46E5-B071-FED302D1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472A9-6694-44E0-884A-DD954F17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2A042-FCF4-41C7-8406-2A2B8BA8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F6A56-C37E-46C7-9521-1093C51C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90702-0E6C-4B50-951F-403BDBCF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2F1D2-5FE0-4E02-BF0D-46835AE5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2C4BB-89FE-42EE-9DE3-350D10BC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0BCB3-DCDA-4DBD-9098-D4191D3D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5B38A-0129-43A7-8C25-3A67816E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8A883-6F7D-4600-A7FD-A535F7DD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C6522-6464-4F8A-9CA2-125ACEE4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5AB-B5A4-4B38-BA51-FEAE1FE0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F038F-0F9C-4CB5-ADFC-A36EC458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14AD3-2C2A-4215-B401-7D41DDB8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BF688-754A-4B9E-8FB4-5FD7356C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CB744-4A9D-4619-BD9D-F1DE5AE6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440D0-00D6-433A-9B84-908D3A88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4D4B6-5CFD-49AA-BB49-A9654344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A3A6A-BDC2-4C51-B48B-22458F71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3AD03-E1C2-439E-8C4D-84A00B16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B55F6-4481-4946-8C61-5E7ED1F8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6A2B3-3C82-4B3F-85DD-DFECCF03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CC5-6F33-45F0-8266-9B512B15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81A1D-AC6A-404B-8C0F-A4110C04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56E3D-EA92-4B50-BCAF-BE469152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90EC0-67E9-4388-9037-CB0E0F33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703FE-FB22-4F87-AA0B-CF2CCE66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BDABA-B3C1-4DA8-9E86-4E1A33E1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E68F5-5E3F-4AD5-8DF9-12D7F739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48B4A-5705-424F-8A1B-FDBC50B8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448ED-EE0A-427D-BB7D-AD0EB344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E12A1-2778-4D6F-B005-C7575C0C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80600-B982-49E1-8777-8BB43313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794-EE94-44B9-A497-6E75DBCE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AF6C2-FBE8-4868-ADCF-2D5FD104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2CCB1-DFA7-42E5-9D31-DACC7212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36761-BF7B-4FDD-B211-B33CAC82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B12D5-8217-45D3-A6DC-00D82320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32290-8BEC-4DC8-962F-16D8897E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EF214-EB03-4250-8E43-A7C4B5C6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C2AF3-5A58-4359-9729-C09284EB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94E4E-32BA-4665-800F-FF616D33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BBD5B-81FB-4AD9-937F-4837EAC4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49F0E-07AC-43D3-B7CA-D61F1D1F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2FF1-309C-4A40-BFBC-84A2BC0B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FE681-B43F-472D-9A6A-7E6A6FC8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F05BC-56D4-48B3-8A8A-B4731B84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8CAFF-EE0F-47F0-8E85-81C1948D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81E30-DBDA-42AF-BDDE-5E55BE78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A27AC-85A4-4295-B30E-187D8911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D330F-5EE8-4525-A768-DACEE7E0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CE936-0993-455A-A45E-7CC317E2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9DF3E-7D96-4D40-A9DD-F09C87C0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F4998-875A-4DE9-8E46-CC6EFEE8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CE4FE-4E0E-4A50-8300-AA8B30E1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121F-A46C-436F-8F11-083B1D21E050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98F4-F9A8-45DD-A389-720A31BDDE8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D4D8-BFB2-4551-A6C0-33C2C4FAB51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D9B5-B3CE-4807-95BA-89B00736375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98CA-5A4A-41C2-B700-87AA804E0E7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78A4-4011-4D1A-A792-E5C8E30E2CF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1E6F-4C29-4855-9257-BF86205CFDA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43E5-77D1-401D-B6C7-9E6A4B258C1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E868-CB43-4CCB-BA0B-E37D182B271E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F697-D1DD-4EA9-9A32-E48EE8605DD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B80B-79B5-4AE0-8834-5E0DF7C0D41E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B2DF-B1AB-454E-BA97-7F32E2480511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C66A-75E0-4548-B43D-D0B2C5A8514F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00DF-34DF-499F-8939-9FB5EB89BEC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66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  <p:sp>
        <p:nvSpPr>
          <p:cNvPr id="76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8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6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  <p:sp>
        <p:nvSpPr>
          <p:cNvPr id="738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  <p:sp>
        <p:nvSpPr>
          <p:cNvPr id="742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5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  <p:sp>
        <p:nvSpPr>
          <p:cNvPr id="746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9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  <p:sp>
        <p:nvSpPr>
          <p:cNvPr id="754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LEGION</cp:lastModifiedBy>
  <dcterms:modified xsi:type="dcterms:W3CDTF">2017-07-03T10:04:04Z</dcterms:modified>
  <cp:revision>16</cp:revision>
  <dc:subject/>
  <dc:title>Ancient Mexico</dc:title>
</cp:coreProperties>
</file>