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1533-077D-49E2-94F8-1B2D12818F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6BF-4FD4-4368-84FF-7EAA2686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66F-F5CC-47C6-833F-7178C9D4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E58D4-6048-43FC-B892-966E17C8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0278C-EF95-4C26-BCF4-A844BA65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53396-D300-486F-91DD-00C5D2A7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95E8D-BBD2-46A9-9539-EA8AEC3B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FDAE4-62BB-4360-A44E-8C317430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B0777-862D-4BCA-B252-E5FC563D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C0A23-51D4-44B0-ABC8-3CBF6608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0FEE2-0BE5-499D-AA00-F05977A4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39372-08B3-43EC-AEF6-700BF8CC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C65D1-A18A-40BF-8C12-CE91DA07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FA0-95A9-4E6C-BDD5-6158069A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65110-F4FC-42F5-A3F2-D35888D6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CCA10-1BA8-4F18-9698-0C5D4794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77FAF-0C10-496C-BFDA-2CD29F04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28214-1B38-41C6-B90B-FA3AC025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FC802-1DD8-4083-81F7-D150ECCC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9697F-1A27-4552-BBFC-F286D22B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D9818-F74C-40B9-A2AC-8E4BE3CB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388D2-A095-4F76-ABE6-EC084B1B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275E9-3FFD-4835-836D-960E19E1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C2912-E7DC-47E8-83B7-2C73F402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3E2D-BFB5-492F-9028-2FD056AD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D9E88-3BFD-4488-A432-F66B2373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5B247-DD3C-4CCB-819C-0C51D838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5A002-316F-40DC-84DE-FE23D15C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0BB47-22FD-4D95-9FFF-5AE71595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FF17A-0C1C-4BC9-94AC-0C37F800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D121D-960F-4C65-B48C-C1CD3C37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73925-EF9E-41F8-BAD8-929E44CD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EACCC-AE8F-4B53-AFA4-524B1F41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93565-2AF4-44AD-87DE-F950C6E0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822D3-B1A7-4401-9E3D-1F4C0AB3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3581-8D4F-41C9-AD0F-4769B3DE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382CF-C870-4F11-9A55-3535EFE3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DB161-B3EC-41AB-A3BB-29E05963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E972F-AF62-42B1-A4B6-D2189E11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2368F-D58E-4490-AD93-EBCE679E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9B92C-5924-497F-9524-1EDC462B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C4E6D-03B6-4EDD-BA43-D04397D4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B1F8E-E5EB-4D13-9A16-EA3E5793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532B7-8972-48BC-9416-A31165F2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00C93-ED04-43B7-A10B-ADAB8C73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5E7F2-58C0-401A-8010-B7FDC4CE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2507-CD5B-4B81-B671-2F1535C2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EF026-115C-497A-960C-D2BB4E4A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36DF5-4E86-49AC-8B52-7272CE78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14AE3-5CCA-4F48-A5D7-4D27FF97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EB5DD-C837-4191-98EB-E82C4682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1ABAD-5FE1-45F2-84CE-79B34082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3251A-BF47-4C50-8E14-DD18B603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6A95C-BDE5-4E13-8D8C-181E267E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3F1902-48B3-4250-ADCF-DAC33DB5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429E8-CBA3-46DF-846A-B2765470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11D5F-CE36-4E89-B341-9D9D20D5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FC52-1D03-4B59-94ED-82563749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67CDB-BAE4-4DA1-A6DE-77C05EEA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49A3F3-D0F2-4F6A-996A-73EBA895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210EAE-E2F3-497B-823D-ED9D2069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DA188B-35FA-40C2-A835-ABA4E877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5E88D7-BA61-4685-A80E-ADFA07B5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331EB-8025-41B3-8F16-545B74F7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7D9FA-94CC-42AC-A0A9-C2093DA2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B1F48-7A9F-482A-AF41-58ABE428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34EF5-E9C1-49B7-8D0E-CBE83C12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52C391-3343-4545-B670-FC72D180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7477-B442-446E-897A-982C8423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2226B-C0E1-4437-BC88-8C52CA12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4ED995-F387-499C-A1EB-0D423841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B56EBC-F99C-454D-829C-3376A355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B32120-F0C9-4838-A5BC-DD0A5740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5AB041-1F7C-4747-891F-DD387F8E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AE6FD7-ACC2-4C92-9A08-D358E58D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82BDC3-2114-49D8-8A01-F34CCEDF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B56DB6-A731-450E-A8E3-130CBA40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CD7DCE-5911-4752-AB10-5EC77B26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C3E6-2DA3-4D52-B216-A1A9B050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BE83-DA27-48ED-8FFF-A97518F4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8DBA-2408-4F7D-8878-3A3A92E4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897-7246-4534-A843-837A6A9A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A924-8C42-41BB-AE77-D8CF6130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8B51-A249-470D-BE19-118286F4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9034-36E2-407C-ACD9-695FE101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59A1-F785-41DD-AD9A-A6155AE5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F626-B1C2-4FAB-8DC9-DC213EE7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EDF1D-D33A-4E38-AF15-39097287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329B7-1D0F-4EC9-8B14-CC5A2327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4516D-0059-4C99-81E9-FA7AF251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D6F66-7F7C-47A9-8556-DA2EC5BA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1A398-EAE4-4467-A1D8-749844CE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07A9-863C-4B06-B16D-2D34F2C9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A6A18-58AD-4B5D-89C0-CB61FD34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8C974-10FF-469C-910E-2A0BDFB6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34EA8-2DD1-4AA2-901A-8D00C79A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79609-466E-44CC-97CC-1E3C7131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63E1E-7AB5-4C76-B7BE-4CDEA04E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087CB-D56D-4AF7-A59A-E12F7654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394EB-4ADE-4CA2-8306-70E89D25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34F5C-F5E8-47B6-9270-ED124D1D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0103C-3D3E-48F6-81DC-83606392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CF1F6-93DD-4AE6-B6F3-F426501F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1146-FDFB-409D-AFFC-14B8B503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C04A0-57F3-48E4-AC02-4B3A8595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D3E9D-6030-4891-B12F-8FB02750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C922D-7993-4A28-B021-BC8A1171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64A87-5E4C-45D8-84E2-BFDB10F3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8AA06-2E84-476C-B508-19D334C0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48FE9-946A-4FFA-A348-06D54703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FC2D4-5B36-4BCB-AEEA-7F760BC1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72B6B-BEF1-4AE2-84E0-3940EF48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D4556-7BC5-4430-BE99-A8DC2A29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9990C-9422-449C-8FAC-2A06B461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CA4-11C7-47F0-9BA2-76791D75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C945F-7510-4B49-ADD5-B9CD11BC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18D68-BFC3-4BB0-80CB-9E7144D1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8C1C8-E413-4417-80CE-BCDED0E8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691B6-D490-4449-BC98-8E71C8BD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17C80-FA1A-4844-A33B-3D155787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CE49B-F296-484A-9717-69FDB15A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99F27-A79D-4D1B-86C5-A360731F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01756-6106-4751-B2C6-C3CB5948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A3294-FAC6-4BF4-B4DE-2644809C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ACD3D-FB7D-4DFC-9EA7-B331C652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458-9511-454E-9A66-F63FDA89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81F46-3F57-4B94-993B-31C72E7D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187D8-75A3-4246-A2D8-311EC8B0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C0302-B491-4C05-A92E-FBA1E993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16940-0A81-4540-8806-03A2F805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C4E5E-625B-4F66-852F-084D9882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62904-F58E-4DB0-B961-22A1E660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004FC-ADFC-45DB-A988-D7454DE1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22858-5DAB-448A-9258-FCF0BEF2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6DFEC-DAFE-4A7D-953D-194A67CC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7E0E4-A675-4EAE-81B6-EDAFE5C0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34A-F840-40ED-91C2-879CB210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57226-E76B-4A27-8567-001C607F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85F67-59A3-4E4A-AAAA-A9BDF37B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88F99-ECCA-4FC1-BD01-EAF79D37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88B6C-B708-41BF-9FEC-33FA6F2A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BC4F7-7FFF-42E0-85DC-D06D8955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AED98-35F4-4E17-B291-FA18D6E1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C8B0E-41E7-4F48-9646-1AEE5326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A91C1-87BE-421A-BF15-0B2C2B91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5729D-DFF2-4A4D-9A3A-1DDAED57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862DC-6CCB-45B2-830A-EB433C3C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F79-AA32-4A07-B553-89718D9B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21971-9CD0-406D-9DAE-7DEA79C8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8CE4D-B3A4-4186-9307-B80C6642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E4E60-FDAA-4518-8466-17C034B4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FB36E-77EC-4AAD-9BB5-D88E6C85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879ED-CABF-46D9-B86A-D8480597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B3579-49DF-48F6-BB58-8BB47567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CBA75-861B-4579-88F1-277F19B0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978AA-1A68-4639-892B-734F7F3D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E1DD7-5D8C-4A88-8890-0F07C41E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58324-A8EA-4877-8564-DF49C16D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A61-7C4A-4BAA-BBED-FAF4E0D7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A637C-48D3-42C0-8ED3-B72F6091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CADE1-197E-4637-AB24-38FA270B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AF259-DDB2-4A9D-90D3-B514E0FE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32347-73E2-47ED-AD72-7F76E41F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40DF4-E57F-4984-83B3-8EAABF8D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E2A1D-3A3E-4C94-BE41-A0C5FCEA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2E4B9-C9FB-42C0-ADE4-80B4E219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497A6-7ED0-4C4A-B049-431486AD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C11C5-0B60-4205-8104-9DDFC5DE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4F547-DB14-4DD8-ADF5-398D421A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90ED-D8C7-42F8-A6A5-12789675D0CD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62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63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70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53AC-6592-4D4A-9047-F47F42B5AAC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13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14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9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21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4DA3-3B21-445F-B118-80BC504964BD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64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65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2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5C86-B000-4FD5-B4B0-173A36CBBE38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1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1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A1D1-258E-4783-8AD8-B70E0402CF9C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6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6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7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2817-9485-4689-9E95-2B02B3414B0B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E953-4CF6-48E7-AA96-28A806C7F721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0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0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1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A66F-39E1-489D-BFAB-B5EB47ED1FA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5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5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12B9-7172-4054-A50F-2414A9704628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07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08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0D65-5F3A-44A6-B3B3-F45EB88A9235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58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59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66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EEA2-6FE1-4324-989F-EF8DBE62592A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09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10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5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7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2EAB-87BF-4B6D-BDAE-74040481C758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60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1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8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2523-6688-4A74-8436-190A9F3B04BB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1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1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19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29FA-ED28-4D48-B26B-111F137CF3C1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670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Bookman Old Style"/>
              </a:rPr>
              <a:t>Ancient Mexi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3333"/>
                </a:solidFill>
                <a:latin typeface="Monotype Corsiva"/>
              </a:rPr>
              <a:t>Mayan, Incan, and Aztec Civilizations</a:t>
            </a:r>
            <a:endParaRPr b="0" lang="en-US" sz="65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Monotype Corsiva"/>
              </a:rPr>
              <a:t>By: Mrs. Meredith Sander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Місце для нижнього колонтитула 1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is ancient tribe wandered for many ye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ounded their greatest city, Tenochtitlan (this is the site of modern Mexico City)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belonged to a large family group called </a:t>
            </a:r>
            <a:r>
              <a:rPr b="0" i="1" lang="en-US" sz="2500" spc="-1" strike="noStrike">
                <a:solidFill>
                  <a:srgbClr val="333333"/>
                </a:solidFill>
                <a:latin typeface="Arial"/>
              </a:rPr>
              <a:t>calpolli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, meaning “big house” or clan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66" name="Picture 5" descr="bl00158_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3396960"/>
          </a:xfrm>
          <a:prstGeom prst="rect">
            <a:avLst/>
          </a:prstGeom>
          <a:ln w="0">
            <a:noFill/>
          </a:ln>
        </p:spPr>
      </p:pic>
      <p:sp>
        <p:nvSpPr>
          <p:cNvPr id="767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alpol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2574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ach calpolli elected its own officials to run its business. They were a true democracy and voted on decisio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Women did not have a vot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alpolli expected all of its able-bodied men to fight any wars.  The men considered it an honor to fight for their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family arranged for all marriages.  A young person could only marry someone outside the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 woman who married now joined her husband’s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976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Monotype Corsiva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33"/>
                </a:solidFill>
                <a:latin typeface="Monotype Corsiva"/>
              </a:rPr>
              <a:t>End</a:t>
            </a:r>
            <a:endParaRPr b="0" lang="en-US" sz="10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3" name="Місце для нижнього колонтитула 1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otihuac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6957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4 well-known buildings in this ancient city: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8" name="Picture 5" descr="j0232310"/>
          <p:cNvPicPr/>
          <p:nvPr/>
        </p:nvPicPr>
        <p:blipFill>
          <a:blip r:embed="rId1"/>
          <a:stretch/>
        </p:blipFill>
        <p:spPr>
          <a:xfrm>
            <a:off x="1257480" y="2413080"/>
            <a:ext cx="4076640" cy="30495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8"/>
          <p:cNvSpPr/>
          <p:nvPr/>
        </p:nvSpPr>
        <p:spPr>
          <a:xfrm>
            <a:off x="5562720" y="2743200"/>
            <a:ext cx="288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Su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5334120" y="3733920"/>
            <a:ext cx="3276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Moo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5105520" y="457200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Quetzalcoat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Text Box 11"/>
          <p:cNvSpPr/>
          <p:nvPr/>
        </p:nvSpPr>
        <p:spPr>
          <a:xfrm>
            <a:off x="5334120" y="5486400"/>
            <a:ext cx="3504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the Jagu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lm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were the first major Indian Tribe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lmec means “rubber people.”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wo major cities were San Lorenzo and La Venta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used a form of picture writing; had a number system and calendar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6" name="Picture 5" descr="na01441_"/>
          <p:cNvPicPr/>
          <p:nvPr/>
        </p:nvPicPr>
        <p:blipFill>
          <a:blip r:embed="rId1"/>
          <a:stretch/>
        </p:blipFill>
        <p:spPr>
          <a:xfrm>
            <a:off x="6934320" y="609480"/>
            <a:ext cx="1890720" cy="21337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6" descr="j0215761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673360"/>
          </a:xfrm>
          <a:prstGeom prst="rect">
            <a:avLst/>
          </a:prstGeom>
          <a:ln w="0">
            <a:noFill/>
          </a:ln>
        </p:spPr>
      </p:pic>
      <p:sp>
        <p:nvSpPr>
          <p:cNvPr id="738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5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ber peopl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he Aztec Indians gave the tribe this name because the Olmecs supplied them with sap from rubber tree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1" name="Picture 5" descr="na01441_"/>
          <p:cNvPicPr/>
          <p:nvPr/>
        </p:nvPicPr>
        <p:blipFill>
          <a:blip r:embed="rId1"/>
          <a:stretch/>
        </p:blipFill>
        <p:spPr>
          <a:xfrm>
            <a:off x="1338120" y="1981080"/>
            <a:ext cx="3646800" cy="4114800"/>
          </a:xfrm>
          <a:prstGeom prst="rect">
            <a:avLst/>
          </a:prstGeom>
          <a:ln w="0">
            <a:noFill/>
          </a:ln>
        </p:spPr>
      </p:pic>
      <p:sp>
        <p:nvSpPr>
          <p:cNvPr id="742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7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ppearance: Short in height, straight black hair, painted their bodies, had tattoos, valued crossed-eyes and flat forehead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ree eras: pre-classic, classic, and post-classic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Mayans used glyphs in their writing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5" name="Picture 7" descr="bd08510_"/>
          <p:cNvPicPr/>
          <p:nvPr/>
        </p:nvPicPr>
        <p:blipFill>
          <a:blip r:embed="rId1"/>
          <a:stretch/>
        </p:blipFill>
        <p:spPr>
          <a:xfrm>
            <a:off x="1447920" y="2438280"/>
            <a:ext cx="3276360" cy="3073680"/>
          </a:xfrm>
          <a:prstGeom prst="rect">
            <a:avLst/>
          </a:prstGeom>
          <a:ln w="0">
            <a:noFill/>
          </a:ln>
        </p:spPr>
      </p:pic>
      <p:sp>
        <p:nvSpPr>
          <p:cNvPr id="746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yp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58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ir glyph writing (picture) expanded largely using about 800 different glyph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9" name="Picture 1028" descr="sy01455_"/>
          <p:cNvPicPr/>
          <p:nvPr/>
        </p:nvPicPr>
        <p:blipFill>
          <a:blip r:embed="rId1"/>
          <a:stretch/>
        </p:blipFill>
        <p:spPr>
          <a:xfrm>
            <a:off x="4343400" y="3689280"/>
            <a:ext cx="1789200" cy="31687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029" descr="an02038_"/>
          <p:cNvPicPr/>
          <p:nvPr/>
        </p:nvPicPr>
        <p:blipFill>
          <a:blip r:embed="rId2"/>
          <a:stretch/>
        </p:blipFill>
        <p:spPr>
          <a:xfrm>
            <a:off x="1600200" y="380880"/>
            <a:ext cx="1495440" cy="17337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030" descr="an02044_"/>
          <p:cNvPicPr/>
          <p:nvPr/>
        </p:nvPicPr>
        <p:blipFill>
          <a:blip r:embed="rId3"/>
          <a:stretch/>
        </p:blipFill>
        <p:spPr>
          <a:xfrm>
            <a:off x="7010280" y="380880"/>
            <a:ext cx="1689120" cy="16588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031" descr="an02045_"/>
          <p:cNvPicPr/>
          <p:nvPr/>
        </p:nvPicPr>
        <p:blipFill>
          <a:blip r:embed="rId4"/>
          <a:stretch/>
        </p:blipFill>
        <p:spPr>
          <a:xfrm>
            <a:off x="1219320" y="4724280"/>
            <a:ext cx="1827000" cy="196236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032" descr="an02041_"/>
          <p:cNvPicPr/>
          <p:nvPr/>
        </p:nvPicPr>
        <p:blipFill>
          <a:blip r:embed="rId5"/>
          <a:stretch/>
        </p:blipFill>
        <p:spPr>
          <a:xfrm>
            <a:off x="7162920" y="5410080"/>
            <a:ext cx="1457280" cy="954360"/>
          </a:xfrm>
          <a:prstGeom prst="rect">
            <a:avLst/>
          </a:prstGeom>
          <a:ln w="0">
            <a:noFill/>
          </a:ln>
        </p:spPr>
      </p:pic>
      <p:sp>
        <p:nvSpPr>
          <p:cNvPr id="754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n Relig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many different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day, month, city, and occupation had its special god or godd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d a variety of religious festivals and celebr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ceremonies includes human sacrific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many ceremonies, the priests cut themselves to get blood to present to the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ir religion taught that there were 13 layers of heaven above the earth &amp; 9 underworlds be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the d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an Sacrif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The Mayas had 3 methods of giving the human sacrifice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ook the victim to the altar at the temple and cut the heart out of the living victim and presented it to the g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ied the victim to a wooden pole and threw spears and arrows at the victim’s chest in the area of the hear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shipping the D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believed the dead became one with the god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worshipped their ancestors at many religious ceremon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also built pyramids over the sacred remains of their dead rul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5:29:38Z</dcterms:created>
  <dc:creator>Pam Tucker</dc:creator>
  <dc:description/>
  <dc:language>en-US</dc:language>
  <cp:lastModifiedBy>LEGION</cp:lastModifiedBy>
  <dcterms:modified xsi:type="dcterms:W3CDTF">2017-07-03T10:04:04Z</dcterms:modified>
  <cp:revision>16</cp:revision>
  <dc:subject/>
  <dc:title>Ancient Mexico</dc:title>
</cp:coreProperties>
</file>