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8064-BABF-4292-82C1-B109BED62F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68F4-7F17-4461-93DA-9568A3F3537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s &amp; Meteor Sh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97EC-78EB-495C-A9C1-EE08018648C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All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040A-D4DE-4621-B3D6-DDCCB9FCF8F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Questio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rue/False: The material or element that makes up a meteor is the main factor that determines the color of the glowing trail left beh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is major meteor shower has a peak time around early/mid Augu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Gemini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Leoni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Orioni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Perse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. Perse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is the point in the sky from which all of the meteors seem to come during a shower call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adi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3A2E-8807-43F8-9610-6B2723DACB4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sep10.phys.utk.edu/astr161/lect/meteors/shower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ky-watch.com/meteo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hometown.aol.com/theleonid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geocities.com/~starwanderer/meteo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eteorobs.org/shower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msmeteors.org/shower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8488-DF04-48CF-A22B-5F42EA51670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oid, Meteorite, Meteor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eteoro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mall, solid body moving within the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eteori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lid remains of a meteor that falls to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eteor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hooting star)- bright trail of light created by small solid particles entering the Earth’s atmosphere &amp; burning up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C9FB-90A8-4D25-B2FE-86EC2A6436E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s (meteoroids) are the debris associated with comets or aster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meteoroid enters the Earth’s atmosphere &amp; becomes a meteor, it is traveling at 60-70 km per secon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given night (with favorable conditions), you can see 1 meteor every 1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ypical size of a meteor that produces a visible streak of light ranges from about the size of a grain of sand to the size of a small pebble! (average weight is only around 1 gram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irebal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large, brilliant meteors) are periodically seen (these may weigh up to several kilograms or more).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Bolid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fireballs that explode with a thunderous s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7E08-A082-45DB-9955-FB6C59094D5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y do meteors have a streak of light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ey travel through our atmosphere, meteors collide with air molecules that knock away materials and strip electrons from the meteo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tripped atoms recapture electrons, light is emitt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lor of the light depends on the temperature and the material being “excited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04FE-BA37-425F-8CD3-7F2AF933158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all meteors the same color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terial or element that makes up a meteor is the main factor that determines the color of its glowing trail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dium = orange-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ron =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gnesium = blue-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lcium = 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ilicon =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0601-B071-405E-9FB6-F7BA647DB4A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adic Mete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meteors that can be seen on any given 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not associated with any particular meteor sh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ome from random directions in the 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88CA-D162-4626-9D22-357178350D6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 Sh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vy displays of meteors that recur from year to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d by small fragments of comet debris entering the earth’s atmosphere at extremely high speeds…when the Earth’s orbit &amp; the comet’s orbit intersect at som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er meteors’ come from the same general point in the sk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adia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a shower is the point in the sky from which the meteors appear to 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9FF1-272A-413C-B13D-3A1141BDA1D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 Showers (cont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 showers are usually named for the constellation in which their radiant lies at the peak of the showe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: Perseid shower = Pers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: Leonid shower = 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: Geminid shower = Gem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8D8B-B79A-401F-9BB7-1EF17CDDCA9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Meteor Show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 showers occur on a regular basis throughout the year, but not all are visible in the northern latitudes  &amp; some are very weak and easily go unnotic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 more impressive showers throughout a given year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how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vg. P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Quadrantids – early Janu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yrids – mid Apr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rseids – early/mid Aug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rionids – mid/late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eonids – mid Nov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eminids – mid Dec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9F91-968E-4E07-8483-8528D631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A229-1577-4856-9776-F7DFE00E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5AD4-712A-4FA1-92F3-5C14CD31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5D1E-E6AD-41E3-83F4-78D71BA58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B015-1331-43A5-9109-4AB5FEA3E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0BCA-8039-4C5C-B057-590D8E6D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7C7D-D97B-4C45-9CD2-FCEBB915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7009-4DA4-4C2A-9219-BB75392C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ABA4-3EB7-4D14-80C7-5907BCC0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1D27-07F2-46D9-B8A3-7B598AFF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E315-52F0-4E84-B84B-8BAB06A9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A61F-79DE-4F98-A9A1-CE8323AD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A516-6DE5-4927-B547-FD4DAC0D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1409-0086-4AEC-9A18-4B1D63B2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50B9-0AFB-4060-ABB5-77E8EBF9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5948-A9F1-4E0F-85A5-812FD8EC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9A38-2247-4414-9C5E-F048D53ED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8EED-6542-4473-ACE3-9C6EC986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3958-0E1C-402E-B0B9-A2C245AE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5A8C-BC21-49C1-B5A5-84E6189E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E34D-DC90-4B26-AC9E-586E8F63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E3DA-6D62-4CF4-975D-0F8AC7FF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9D3A-0951-465B-8A8F-F88B93C0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5F57-AEC0-44AE-9874-C41568AC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34FB-E02F-4BAE-945F-E717B72E49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BAF0-0DC3-4F1A-9594-E22785A4C7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csep10.phys.utk.edu/astr161/lect/meteors/showers.html" TargetMode="External"/><Relationship Id="rId2" Type="http://schemas.openxmlformats.org/officeDocument/2006/relationships/hyperlink" Target="http://www.sky-watch.com/meteor.html" TargetMode="External"/><Relationship Id="rId3" Type="http://schemas.openxmlformats.org/officeDocument/2006/relationships/hyperlink" Target="http://hometown.aol.com/theleonids/" TargetMode="External"/><Relationship Id="rId4" Type="http://schemas.openxmlformats.org/officeDocument/2006/relationships/hyperlink" Target="http://www.geocities.com/~starwanderer/meteor.htm" TargetMode="External"/><Relationship Id="rId5" Type="http://schemas.openxmlformats.org/officeDocument/2006/relationships/hyperlink" Target="http://www.meteorobs.org/showers.html" TargetMode="External"/><Relationship Id="rId6" Type="http://schemas.openxmlformats.org/officeDocument/2006/relationships/hyperlink" Target="http://www.amsmeteors.org/showers.html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paceweather.com/meteors/images/18nov01/varros1_movie.gif" TargetMode="External"/><Relationship Id="rId2" Type="http://schemas.openxmlformats.org/officeDocument/2006/relationships/hyperlink" Target="http://www.spaceweather.com/meteors/images/18nov01_page3/Ponder1.MPG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paceweather.com/meteors/images/18nov01_page3/cordiale1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5" descr="Anderson1"/>
          <p:cNvPicPr/>
          <p:nvPr/>
        </p:nvPicPr>
        <p:blipFill>
          <a:blip r:embed="rId1"/>
          <a:srcRect l="0" t="43543" r="0" b="0"/>
          <a:stretch/>
        </p:blipFill>
        <p:spPr>
          <a:xfrm>
            <a:off x="2743200" y="380880"/>
            <a:ext cx="2743200" cy="1947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Ryan1"/>
          <p:cNvPicPr/>
          <p:nvPr/>
        </p:nvPicPr>
        <p:blipFill>
          <a:blip r:embed="rId2"/>
          <a:srcRect l="0" t="15594" r="10657" b="0"/>
          <a:stretch/>
        </p:blipFill>
        <p:spPr>
          <a:xfrm>
            <a:off x="5791320" y="380880"/>
            <a:ext cx="3352680" cy="2291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Toth1"/>
          <p:cNvPicPr/>
          <p:nvPr/>
        </p:nvPicPr>
        <p:blipFill>
          <a:blip r:embed="rId3"/>
          <a:srcRect l="17828" t="25081" r="0" b="0"/>
          <a:stretch/>
        </p:blipFill>
        <p:spPr>
          <a:xfrm>
            <a:off x="0" y="0"/>
            <a:ext cx="3505320" cy="3276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Meteors &amp; Meteor Shower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9" name="Picture 7" descr="varros2_strip_big"/>
          <p:cNvPicPr/>
          <p:nvPr/>
        </p:nvPicPr>
        <p:blipFill>
          <a:blip r:embed="rId4"/>
          <a:stretch/>
        </p:blipFill>
        <p:spPr>
          <a:xfrm>
            <a:off x="304920" y="327672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Welsh1"/>
          <p:cNvPicPr/>
          <p:nvPr/>
        </p:nvPicPr>
        <p:blipFill>
          <a:blip r:embed="rId5"/>
          <a:stretch/>
        </p:blipFill>
        <p:spPr>
          <a:xfrm>
            <a:off x="3886200" y="3048120"/>
            <a:ext cx="49528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2" descr="Larmay1"/>
          <p:cNvPicPr/>
          <p:nvPr/>
        </p:nvPicPr>
        <p:blipFill>
          <a:blip r:embed="rId1"/>
          <a:stretch/>
        </p:blipFill>
        <p:spPr>
          <a:xfrm>
            <a:off x="5448240" y="1514520"/>
            <a:ext cx="3695760" cy="5114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0" descr="Hamilton1"/>
          <p:cNvPicPr/>
          <p:nvPr/>
        </p:nvPicPr>
        <p:blipFill>
          <a:blip r:embed="rId2"/>
          <a:stretch/>
        </p:blipFill>
        <p:spPr>
          <a:xfrm>
            <a:off x="0" y="1143000"/>
            <a:ext cx="3228840" cy="52578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at’s All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0" name="Picture 12" descr="Anderson1"/>
          <p:cNvPicPr/>
          <p:nvPr/>
        </p:nvPicPr>
        <p:blipFill>
          <a:blip r:embed="rId3"/>
          <a:stretch/>
        </p:blipFill>
        <p:spPr>
          <a:xfrm>
            <a:off x="2895480" y="1752480"/>
            <a:ext cx="27432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3 Questions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True/False: The material or element that makes up a meteor is the main factor that determines the color of the glowing trail left behi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r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This major meteor shower has a peak time around early/mid Augus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Gemini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Leoni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Orioni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Perse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. Perse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What is the point in the sky from which all of the meteors seem to come during a shower call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adi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ferences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csep10.phys.utk.edu/astr161/lect/meteors/showers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www.sky-watch.com/meteor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http://hometown.aol.com/theleonid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http://www.geocities.com/~starwanderer/meteor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http://www.meteorobs.org/showers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http://www.amsmeteors.org/showers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Differences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eoroid, Meteorite, Meteor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eteoroi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mall, solid body moving within the solar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eteori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olid remains of a meteor that falls to the Ear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eteor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hooting star)- bright trail of light created by small solid particles entering the Earth’s atmosphere &amp; burning up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eteor Fac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eors (meteoroids) are the debris associated with comets or astero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a meteoroid enters the Earth’s atmosphere &amp; becomes a meteor, it is traveling at 60-70 km per secon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a given night (with favorable conditions), you can see 1 meteor every 15 minu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typical size of a meteor that produces a visible streak of light ranges from about the size of a grain of sand to the size of a small pebble! (average weight is only around 1 gram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Firebal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large, brilliant meteors) are periodically seen (these may weigh up to several kilograms or more).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Bolid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fireballs that explode with a thunderous sou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for yourself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spaceweather.com/meteors/images/18nov01/varros1_movie.gi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(Fireb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www.spaceweather.com/meteors/images/18nov01_page3/Ponder1.MP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(Bolid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Why do meteors have a streak of light?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y travel through our atmosphere, meteors collide with air molecules that knock away materials and strip electrons from the meteo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 stripped atoms recapture electrons, light is emitt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lor of the light depends on the temperature and the material being “excited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re all meteors the same color?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terial or element that makes up a meteor is the main factor that determines the color of its glowing trail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odium = orange-yel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Iron = yel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Magnesium = blue-gr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alcium = vio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ilicon = 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poradic Meteo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the meteors that can be seen on any given n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not associated with any particular meteor sh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ome from random directions in the s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eteor Show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y displays of meteors that recur from year to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d by small fragments of comet debris entering the earth’s atmosphere at extremely high speeds…when the Earth’s orbit &amp; the comet’s orbit intersect at some 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er meteors’ come from the same general point in the sky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adia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a shower is the point in the sky from which the meteors appear to 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eteor Showers (cont.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eor showers are usually named for the constellation in which their radiant lies at the peak of the showe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.: Perseid shower = Pers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.: Leonid shower = L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.: Geminid shower = Gemi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pecific Meteor Showers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eor showers occur on a regular basis throughout the year, but not all are visible in the northern latitudes  &amp; some are very weak and easily go unnoticed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of the more impressive showers throughout a given year 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how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vg. Pe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Quadrantids – early Janu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Lyrids – mid Apr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Perseids – early/mid Augu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Orionids – mid/late Octo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Leonids – mid Nove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Geminids – mid Dece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* Historically, the Perseids in August &amp; the Leonids in November have been the most impressive meteor showers -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spaceweather.com/meteors/images/18nov01_page3/cordiale1.mo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02:17:23Z</dcterms:created>
  <dc:creator>s1250620</dc:creator>
  <dc:description/>
  <dc:language>en-US</dc:language>
  <cp:lastModifiedBy>RomaK</cp:lastModifiedBy>
  <dcterms:modified xsi:type="dcterms:W3CDTF">2015-07-31T22:47:23Z</dcterms:modified>
  <cp:revision>37</cp:revision>
  <dc:subject/>
  <dc:title>Meteor Showers</dc:title>
</cp:coreProperties>
</file>