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84CE-1BAE-4D4F-BB74-9D9B9B1981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7E5-ED01-43A2-8ACF-67512BAC3AB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&amp; 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92D8-22BA-4C9C-9072-BB87A92298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Al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866D-84E5-4074-AAA6-CE93E015A1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Questio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is major meteor shower has a peak time around early/mid Augu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emi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Le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Orion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. Perse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E9B-7972-4E50-BAA5-C2BC6EC97A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sep10.phys.utk.edu/astr161/lect/meteors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y-watch.com/meteor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hometown.aol.com/theleonid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geocities.com/~starwanderer/meteo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eteorob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msmeteors.org/shower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ED0-DB87-4B1A-80BF-246DE5C4CB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oid, Meteorite, Meteor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mall, solid body moving within the solar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lid remains of a meteor that falls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886D-4EC3-4166-B029-1F7121F23FF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s (meteoroids) are the debris associated with comets or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given night (with favorable conditions), you can see 1 meteor every 1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ebal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olid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fireballs that explode with a thunderous s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B99F-B516-430B-A4D0-8A29F9DD87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 meteors have a streak of light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tripped atoms recapture electrons, light is emit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161E-558F-4029-9D38-DDEC0E4EF8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ll meteors the same color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dium = orange-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on =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gnesium = blue-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cium = vio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ilicon =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A027-A9E1-4C8F-B2EA-111381B82B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adic Mete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the meteors that can be seen on any given n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not associated with any particular meteor sh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ome from random directions in the 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02A-E816-4309-8C1C-D7F4C1D7DA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vy displays of meteors that recur from year to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er meteors’ come from the same general point in the sk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a shower is the point in the sky from which the meteors appear to 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3C3B-9E55-472D-B451-85527F6552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(cont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Perseid shower = Pers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Leonid shower = 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: Geminid shower = Gem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D51D-A426-4C65-8A0C-B70E7F346B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Meteor Show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of the more impressive showers throughout a given year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h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g.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Quadrantids – early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yrids – mid Apr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rseids – early/mid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rionids – mid/late Octo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onids – mid Nov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eminids – mid Dec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EE5-3215-4197-98F7-997E0561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CFE-7EE7-4D97-BB43-384BC54B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00C9-620B-45D2-96EA-6F5280C39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38B-B0F0-4485-A393-AEB26AAB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1148-5BA0-4751-A0BE-0EEC4AC37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AABD-F76A-4A39-9005-B63791D2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D475-ED0F-48D8-9989-DD5D41DC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7F11-EF8B-479A-827F-996F20E1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C72-37B0-4962-BD64-7A8734A0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9F48-0855-4175-9B09-57B396C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D845-C986-43B1-BB5F-7D11FE8B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284-7246-48EF-BC74-10239152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92EE-1AED-470B-AB1B-7FBF7AA8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5CB9-AD44-42E8-86A2-C8E02C23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95F4-06DB-434C-B20B-D35335C9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1F20-921A-4849-A387-2851603A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6BDD-8690-42B7-A25F-23AD46DA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BBAD-C39A-45BC-B611-C10CA327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A65-7585-4D1B-9989-E66DD38D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8F9-56ED-4BF1-830E-377E6341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069-E1EA-4552-9712-9080AE81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6EC-EAB3-4F69-8D59-2FA7EF14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945-A91A-49D8-9FD8-D79A3DFB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557-FABB-4E1D-9AB1-083C9F0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162F-DD76-4993-B34E-BEFCE0CB3C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7548-405C-4474-8CB2-323F3F7234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sep10.phys.utk.edu/astr161/lect/meteors/showers.html" TargetMode="External"/><Relationship Id="rId2" Type="http://schemas.openxmlformats.org/officeDocument/2006/relationships/hyperlink" Target="http://www.sky-watch.com/meteor.html" TargetMode="External"/><Relationship Id="rId3" Type="http://schemas.openxmlformats.org/officeDocument/2006/relationships/hyperlink" Target="http://hometown.aol.com/theleonids/" TargetMode="External"/><Relationship Id="rId4" Type="http://schemas.openxmlformats.org/officeDocument/2006/relationships/hyperlink" Target="http://www.geocities.com/~starwanderer/meteor.htm" TargetMode="External"/><Relationship Id="rId5" Type="http://schemas.openxmlformats.org/officeDocument/2006/relationships/hyperlink" Target="http://www.meteorobs.org/showers.html" TargetMode="External"/><Relationship Id="rId6" Type="http://schemas.openxmlformats.org/officeDocument/2006/relationships/hyperlink" Target="http://www.amsmeteors.org/showers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/varros1_movie.gif" TargetMode="External"/><Relationship Id="rId2" Type="http://schemas.openxmlformats.org/officeDocument/2006/relationships/hyperlink" Target="http://www.spaceweather.com/meteors/images/18nov01_page3/Ponder1.M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paceweather.com/meteors/images/18nov01_page3/cordiale1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Anderson1"/>
          <p:cNvPicPr/>
          <p:nvPr/>
        </p:nvPicPr>
        <p:blipFill>
          <a:blip r:embed="rId1"/>
          <a:srcRect l="0" t="43543" r="0" b="0"/>
          <a:stretch/>
        </p:blipFill>
        <p:spPr>
          <a:xfrm>
            <a:off x="2743200" y="380880"/>
            <a:ext cx="2743200" cy="1947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Ryan1"/>
          <p:cNvPicPr/>
          <p:nvPr/>
        </p:nvPicPr>
        <p:blipFill>
          <a:blip r:embed="rId2"/>
          <a:srcRect l="0" t="15594" r="10657" b="0"/>
          <a:stretch/>
        </p:blipFill>
        <p:spPr>
          <a:xfrm>
            <a:off x="5791320" y="380880"/>
            <a:ext cx="3352680" cy="2291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Toth1"/>
          <p:cNvPicPr/>
          <p:nvPr/>
        </p:nvPicPr>
        <p:blipFill>
          <a:blip r:embed="rId3"/>
          <a:srcRect l="17828" t="25081" r="0" b="0"/>
          <a:stretch/>
        </p:blipFill>
        <p:spPr>
          <a:xfrm>
            <a:off x="0" y="0"/>
            <a:ext cx="3505320" cy="3276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Meteors &amp; Meteor Showe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9" name="Picture 7" descr="varros2_strip_big"/>
          <p:cNvPicPr/>
          <p:nvPr/>
        </p:nvPicPr>
        <p:blipFill>
          <a:blip r:embed="rId4"/>
          <a:stretch/>
        </p:blipFill>
        <p:spPr>
          <a:xfrm>
            <a:off x="304920" y="327672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Welsh1"/>
          <p:cNvPicPr/>
          <p:nvPr/>
        </p:nvPicPr>
        <p:blipFill>
          <a:blip r:embed="rId5"/>
          <a:stretch/>
        </p:blipFill>
        <p:spPr>
          <a:xfrm>
            <a:off x="3886200" y="3048120"/>
            <a:ext cx="49528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2" descr="Larmay1"/>
          <p:cNvPicPr/>
          <p:nvPr/>
        </p:nvPicPr>
        <p:blipFill>
          <a:blip r:embed="rId1"/>
          <a:stretch/>
        </p:blipFill>
        <p:spPr>
          <a:xfrm>
            <a:off x="5448240" y="1514520"/>
            <a:ext cx="3695760" cy="511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Hamilton1"/>
          <p:cNvPicPr/>
          <p:nvPr/>
        </p:nvPicPr>
        <p:blipFill>
          <a:blip r:embed="rId2"/>
          <a:stretch/>
        </p:blipFill>
        <p:spPr>
          <a:xfrm>
            <a:off x="0" y="1143000"/>
            <a:ext cx="3228840" cy="52578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at’s All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12" descr="Anderson1"/>
          <p:cNvPicPr/>
          <p:nvPr/>
        </p:nvPicPr>
        <p:blipFill>
          <a:blip r:embed="rId3"/>
          <a:stretch/>
        </p:blipFill>
        <p:spPr>
          <a:xfrm>
            <a:off x="2895480" y="1752480"/>
            <a:ext cx="27432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3 Question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True/False: The material or element that makes up a meteor is the main factor that determines the color of the glowing trail left beh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This major meteor shower has a peak time around early/mid Augu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Gemi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 Le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. Orion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. Perse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What is the point in the sky from which all of the meteors seem to come during a shower call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csep10.phys.utk.edu/astr161/lect/meteors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ky-watch.com/meteor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hometown.aol.com/theleonid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geocities.com/~starwanderer/meteor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http://www.meteorob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http://www.amsmeteors.org/showers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Differences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oid, Meteorite, Meteor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o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mall, solid body moving within the solar syst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lid remains of a meteor that falls to the Ear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eteor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hooting star)- bright trail of light created by small solid particles entering the Earth’s atmosphere &amp; burning up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s (meteoroids) are the debris associated with comets or astero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meteoroid enters the Earth’s atmosphere &amp; becomes a meteor, it is traveling at 60-70 km per secon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 given night (with favorable conditions), you can see 1 meteor every 15 min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typical size of a meteor that produces a visible streak of light ranges from about the size of a grain of sand to the size of a small pebble! (average weight is only around 1 gram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Firebal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large, brilliant meteors) are periodically seen (these may weigh up to several kilograms or more).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Bolid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fireballs that explode with a thunderous sou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or yourself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/varros1_movie.gi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Fireb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paceweather.com/meteors/images/18nov01_page3/Ponder1.MP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Bo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meteors have a streak of light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y travel through our atmosphere, meteors collide with air molecules that knock away materials and strip electrons from the meteo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the stripped atoms recapture electrons, light is emitte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lor of the light depends on the temperature and the material being “excited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Are all meteors the same color?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aterial or element that makes up a meteor is the main factor that determines the color of its glowing trail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odium = orange-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ron = ye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agnesium = blue-g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lcium = vio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licon = 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oradic Meteo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are the meteors that can be seen on any given n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not associated with any particular meteor sh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ome from random directions in the sk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displays of meteors that recur from year to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d by small fragments of comet debris entering the earth’s atmosphere at extremely high speeds…when the Earth’s orbit &amp; the comet’s orbit intersect at some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wer meteors’ come from the same general point in the sky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ad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a shower is the point in the sky from which the meteors appear to 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teor Showers (cont.)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eor showers are usually named for the constellation in which their radiant lies at the peak of the sh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Perseid shower = Pers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Leonid shower = L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: Geminid shower = Gemi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Meteor Showers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eor showers occur on a regular basis throughout the year, but not all are visible in the northern latitudes  &amp; some are very weak and easily go unnoticed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of the more impressive showers throughout a given year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ow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vg.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Quadrantids – early Janu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yrids – mid Apr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erseids – early/mid Aug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rionids – mid/late Octo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Leonids – mid Nov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Geminids – mid Dec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* Historically, the Perseids in August &amp; the Leonids in November have been the most impressive meteor showers - </a:t>
            </a:r>
            <a:r>
              <a:rPr b="0" lang="en-US" sz="20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paceweather.com/meteors/images/18nov01_page3/cordiale1.mo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02:17:23Z</dcterms:created>
  <dc:creator>s1250620</dc:creator>
  <dc:description/>
  <dc:language>en-US</dc:language>
  <cp:lastModifiedBy>RomaK</cp:lastModifiedBy>
  <dcterms:modified xsi:type="dcterms:W3CDTF">2015-07-31T22:47:23Z</dcterms:modified>
  <cp:revision>37</cp:revision>
  <dc:subject/>
  <dc:title>Meteor Showers</dc:title>
</cp:coreProperties>
</file>