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986D-93FF-4CD0-85E7-8E204FA612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D37D-2945-4FF5-8939-A83F19A2FC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&amp; 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EBCC-E73D-48AC-9B61-379F9164BD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Al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360A-FBCE-45F3-A7D6-83EA588940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Qu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is major meteor shower has a peak time around early/mid Aug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emi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Le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Ori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5DD0-C956-4696-9C16-FCD945AC8A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sep10.phys.utk.edu/astr161/lect/meteors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y-watch.com/meteo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hometown.aol.com/theleoni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/~starwanderer/mete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teorob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msmeteor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EBB5-0F14-4A37-9BAB-4B48A3ECD2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oid, Meteorite, Meteor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mall, solid body moving within the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i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lid remains of a meteor that falls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B0B4-223D-409B-AA33-2B74C0181C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(meteoroids) are the debris associated with comets or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given night (with favorable conditions), you can see 1 meteor every 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eba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oli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fireballs that explode with a thunderous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D592-4533-40DB-BB3A-6F8BE67FD9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meteors have a streak of light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tripped atoms recapture electrons, light is emit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C4B4-FB62-4F0F-9815-AF2D838A846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ll meteors the same color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dium = orange-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on =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gnesium = blue-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cium =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licon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A5C2-72CC-4F2E-AC1A-CB05630A93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adic Mete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meteors that can be seen on any given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associated with any particular meteor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from random directions in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0CE6-D693-4C8E-98A9-9C68B7E3A3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displays of meteors that recur from year to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er meteors’ come from the same general point in the sk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hower is the point in the sky from which the meteors appear to 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235B-252C-4401-AB7E-5FFFE739E3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(co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Perseid shower = Pers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Leonid shower = 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Geminid shower = Ge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299A-7108-4E36-AA03-078F523412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Meteor Show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impressive showers throughout a given year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g.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drantids – early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yrids – mid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eids – early/mid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ionids – mid/late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onids – mid 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minids – mid 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D81-C4FF-4F64-94E6-9621987F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1F1-DD5A-4E34-9342-191E5625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E32-5CE3-4E34-BF06-AEF52421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228-E20F-41DF-B939-0F531C14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242B-BD21-429F-B23F-A6A453B8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6191-3CCD-4476-A992-B849372E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D877-9E57-4CFC-9C03-F7EA7E51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97AB-B703-47B7-8F39-FDE8094C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57A0-E15C-4CC9-92BD-B3E734CD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A5E7-072A-429F-8B23-241A9288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E173-F214-494C-A639-A531541C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BF1-0900-4044-BB27-4E45782B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28F8-185B-4CF9-BAE6-B5561AC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F07A-7297-41A4-8370-529A2600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3681-5C9C-4663-8C9A-63530C4F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EE7E-85DC-4ABD-BD1B-56B9BB5F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FC76-6671-4BB6-9176-67A1CF04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DA8-2EA8-4019-8B45-181C61C4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46D-ED65-479B-88FC-D683660C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7E1-6C14-4AD4-92B5-103E06C5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CAB-4046-4A52-811A-239397BA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F86-38FD-472B-86F9-CF6C9A88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C34-BA46-437D-A78C-F1A87AC1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ED0-7AEC-4AB2-B608-CED5728E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BD9D-F6DF-4C41-A3FF-593E9E416F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FA62-6010-4724-A569-1CE8162E35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ep10.phys.utk.edu/astr161/lect/meteors/showers.html" TargetMode="External"/><Relationship Id="rId2" Type="http://schemas.openxmlformats.org/officeDocument/2006/relationships/hyperlink" Target="http://www.sky-watch.com/meteor.html" TargetMode="External"/><Relationship Id="rId3" Type="http://schemas.openxmlformats.org/officeDocument/2006/relationships/hyperlink" Target="http://hometown.aol.com/theleonids/" TargetMode="External"/><Relationship Id="rId4" Type="http://schemas.openxmlformats.org/officeDocument/2006/relationships/hyperlink" Target="http://www.geocities.com/~starwanderer/meteor.htm" TargetMode="External"/><Relationship Id="rId5" Type="http://schemas.openxmlformats.org/officeDocument/2006/relationships/hyperlink" Target="http://www.meteorobs.org/showers.html" TargetMode="External"/><Relationship Id="rId6" Type="http://schemas.openxmlformats.org/officeDocument/2006/relationships/hyperlink" Target="http://www.amsmeteors.org/shower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/varros1_movie.gif" TargetMode="External"/><Relationship Id="rId2" Type="http://schemas.openxmlformats.org/officeDocument/2006/relationships/hyperlink" Target="http://www.spaceweather.com/meteors/images/18nov01_page3/Ponder1.M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_page3/cordiale1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Anderson1"/>
          <p:cNvPicPr/>
          <p:nvPr/>
        </p:nvPicPr>
        <p:blipFill>
          <a:blip r:embed="rId1"/>
          <a:srcRect l="0" t="43543" r="0" b="0"/>
          <a:stretch/>
        </p:blipFill>
        <p:spPr>
          <a:xfrm>
            <a:off x="2743200" y="380880"/>
            <a:ext cx="2743200" cy="19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Ryan1"/>
          <p:cNvPicPr/>
          <p:nvPr/>
        </p:nvPicPr>
        <p:blipFill>
          <a:blip r:embed="rId2"/>
          <a:srcRect l="0" t="15594" r="10657" b="0"/>
          <a:stretch/>
        </p:blipFill>
        <p:spPr>
          <a:xfrm>
            <a:off x="5791320" y="380880"/>
            <a:ext cx="3352680" cy="2291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Toth1"/>
          <p:cNvPicPr/>
          <p:nvPr/>
        </p:nvPicPr>
        <p:blipFill>
          <a:blip r:embed="rId3"/>
          <a:srcRect l="17828" t="25081" r="0" b="0"/>
          <a:stretch/>
        </p:blipFill>
        <p:spPr>
          <a:xfrm>
            <a:off x="0" y="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teors &amp; Meteor Show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varros2_strip_big"/>
          <p:cNvPicPr/>
          <p:nvPr/>
        </p:nvPicPr>
        <p:blipFill>
          <a:blip r:embed="rId4"/>
          <a:stretch/>
        </p:blipFill>
        <p:spPr>
          <a:xfrm>
            <a:off x="304920" y="32767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Welsh1"/>
          <p:cNvPicPr/>
          <p:nvPr/>
        </p:nvPicPr>
        <p:blipFill>
          <a:blip r:embed="rId5"/>
          <a:stretch/>
        </p:blipFill>
        <p:spPr>
          <a:xfrm>
            <a:off x="3886200" y="304812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2" descr="Larmay1"/>
          <p:cNvPicPr/>
          <p:nvPr/>
        </p:nvPicPr>
        <p:blipFill>
          <a:blip r:embed="rId1"/>
          <a:stretch/>
        </p:blipFill>
        <p:spPr>
          <a:xfrm>
            <a:off x="5448240" y="1514520"/>
            <a:ext cx="3695760" cy="511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amilton1"/>
          <p:cNvPicPr/>
          <p:nvPr/>
        </p:nvPicPr>
        <p:blipFill>
          <a:blip r:embed="rId2"/>
          <a:stretch/>
        </p:blipFill>
        <p:spPr>
          <a:xfrm>
            <a:off x="0" y="1143000"/>
            <a:ext cx="3228840" cy="525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t’s All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12" descr="Anderson1"/>
          <p:cNvPicPr/>
          <p:nvPr/>
        </p:nvPicPr>
        <p:blipFill>
          <a:blip r:embed="rId3"/>
          <a:stretch/>
        </p:blipFill>
        <p:spPr>
          <a:xfrm>
            <a:off x="2895480" y="1752480"/>
            <a:ext cx="2743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 Question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is major meteor shower has a peak time around early/mid Augu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Gemi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Le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ri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csep10.phys.utk.edu/astr161/lect/meteors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ky-watch.com/meteo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hometown.aol.com/theleonid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geocities.com/~starwanderer/meteor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http://www.meteorob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http://www.amsmeteor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if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id, Meteorite, Meteor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mall, solid body moving within the sola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lid remains of a meteor that falls to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F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s (meteoroids) are the debris associated with comets or astero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a given night (with favorable conditions), you can see 1 meteor every 15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reba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olid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fireballs that explode with a thunderous s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for yoursel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/varros1_movie.g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Fireb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paceweather.com/meteors/images/18nov01_page3/Ponder1.MP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Bo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 meteors have a streak of light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tripped atoms recapture electrons, light is emit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e all meteors the same color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dium = orange-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ron =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agnesium = blue-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lcium = 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licon =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adic Mete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meteors that can be seen on any given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not associated with any particular meteor sh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e from random direction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displays of meteors that recur from year to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r meteors’ come from the same general point in the sk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shower is the point in the sky from which the meteors appear 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Perseid shower = Pers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Leonid shower = L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Geminid shower = Ge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Meteor Shower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f the more impressive showers throughout a given year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ow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vg.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Quadrantids – early Janu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yrids – mid Ap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erseids – early/mid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rionids – mid/late Octo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eonids – mid Nov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Geminids – mid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* Historically, the Perseids in August &amp; the Leonids in November have been the most impressive meteor showers 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_page3/cordiale1.m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2:17:23Z</dcterms:created>
  <dc:creator>s1250620</dc:creator>
  <dc:description/>
  <dc:language>en-US</dc:language>
  <cp:lastModifiedBy>RomaK</cp:lastModifiedBy>
  <dcterms:modified xsi:type="dcterms:W3CDTF">2015-07-31T22:47:23Z</dcterms:modified>
  <cp:revision>37</cp:revision>
  <dc:subject/>
  <dc:title>Meteor Showers</dc:title>
</cp:coreProperties>
</file>