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B0E0-4CBE-4F50-A65E-00517A620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5EF-9024-47E1-8B6F-AD318244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235-4BDA-4186-9B1E-37E5D906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BA0C8-8E5F-4E87-B3E2-FA4ACB0F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41AE1-E379-41FE-ACE3-2B0C0B1E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A5854-09EF-444A-8347-741BF09F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CE99C-78B5-45AC-882F-A251713B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79F95-6D26-46A8-80D8-74947556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C4EB5-D541-4A30-8931-BEA7EB98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A67B8-22DB-4805-A42E-F6CECDB3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18C52-75D7-4547-9F93-41C0CA4D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A76C3-7FCF-4FD1-928C-4812A069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C45B9-6226-47F1-B93D-C325A897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836-B0DC-4000-A233-7F099376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51561-FD53-4692-8CD1-7A9B074F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E1890-BA78-4333-A1FB-8CAE0FBE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F5A81-ADB0-439B-8CE5-D34B5CFE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2E60A-FCE2-48FF-87EA-0D2F6BAD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42F4C-6B45-4BF9-8E6B-BE5F5834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95F24-37DF-4AB9-B93D-021F7959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9E724-B87E-4D57-AA0E-BFE4ADC7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EF34C-7D40-4B60-B513-E8229F01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305FE-4B40-4B57-9993-CD1298DF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6F1FA-4475-48BB-8052-B4D5FB86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0C3-E0DF-40AF-8B0D-A2409713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0572A-CC67-43E6-B116-63FD2E39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9CB75-750F-46D3-91A0-48DCA191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A1FF0-89A9-4614-A100-2BD76F7A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FDD0A-7264-4214-A7B1-FB93C9B5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E18A7-8E1A-4F89-9AE6-0B73573F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C9CB8-67B9-49B9-9FC4-787AB8E7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E5001-AE7D-4F87-B084-1815EE15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43419-F644-41AE-8454-EE2CDCDF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DC4AB-0A2F-4A01-A4D9-F5930182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09139-2BEE-4AD9-8DC3-703388F2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C28B-C2DC-40E3-A13E-0C874565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1665D-A8C5-4ADB-996F-9AF94D60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FABBC-15F6-4004-B4F4-82070876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17E81-D682-446B-B623-57F9488B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DFF68-E31E-4C4F-9102-3D51E493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0F9E1-F89E-4CD1-BF55-2B743573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29FF1-BEBC-47C1-8639-52B407E1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3612F-D18A-45A6-9FF4-ED007A3B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4390B-3AE2-4566-9DED-F9D11DFB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58031-7251-4B7D-8F79-E95095CA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27231-4044-4D05-B992-0BB79F7C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25A3-AB1C-4A11-8293-2A3635AA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D12CA-0363-4878-9A72-2DC52160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6A60A-7599-400F-873A-6AFB5B31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BD944-7EDF-4347-85A0-5B55D8E7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0C533-AD1F-4BF9-A795-C4A3277B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B738D-CDCB-4B4A-B3A7-6166E4FC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40881-491F-42C9-8CEE-BC00DE6F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50A29-929B-46C9-B57B-50F94330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C7319-F508-40E5-81CE-3CC31E73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656710-EA98-40DB-9EB3-E40DA6A7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388DC-E4AB-4706-91EC-8BAD60FA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46B7-D713-4979-924B-2684E2DE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C37C2-53B2-4FB6-8BA0-697DE6F9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228DD-E38E-4C61-852A-7F712E64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C9CB3-FC80-43B4-87D6-A6015B81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6C733-0A7C-43DD-8069-F3BD04AE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50750-5A7B-4323-B817-BE0D093F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0AB19-DDF5-4564-9A8C-7C64C98D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BACD4-846A-4D4A-B199-810383A6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027A7-3478-488B-9853-771C1716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A0245-3D90-419E-B077-31C40E6A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71001-EB34-43F6-A86F-B2218BDB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8481-1276-45C5-A40C-91EA7A01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3CC33-3F64-47C6-A42A-4A87EE07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B4BDDA-EC73-4D4A-85AC-4C9D5E8F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243AA-9205-497D-B68D-A966D74C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56FC8-F6EF-4A1B-8B75-D776F089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76634-37E4-41A1-9F12-BBC43BD6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7A95B-E663-4138-83A7-AC354A79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B474D-B2DD-4C85-BD35-4CECEBFA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39489A-E1B8-4649-B4D1-5361A0BB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66C6F-6B9C-4689-9626-41C6C1D7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250A8-0463-47D6-83CE-2F000DB2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582A-2184-46DB-AC75-F7C7CF7B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E2476-8461-4F38-AA83-A7905940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D225C-D916-455C-8291-37CA49AA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4D4F52-F013-4E25-B2EE-FF6A2409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F14FC7-0E12-47D0-A266-58CB22C7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93569A-AF8B-4DDD-9912-84DBE8A0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E5CDF-5AE2-4D97-AC74-EF8FA889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71BEE4-AFCE-4ED7-88F1-738CD8C2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86773F-B25D-4A27-9CB6-199DCA16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5B79FA-CA90-4799-A84C-C78DEA88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EE2A5A-69F6-4C12-A007-4F537332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167E-71BC-4686-BCE2-7ECBC220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F7C81-2CAE-4928-8171-D0C8DCB8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6547D5-00C0-420B-8310-8FD1E6DE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5FF68-F57C-4284-B93D-DF0F4458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FCD7F-A37D-4E0C-A697-C9F16AA2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1A182-FF36-40F7-B707-41081A3E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0BF1F2-8155-40AD-B8B5-D1679ED2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B83B0-5805-4194-A366-11173ABC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EF3C87-28A7-44C5-A47D-30A9ED76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C4DF5-B468-4027-B669-EE897B20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DCA43-5AEC-4097-B4F1-97982108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068B-FDE3-4948-BD03-9E746C54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1FEDD6-FD03-44C8-8D49-CBE7764E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021A9-4A8C-4C4E-AA7B-165386E5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117E6-F84D-4C49-B8E7-C8341C01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9DF284-D11F-4F75-8962-0F076D8E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2E9A7-F3C6-442C-9C27-EFB30A3B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63E22E-E79D-4CC5-A581-B6FA4216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16EA0D-7D05-4108-A4E2-C83B9B6F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A7003C-1757-4DB3-BE53-C3066FD8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FAC77B-127C-4844-A77F-0CEA1858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13E80-A139-4B68-8512-71CC33A3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218-B713-4FE6-98F7-AF773953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0F5B-BFC2-49CE-816B-E342526E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5717F2-194A-4729-A5BB-EBE6D44D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524DF4-3ECC-4A90-A1E7-5AA00A03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3E0809-9E7F-47C8-B9A6-97A91E5E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43106B-688F-47C7-A835-36F7D492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615B0-369C-4B32-A4EC-5EF1C924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8BC44E-FD1A-41FF-AB98-22BC4B32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906F81-5B2D-4FEB-ADE3-011F573A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C8EDA-DABF-489A-B32B-201FA8F6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BE6D9C-A835-4563-AD4F-373E36E5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20DBC1-7EDD-4396-9B46-BB0B985C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D84D-308E-428D-8AD5-3DD4F93A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035B8-E685-4994-AF6F-8F155E45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AC6349-2D45-44FD-A649-DEC74285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BF152B-A77D-4981-8D74-995D2211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099451-7CAD-4D1D-8358-13373DEF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6B5975-BC16-429A-BFC8-E39C3389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2B35C0-7C6B-48B3-B9BA-595CFABC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224964-C98D-4747-B25A-914F578D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A1A15-54BF-4F88-94A5-B8D40620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16543F-C4A4-47E3-99D1-ACACD3E1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3FBC2B-9ECC-40B1-A02E-41C110B1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5C6D-5631-419E-891C-93546B9F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D62529-BB95-4466-A4E7-B8ABC091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D34864-E6B0-4BFB-BB5C-5000DFF7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4781D1-3810-4B5B-BEC5-CE6D44BF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024EBA-8C86-45EB-BE16-A7E70697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42B653-B682-42BC-AAE4-1A44CEBA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20621-70A5-4138-BFCA-BFDFDCF3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F46313-637B-46D2-BD92-A087FB49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EABE4F-2A49-4611-8EFE-3C7970E5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22218-EE46-45DF-A49E-8881A5BD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FA6926-1650-431F-9703-F614832E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A6C8-B261-4F69-906D-DA108BD0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8096F8-BF77-4079-9B87-6F3F61DE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D9D0E9-962E-432B-AB8C-1F093F67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FB4665-4CE8-4EAD-850E-A890A232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F6DA97-8253-4A05-8B6D-3CCCE17E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AB84F0-D1A8-4777-A51B-43B89C09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EB24C1-A290-4C41-8554-132746E6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6999A2-A6B2-4E1B-8DAC-0EC9DA5A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DB1FC1-C504-478D-A506-3D8031F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A32320-A61A-4697-AEB5-49848BE3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B25460-5AEA-4E1E-8001-BB2D68D4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B7FE-724C-4939-ABB1-AF034D38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146DE8-A1EC-4FFC-A8D9-7138063F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8BDFDD-D247-4BB5-B294-7277726B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36D215-6FC5-4C91-BA2E-23ACF29B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B66B8C-C149-4FA2-8FB7-8960C852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58409E-3649-4CEF-8384-E7E0C526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E966EE-8FEF-494A-A389-075F0BF3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A9A42D-F27B-4C80-9D83-E9203524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1D967C-8686-4853-B1E5-C7D04F42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8B075E-F9FD-4F55-94A2-23EC8BB1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70500A-93F6-4E8B-9B62-61589BA8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E1918-AF30-434A-A3FC-D2113552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1F9BF8-C92D-4BDB-B2A0-4BBCE401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8D759D-90C6-4FC2-9A25-BB488634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9F5D8D-CFB1-4042-9AD7-20906C72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836F36-0071-4BC1-9840-1C4428F9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675AA4-2C57-4ADB-A742-9F87776C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14B218-A634-4FF5-A4D9-0A5CAE1A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B90DAB-41E7-42BC-817C-77C52DFD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EDB536-E26E-401C-8DED-767AE18C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337B0D-12AF-4B73-861F-A6223527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E3DFF7-06A9-4A96-9132-C8C04FA9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0B50-0EDE-45F8-92D1-2E9BB45F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562AD5-2320-465B-9AE3-46AF6D26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EA6F98-098C-44D2-B855-E2E16EC4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05BB51-D81F-4A48-AF71-EF3B8FEE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6AD2DF-329C-40E2-BE56-6D6C8F9C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1B2765-A585-4AA2-B588-C8B21AE8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7035A1-9583-4671-81A9-BA85148B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945CE8-BDE1-4EB7-BF6C-6EC2B59F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8ACA2A-970B-4957-9A6F-752B3196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3425A3-E595-4FC3-ADBB-BA08BE37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557138-CDFB-466B-A31B-25882700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1C8E-3323-4656-B3DB-064E7243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7CEA3D-216F-4014-B374-63CFCDF4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F7D2E8-D61F-4188-BECB-EAC825D8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FB686C-1941-47C4-B695-E37C202B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3E61B1-660B-4DEB-A17F-D376A609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32F868-9B87-46C1-9A8D-0203558F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1EC9AF-01FE-4488-82AF-D33D7A1E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8B5ECA-E56A-451E-8074-34BAE2EB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FEF45F-02AC-4010-8A6B-F8C18978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140773-7D91-460B-AC45-0790CFA2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968F63-0712-4DAA-AA80-1D255ED9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E8353-826F-4C34-B806-BCCE7ACA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7938FB-0C62-4AC6-B3DA-256B1CFA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71C14B-1D4F-4F10-AC0D-6173606B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3E2C77-A27B-4122-ACBE-26D9FDA6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77DBBB-59B8-45B6-81CF-291D1F12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701578-8640-4EFA-B6C9-87FB343A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A2FFEE-605D-41C4-B48D-FB319E65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05F5B6-8E74-4464-95D3-816F849D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BF4C40-6EF1-4F82-B8FC-8E51C3F0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E84EDE-064E-4CEB-97CF-D4A96A5C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F9EE7C-59F4-4FC4-920E-61ADA9D2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A767-6818-4597-B546-9706FDBE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80613F-5654-4B1E-823A-C946ADDD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8D9624-486D-4A47-A55F-93C1FAA4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8EDA00-E223-41D4-847C-470DD79F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B0C898-CF70-40D9-B3CB-0CC6098A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379889-276A-42F0-9610-93FE79E1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77744C-FBC4-4243-A454-143ADB2A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1A5492-44AD-4171-A481-E2AAEBAF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EFD15D-04A6-4543-B9DA-24793B30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DD3A1E-8B33-41C3-BED9-F9243C03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F6FECD-9E16-48AA-AF4D-73105B19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6962-D37A-445B-8F9F-11EE3B58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68A75-C9F1-4A88-85A0-D2AB5B73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0B387B-9B35-422D-A6CD-84D2B484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DE4185-4BB5-4DD6-AA1C-1DEBE605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3833D6-9AA1-4BDB-B2F6-F009A363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BBD74F-1809-43A4-B23B-8F5FE798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C9FB71-5083-4DFD-9D6E-5ECFAFE5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993650-2EA5-4E80-B164-334B9794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4AA598-2992-425C-A235-06EF5AE3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26C51B-CE7C-43BD-8E27-D391BB77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C2F90B-63FE-4D64-873B-ACD29F8A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1171A4-D926-4ED1-91DB-E1ED5284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7F45-5689-444C-B715-0EB4AF33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AE3D86-5015-4965-89F1-94D4AFB1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1FA819-58DA-4ACE-82AE-9D826B17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73DD3A-9EE9-4530-B42A-6E8BB82D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6D991F-9654-4D08-B97C-F7C72FDF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18CF52-B521-4ED9-864B-23F45E8C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448BA0-AE1B-40F5-90C6-C3DDAA23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FEFFAD-8A1D-4D61-953C-6C80C5DF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DDCDB3-D5B6-4A37-AFF1-737A8C4A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2E884B-BC96-45D8-A9FE-1B62D06D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95CFBD-F965-48BD-9370-5239CAAD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4C901-FED6-4A39-9286-1B634FFB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E5D816-B707-4D47-A6CC-B2965CEA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AAC363-63A2-47E7-A9A3-90352E94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30C3B0-5AAC-4928-8231-4E71AB81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840CA1-09FB-4B91-A031-DA455316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625D7A-29AA-4F7D-8AE3-F809E3C3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75BFBD-7968-4345-9578-CE8E4FBA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B42CF8-1597-4A0C-BDE8-3E78A6AF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FDF944-6895-49FC-AE92-7FF92200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58BB95-3C4B-4288-B8B1-3BD4C100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616F7F-81A2-4DB9-9B64-DB75AFCA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DDAA9-40FD-4EE5-9897-BF391CD8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6556F2-12E8-4E88-8912-804E1B60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677D01-759B-4C58-B978-E7F3306B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164102-513F-4356-B51B-0F5259AD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0AD7CA-B2E0-4137-8740-027506DF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9DC818-8B26-47BD-91C8-33AA32EC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63D209-E7CB-43A1-92A6-6E011854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F094A8-90D8-4D2B-AD52-6635B009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0A35720-3335-4E1C-BF0D-FC014F4F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7348183-B835-480C-BA11-5E900A60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A207196-9280-4E4E-B455-E6C68F31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4475A-2B00-4053-A190-640C05A4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67C4E1E-2792-4F2B-8243-9E851890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464536E-C63E-454F-945D-CC0ABC2A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B28C65A-FAA2-4BC8-A0F0-A83D44DF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03F0A90-3D26-469A-8582-5D80756C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4F7BAC4-F119-4AF2-BAAA-6C05B024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0EC7FC4-4279-4397-A8C2-FF4C0692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0C638A5-9ECE-4C3F-ACF0-3326C054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CE2CA5E-DEE4-458D-9BA9-BBDA3451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52DB580-05F6-45CD-B6CD-5CCBFC37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A0AB97-7A02-4267-8C29-F5006D0C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FE37D-67DA-4B94-AACC-27AF44CA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8D50C2-7251-4D64-9028-66ACD1A9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B63B6D-E501-443D-8A86-ECB407FE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28C528-557F-4512-97D4-7FFA0D0F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633A3A-3FBC-4666-9408-96FE91F5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7FD0D4-C3EE-43AA-BC45-4E05F39E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5DE506-3318-4AA8-9DC4-4E0D2F19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652611-1F2D-4BB0-93FF-F824746D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79F300-1C96-45B7-A87D-4F02EADC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CEB087-3A84-4971-9F40-7D445216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D1BCAC-6152-4789-8F79-45D67D1E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3CDCD-3374-46F6-B66D-8683F349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D74E72-4F20-44BF-9D3C-6EC082C0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540D03-E15E-4233-9FDA-DA3D33A8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1692E8-8A18-470E-B8FA-85CC479D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0885A5-63D4-4E58-92EF-C807E8C1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D3E148-264D-45CD-8217-295A7DA6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9853A5-96F8-4A87-9ACA-EB0AD865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236717-20A5-455F-84BB-0B47524B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5E2E29-9C4D-4901-B4F9-A2FAC7ED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7F3C12-AFCB-4891-B546-29D0B1A4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7F7FA2-BC66-42E5-A384-EBDC4C3D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F474C0-59E7-4A65-A940-37BE36A7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2713C2-D3CD-4F39-AD68-5F29B9E5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5A8023-D3BA-4B0D-94F6-80C71890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26F308-D2A1-41EA-9A78-63A2AE1A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70743A-F539-4A5B-A426-D26D059E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696704-4C1C-4A05-BA67-2B26DE21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9A4D3D-1110-47C6-8B41-DEA0AAC5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DE5732-E21C-4A1C-90A2-EDA1689A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367238-28A5-489A-9726-AFDF6DB2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CF98C0-94A7-4FA9-8EA7-0F02AF5A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D78380-AD42-43AE-A0A6-E8B4CA4D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94CA5A-C127-4B84-B3DC-7321F65B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72565D-97BF-48DD-AA39-F7ACDA7C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BFC5D9-F340-4354-9050-253E0A86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1F0589-0473-446C-BC76-34582AE5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D8CF73-1CBC-47B9-AA21-7C6604CB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634646-14F9-4624-B17A-FD6FA42D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EE6C26-4968-442F-AB00-E6F129D8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54FF96-D1DE-4D60-9010-D539CBDA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B7ACA6-002C-4179-B291-962EB071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C7D2A9-2F50-4290-A5BD-0925E8EE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747FBEE-ECF7-4262-981A-739751A8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F294E-78CB-4F03-AAAA-FFC6D2E5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660188-C5EB-406E-B572-B8D96A12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A7DC4C7-FA57-4E0B-B947-2C49D669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DA3F50-FAD3-4318-8BB2-73DD9234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1148A1-CF79-4799-926A-4E4D85C8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B73A87-BC36-4178-AEEC-E4BE845A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9D4BB2-AD67-4B0F-9B29-98392F69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7242ED-932E-4252-BDE1-26F4AEF8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61A35C-0AC6-4BF5-9A1F-D746ECB4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916C45-E014-478F-AEDB-0B0D9E22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377082-D130-4EDE-AD50-CF2DFB68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9AB-34C0-4741-BEEB-C0C6413C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88D751-86C5-488E-B91E-526D9F18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BCAC43-47F8-4C6F-9F5B-0155F972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A1645F-0014-4F62-AE34-2C1F0CA4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9A1EE6-8297-4445-B07C-7CF36863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C69229-EA47-4763-B48E-23F2B5DD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28D4A1-4E95-498F-90EC-DC5C63A8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B340FA-DD99-468E-A3D8-6CBAE0B0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794055-02E9-4E77-9C42-1F55B603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FE3DF7-AD89-4F3F-847E-CF88B044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801E43-A14C-4E91-8FC5-C5FFFBEF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C210444-CA06-41C9-B8F8-150719B3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82CF0B-CD5A-4843-8A40-77DB9D4B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E3903CD-7431-4D12-A13F-C85020BE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54FFEB6-D788-4F0E-8350-053EA0EE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8B4B252-A2EF-4555-9C61-68629828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DF139D3-240A-4E05-9141-7E4EA170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CD3AC9B-8EFD-4682-95E2-2A62588D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30FCB25-978E-405C-A005-20592A4A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EC8790A-85C0-4CEF-A2B7-6E269A4D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8935C01-EABE-4BE0-BE66-0291C044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C1FFDBF-C255-4E0F-AD68-C2C40489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4089BF5-9CF3-45A1-91DC-2C76A7F2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C5CDF3-3586-4913-B6E2-772DC19B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59309E3-066A-41E2-AFCF-240C4F74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FEA89A-5372-4F2E-817D-21A5C8DB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15BA9E-CC31-4D4E-A781-552FEACC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9B2B68-21C5-45EE-AD4F-1FB48714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4414D2-F15F-4867-9CA9-73F3C879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4DFA5C-9820-4A14-82DC-55956956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17EB18-A303-48D8-85EC-200414F2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86B3B9-D2DE-4E2A-A882-359ED50F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7EFD49-A2E4-4770-AC0C-5AA8E70C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829782-E23A-4DE8-8972-D6F54B76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14CD2-0451-4909-A027-2B290A0A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17AF9F-6E1B-4290-A1BD-C0B25BB2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A146DC-896A-47E3-BA6C-FA92E2CE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105D2C-E28D-4023-A19C-BF151F12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6E4F1BE-EF2C-4DF5-8FAD-0F5AF729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340D70-61B0-4AF5-8455-9825CFA8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BCF42FA-B738-4517-8C85-862EDE0D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ABC167-2807-4B69-AC0C-9542C2A9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CBEB45F-F812-418B-AE05-42EBC24F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8DBA9B3-A7DF-4944-8545-ADA6803D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3FF6971-802D-4FC1-9B00-731AE0A1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633C7B-6A2C-47B7-9ECB-2A5E12F7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D061BE8-CB08-4B66-AAD7-6C2B58B0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A99B0C-5247-49D3-8BAB-8DB2AB78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CD1205-3941-42C8-BDD5-D0E175FD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1DB27C6-FC42-4290-A61A-CDA1195B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102E9DF-3E46-4E12-BE35-AFCF677C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6FB899-A8ED-4B22-8110-1382D79D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C11D7C-E3CF-48EA-B350-524B5204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339741-1F4B-411D-A30D-E872884C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B561AD2-9162-4A7B-B07E-830CFA67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B8CFBB-C408-47A0-9988-F1F2EF89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BB80E-65DD-4677-B7D1-FCDD90DF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A8B2C70-9686-4887-B84E-3CF648D9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6D00984-CC2B-43DE-9A2E-D545AC70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417B3AD-C9A3-49F5-B458-47D683E8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2C69AF4-6D99-45E6-B94C-19071DE5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6E135B-8FF0-4872-A4FE-09050111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DCE106B-A2A7-466B-AB9B-A4332C68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8FD416-9404-4AD6-8479-C274B6F3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EF2B025-BDE6-45A3-B461-220B2BAC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FC42EC6-9AC6-4CD1-9B4E-703CCEB3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5B8BE32-5BFF-4011-9D83-7DAAEEB0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29E78A-E8B4-4772-80DF-883E81DF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4E8E65-1CFF-4910-9382-6FBED79E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A59E9BC-BE1A-4753-8B0F-0E5D2500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EF2B1BC-7208-4FF5-9E18-05E48FEC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C96FC54-72AA-4D07-9524-965C1798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51B6EC3-F2D2-45F8-BE93-B6A45B3D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6273AC-8768-442C-A878-2148BB03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907FDCD-A6D9-4172-90B9-C439608C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8A3F76D-1D15-4EE4-A3F3-95D5299F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105C11F-22E2-48BA-A67E-6304C727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53B8A51-69C2-41B0-9FAF-2DE39A4D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8147F2-CD2D-44D4-B317-69666783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232792D-9ED5-472E-9ADB-760C53A9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76F92C6-D1F3-4B60-9A1D-AFA7DA3B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990C497-BA14-4C85-BA7F-7F71B83F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BB94200-5D06-4F0D-9A56-2B087662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481C234-9F3B-4F65-A83C-C5121DA3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6C4F35-2327-4E25-89FF-960472F3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B8E8170-5D23-4568-8F84-6C41D853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2B72F5B-3540-4EA6-84CF-E821674A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CBE514B-F369-4407-AED4-2F726F1D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6100B0C-9A75-4C5D-8322-0D35ADB7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1E1FB-4882-456F-AF31-3583DBF2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55E294-A3FC-4DA9-BE0D-C9810C4E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BF8D9C0-7D31-49E1-BCDA-B819E316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86C8811-2272-4EF1-B645-3E7A90C0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82C0757-4554-41E1-83D8-4337A769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CB9D92-9429-46A2-9567-94010E3E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9E80F28-94CB-4BB2-9811-26C47358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D053285-BAD3-4EDE-9D27-732433F9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A081F4A-1C87-45CB-A341-A0E67718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618064E-E292-4E73-ADB5-73441EC7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78CC08F-03C6-47F2-A90A-04E2CCA8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BFB1E-371B-423A-959D-666CE47A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F375711-9CDA-4F5A-9A2C-038319A1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1B63BA0-4328-4275-9CDF-85FA4658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8C7C87-E695-4200-950A-96FE1585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4E709E5-78E8-49F1-8457-F5578B04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48CB8B-C0D3-40CD-B8E5-5B020776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DBF2762-840F-4F6A-B77E-990DF7E3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6FEF40D-36A8-49F6-A674-0292A638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E56CAF1-ECA0-4E2A-B9EF-D199C223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2674E2F-B789-4CDF-AA85-BA123FC0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D4D420B-EF60-470D-A015-F767F933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44A-11BA-468C-BFA3-319DE199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3E0AD-B42F-4462-8AF8-2A6C166A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1C3C0E7-4EC2-4882-8C98-52347578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FEDCE8F-A014-4228-ABB0-43D065C2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A65F472-AA4B-457C-9778-668517B9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CDB5948-4EE4-49C5-8303-42E316A1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F2FEB15-6B5F-40BA-A6B0-AF33A316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7AE6D0C-0D41-443A-B830-B60D2DDE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EF8CB79-4467-4F68-BCDD-063BA8DE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2271D4C-A131-42A1-94D3-1B923E77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CB7E69D-0337-4FC8-98A1-20CD5112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4BFFEF1-AEFF-4BA9-83B7-AB5C715B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56A9B-3D82-4FFD-B2F7-C172A1A7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BB8E440-B6F2-4725-95D4-2E48E1EF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B8FA104-4339-408D-AD27-780D8743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A03C24B-8337-4866-9498-0FE5D0AE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D6864B6-4659-4B5C-B27A-4B674F53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44D09DC-C7C4-4234-815E-9931FEEF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B8558A-1FCE-400F-8908-C4594AF1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3BC03C7-A234-4D21-8336-530BADF0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94F2F75-D076-4736-A663-2C6D2DFA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C17DA5D-DB2C-4953-B5F2-00C570BC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33E6E78-B3A9-4AAF-8B38-F70AE057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E84A9-33B2-48C8-A4CB-C9A4CD0C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870778F-042D-4F6C-9E5E-9C0B84E3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06E9979-C73E-4BA9-921B-91A2147B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736836F-A7BB-4E5C-A3DE-550FD799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982211-A2D8-4289-81F4-E08D8EBA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767B2A5-B51C-40C4-BC61-EFCA4C7B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043C72C-D2DC-4B0A-AF56-F1D32867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C8D17A3-C967-479F-910C-58DB3D69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D349669-76A8-4C36-BB36-4F3801FC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4B02743-F61D-407C-8D1F-9DB1C19D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EBA90BD-3CFB-48D7-A275-A52485C8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893F-8AB2-4C18-9AC7-04A6307D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458BE6A-234A-49B5-A3E9-AFBCF3F0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F8688F3-72B8-4BFF-8D11-12F8B108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1F37455-0FCB-4B09-A882-D5E19779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00EEBAA-2564-467F-9605-E3EA1D7F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569E853-B85A-4C7E-9DD0-7D69D690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0439B15-9A8E-4A48-85DE-4403EE05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693865B-C127-4465-9EB3-EEED8471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6B942C6-A1C7-4B00-8830-7EC3E900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7F53B69-28DB-4E71-B8A9-28AACD1D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11664B3-8611-497F-9D3E-EA024D48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657A8-1D3F-475E-96E5-BA0D0619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ECBAE17-DE75-4CCD-888D-A6B7F34C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9A63570-C53D-4F48-8940-8387060C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DAF6073-6A78-4DC7-8D4D-97362F67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D81AAAF-C6EF-44CC-905A-6045E58C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31B27DE-C8B6-477A-BE3A-592CFE79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B36638B-76CF-4C8F-AB05-EF0738AC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8ED20A9-EBB8-42B0-9AA5-7424A531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809AFA0-6727-4E0F-B84A-56589D7F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7152D96-7989-41E3-9B57-EB93E40E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E2ADECD-173A-4702-8ADB-4DB2B265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1D8CC-7AC7-4269-A36E-E4810600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50B4E8E-76AC-4839-9D75-4EF26AA0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D88F707-D5F2-4B35-B789-1150E885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E64C364-9E92-4F63-8E86-C3C1A03E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7B1DCC6-030C-48E6-B01A-DC1D34C9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9FF710C-5425-44F7-A679-F621B274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4ABAA6D-4727-4BA5-847D-BA818C48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0EDD3DE-09B3-4723-95D4-E429F967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C8B5F2B-751F-4A0E-AD3A-E5B40050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877FCB9-4E37-4065-87D7-F5104F1B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0B99DF4-103D-47D2-A904-C51FD422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C38B8-D673-4FA7-BC6C-0DBF9286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9522EBE-1364-4031-BBF1-AA1C1993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B2598D3-59D0-4846-947A-D1762214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C1975AC-A773-484E-BF98-D9EC95FA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12D2C99-7F1D-4D28-B4E7-B6D6184E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EFF13AF-3ADF-4882-8BEE-DED3E1A9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1F46891-AFF3-410D-B2D5-E6760A96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7F2442B-F16C-42EE-880A-A05CE9E0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DCB49BD-38BE-47D1-A055-075E4DA0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7335B0F-EFF6-4BD2-94F0-D8DFABC6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F9DF8F-A632-4A9C-9BA4-68975BB6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14B0C-A6FF-4BA6-94F3-A1F606D5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5D46917-E97F-4A12-BBAF-7DAA0475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14E8DD5-9043-4A33-9D8A-89E5E988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6E96FB1-41BE-45EE-9D75-16A0F14B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F6A9585-5616-4071-B9EF-3EA00F51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6F30A3B-3CE2-44D3-8E90-D749DDFC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E69E3D5-9BAB-4655-A83B-7C2673EB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DFAE820-A11A-4470-AAED-9E47013A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3DFE585-8C51-4EAD-B2CA-B3F0A6FB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CDA7FB7-BDCF-461E-998C-213E4510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3BF5F87-36FF-490B-8D73-DC26EDE4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8DD59-2CA5-4729-82BC-834971C6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E5AFC39-2CD1-4F78-ADF7-B018740E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89BE743-DB25-410E-B032-7FB68671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F998C99-7F5E-45DE-AD70-5069C376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1D26211-4DAA-44CC-90EC-3B1E5F7A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FFB565C-7ABB-4540-9DE3-0F25C3CF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BC08A44-A46B-48F2-B3D0-317459A5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E338F6E-504D-4A04-A6DE-3561D42A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1051C26-41EE-4925-A7BE-946781D7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127D06D-83EF-474E-B142-8BB560A1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ADD6C4F-9B5A-4BEE-9F3E-0BEA4304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7C74B-5FAA-4160-8CA7-13003AC0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8152204-EF42-4458-A590-23A003DC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4BCBFAB-8EAE-42E2-9D9A-C1BC645A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15534ED-0049-433D-B3B5-6550B01B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DEAA727-E3A4-48E7-AEE6-C33E34DB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802A2DB-5B2A-4734-B3B7-5E6C70E1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BEA60B8-9F51-4400-B08D-A81CD7F8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88E15BE-90C4-42F3-AD78-36CDF139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A0C1687-BF10-49C1-8A54-68D9D5E4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136F7FE-F838-4F5E-9852-D00795EC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E38E47C-1403-4510-996C-41851018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6FC-586D-4977-9F76-62E4261A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D06BD-F1E5-4E57-8C2E-0FFFEC80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4BE653B-29FB-4D8A-8EA2-2ADB12D9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4C4F215-46BE-4689-914D-F8194547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133C8DB-9FD9-4261-AE3E-761AEC7A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EE372F4-9BA9-4C1B-98C1-D1837356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B715B8B-776B-4D6F-8426-A7BE70F9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953514E-F67B-4728-95BC-28F9D427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5B2D714-388C-479C-96F1-A8D17527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EFF1260-1BE0-4B54-8E48-48390A35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222918C-DA03-4F75-8292-A6B6212A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CAA3A87-FBB6-4FEB-BF88-213C24D8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6AE35-A48A-4245-9061-CFC2DFCF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58F957A-D7FD-4FC7-A61F-D708AA45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6C98A15-3A22-4A1D-9422-CDF37F17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8B4D793-B82F-4156-AD78-7E1B47D5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F864377-B43E-4CD4-A513-F0071CBE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C307021-3322-4051-92E8-BBC1579A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429C2AB-6AD7-454E-AB21-83CE3570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8B18BB7-5706-4931-B16C-B8A39496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C40E4C3-C15F-403D-9CFA-645A6D2F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4D9EE80-1C9A-42AF-9757-84CAEF91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C051C7D-9033-461B-A1B2-4DF8F6AB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D6EEE-CB3A-444A-89B5-1D37FE38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B6CE9C-9088-4BC1-9879-A03D1D4E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9ADDF4B-24CA-4ECF-BD3F-F3FB1783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0025DA5-457E-4C9B-9279-1ECC9E5D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75C91D8-87DD-4A68-9D8D-C47F12FB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FCC25C-8E80-4C29-9709-257E12A9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C964D8D-354A-4964-B383-018F792B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4EA3F6C-0DCE-46D6-B9EC-BB79E831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1D7D965-F49B-423D-99D8-CD9028A7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0F820D1-EC16-4BC4-BFEB-1F62D173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FB562C9-405F-40E0-AF42-FEC21D32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1CD27-08F7-4B12-ADD3-D9041CD9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1F608A3-2B63-4A39-B236-27327CB2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8C64323-8EA3-4103-91CC-4214C840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5267C79-C74C-4B74-83E3-13F94D08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85BB416-B083-4F6B-A2A1-65FA3DC2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56D1248-978B-4197-B622-53283E7C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118DAE0-7F68-40AE-BDAC-8277BBBB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EEC8844-2488-4D82-B53D-4C054030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70ED4AA-546E-4910-9E1A-DCFECD44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662B1EB-31F0-4D55-BF17-56517325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E2B30B7-9717-4777-B04C-37DC05A3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59D37-C1F0-4B86-947A-971A0007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D445B12-FE3A-477B-A43F-EAB85FC5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830FA41-794D-464D-B47B-20D8F7B3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C51DBE8-0D23-4C3D-AE07-1E61F356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6F709A4-17FD-4A57-880B-0E9BF304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2C7FEAE-F557-492F-8AB2-C17B5038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EC4FD33-B59F-49F6-93BF-A5841DFE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80A1D6D-28FC-4C1B-9756-678C7570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961AD5A-AD8D-49E5-829E-BDEB84DE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0E08D3F-C0D4-4A0B-AD44-2D230F71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3346B43-08C2-4F4D-AFD4-961B7BFD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94366-2D77-4153-8085-38FD1EFB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FAD9103-D1E3-41A3-9A08-CAACE38D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3893EF6-BF39-433A-956D-107340A4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9611495-82BB-483D-9E97-AAC8094D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C90DE80-A984-401B-A5AE-3D74EF97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88A1CD6-C90D-42AC-A28B-2D6495CB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C306753-7BD7-4D25-8817-D0182296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3264F64-D2AA-4869-AD8B-74F552B1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37AEB33-E2FA-429A-AEC0-9B1F6082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EFEBF94-BDC2-4433-B3DC-3263F712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921642A-F469-4B17-908B-45491CDF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A6E5E-B5ED-4718-B449-741143EB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8556744-BCB0-4ED5-BA0A-E9A862BE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52E3A6B-D0EF-45A2-89E1-5072F88B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ADE420C-3CFC-447D-B3DE-17689537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CD81520-E1D7-4690-AB02-3ED6C13C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867157A-18E7-4592-87D7-6548900A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1C80712-312D-435B-8A0D-C421C5EB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7796EA4-BD9F-4E78-B772-E7D211FE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DBF44ED-C98A-4D64-B872-DF20065C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6F25873-C52F-47B5-A713-F973151C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13CE02C-900D-46BF-9A1B-21B814CC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5F2E3-C805-4AD8-9465-5411C283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DF6DE22-5B84-40C0-B36A-E9112D90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EC403C2-01F4-447C-BCC1-9560A8E8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74AC0D9-DE5C-43BB-87A7-1EB4A85F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93AD2CE-8026-471A-B84B-A9F40F26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940A74E-199E-4720-AEA2-A79B0433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3B3257A-E048-4E97-99B5-A11EB889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0263723-65CC-47A6-915E-9D1411C3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A818294-56C9-4811-B094-CF4C01BE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90416C4-BEC1-4573-A9A1-F85EADAF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BBF6458-3C4E-42F8-B9FC-0DA99979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7C1B2-BB0E-4328-9E91-6276AE11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B6F5086-E094-4433-93B1-96E15F8A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D792F8F-48AC-41A3-94D5-D8B22922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FCAB89B-9FBD-4032-A93E-CF9B2884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C4AE933-B777-4BDE-9FEA-154E5871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85B9584-C5E3-4434-AC80-ACA6A4E3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5B06F-17DF-459E-869A-98DF85BC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767-4AA9-4D65-A0A9-94AA00BD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29F6C-BE00-495C-848A-C675C814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0059A-20C8-4D2C-9C85-F9306046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3904D-B1DF-4CFA-9D92-4BD3AEAB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3EE1F8-E52E-43F7-9B4B-97A040EA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98104-8DB7-4C44-849E-DC7B632F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BAB480-0478-4229-986C-37119143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A976FA-DF46-4107-B4B4-36723E1F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8E67A6-6E0B-458D-9A5E-BE5D4005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36A9BF-3033-4B94-B5B5-48EA933F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39C5F-9FCE-4398-95F0-A3854C45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9F4-79B2-4958-A3C3-FD565C31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4B95CF-8CA8-4D07-A070-0E7B4035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5F1995-147B-4352-A4A0-0E063BBB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804BE-8890-49D2-90E2-0C47B359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7671B6-A02C-40E4-9C05-5EDB2C75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10D83-FD36-4254-852E-BA1DAB3B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F6576-32F6-49F8-A133-BE6FA867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BE6C9-7689-4E45-ACA6-129E06B9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4B834-1166-410E-9F6F-27687BA2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DC411-F682-4DF4-B105-BE35DFE3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EDF97-A55C-4685-8C86-934991B7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525-4557-4ABB-94E3-C6BD63E2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E7A48-CD82-46D5-8EBD-F05DEDCC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EF825-4816-4E98-ADD3-8C82430B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E0DB0-7A96-4918-9841-083FE6F3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F9447-F384-4C18-9852-B88590BE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A052D-A202-450F-8A8A-8A32A29B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234CA-95C1-4388-9E27-A10A91C5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0708A-CBF5-4992-A480-2107ABB2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36A74-C54F-438B-974E-63F93299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55349-643C-4851-9B46-0996458B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0B823-CF5B-4C2C-98FC-878A552A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2837-EDCD-4FEA-A694-99E771F117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AA88-0AE9-4BD0-8B60-B36FF3D78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AFE8-893E-44D0-B3A3-143A80D2D5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6203-6F17-417D-9E44-7C67FDD4C9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D088-0998-4332-B513-1676E0C6921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4E5F-6823-4870-B9C3-5E7A094FBCE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A745-3E32-46ED-A928-E0C8A8D29C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5B33-344B-424C-A505-AD139420C2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8B30-28F0-44A4-8B49-AA11E73AD7A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999E-E9E7-4B9C-BB04-BF37584242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E848-76DD-4C63-831E-D68BBA16BA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54C3-B275-4DFF-9677-5CF28B2BE8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BDCE-6EAB-4CE3-AD69-349FF18D2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740D-A151-4904-8F5D-7ED2BE21DD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CBFD-0A93-4F33-8529-5D435F352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564A-457A-4C05-AC44-ED6304363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7F04-0A55-4DCA-9883-B1C43CC9EF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5763-20A2-4813-A08D-7DF8B0156B9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0278-0EDB-43C7-9D7B-D3B63F4420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01CB-A0AF-4E58-AF2E-3D84F95DED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8D6A-7FCD-4F86-8AFC-C88696C480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03AB-7B48-42F4-A9B3-3B1C10BCB0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F75B-DD36-46FC-BD7E-477560E159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F25A-C069-4D5D-B044-4584EA7231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CD54-48E4-4215-9B20-6D452628C2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4DF2-8661-43BB-AEFB-7B92F842F7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2264-DD86-4658-A8FA-3D3718FB4D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A6ED-BC34-4B93-93FD-6B4EC13B4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18FB-7440-491A-A2E7-F7F1A54365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FD55-3361-447A-84CA-8A2D83DDA8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84A3-E7B6-48FE-A225-971F5D25F5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F53D-B03C-4D0E-A755-E0ACCD181C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E6A5-6C28-4524-A978-988BEA50D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79E4-B7E2-4493-896B-A41A52FC3B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2CAF-3C6C-46CC-A439-560658A153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F78B-6F60-4661-A8FE-BEAAF14BD70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DD27-2294-4A22-BAEC-4AFC0BE6A9A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B5E4-CDCC-4F48-9ADC-0D56F8A6C0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1F4D-99A9-49F7-B605-D9802B0A8E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9C3C-BADA-4B2C-B0E7-167C418D9D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76A6-1552-4750-B599-31D72D9C76E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A872-0546-4F0C-BADC-812523EFAC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FB3D-4640-4B45-9379-946D82251ED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87A8-ECC4-4D9E-8AAA-69765EC92C9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EFEA-5E40-43FA-B398-23DCA0E8E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41B3-925B-4DE4-A3F4-75FBAFF09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9F19-6844-4DBE-8274-92C2D7DFF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ABA8-908F-4566-BA88-8A372D7946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9095-8CB9-4E2C-99A7-CFCC5E9DC4A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D080-154C-4981-B4FB-495AA2A555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2CD9-0290-4999-A3BA-649A323510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EA17-C91C-401D-86F2-76709BD051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8C26-F48B-490E-A425-16AA7849BE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972B-0993-43B0-AD63-A960DDD81D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F5AB-9BE5-40BE-9293-13795FF319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684E-1BCB-4814-8AF5-97BA124E07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A67A-B540-4343-BE90-BCC393D898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  <p:sp>
        <p:nvSpPr>
          <p:cNvPr id="33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3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4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3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4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  <p:sp>
        <p:nvSpPr>
          <p:cNvPr id="339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97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1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2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4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  <p:sp>
        <p:nvSpPr>
          <p:cNvPr id="34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9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0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  <p:sp>
        <p:nvSpPr>
          <p:cNvPr id="3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2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  <p:sp>
        <p:nvSpPr>
          <p:cNvPr id="3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  <p:sp>
        <p:nvSpPr>
          <p:cNvPr id="34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9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0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3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2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  <p:sp>
        <p:nvSpPr>
          <p:cNvPr id="34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  <p:sp>
        <p:nvSpPr>
          <p:cNvPr id="34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0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4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5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6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8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  <p:sp>
        <p:nvSpPr>
          <p:cNvPr id="34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3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4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34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6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  <p:sp>
        <p:nvSpPr>
          <p:cNvPr id="3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8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9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0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sp>
        <p:nvSpPr>
          <p:cNvPr id="3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2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3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4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  <p:sp>
        <p:nvSpPr>
          <p:cNvPr id="34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  <p:sp>
        <p:nvSpPr>
          <p:cNvPr id="3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  <p:sp>
        <p:nvSpPr>
          <p:cNvPr id="3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9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  <p:sp>
        <p:nvSpPr>
          <p:cNvPr id="3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LEGION</cp:lastModifiedBy>
  <dcterms:modified xsi:type="dcterms:W3CDTF">2017-07-03T12:49:43Z</dcterms:modified>
  <cp:revision>8</cp:revision>
  <dc:subject/>
  <dc:title>Presidents of the Phillipines</dc:title>
</cp:coreProperties>
</file>