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5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</p:sldMasterIdLst>
  <p:notesMasterIdLst>
    <p:notesMasterId r:id="rId59"/>
  </p:notesMasterIdLst>
  <p:sldIdLst>
    <p:sldId id="256" r:id="rId60"/>
    <p:sldId id="257" r:id="rId61"/>
    <p:sldId id="258" r:id="rId62"/>
    <p:sldId id="259" r:id="rId63"/>
    <p:sldId id="260" r:id="rId64"/>
    <p:sldId id="261" r:id="rId65"/>
    <p:sldId id="262" r:id="rId66"/>
    <p:sldId id="263" r:id="rId67"/>
    <p:sldId id="264" r:id="rId68"/>
    <p:sldId id="265" r:id="rId69"/>
    <p:sldId id="266" r:id="rId70"/>
    <p:sldId id="267" r:id="rId71"/>
    <p:sldId id="268" r:id="rId72"/>
    <p:sldId id="269" r:id="rId73"/>
    <p:sldId id="270" r:id="rId74"/>
    <p:sldId id="271" r:id="rId75"/>
    <p:sldId id="272" r:id="rId76"/>
    <p:sldId id="273" r:id="rId77"/>
    <p:sldId id="274" r:id="rId78"/>
    <p:sldId id="275" r:id="rId79"/>
    <p:sldId id="276" r:id="rId80"/>
    <p:sldId id="277" r:id="rId81"/>
    <p:sldId id="278" r:id="rId82"/>
    <p:sldId id="279" r:id="rId83"/>
    <p:sldId id="280" r:id="rId84"/>
    <p:sldId id="281" r:id="rId85"/>
    <p:sldId id="282" r:id="rId86"/>
    <p:sldId id="283" r:id="rId87"/>
    <p:sldId id="284" r:id="rId88"/>
    <p:sldId id="285" r:id="rId89"/>
    <p:sldId id="286" r:id="rId90"/>
    <p:sldId id="287" r:id="rId91"/>
    <p:sldId id="288" r:id="rId92"/>
    <p:sldId id="289" r:id="rId93"/>
    <p:sldId id="290" r:id="rId94"/>
    <p:sldId id="291" r:id="rId95"/>
    <p:sldId id="292" r:id="rId96"/>
    <p:sldId id="293" r:id="rId97"/>
    <p:sldId id="294" r:id="rId98"/>
    <p:sldId id="295" r:id="rId99"/>
    <p:sldId id="296" r:id="rId100"/>
    <p:sldId id="297" r:id="rId101"/>
    <p:sldId id="298" r:id="rId10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notesMaster" Target="notesMasters/notesMaster1.xml"/><Relationship Id="rId60" Type="http://schemas.openxmlformats.org/officeDocument/2006/relationships/slide" Target="slides/slide1.xml"/><Relationship Id="rId61" Type="http://schemas.openxmlformats.org/officeDocument/2006/relationships/slide" Target="slides/slide2.xml"/><Relationship Id="rId62" Type="http://schemas.openxmlformats.org/officeDocument/2006/relationships/slide" Target="slides/slide3.xml"/><Relationship Id="rId63" Type="http://schemas.openxmlformats.org/officeDocument/2006/relationships/slide" Target="slides/slide4.xml"/><Relationship Id="rId64" Type="http://schemas.openxmlformats.org/officeDocument/2006/relationships/slide" Target="slides/slide5.xml"/><Relationship Id="rId65" Type="http://schemas.openxmlformats.org/officeDocument/2006/relationships/slide" Target="slides/slide6.xml"/><Relationship Id="rId66" Type="http://schemas.openxmlformats.org/officeDocument/2006/relationships/slide" Target="slides/slide7.xml"/><Relationship Id="rId67" Type="http://schemas.openxmlformats.org/officeDocument/2006/relationships/slide" Target="slides/slide8.xml"/><Relationship Id="rId68" Type="http://schemas.openxmlformats.org/officeDocument/2006/relationships/slide" Target="slides/slide9.xml"/><Relationship Id="rId69" Type="http://schemas.openxmlformats.org/officeDocument/2006/relationships/slide" Target="slides/slide10.xml"/><Relationship Id="rId70" Type="http://schemas.openxmlformats.org/officeDocument/2006/relationships/slide" Target="slides/slide11.xml"/><Relationship Id="rId71" Type="http://schemas.openxmlformats.org/officeDocument/2006/relationships/slide" Target="slides/slide12.xml"/><Relationship Id="rId72" Type="http://schemas.openxmlformats.org/officeDocument/2006/relationships/slide" Target="slides/slide13.xml"/><Relationship Id="rId73" Type="http://schemas.openxmlformats.org/officeDocument/2006/relationships/slide" Target="slides/slide14.xml"/><Relationship Id="rId74" Type="http://schemas.openxmlformats.org/officeDocument/2006/relationships/slide" Target="slides/slide15.xml"/><Relationship Id="rId75" Type="http://schemas.openxmlformats.org/officeDocument/2006/relationships/slide" Target="slides/slide16.xml"/><Relationship Id="rId76" Type="http://schemas.openxmlformats.org/officeDocument/2006/relationships/slide" Target="slides/slide17.xml"/><Relationship Id="rId77" Type="http://schemas.openxmlformats.org/officeDocument/2006/relationships/slide" Target="slides/slide18.xml"/><Relationship Id="rId78" Type="http://schemas.openxmlformats.org/officeDocument/2006/relationships/slide" Target="slides/slide19.xml"/><Relationship Id="rId79" Type="http://schemas.openxmlformats.org/officeDocument/2006/relationships/slide" Target="slides/slide20.xml"/><Relationship Id="rId80" Type="http://schemas.openxmlformats.org/officeDocument/2006/relationships/slide" Target="slides/slide21.xml"/><Relationship Id="rId81" Type="http://schemas.openxmlformats.org/officeDocument/2006/relationships/slide" Target="slides/slide22.xml"/><Relationship Id="rId82" Type="http://schemas.openxmlformats.org/officeDocument/2006/relationships/slide" Target="slides/slide23.xml"/><Relationship Id="rId83" Type="http://schemas.openxmlformats.org/officeDocument/2006/relationships/slide" Target="slides/slide24.xml"/><Relationship Id="rId84" Type="http://schemas.openxmlformats.org/officeDocument/2006/relationships/slide" Target="slides/slide25.xml"/><Relationship Id="rId85" Type="http://schemas.openxmlformats.org/officeDocument/2006/relationships/slide" Target="slides/slide26.xml"/><Relationship Id="rId86" Type="http://schemas.openxmlformats.org/officeDocument/2006/relationships/slide" Target="slides/slide27.xml"/><Relationship Id="rId87" Type="http://schemas.openxmlformats.org/officeDocument/2006/relationships/slide" Target="slides/slide28.xml"/><Relationship Id="rId88" Type="http://schemas.openxmlformats.org/officeDocument/2006/relationships/slide" Target="slides/slide29.xml"/><Relationship Id="rId89" Type="http://schemas.openxmlformats.org/officeDocument/2006/relationships/slide" Target="slides/slide30.xml"/><Relationship Id="rId90" Type="http://schemas.openxmlformats.org/officeDocument/2006/relationships/slide" Target="slides/slide31.xml"/><Relationship Id="rId91" Type="http://schemas.openxmlformats.org/officeDocument/2006/relationships/slide" Target="slides/slide32.xml"/><Relationship Id="rId92" Type="http://schemas.openxmlformats.org/officeDocument/2006/relationships/slide" Target="slides/slide33.xml"/><Relationship Id="rId93" Type="http://schemas.openxmlformats.org/officeDocument/2006/relationships/slide" Target="slides/slide34.xml"/><Relationship Id="rId94" Type="http://schemas.openxmlformats.org/officeDocument/2006/relationships/slide" Target="slides/slide35.xml"/><Relationship Id="rId95" Type="http://schemas.openxmlformats.org/officeDocument/2006/relationships/slide" Target="slides/slide36.xml"/><Relationship Id="rId96" Type="http://schemas.openxmlformats.org/officeDocument/2006/relationships/slide" Target="slides/slide37.xml"/><Relationship Id="rId97" Type="http://schemas.openxmlformats.org/officeDocument/2006/relationships/slide" Target="slides/slide38.xml"/><Relationship Id="rId98" Type="http://schemas.openxmlformats.org/officeDocument/2006/relationships/slide" Target="slides/slide39.xml"/><Relationship Id="rId99" Type="http://schemas.openxmlformats.org/officeDocument/2006/relationships/slide" Target="slides/slide40.xml"/><Relationship Id="rId100" Type="http://schemas.openxmlformats.org/officeDocument/2006/relationships/slide" Target="slides/slide41.xml"/><Relationship Id="rId101" Type="http://schemas.openxmlformats.org/officeDocument/2006/relationships/slide" Target="slides/slide42.xml"/><Relationship Id="rId102" Type="http://schemas.openxmlformats.org/officeDocument/2006/relationships/slide" Target="slides/slide43.xml"/><Relationship Id="rId10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PlaceHolder 2"/>
          <p:cNvSpPr>
            <a:spLocks noGrp="1"/>
          </p:cNvSpPr>
          <p:nvPr>
            <p:ph type="dt" idx="17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5"/>
          <p:cNvSpPr>
            <a:spLocks noGrp="1"/>
          </p:cNvSpPr>
          <p:nvPr>
            <p:ph type="ftr" idx="17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PlaceHolder 6"/>
          <p:cNvSpPr>
            <a:spLocks noGrp="1"/>
          </p:cNvSpPr>
          <p:nvPr>
            <p:ph type="sldNum" idx="17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65EF-ACAE-40B0-9457-412019737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 P.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. 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. NOLI DE CAS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16-Nov-189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Vigan, Ilocos Sur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9-Feb-195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nil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Multirac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6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ocano (paternal) and Spanish (maternal) desc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Mariano Quirin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Gregoria Rive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President of the Philippines 18-Apr-1948 to 30-Dec-195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PIDIO QUIR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PIOLO PASC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EJERCITO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KRIS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ARIAN RIV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RIA MACAPAGAL ARRO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ROX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 RIZ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31-Aug-190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Iba, Zambales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t. Manunggal, Cebu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Accident - Air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7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service: Philippine Army (31st Infantry); Western Luzon Guerilla For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Exequiel Magsaysay (blacksmith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Perfecta del Fierro (schoolteache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30-Dec-1953 to 17-Mar-195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SERGIO OSM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POLINARIO MAB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CARLOS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Carlos Polestico Garc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4-Nov-189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Talibon, Bohol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14-Jun-197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Quezon City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Hispan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8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Policronio Garcia (mayor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Ambrosia Polis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(23-Mar-1957 to 30-Dec-1961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LOS P. GAR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NDRES BONIFA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GRACIANO LOPEZ JA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RAMON MAGSAY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. EMILIO AGUINAL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. MARCELO DEL PI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. FIDEL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UEL L.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DEL V. R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MANUEL QUE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8-Sep-191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Lubao, Pampanga,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: 21-Apr-1997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of death: Makati Medical Cen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: Heart Failu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s: Buried, Libingan ng mga Bayani, Taguig,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: Roman Catho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Asi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9th President of the Philipp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Urbano Macapag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: Romana Pang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: Gloria Macapagal-Arroyo (President of the Philipp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  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of the Philippines 30-Dec-1961 to 30-Dec-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SDADO MACAPA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LOREN LEGAR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. MIRIAM SANTI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25-Jan-193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place: Manila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der: Fem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or Ethnicity: Oth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orientation: Stra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: Head of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ity: Philipp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 summary: Former housewife turned political wi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: José Cojuangco, Sr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sband: Benigno Aquino (Philippine Senator, m. 1955, five children, d. 1983 assassination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President of the Philippines 25-Feb-1986 to 30-Jun-19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   Time Man of the Year 19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AZON AQU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FERDINAND MAR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JOSE LAUR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JOSEPH EST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2AE-9E36-40EF-8CAF-FE833F904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4CF6-1146-4517-ABC0-EEB657CC9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94451-7B8C-4344-8413-F6DAA787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12EAD-206A-4D1E-AD53-2CEBEA73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D5E37-FAA3-433A-8E53-94EC65F5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19E5C-F18B-49AE-8930-213D9C37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8F298-3742-4F01-AFA2-E1F03159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0B44B-07BE-4371-B500-8DB581DC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C61F3-D9BC-43EC-A065-194193E6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CC6D1-103B-43AB-A923-C9B58D70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C163A-4960-47B3-BADB-C9FC1378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2EE73-4B16-4D4A-98B5-D24BB03D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F9C-BC6B-47C1-8680-98127F5C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0DC66-DDC1-4E17-8616-466457D6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C4C65-7C70-46FD-95A9-975AE681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D79EC-A034-4FC7-8BF6-17048671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FD93F-DB98-4CBB-840B-4C5A7208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2231C-70C2-4598-A596-6E2F2789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E66E2A-EE21-4C2D-841D-696C55AC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1D90C-8276-494A-9DDB-736B971F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16C69-3AE5-4B0F-8708-34976A61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8E27E-130A-42A7-A0B7-6DE86E1A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CC106-5A06-4B01-B10A-C66B06771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00B-E7D1-49AC-B76E-B3DEB4B9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44293-BCBC-4F16-BCE4-25D804F69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E3F95-60D8-4952-B02E-3E31A1102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A6F8C2-389E-45F8-B0EE-FA54E8F8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21E53-0549-4984-83A3-8AAEFCF7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9138B4-AFAD-49AD-8EEE-5D3178139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CF3D3-1442-4AD7-A030-867A001C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78CAB-80ED-46F4-94D8-C643F25E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81415-6197-4199-ADE7-A9F5922D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7DE09-C4E7-480E-AB9C-8D7EB7FB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85D12-7F23-4684-A8FE-AFB1907A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D4AE-E516-47B2-84A9-94C04683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E4BD9-3818-4B61-8988-1619A3F1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8C85C-72A6-4050-BF19-9E4B3A14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25517-CB75-4B31-8482-68AAF48C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0DB82-ECFA-4D61-BF8B-FA8ED5A0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7D04E-2990-4D8D-8EA1-4385631A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4D7628-571F-4504-ABD3-0575BC56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EF9EE-9DB1-4FF9-8F3C-3DFEF426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D5BFC-F146-4D69-9445-4891E7F4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1C22ED-5111-466A-8A42-23C0BE4F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D85AA-738A-4D3B-B0A7-D21CD36D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9053-94B0-4E42-999A-C8AA1F52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62222-3006-4614-95DA-69E2DFC5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8B35B-744F-4E69-957D-19905D98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ED2F6-081C-4425-BA1D-358C4555A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6F068-81D4-4B31-A9A8-C914471DA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22346-AF48-46A9-B3BF-C5007C81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4E273-80B3-4F05-ACDB-DA9B6598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0DEE0A-03D6-4ADB-BC7B-799D11AA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75C6C-2D7E-4DF2-B717-CA270D5D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9D6534-2DB8-4C09-A4AA-19C1D44A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1529B-20C2-4890-AE60-F7A41A72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9A17-BE3F-479A-A0CB-EBCC70A7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9B9F1-3151-4C5B-BFE4-0B9AAB2A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F2BC02-0B49-41AB-9EAC-DD3A7043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85B54-5EFC-4486-9B01-28CFF9DE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E0F0F-D761-4CC6-998D-03CDADECE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F6532-7636-45BE-83DE-2DEA5CF9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04AAFD-D9AF-4065-B8E5-D9901DDCE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4F23ED-3EEA-40C8-89D3-48B59D85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55BEF-AA7A-4F18-B33D-51EC627A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2B299D-0F94-49D5-A59E-D3B6DA92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434C9-89E3-4034-B620-E6BF56BA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710B-3721-46E7-BA1B-C4811C7E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6EA005-CCEE-49D0-A6BD-3378E216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BEB13C-8D02-497D-96F8-8E4B63F0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69FE1-CAF3-4F91-A6D3-2B746AD7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C0C336-82CA-4F3A-B625-CEE969FB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5DD23A-4B68-405B-B53D-166AEAEE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0DC50-9CE8-4869-B116-436BE1DA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680FBA-8F82-458D-8326-F8BFF238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2AAD3D-884F-410A-89F3-F464A81FA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DDF500-B01F-4911-849B-D865FE29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EE4AA-F686-426E-98A2-34767CF8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51D0-07C2-43C7-8880-5DD8B956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7B55FD-7943-4A81-B15D-0613E51D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F67106-FAC7-43AE-92B4-A22340BB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70FA42-EAC3-4D02-9466-620629F5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D482F9-C785-4C35-B9C9-083A9547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04D4B8-6246-4CD3-942D-43666314A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DCA271-DD3E-44DA-84F4-C095D6C2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1106CA-7342-4981-A375-4E315DC1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FF106A-73CE-44E8-932A-6ED39EBBB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5E3DB-48C9-4E6A-A8E5-5A412703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599210-FB70-42D0-95F2-308126FE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5ACB-D449-47D9-82AC-3705D769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5A721D-D15F-4BA7-9C2A-491EE967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28670D-5C36-4844-AD2E-8A522CAB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74047-B13A-4B75-AE6E-C054C98ED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FBE9F2-C7B4-4BE6-A820-F06EA959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8CB2E7-E921-4C9F-80EC-5C01278C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B72DBB-8677-48D5-8316-20C64A53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0B038C-9A78-4242-B095-3597AE67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3012FC-0574-479F-8E05-A8CE4129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3F586D-4DB9-478D-8050-F13BE1EB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CEC1D-3023-44A5-97D4-F1DA52A8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4106-75CC-4C77-BB72-FF62DAC3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BAC387-BAD1-447A-87F5-C99E85C0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948429-2329-4602-B058-5EC4FD2C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157971-EF6B-4318-8BB1-FEE109B3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B49E41-ED85-43EF-8E3A-9E3B8A3F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552E01-40FF-4993-8BB9-A988AB50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3A2717-7EE2-43D4-9290-C8C2A1D3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2325D1-2243-4F6E-AAC7-906A7323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50483F-98D0-46B4-8787-37ADECB6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62768-91F3-47D5-90B6-5378D54FB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628CF-C426-4A27-AE38-C72BAB36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F56-7D1E-42DE-9081-C564EABA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543B-2F8B-46B2-A71C-9DB3DF68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9B24F9-8DB1-421D-8810-10FC912C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47FC5A-CD9D-4CF9-92C1-38179F0C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C92780-BDA8-4AFD-B6D0-072CDF8D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1F39E9-1CF7-4E28-8668-2D22EA12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A1B6BA-68BC-4226-80D9-D9E5E816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199162-0071-475B-8AAF-6B57435D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2E46C4-2C3E-47FA-8B3A-C24DEAE4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564063-A1FF-4CF2-A686-8B888E76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A2122A-5F1E-4781-9C66-92BEA60D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60FDF7-69B8-492B-A96B-FC1E3EC8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4C6B-A164-46EB-8C75-7E19295D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C301DB-AD98-4020-BC18-AF20DFC2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D22312-A1E5-4BF1-B710-F127E560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727D5-2128-4E2C-BDB7-13217CB1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A484AD-A083-42C0-B15E-A00F22FE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0FF567-E229-4A5E-A280-EE9EE6AA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0785A2-21D4-4684-B148-B778C445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BAECE9-BD57-4884-9843-05050F4B4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407D80-DABF-4519-894F-D1BA04A0F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278BEC-9157-4D2D-8866-9BE963CB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D36892-DC50-43EC-8691-11857D65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AAEC-E6F1-4F3A-8CDF-88C0FBDD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51C6A9-27A5-474B-B002-0D099EB6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3D5C17-8279-4CB6-B4F3-A253F646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C9459E-7702-40DA-918B-5AA7F27BF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67CA87-8131-4B40-99FC-0637BA4E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D56997-61F7-42F6-9529-248B77A4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001CDC-A33E-4E7A-8102-DEC90287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8D3592-E536-4083-B0C8-4CC9540F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D28969-9D53-4601-BC10-73C89C4A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E924D9-FBF0-4B7A-9DF5-7CC6E5060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274410-0ABB-4A91-B070-D0062086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9028-389F-4817-8517-5EA9169D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89A868-81A9-4690-AC6D-8D070A83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52B693-CE20-42FF-B36C-373FDA14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A8CED9-638A-4390-AC3D-071535C3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E0A959-6143-4F24-B7AD-73AC526B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D8637E-7F57-4A75-8EFF-432285E1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A89001-437D-4349-832B-ED725BAE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80C59F-0555-4626-A604-C3935153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A314A6-A4F7-48F7-AC0E-BC087FF4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2DC290-001B-486C-A544-8CA147C4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60E24C-0177-4D06-8DA0-DD2DEA73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5FE64-FF7D-46A4-B587-A94C87EA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301B47-D31A-4035-8F33-5CB811647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4A74A9-F15A-4351-8758-24C93066C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E53454-D945-4455-A6AA-4572C720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9731B7-4F99-4D62-92C8-6BF199C63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BE3C8A-D236-4656-8B7A-4592CA9E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1F0844-B53A-4F9F-9D69-B3E428F3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CDB11B-5751-4066-BFD6-12521C0F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86D1C9-C062-488B-BB40-F45A13EA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D106AB-2BB8-403A-BCCB-8E3283DA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265710-858D-49CA-83B9-EC73E9E5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29977-BDC5-49A9-B14C-8517AFBE1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68FD1B-989F-4B80-B716-F0817FEE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B6E164-B439-437C-A2B6-A105E501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18E111-1A55-4E98-BA3D-F40B5CEC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B8B1EC-32A7-46BB-89F5-5E202B2C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FC5F5B-0289-44A0-8A18-225F7BDC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1D4A18-35FD-4DF0-8D0D-D4F5877E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ED62D4-1809-4620-99E8-85A7E1A5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0D4EA2-1D9D-424D-B3E3-6D4A6FD2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618540-0E21-476C-BFFD-5EA130ED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5C0A95-9832-437E-88E5-769742AC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BA797-E4EF-4D69-A193-73494714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D23D83-0EDA-4ECC-B366-7EEDDD07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A2E3B6-3EE2-40C8-96F6-42481FE5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55B91F-B623-4063-B63B-FEBEEF52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A0EE18-58AD-4D35-9199-1918C9FD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384E01-2EE4-4D9A-B77E-C2D84386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29AFD5-FBBF-4B92-8283-2E0F50D6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08855C-A5D9-4A31-9A39-39BDD0886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A8342C-B27A-405C-BA2B-B1C698B9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2C7FB21-4B95-4E3C-AF16-37684AE3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C3D1C7-A352-4C1F-BA1A-7E7A5EAE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1C336-B7AA-48A6-BE2D-365B8241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4535F2-5D75-4C0A-90B0-B282A852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56C0EB-534F-42A0-AA66-7359091C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B55673-DC19-457E-B79C-EA8A5FA7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CAA431-8981-420C-B792-E285A5EF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8F55E7-FA84-4D19-8FDC-95ACF412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5265BF0-FA37-4655-99BC-11248854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9FEC3E-B2EF-4F04-9845-82FDFBE7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E233E6-5ABE-4B6C-B45E-E3757BCE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DB7749-93EF-4512-9C29-3AA9F3DB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1EF34F-D250-4B6A-AA07-0C182EFB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365B-4A45-4BA9-8312-C5156886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4C938D-3964-4526-A1D2-8FBDCB53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7E0161-251E-4770-B211-08AE5C03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EBDB70-C418-4C84-88E6-72D0D49E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3F5E89-9068-4243-B193-3BE3F4FD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5917C4-2DA6-4614-B66F-2D1CBF30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8F78BD-8229-48B3-9208-DAD90A2B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1C127D-FE1D-4165-945C-9ECD59E7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EC7548-B5FD-4F20-ACAC-5AB39318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64033B-98E8-47D1-9882-9AB93BF9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4BFAF1-7818-45F2-8229-2E664D3C8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B3A7-76EF-4178-91CA-11E9F7AF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01B827-41B2-418A-99CD-BA54C9E3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7E59401-5E03-412A-91A9-6930386B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FCC9B8-0EC2-48C8-B88C-A83B2270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2E883C-CE94-4066-9660-34C9CB78D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A710B0-84F2-4375-8702-C378A19A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8947EE-05FE-41C0-9B6E-9AF86101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FD9158-9555-4D52-8E5A-04093613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44A743-0E33-48D2-9451-03EAC131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8DD9FEE-1818-4869-A898-B9E37EFD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428672-FE61-46AC-BAF6-0159DD33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D6E4-865F-4F4B-9622-BEB195B0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68946-EA6B-4659-A712-957C5232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4EF7F0-14E0-4C54-A05E-0C783B80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69AE6F-E0B3-4520-A403-7F628525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F91EA4-752F-4D70-8639-75E7DBB2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2F3804-C9E9-44ED-82C9-439DD13E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1355D7-BDD6-480F-8DCF-DC0D97BB9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D2D76F-81D1-473A-80A7-5B3D6BFB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C13202-C8DD-4C16-9AE8-DCBF120E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E5A9C7-EEEB-4ACD-B1D7-9F75731F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5EF64D-C9AA-4ECA-92BF-E905BADB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22F619B-BA82-4B7E-961D-5355FBA1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3B955-B1E7-49DA-8F72-BC72C352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7799D6-928C-447B-BF78-CEB3A785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47B6DB-F49E-4632-8942-5B0ADA76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2C5BF8-F12C-4509-A4ED-2307B42B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205399-95A2-4868-B1D2-17283F08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947DAA-52A2-4CB3-814F-9E292DC0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3E0230-D5E3-4195-A773-60C8428A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06B1CE-2C7D-42E1-8091-7E8698D8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4F9369-3E27-45D4-8551-B9A89DE0D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DCE909-810A-4F3A-804F-CA3C805D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9EFCBD-2B42-491D-B7FC-B76C4676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25A61-4BF4-4E74-BB93-98DEDDCE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39A525-CB30-4C8C-8B41-3CE1E648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8341A2-8647-4090-90A3-96DA6301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E91C7B-2408-44C5-97DA-907B030C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49D7AD-782D-4B5B-AA28-C122B4B0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BA4D0E-892A-42FF-8E07-CB1F8AA2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255D14-E6E0-40E3-8586-D1AE11C3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77A29D-7C85-44DC-BCD2-CF47F110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B38120-041E-4BCD-98B6-D616B541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671EF0-00A2-41BD-BCD6-D11583F4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9E904D-79AD-48D1-B3E1-E595F54F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9117B-361B-4C37-98E1-06450415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B63F3F-3C66-4A3F-8C02-9B207317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FE264B-E9F1-4D7D-9381-6888136F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6DFD51-3CE9-4602-8565-D64073DF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6D33A2-FF26-4331-8DF9-B7F5C06B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88C439-8271-45C6-A121-25D7995F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13C918-BE9F-4FCC-9E8C-51414011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5306DF-DFCA-43AC-A054-9F532EE4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36A076B-44F0-4CD2-95C1-C6499786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501A3402-E27A-4C6C-9AA4-E51B7807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1C95FED8-9C5C-425F-A9E6-06D7DD62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3043F-B602-4823-A5C1-EB1066CD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817EF6E-DF65-49E7-A204-2BCBF6B9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902F8A19-CCB9-4F7B-BB41-3CD3F635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3ADC41D1-277D-4AEB-978A-A5FD70B3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18212C9-89FE-434F-AAED-9E9DC251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FC7E7313-2CFA-4BD1-ABE4-C66645C9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D104205C-8F31-4472-8878-0D31CCCF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88338EB4-62F2-4C57-B380-96162B96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76F9D69A-CFFF-4C17-A1ED-9254051D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6"/>
          </p:nvPr>
        </p:nvSpPr>
        <p:spPr/>
        <p:txBody>
          <a:bodyPr/>
          <a:p>
            <a:fld id="{4CF6A9A0-9E5C-4DCD-973C-300546C8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E76A6D-CB97-4F0B-8537-EFA1ACBC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A93B9-2031-4012-AC90-24ED7DCD7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E90F98-54EB-4AB0-A55B-AB6B5BED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4B4E20-D97E-4A4A-B1BC-C4264497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C73457-9D2E-4226-A4B8-5D35DD4A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14DCAF-F940-49AA-A278-E5AA494D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8AFDD1-D5D4-436D-8377-9BB7AB02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F1B076-CEAC-4FE7-AE85-629982C2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B67E3B-139E-4519-B532-ACB79921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18A1A6-C2CA-4E07-A53A-9D4854EB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020DA9-5953-4871-9C9A-29BAEC5B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0248F4-A19F-4545-9B82-6286573D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DDDC8-EA13-4258-AB6A-308B53B2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1E8828-D490-406B-BB1C-CDE19190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EADE9A-213D-4B91-AC48-363492F2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73D6BC-3806-465D-8557-5BF13540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744BC7-C5E2-4863-9A3F-A7D4E268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CC432B-CE34-4AF6-90AC-69E6DFCF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10AA47-4B5C-4EA9-ABC9-AB2DC874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27DB87-9516-409D-A0C7-690FD685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ABAC9D-EC1A-49AE-AAE6-708CBBF1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03B3AC-E287-41E8-9B3C-5B35841C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61AAA7E-30BC-465D-A528-25DAB1DA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44725A-9387-440D-B03B-8DCBD228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DB13A7-1046-43F5-9DCE-C7AC3009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0F0C72-83D8-4F0E-9D3B-1466AFAC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6E475B-5ED2-416A-B388-195675A8F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45CB55-A89D-47CE-8AF8-4B12BE7C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BBAE011-3DFC-4046-B103-1D742718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330C97-30C3-47E3-BE37-E91C0BE2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C366D4-A4CF-4B10-AC2D-7C0A1937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181ECC-B851-4BC7-AA93-B5168A3D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70E361-5ED3-41F0-9B2C-E182DDF7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C7DA2B2-EAA5-4F23-AD40-A425203E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5BE25D-3AC3-4B5D-A37B-0671FFC10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ECAB14-CF9E-464F-9594-CC1E4BE2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378189-B487-4128-A572-70EF310A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18AACB-C72A-4F5E-A7DF-434A0B8E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C31CF2-8764-42CA-B441-02588F60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A1C918-519E-4011-A935-339A70AB4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6E74709-46A6-44F4-9AEB-4D9AA102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B9D8C56-E4D5-402E-9268-12D1AA7B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8365D5-5619-41B1-8C8C-5EAE95EA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1EA9BB-EE84-419E-A199-EE3A1896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D49C761-8C2E-4271-BC2C-376EDAA2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34DD74-FF19-44D0-998A-E78664EAC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C8C49A-8E42-4472-B92B-9783FFC4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F0FC4C2-EA4B-46AF-9BD4-F0459514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2BBC0F-BB78-4113-A5F6-6580AD59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8C4A6E-2760-42D2-B5AF-03498D7F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B9B303-5222-459B-86E1-787DE508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C843A6-BC13-4533-8948-DEE17CE9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4C2284-E2AF-4AFD-8DEB-28B552D4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1EEB0B-9978-4BD7-BFED-010899A1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2A33F1-4D35-49CC-AA08-66077D72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8B8ECD3-4288-476C-A98A-CE9E4BCC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2991-1FDC-4E35-8A04-5C9D0F8B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49B0CA-388D-44D5-8C99-AC16F7D0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ECEDF8-2EEE-477C-9D45-D1855D44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2FBEAC-E2E0-4B33-BDC6-AE5D14C3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DC6C78-0A5B-4AFA-AC87-B327812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B94FFB-6BC5-4288-BC72-BD72CA83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CA8A34-3C27-4EE6-B9CD-4095E0D9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82EAB84-AD6E-40F0-9308-97A5819D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5C0C1C-37E8-4AEC-BD8F-395C1FA9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473556-09FD-4E94-A976-9DE2E63A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7AC537C-843B-44F4-8434-0D69A9EB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7F0A745A-BBFD-4A42-9A98-4E360665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AFC412-8CF1-4F7B-946B-CBBEF1B6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E0C86F7-8764-42A7-8D0D-63BAD9EB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F2745D8-A81D-48AB-9A6A-0AA98245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EC75014-868F-4FC8-89B0-9B7F9AA5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3C6D96C7-CFDA-4DB3-801D-FC014351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F08234C-708E-4B09-B461-6D761A38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E9C20F7-DCC9-4374-B280-B962D2F7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E4E6D65-37AE-44BA-8AB4-00D39CBB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AF5A7C5-8FC9-4B35-84AB-A927D99F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01AA598-A87F-4CBA-9AFF-8BA0105A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03BC5BC-B122-42FF-A7E4-8E147EA5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3869E2-C71B-45C5-B24C-0A4419BB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5151D0B5-C3E2-4159-A3BA-7176DC88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113C232-B01A-4D3A-BCB8-624218A9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873D2D-CB9A-4470-8324-F8FFA77B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167D79-CFE3-45CE-B1DD-FB2B0588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D6EAB85-DCB8-4FB8-89E2-698E6629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CB4FD09-9427-400A-B267-976EA97B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26C6D3-186E-416B-BEC2-19260366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B40AA7E-4D8F-4758-B25F-28A9C8CF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43C9E3-DA32-4C17-A9E5-446483C00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ED8FC7C-F0B6-43B1-954F-64E099B5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CAD683-76A0-4C1F-80ED-176C6120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1AD5B7-9097-426A-94AA-F2609086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352CF33-F17C-470C-83B9-96E4BCFFC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C710FB-5704-447B-954A-C9B1EAF28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F76EA85-09B5-4A8E-B80D-813AF9AD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0F8330-AEA0-454F-97C8-4846C0B8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6F70CB-ACB7-404D-968F-8A545470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3F6221B-65AA-4332-8DE7-8C24CD7C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D257450-8056-4BDA-B39F-294C4D92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7C5E82B-2C4B-4E9B-A4E6-3BE8E0ED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38642CC-7702-4C7C-830A-DDFA5961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A43868-FF57-4AE8-A302-39932DB3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FC057F-1D28-4D32-97FA-0383D9AB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9FD8B9-E49D-4870-8BB2-A1126663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4DD76E7-F3F6-4103-9BEF-82B3EDE4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619273D-1B0A-476B-81E2-704D84BEE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AFA6229-84F7-4191-A14F-4773F4C8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B1428A-21E8-4AD3-BF31-E9005808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17C2E99-F3FB-4C2F-90B5-1532B5A1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A5CFA62-2FF8-49F9-A196-6D39098D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7E16CDA-E833-4271-AEE7-6ACB4F59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EFF3F95-94FD-46D7-B4F9-19E0CF6E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85ED59-21A7-49B7-BAF8-C63472A5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3DBB763-224B-47DA-A7A1-09045CBE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4A2141D-89A1-44E1-86A1-E1D1E370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024D5D-DE8D-4513-951C-9DB8A1C4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BF200D5-D779-4251-9D2C-B846130B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6E3E65-2F25-45D9-9FE2-E0DD52A2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D05B1DF-16CF-45CB-BA9F-9820155C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C75138A-FA25-4A42-94B4-E2A11CB1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B538FB-B682-4DAD-9431-526C4B81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0E7EF04-60A5-4205-B58D-4296EC70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D329ABF-0308-40C1-B4E3-B0F44D6A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BA6505-7170-424E-9ADD-2F0E806D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1808A8F-C90F-41EA-A24D-C96D6E9D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23C328F-2CA7-4123-BB7D-A67001AD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6643131-8C1D-4200-B19C-5868EFE4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6EB7234-6E2E-4E6D-9E18-8C58AFA8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064996C-FB66-4190-98AE-ECEA5BC3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AB5F1E-EDB4-4073-A30F-01648F2C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ED1C558-5D81-49EF-A92B-2F4187C3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8C65298-A31D-49B9-BF14-19528FF2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6108A2E-65A9-4A2B-B497-1FB24049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85B14B-9B87-4459-B493-0B309160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C3817-1B76-460C-9987-AA7A598A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7118BE0-2E6C-453E-BD12-BDA848B1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0923E09-FEF0-4488-9B29-CAA9631D6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38015FA-F179-4931-B434-5961AE76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AA72A09-B87A-4CF3-9C3E-ABD98AB5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1CCB33A-6626-4B75-9B65-84FF002E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7573481-438A-4506-8704-9D8FBA22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62144D4-CC29-4A81-8FC4-A2BE20EA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8BE6468-2A4D-4D66-A297-D1D7D34A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8DB161-23F4-462D-8F63-1FBE7886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82A7F4-9B99-40D5-B283-9998E3D74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3F073F-E81D-4288-8E1C-32096523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0E4071-15D7-42C1-BFF9-0BAF6A5D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074E163-D86C-4ED2-836F-16BA2CEF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2E97A18-56CB-41D0-B3F8-41456A1F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7944E0F-89CA-48BB-ADED-C47873E5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0E8C588-6EF8-4184-960F-3C6E36B6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E5E947D-E6C7-408E-94F8-929B94DB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1311EFB-6A08-46C3-BCBD-A9416097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F20829-6650-4FAD-869F-A21E026E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A5D7DAE-397E-4AFD-B5F5-F8D0DD99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EDCDA2-3963-4F31-B4DD-25D5D4E6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B4DDD-AAA1-4E3D-ACA4-5272AA27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509B58-6C47-4F4F-B38E-4A1B3D69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95E608D-1836-4107-84F3-B501F32B9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533876F-9AB5-4C65-B544-D5091574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B9D2843-02C9-4DA2-8C8A-4A1754B1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6CEE224-94CF-4F36-A5DA-04AC52C7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82C4DF9-412F-4D95-8282-D3B075DE6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4D5966F-4D38-421B-B580-EB0F6EB3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966E3EF-5A9B-4629-926D-D2B2C557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C5CBD72-1BB6-4DB5-942B-95B5D6E7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B2F9707-3C72-49AB-9EFB-77DB75CA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3CDB-F82C-44A9-9257-3D6BD20F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BE195-1B03-46FF-8472-900BC208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657F55C-9596-41C6-B6E4-AE10A3F5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F1A2BAF-2166-47F8-A157-915CA46B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CEECF78-F63E-4B42-860D-E7907E30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03FFE85-E142-44C1-BCBC-B0BA02CA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D6CC912-CB11-4470-883D-067C43D3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5BDDAD0-4398-4B98-8568-3BBA989A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E128A01-CF6B-44FE-A188-E118E295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49F4AD4-3FE0-4576-8C71-01FBB995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C7262DE-3056-495E-896C-06C40D40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7688108-7E04-4DC3-B80C-79A72D54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48DF7-752A-4594-AFC5-0055D348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02C28C6-E0D1-4EFB-8385-D5C90C93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2B6E11E-D853-4AD1-825F-B32FE09E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D7A76C0-A6FA-40E6-92F2-00210DEA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EDE33C2-4464-4FE6-A99E-D294CD9D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67AE067-3810-49EE-96FB-624CE4F5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A6E7486-C551-4772-BA60-90B8BE69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E986296-0AB1-433D-9CF3-1DC7E6D9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4593AA6-B4A1-4CA4-9E43-6E753F6E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9A43FFE-46DD-4D6C-BC20-1A52F78D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C9197FB-E87A-4825-99A9-CF6AE63E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682B2-7830-4325-9228-A8F1B5D8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9726E7F-5E96-4CB9-A472-802F6B2E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6FB5764-ECA9-4EFA-8312-F24658AD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2F56961-054A-4B62-9D5F-E8E017BA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446C9B5-96C2-4A28-9811-19B715B2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E4862C2-5648-472F-B044-B2299A5C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E610C10-918F-469F-B9D6-F0C5A4FA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BF5B0AD-0B35-4561-8F64-C3EEF7F0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85B08E7-9FD9-48EA-9945-B8249DEC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DC09F17-4B73-40C4-9BDD-23702C01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72AD7B7-5A13-49BD-A02B-6C983EF2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FD352-3E1E-4B65-A79E-E3FE909C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03611B9-E61F-4A2D-B9FF-4CB1463F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CD95C8A-2988-4D64-ACC2-C7F0CDB9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4BB6415-BBEA-441A-8174-967A02C6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6FCD79D-2C6E-4EF2-9109-99818A84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E61A253-E033-48D2-9D32-1B60A901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C376A56-6F14-48FD-B6D7-F47FF0B5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9F253AC-33F0-40B3-B53B-2B133A55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D10206A-8685-4B25-B94F-89268CDA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5B38065-320B-46F7-AE92-5D8F95F1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3C0717E-EDF1-4465-ABE0-76750E43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ABF77-EEB8-49B0-A0DC-F008E63E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3130A94-C460-4A55-AB7B-8AEFF2106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2169E93-9D7A-4756-97BE-8514A483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C0A41CD-C64C-4837-8147-FEBC0FBF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1925A3D-EDD4-424D-9CB6-B87AB9A8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266A5D1-1ACF-409B-865D-5EFA5B07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57D9AF3-6268-4B36-A5E5-8115751E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41CA8BA-D0DE-4E18-8165-EE6618DC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76535A0-F5CE-4F43-863F-8803E4F9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B805BA9-37C2-4C36-A242-C56396D3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C393572-D83F-4E54-BB74-BF74AD96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8995A-31CB-47D6-A22C-60D296DB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4FFF8D7-B576-40F7-8801-CB398997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2676D3D-BAB5-479F-97D7-7EDA9964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DCBAC57-4950-43BF-8BD5-273949B8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8787B69-4394-4744-AD33-81D59C9D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84C2095-D3BA-4F30-8DBF-0ED79C90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3C06C71-7232-4FAA-9D8D-5B068F0E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5BB7001-DA73-4B7F-B850-06BA5FED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8328634-468A-4723-A4A7-12739E19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C983D2F-89A1-4D06-956D-62B732CD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7229DBF-1EAA-4CD7-840E-13EC9D9D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E4BE4-C6B3-4658-97D0-7B1B0967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995800E-7B34-4688-A8C0-9E82697C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8FF865D-3808-41D7-9519-946EB280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F5D6CA2-B47C-4B4E-A2B4-E1EF920C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7830A70-BAED-4684-AA48-F1EAA84D6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33DD91E-D074-4B47-BCD6-2B5AE0793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0995437-065B-4ACA-AC33-3A681117B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8CDEAC6-ACFC-4A71-9CB6-CAB2FE4B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0FBFC2-1923-4942-94A2-CAD2C98C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78B3109-A441-4D82-ABCA-E77956E2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5444C16-AC1D-456B-A123-D7F98D0C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32884-0A85-4187-9B8C-5113FCE4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4CFE62B-8090-4E02-97F9-AE5096D7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ABE2CFE-B69C-4E90-ADD6-D11C9641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FF6A2C2-DB67-49D4-8718-FA4D2051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CAFB45F6-5829-4D9D-91F7-6A9361E0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C5889E4-3647-4DD2-B9A8-3CA89C15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1225725-CB3C-4E99-82A3-83CD7607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4D5C482-D655-4C60-9315-B421B0D9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3E2BCD1-6375-4D47-9D8C-2B338055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3A278F8-3AA1-4A93-82DC-876C2A0B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C62BEBA-8B5F-4973-B4CD-24750C5CD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1004D-7558-4A0A-8F13-5864E3B5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2397ABC-A1D5-4896-8FFD-9E11FC62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82FEEC5-1BDE-49FE-91E0-7335CB51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FE1A092-6C17-4E59-8061-BC4AF234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7AA736C-3F0C-4FD6-9F83-05928C34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7DEFEF8-7C9E-40A4-9189-B0BCC10D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093C31D-8469-414E-8EAF-95EFD8BF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656535E-31B0-45C4-B63F-2208B562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55379DC-62B6-4F3F-BD67-3F3750F6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DD27FD5-91CD-4E56-B2A6-5ECF465C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21DC28E-A3BC-419B-A7A5-CFE1A1B2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F17D8-E105-4010-A59D-B34070A94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D4CCE82-9B69-4760-AC20-7D6B2C16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3DE66A8-65F5-483C-98A6-E4758CC9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C390B2B-B488-4580-B174-66CACA97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E8AE775-3764-4074-BDC0-3C7E04F2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37DED22-6AC6-4B53-91D1-7D54A2AF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0819499-701E-477D-9595-BA9463DE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1E6936D-F926-4337-8D4C-B33E8645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621AF1E-F39B-4D39-A97C-3064B3E7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FA0314A-1A67-4C17-9FC7-5C4666F4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299C97A-1756-465E-AC40-479E56C4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1445-3316-462C-BE83-C3A55834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9569C-FC94-47ED-876C-8A58B1961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BC3E86B-A612-493D-A35D-6BDA2DC2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C2ED038E-5E6D-4DFB-ABA9-D8C2604C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4D26945C-5FBB-4DF3-BF28-21BB7526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BB541BD-B1AD-40B2-9E29-7668312C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25D6DF38-FBD8-4930-B194-8BC61A99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370801F9-D586-4D80-BD8C-17DC9B9C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693B90B-B6AD-4DE3-806A-DEA1D266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DB926013-22AB-4DE7-8EC3-3554E4E2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BA36D86C-8BB1-4256-92B7-F7773443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167259DE-C8B4-4102-8BEA-BE64E8ED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509B3-C9A5-4F8D-BBB0-BF738121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343D5FE-8B35-4DC0-B28D-47F55C56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9FD7C948-E387-48C2-8A31-02EFA72BC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2"/>
          </p:nvPr>
        </p:nvSpPr>
        <p:spPr/>
        <p:txBody>
          <a:bodyPr/>
          <a:p>
            <a:fld id="{06A5341E-917B-4BAF-8617-0DD8D96F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7819D7EB-41C9-4D2C-91CF-BD9E23732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4F8C6F6-9FB6-41BB-8477-E076C1A6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DD78BD8-4A74-4082-A595-FADF7739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9997A1C-65CC-4879-B588-0C197E59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F090DFB-B554-4FF3-A6FC-8633283C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CC539702-2269-4E86-9C67-37C7BC849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1C5EB2B-0E21-4755-84C1-C2CEF2F5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3CAF9-45E6-4FD6-AD5D-0470E7E5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7C9F38E-02F2-4673-8823-C3E3DB87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4D9CDF3-DD6E-48D1-916A-853C1D3E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2469917-B20D-4FB0-B73A-B01AF605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ED20E33-9BC3-4585-B212-81B21DEC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AAF2B6B3-D689-4046-8F05-727908FB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7BB56AD-2694-4ABC-AA4F-72140707A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1E15069-5ED1-4F33-9AE5-2065739D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6EA0F7D-6261-4136-B30A-9BC3005E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A683197-90DA-4BD1-A18E-B743C812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0E5EC64-9C10-4CFB-A63B-010582BB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DB342-13FD-4803-8997-7E82B1DA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C3AEFB3-8686-462A-8972-22518436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0A19A88-AC76-4EAF-A8DA-332B319E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A68A037-F40B-4B43-9089-11533D0C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099897B-861B-4D51-B164-AF84543B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4EA9AE3-F880-4558-BB35-0548699A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D8F2A25-821E-46D0-9F01-429B6500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5BC63F9-98AA-43C1-A954-004FE60E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8723DC4-8582-4B4C-B739-E46320C4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790EB52-D738-4C9E-8AA6-208C50E2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C2566E8D-D66B-47B9-8DAE-C5EE1D6F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99D1E-E48C-4A38-946A-53B0FABE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0F1C3E1-CFC5-4700-978D-34979CE5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B40985F-8052-46A7-A228-A91B7A20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65AED5F-782A-4F02-B530-B1829439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A40677A-8518-48AB-A56E-AAB88A11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28C0020-0DE4-40E8-B0FA-C0CA939C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4562752B-CA6E-4D48-9208-05485762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9B81FAE-848D-4DD5-83A7-422594F5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0C2A583-0764-4E3F-BE13-21D498F5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5FDAB25-7D8F-4D23-9D7F-2CB60793C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56AB0C8-4110-4DE2-A048-ED13086E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C7D34-2E0D-4C00-A363-0FD25F0A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7DE6FA2-885A-4DDF-BF45-B8767683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D55C2D11-31C5-4CCD-A2F6-D8BDDCE3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694A3F7-2C17-49DD-AB8F-9D6B8ADB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30251594-C458-4149-9700-2A8C6AE3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96570AD-E39B-4330-9C58-513E2C0E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0B1D8AE-5333-4264-A30B-9AD520C6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34199E4-39F9-473C-9D03-7EE35FE0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584005F-40D6-4CA6-9D4D-106D72DD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99787188-F531-448E-A5BA-3EAAA13C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6167A55-26EE-43DA-BCAC-717A86607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1A1D9-F6BF-4E99-92D2-29BE6AD4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AA99BFA-5BD2-4D8F-B2A9-F28D9A73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3918759-48E8-4DF7-BCFA-AE184CEA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FDDB6545-6FA3-459E-AA95-2BC60E3A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6378C72-6342-4E7F-A156-B6E3DEF0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7051118-B90F-4348-B495-626E39C7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54F8965-3B7C-4C1A-ADBC-6632E9C8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5F788EA-90FB-4A5A-BB63-E867D61D2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C2A9A5F-F0F1-4393-9005-5B3D30CF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AE35373-BFC6-4678-BBF2-44EB0F37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14D354C2-A7C1-4103-A6CB-ECA9CC45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70038-90DF-4562-842F-EA8365F4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38A7070-5644-4225-AC97-E94161DB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324AB27-300C-41D4-B1A6-F08F5BC6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CB02B37-FBD5-453C-86A7-1C53CEFB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F3A5C3E-7B3B-4B50-A448-F637E7E83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4FE7BF2-5E97-4E79-AD88-809E9C36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7196668C-3DD7-4D46-8327-AA96DA68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8488D4C-EB63-4265-976A-49201429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F1FD523-8D91-415E-8F4E-96E72B4C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C76CBCCB-2BA1-480C-9FB4-EEBD1BF3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E3F4EF13-1FB0-496A-9B32-5FC65F10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040DA-FA1D-46C5-BA7F-42ED9E92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0573DCE-5D42-441E-A3EC-68C72CF6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F30C0CFE-E16F-4889-905B-CCB66115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A565187-4E76-46A1-8813-074853CB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297393A-66A4-4EF1-A4AF-55CDC342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191869A0-A643-484A-A503-C06EA382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1DF9A-6E70-49DB-A30A-2F360684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5EDA-AF63-4CED-B706-F17219AB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29511-20DE-4E2E-8C22-AC656849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3539B-FE93-424A-BC81-6A21FCF9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31348-EB50-4AA9-AA6E-6E1C5BDB1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484CFB-20DE-4C0C-86C2-006D6D37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0248E7-C114-4884-A1F4-B84AC6BF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5772F3-D09E-44D6-94C8-FC49E746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4D1053-B025-4B18-AD3B-5FBC08D0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35721C-890C-4F42-9F76-694BC3DA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5FF49-130B-44A9-B459-C2065CB2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41D067-F177-4F3E-9DE6-2C9AD7BA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ED5E-FECA-4B69-AC8B-883D2CFEA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128EE4-058D-4E33-BFC8-28B49566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3F54F5-C58B-4118-AB3C-B01BCD0F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CA35F-D344-49CF-AE89-F866A85D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6BC045-F038-4336-B99E-09AED86C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658DD7-F838-4331-9D87-B7E21FE0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D096A-19CE-455F-A819-FB311EBA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1A1DD-5524-4BD0-81C3-347C841A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65897-3325-4DA9-B3FA-0AF63939C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339F5-FB23-472F-9DE7-2AC2C7D8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50B6E-C02A-4B60-A9D9-FB9F4E79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4AE9-1E9E-44AB-80E3-98D993B5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E511C-93D5-454C-B1AE-525EA1CB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68041-BE9A-4CE0-8EB7-2430DA36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54B77-E803-4ECB-A012-315180F4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EE9C3-538F-42D7-BA61-5B0F9AD7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E165F-B429-4695-9AA8-765CE117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26A9A-8FE7-4054-8C49-5F30D560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CD7F0-F708-4ED6-A65B-7CFE26A4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8C8A1-A894-4764-B725-19645AA8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1C924-51B0-4A27-854C-AE552D13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DAC5E-0780-45B7-B017-F234629F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41.xml"/><Relationship Id="rId8" Type="http://schemas.openxmlformats.org/officeDocument/2006/relationships/slideLayout" Target="../slideLayouts/slideLayout542.xml"/><Relationship Id="rId9" Type="http://schemas.openxmlformats.org/officeDocument/2006/relationships/slideLayout" Target="../slideLayouts/slideLayout543.xml"/><Relationship Id="rId10" Type="http://schemas.openxmlformats.org/officeDocument/2006/relationships/slideLayout" Target="../slideLayouts/slideLayout544.xml"/><Relationship Id="rId11" Type="http://schemas.openxmlformats.org/officeDocument/2006/relationships/slideLayout" Target="../slideLayouts/slideLayout545.xml"/><Relationship Id="rId12" Type="http://schemas.openxmlformats.org/officeDocument/2006/relationships/slideLayout" Target="../slideLayouts/slideLayout546.xml"/><Relationship Id="rId13" Type="http://schemas.openxmlformats.org/officeDocument/2006/relationships/slideLayout" Target="../slideLayouts/slideLayout547.xml"/><Relationship Id="rId14" Type="http://schemas.openxmlformats.org/officeDocument/2006/relationships/slideLayout" Target="../slideLayouts/slideLayout548.xml"/><Relationship Id="rId15" Type="http://schemas.openxmlformats.org/officeDocument/2006/relationships/slideLayout" Target="../slideLayouts/slideLayout549.xml"/><Relationship Id="rId16" Type="http://schemas.openxmlformats.org/officeDocument/2006/relationships/slideLayout" Target="../slideLayouts/slideLayout550.xml"/><Relationship Id="rId17" Type="http://schemas.openxmlformats.org/officeDocument/2006/relationships/slideLayout" Target="../slideLayouts/slideLayout551.xml"/><Relationship Id="rId18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556D-5931-48F8-A417-236C2B32BE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6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3C3E-77F8-49D9-9D30-93B9C40D6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2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D468-6F06-46D2-BD66-440946DE24B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7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F125-0E7A-49F6-87FB-12DC920E39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16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5EE2-11D3-41CF-B290-48BED4F8AAA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73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77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1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02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8594-3D4B-466A-9A29-F32BC8CB538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5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4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4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98A8-35A9-493D-954A-F27CF6BE9E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27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E29F-AC73-4A4A-94AA-840B2314746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84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6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897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F9FA-ABF3-467B-A1FC-F4237FEFD65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9EE6-25EC-49FE-82E0-719C4CE5FF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013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015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9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020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5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026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9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030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34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7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038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425E-2618-4811-BBF6-767668BB98B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32A4-F07B-4223-B0E5-DB5F99B482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A54A-072B-4313-8355-BEE66C31F1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36B6-7A1D-47FA-8C12-B11A9257E62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8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9" name="PlaceHolder 1"/>
          <p:cNvSpPr>
            <a:spLocks noGrp="1"/>
          </p:cNvSpPr>
          <p:nvPr>
            <p:ph type="dt" idx="6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ftr" idx="6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6136-D1DC-43FB-9906-EB703EA15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F242-72F4-49B2-A0BB-6223DE5468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dt" idx="70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 type="ftr" idx="7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5"/>
          <p:cNvSpPr>
            <a:spLocks noGrp="1"/>
          </p:cNvSpPr>
          <p:nvPr>
            <p:ph type="sldNum" idx="7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3E762-5F13-4D01-8E00-DABD66BDD8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31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1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32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32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32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2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3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3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33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33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34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34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34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35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35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35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5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35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36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36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36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37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37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37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38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38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38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38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39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39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40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40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40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40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41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1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1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2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2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42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2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F3F0-D0C6-401D-A28F-21191FECB09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95F9-8A19-4F14-928E-103D113425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7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498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892C-90FE-4CA3-A206-EC83D55AB5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545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8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8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8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E092-B420-44F7-9C89-85FE294C95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ftr" idx="8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sldNum" idx="8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6931-00CF-4764-A1B7-088E7A805C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641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4" name="PlaceHolder 5"/>
          <p:cNvSpPr>
            <a:spLocks noGrp="1"/>
          </p:cNvSpPr>
          <p:nvPr>
            <p:ph type="dt" idx="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6B0F-65A3-4758-90F7-E9502A0D885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1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692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D6C4-354D-4E3F-A2F0-D0621229E7F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3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C9A5-5FD6-4250-AA5E-92941CCE07D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CC2B-08C8-496F-BE37-AE87FD35164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85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85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 type="dt" idx="9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 type="ftr" idx="9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DB4C-78B3-4B0E-8A4F-A0A272CC9D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 type="dt" idx="100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 type="ftr" idx="101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PlaceHolder 5"/>
          <p:cNvSpPr>
            <a:spLocks noGrp="1"/>
          </p:cNvSpPr>
          <p:nvPr>
            <p:ph type="sldNum" idx="102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A50B-D932-476B-8810-9DCCD3C11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949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1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953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95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0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962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0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sldNum" idx="10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3CAE-D536-463C-9E12-F7402DDFBA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ftr" idx="10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1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dt" idx="10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FFBE-0E91-47C5-9A04-C72A24608A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2065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dt" idx="10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5EC8-F423-43E3-A808-452F7A94D3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1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1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1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1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1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1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6E4D-D271-4C57-9B6A-0EC4A7579A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6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 type="dt" idx="1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11FB-7D3B-40E7-B3C7-88D7ABD0F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CE71-67C4-4645-9FD4-935924ED7C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6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6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2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2223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5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2226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 type="dt" idx="11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 type="ftr" idx="11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 type="sldNum" idx="12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9ED4-8007-4D66-88BA-7C1056F985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9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70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4" name="PlaceHolder 3"/>
          <p:cNvSpPr>
            <a:spLocks noGrp="1"/>
          </p:cNvSpPr>
          <p:nvPr>
            <p:ph type="dt" idx="1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6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A629-1E80-4D95-9217-D786A5DA666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3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314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 type="dt" idx="1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047E-6D06-4E1D-B8AB-02F47F4B8C1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37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37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40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9" name="PlaceHolder 3"/>
          <p:cNvSpPr>
            <a:spLocks noGrp="1"/>
          </p:cNvSpPr>
          <p:nvPr>
            <p:ph type="dt" idx="12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4"/>
          <p:cNvSpPr>
            <a:spLocks noGrp="1"/>
          </p:cNvSpPr>
          <p:nvPr>
            <p:ph type="ftr" idx="1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1" name="PlaceHolder 5"/>
          <p:cNvSpPr>
            <a:spLocks noGrp="1"/>
          </p:cNvSpPr>
          <p:nvPr>
            <p:ph type="sldNum" idx="12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42F3-689C-453F-A377-8B19BB17AA2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44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 type="dt" idx="13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 type="ftr" idx="13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D8D0-3BB7-48FD-8374-8AF1BD6AB2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52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3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853A-5143-4ABF-804A-62B366D2B1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58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59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2" name="PlaceHolder 3"/>
          <p:cNvSpPr>
            <a:spLocks noGrp="1"/>
          </p:cNvSpPr>
          <p:nvPr>
            <p:ph type="dt" idx="1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4"/>
          <p:cNvSpPr>
            <a:spLocks noGrp="1"/>
          </p:cNvSpPr>
          <p:nvPr>
            <p:ph type="ftr" idx="1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D912-A1C9-4500-9EBA-6D6ED1A9173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7"/>
    <p:sldLayoutId id="2147484235" r:id="rId8"/>
    <p:sldLayoutId id="2147484236" r:id="rId9"/>
    <p:sldLayoutId id="2147484237" r:id="rId10"/>
    <p:sldLayoutId id="2147484238" r:id="rId11"/>
    <p:sldLayoutId id="2147484239" r:id="rId12"/>
    <p:sldLayoutId id="2147484240" r:id="rId13"/>
    <p:sldLayoutId id="2147484241" r:id="rId14"/>
    <p:sldLayoutId id="2147484242" r:id="rId15"/>
    <p:sldLayoutId id="2147484243" r:id="rId16"/>
    <p:sldLayoutId id="2147484244" r:id="rId17"/>
    <p:sldLayoutId id="2147484245" r:id="rId18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66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624C-1246-4842-945E-6BC803E1D23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0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11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12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9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5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726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9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730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3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2734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7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738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1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742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5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5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DF9A-E065-4F5E-85CE-A8A63FBF0BD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 type="dt" idx="14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PlaceHolder 4"/>
          <p:cNvSpPr>
            <a:spLocks noGrp="1"/>
          </p:cNvSpPr>
          <p:nvPr>
            <p:ph type="ftr" idx="14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8671-59F4-47FA-9AA9-028CDBC70C6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1751-2079-448A-AE83-132DF4035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6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2837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4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5" name="PlaceHolder 3"/>
          <p:cNvSpPr>
            <a:spLocks noGrp="1"/>
          </p:cNvSpPr>
          <p:nvPr>
            <p:ph type="dt" idx="14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4"/>
          <p:cNvSpPr>
            <a:spLocks noGrp="1"/>
          </p:cNvSpPr>
          <p:nvPr>
            <p:ph type="ftr" idx="14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PlaceHolder 5"/>
          <p:cNvSpPr>
            <a:spLocks noGrp="1"/>
          </p:cNvSpPr>
          <p:nvPr>
            <p:ph type="sldNum" idx="15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A912-DA46-4CA0-9230-487FE2153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 type="ftr" idx="1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 type="sldNum" idx="1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19F4-55B1-40F4-9EA5-134CE1F3E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PlaceHolder 5"/>
          <p:cNvSpPr>
            <a:spLocks noGrp="1"/>
          </p:cNvSpPr>
          <p:nvPr>
            <p:ph type="dt" idx="1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6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2927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4" name="PlaceHolder 3"/>
          <p:cNvSpPr>
            <a:spLocks noGrp="1"/>
          </p:cNvSpPr>
          <p:nvPr>
            <p:ph type="dt" idx="15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PlaceHolder 5"/>
          <p:cNvSpPr>
            <a:spLocks noGrp="1"/>
          </p:cNvSpPr>
          <p:nvPr>
            <p:ph type="sldNum" idx="15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31D6-0520-4AE0-A201-FA44876187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3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2974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75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7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2978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979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980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1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2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983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984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5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6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987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8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9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990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1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2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993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4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5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996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7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98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999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0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1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002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3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4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005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6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7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008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9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0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011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2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3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014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5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6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017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8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9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020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1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2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023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4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5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026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7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28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029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0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1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032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3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4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035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6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7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038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9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0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041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2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3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044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5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46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7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48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049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0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1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052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3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4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055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6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57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58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9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0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61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2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3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64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5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6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067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8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69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070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1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2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073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4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5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076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7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8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079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0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081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3082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3083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4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5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6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7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8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90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91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3092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8" name="PlaceHolder 3"/>
          <p:cNvSpPr>
            <a:spLocks noGrp="1"/>
          </p:cNvSpPr>
          <p:nvPr>
            <p:ph type="dt" idx="15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0" name="PlaceHolder 5"/>
          <p:cNvSpPr>
            <a:spLocks noGrp="1"/>
          </p:cNvSpPr>
          <p:nvPr>
            <p:ph type="sldNum" idx="15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3278-08FD-4A3F-81D2-2A43DE1C49F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E24A-1A40-473E-B7FC-92154DE31D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319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205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6A8C-24C9-42D0-819D-5EE9763DCDC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5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246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247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9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3250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2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 type="dt" idx="16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 type="ftr" idx="16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5"/>
          <p:cNvSpPr>
            <a:spLocks noGrp="1"/>
          </p:cNvSpPr>
          <p:nvPr>
            <p:ph type="sldNum" idx="16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A385-44BD-437E-9D83-C917195329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7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298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1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 type="dt" idx="16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 type="ftr" idx="17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 type="sldNum" idx="17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F184-50B8-4CBF-A909-E508CAC12D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8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2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1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9FEC-4EFA-4945-B027-7F4526F713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CFBA-ADB8-4251-864C-D45DA55A07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70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E2A2-5F96-4624-9D8B-8EFD9EA8C7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1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1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7042-D0F8-49C8-B771-B7EB0AEBFB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October_14" TargetMode="External"/><Relationship Id="rId3" Type="http://schemas.openxmlformats.org/officeDocument/2006/relationships/hyperlink" Target="http://en.wikipedia.org/wiki/1943" TargetMode="External"/><Relationship Id="rId4" Type="http://schemas.openxmlformats.org/officeDocument/2006/relationships/hyperlink" Target="http://en.wikipedia.org/wiki/August_17" TargetMode="External"/><Relationship Id="rId5" Type="http://schemas.openxmlformats.org/officeDocument/2006/relationships/hyperlink" Target="http://en.wikipedia.org/wiki/1945" TargetMode="External"/><Relationship Id="rId6" Type="http://schemas.openxmlformats.org/officeDocument/2006/relationships/hyperlink" Target="http://en.wikipedia.org/wiki/February_29" TargetMode="External"/><Relationship Id="rId7" Type="http://schemas.openxmlformats.org/officeDocument/2006/relationships/hyperlink" Target="http://en.wikipedia.org/wiki/1936" TargetMode="External"/><Relationship Id="rId8" Type="http://schemas.openxmlformats.org/officeDocument/2006/relationships/hyperlink" Target="http://en.wikipedia.org/wiki/February_5" TargetMode="External"/><Relationship Id="rId9" Type="http://schemas.openxmlformats.org/officeDocument/2006/relationships/hyperlink" Target="http://en.wikipedia.org/wiki/1942" TargetMode="External"/><Relationship Id="rId10" Type="http://schemas.openxmlformats.org/officeDocument/2006/relationships/hyperlink" Target="http://en.wikipedia.org/wiki/March_9" TargetMode="External"/><Relationship Id="rId11" Type="http://schemas.openxmlformats.org/officeDocument/2006/relationships/hyperlink" Target="http://en.wikipedia.org/wiki/1891" TargetMode="External"/><Relationship Id="rId12" Type="http://schemas.openxmlformats.org/officeDocument/2006/relationships/hyperlink" Target="http://en.wikipedia.org/wiki/Tanauan_City" TargetMode="External"/><Relationship Id="rId13" Type="http://schemas.openxmlformats.org/officeDocument/2006/relationships/hyperlink" Target="http://en.wikipedia.org/wiki/Batangas" TargetMode="External"/><Relationship Id="rId14" Type="http://schemas.openxmlformats.org/officeDocument/2006/relationships/hyperlink" Target="http://en.wikipedia.org/wiki/November_6" TargetMode="External"/><Relationship Id="rId15" Type="http://schemas.openxmlformats.org/officeDocument/2006/relationships/hyperlink" Target="http://en.wikipedia.org/wiki/1959" TargetMode="External"/><Relationship Id="rId16" Type="http://schemas.openxmlformats.org/officeDocument/2006/relationships/hyperlink" Target="http://en.wikipedia.org/wiki/Manila" TargetMode="External"/><Relationship Id="rId17" Type="http://schemas.openxmlformats.org/officeDocument/2006/relationships/hyperlink" Target="http://en.wikipedia.org/wiki/Kapisanan_ng_Paglilingkod_sa_Bagong_Pilipinas" TargetMode="External"/><Relationship Id="rId18" Type="http://schemas.openxmlformats.org/officeDocument/2006/relationships/hyperlink" Target="http://en.wikipedia.org/wiki/Pacencia_Laurel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45.xml"/><Relationship Id="rId2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ndb.com/lists/838/000106520/" TargetMode="External"/><Relationship Id="rId2" Type="http://schemas.openxmlformats.org/officeDocument/2006/relationships/hyperlink" Target="http://www.nndb.com/lists/889/000105574/" TargetMode="External"/><Relationship Id="rId3" Type="http://schemas.openxmlformats.org/officeDocument/2006/relationships/hyperlink" Target="http://www.nndb.com/lists/943/000106625/" TargetMode="External"/><Relationship Id="rId4" Type="http://schemas.openxmlformats.org/officeDocument/2006/relationships/hyperlink" Target="http://www.nndb.com/lists/466/000106148/" TargetMode="External"/><Relationship Id="rId5" Type="http://schemas.openxmlformats.org/officeDocument/2006/relationships/hyperlink" Target="http://www.nndb.com/geo/878/000069671/" TargetMode="External"/><Relationship Id="rId6" Type="http://schemas.openxmlformats.org/officeDocument/2006/relationships/hyperlink" Target="http://www.nndb.com/lists/758/000094476/" TargetMode="External"/><Relationship Id="rId7" Type="http://schemas.openxmlformats.org/officeDocument/2006/relationships/hyperlink" Target="http://www.nndb.com/gov/072/000051916/" TargetMode="External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estrada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30" TargetMode="External"/><Relationship Id="rId3" Type="http://schemas.openxmlformats.org/officeDocument/2006/relationships/hyperlink" Target="http://en.wikipedia.org/wiki/1992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8" TargetMode="External"/><Relationship Id="rId6" Type="http://schemas.openxmlformats.org/officeDocument/2006/relationships/hyperlink" Target="http://en.wikipedia.org/wiki/April_19" TargetMode="External"/><Relationship Id="rId7" Type="http://schemas.openxmlformats.org/officeDocument/2006/relationships/hyperlink" Target="http://en.wikipedia.org/wiki/1937" TargetMode="External"/><Relationship Id="rId8" Type="http://schemas.openxmlformats.org/officeDocument/2006/relationships/hyperlink" Target="http://en.wikipedia.org/wiki/Tondo" TargetMode="External"/><Relationship Id="rId9" Type="http://schemas.openxmlformats.org/officeDocument/2006/relationships/hyperlink" Target="http://en.wikipedia.org/wiki/Manila" TargetMode="External"/><Relationship Id="rId10" Type="http://schemas.openxmlformats.org/officeDocument/2006/relationships/hyperlink" Target="http://en.wikipedia.org/wiki/Partido_ng_Masang_Pilipino" TargetMode="External"/><Relationship Id="rId11" Type="http://schemas.openxmlformats.org/officeDocument/2006/relationships/hyperlink" Target="http://en.wikipedia.org/wiki/Loi_Estrada" TargetMode="External"/><Relationship Id="rId12" Type="http://schemas.openxmlformats.org/officeDocument/2006/relationships/hyperlink" Target="http://en.wikipedia.org/wiki/Actor" TargetMode="External"/><Relationship Id="rId13" Type="http://schemas.openxmlformats.org/officeDocument/2006/relationships/hyperlink" Target="http://en.wikipedia.org/wiki/Roman_Catholic_Church" TargetMode="External"/><Relationship Id="rId14" Type="http://schemas.openxmlformats.org/officeDocument/2006/relationships/image" Target="../media/image14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69.xml"/><Relationship Id="rId1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August_1" TargetMode="External"/><Relationship Id="rId3" Type="http://schemas.openxmlformats.org/officeDocument/2006/relationships/hyperlink" Target="http://en.wikipedia.org/wiki/1944" TargetMode="External"/><Relationship Id="rId4" Type="http://schemas.openxmlformats.org/officeDocument/2006/relationships/hyperlink" Target="http://en.wikipedia.org/wiki/May_28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November_15" TargetMode="External"/><Relationship Id="rId7" Type="http://schemas.openxmlformats.org/officeDocument/2006/relationships/hyperlink" Target="http://en.wikipedia.org/wiki/1935" TargetMode="External"/><Relationship Id="rId8" Type="http://schemas.openxmlformats.org/officeDocument/2006/relationships/hyperlink" Target="http://en.wikipedia.org/wiki/August_1" TargetMode="External"/><Relationship Id="rId9" Type="http://schemas.openxmlformats.org/officeDocument/2006/relationships/hyperlink" Target="http://en.wikipedia.org/wiki/1944" TargetMode="External"/><Relationship Id="rId10" Type="http://schemas.openxmlformats.org/officeDocument/2006/relationships/hyperlink" Target="http://en.wikipedia.org/wiki/September_9" TargetMode="External"/><Relationship Id="rId11" Type="http://schemas.openxmlformats.org/officeDocument/2006/relationships/hyperlink" Target="http://en.wikipedia.org/wiki/1878" TargetMode="External"/><Relationship Id="rId12" Type="http://schemas.openxmlformats.org/officeDocument/2006/relationships/hyperlink" Target="http://en.wikipedia.org/wiki/Cebu_City" TargetMode="External"/><Relationship Id="rId13" Type="http://schemas.openxmlformats.org/officeDocument/2006/relationships/hyperlink" Target="http://en.wikipedia.org/wiki/Cebu_Province" TargetMode="External"/><Relationship Id="rId14" Type="http://schemas.openxmlformats.org/officeDocument/2006/relationships/hyperlink" Target="http://en.wikipedia.org/wiki/October_19" TargetMode="External"/><Relationship Id="rId15" Type="http://schemas.openxmlformats.org/officeDocument/2006/relationships/hyperlink" Target="http://en.wikipedia.org/wiki/1961" TargetMode="External"/><Relationship Id="rId16" Type="http://schemas.openxmlformats.org/officeDocument/2006/relationships/hyperlink" Target="http://en.wikipedia.org/wiki/Quezon_City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Esperanza_Osme&#241;a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181.xml"/><Relationship Id="rId2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arroyo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Incumbent" TargetMode="External"/><Relationship Id="rId3" Type="http://schemas.openxmlformats.org/officeDocument/2006/relationships/hyperlink" Target="http://en.wikipedia.org/wiki/January_20" TargetMode="External"/><Relationship Id="rId4" Type="http://schemas.openxmlformats.org/officeDocument/2006/relationships/hyperlink" Target="http://en.wikipedia.org/wiki/2001" TargetMode="External"/><Relationship Id="rId5" Type="http://schemas.openxmlformats.org/officeDocument/2006/relationships/hyperlink" Target="http://en.wikipedia.org/wiki/Noli_de_Castro" TargetMode="External"/><Relationship Id="rId6" Type="http://schemas.openxmlformats.org/officeDocument/2006/relationships/hyperlink" Target="http://en.wikipedia.org/wiki/April_5" TargetMode="External"/><Relationship Id="rId7" Type="http://schemas.openxmlformats.org/officeDocument/2006/relationships/hyperlink" Target="http://en.wikipedia.org/wiki/1947" TargetMode="External"/><Relationship Id="rId8" Type="http://schemas.openxmlformats.org/officeDocument/2006/relationships/hyperlink" Target="http://en.wikipedia.org/wiki/San_Juan,_Metro_Manila" TargetMode="External"/><Relationship Id="rId9" Type="http://schemas.openxmlformats.org/officeDocument/2006/relationships/hyperlink" Target="http://en.wikipedia.org/wiki/Rizal" TargetMode="External"/><Relationship Id="rId10" Type="http://schemas.openxmlformats.org/officeDocument/2006/relationships/hyperlink" Target="http://en.wikipedia.org/wiki/Laban_ng_Demokratikong_Pilipino" TargetMode="External"/><Relationship Id="rId11" Type="http://schemas.openxmlformats.org/officeDocument/2006/relationships/hyperlink" Target="http://en.wikipedia.org/wiki/Lakas-Christian_Muslim_Democrats" TargetMode="External"/><Relationship Id="rId12" Type="http://schemas.openxmlformats.org/officeDocument/2006/relationships/hyperlink" Target="http://en.wikipedia.org/wiki/Kabalikat_ng_Malayang_Pilipino" TargetMode="External"/><Relationship Id="rId13" Type="http://schemas.openxmlformats.org/officeDocument/2006/relationships/hyperlink" Target="http://en.wikipedia.org/wiki/Jose_Miguel_Arroyo" TargetMode="External"/><Relationship Id="rId14" Type="http://schemas.openxmlformats.org/officeDocument/2006/relationships/hyperlink" Target="http://en.wikipedia.org/wiki/Economist" TargetMode="External"/><Relationship Id="rId15" Type="http://schemas.openxmlformats.org/officeDocument/2006/relationships/hyperlink" Target="http://en.wikipedia.org/wiki/Roman_Catholic" TargetMode="External"/><Relationship Id="rId16" Type="http://schemas.openxmlformats.org/officeDocument/2006/relationships/slideLayout" Target="../slideLayouts/slideLayout193.xml"/><Relationship Id="rId1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y_28" TargetMode="External"/><Relationship Id="rId3" Type="http://schemas.openxmlformats.org/officeDocument/2006/relationships/hyperlink" Target="http://en.wikipedia.org/wiki/1946" TargetMode="External"/><Relationship Id="rId4" Type="http://schemas.openxmlformats.org/officeDocument/2006/relationships/hyperlink" Target="http://en.wikipedia.org/wiki/July_4" TargetMode="External"/><Relationship Id="rId5" Type="http://schemas.openxmlformats.org/officeDocument/2006/relationships/hyperlink" Target="http://en.wikipedia.org/wiki/1946" TargetMode="External"/><Relationship Id="rId6" Type="http://schemas.openxmlformats.org/officeDocument/2006/relationships/hyperlink" Target="http://en.wikipedia.org/wiki/April_15" TargetMode="External"/><Relationship Id="rId7" Type="http://schemas.openxmlformats.org/officeDocument/2006/relationships/hyperlink" Target="http://en.wikipedia.org/wiki/1948" TargetMode="External"/><Relationship Id="rId8" Type="http://schemas.openxmlformats.org/officeDocument/2006/relationships/hyperlink" Target="http://en.wikipedia.org/wiki/January_1" TargetMode="External"/><Relationship Id="rId9" Type="http://schemas.openxmlformats.org/officeDocument/2006/relationships/hyperlink" Target="http://en.wikipedia.org/wiki/1892" TargetMode="External"/><Relationship Id="rId10" Type="http://schemas.openxmlformats.org/officeDocument/2006/relationships/hyperlink" Target="http://en.wikipedia.org/wiki/Roxas_City" TargetMode="External"/><Relationship Id="rId11" Type="http://schemas.openxmlformats.org/officeDocument/2006/relationships/hyperlink" Target="http://en.wikipedia.org/wiki/Capiz" TargetMode="External"/><Relationship Id="rId12" Type="http://schemas.openxmlformats.org/officeDocument/2006/relationships/hyperlink" Target="http://en.wikipedia.org/wiki/April_15" TargetMode="External"/><Relationship Id="rId13" Type="http://schemas.openxmlformats.org/officeDocument/2006/relationships/hyperlink" Target="http://en.wikipedia.org/wiki/1948" TargetMode="External"/><Relationship Id="rId14" Type="http://schemas.openxmlformats.org/officeDocument/2006/relationships/hyperlink" Target="http://en.wikipedia.org/wiki/Clark_Air_Base" TargetMode="External"/><Relationship Id="rId15" Type="http://schemas.openxmlformats.org/officeDocument/2006/relationships/hyperlink" Target="http://en.wikipedia.org/wiki/Angeles" TargetMode="External"/><Relationship Id="rId16" Type="http://schemas.openxmlformats.org/officeDocument/2006/relationships/hyperlink" Target="http://en.wikipedia.org/wiki/Pampanga" TargetMode="External"/><Relationship Id="rId17" Type="http://schemas.openxmlformats.org/officeDocument/2006/relationships/hyperlink" Target="http://en.wikipedia.org/wiki/Trinidad_Roxas" TargetMode="External"/><Relationship Id="rId18" Type="http://schemas.openxmlformats.org/officeDocument/2006/relationships/hyperlink" Target="http://en.wikipedia.org/wiki/Lawyer" TargetMode="External"/><Relationship Id="rId19" Type="http://schemas.openxmlformats.org/officeDocument/2006/relationships/hyperlink" Target="http://en.wikipedia.org/wiki/Roman_Catholic_Church" TargetMode="External"/><Relationship Id="rId20" Type="http://schemas.openxmlformats.org/officeDocument/2006/relationships/image" Target="../media/image18.jpeg"/><Relationship Id="rId21" Type="http://schemas.openxmlformats.org/officeDocument/2006/relationships/image" Target="../media/image18.jpeg"/><Relationship Id="rId22" Type="http://schemas.openxmlformats.org/officeDocument/2006/relationships/slideLayout" Target="../slideLayouts/slideLayout205.xml"/><Relationship Id="rId2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nndb.com/lists/761/000106443/" TargetMode="External"/><Relationship Id="rId2" Type="http://schemas.openxmlformats.org/officeDocument/2006/relationships/hyperlink" Target="http://www.nndb.com/lists/906/000105591/" TargetMode="External"/><Relationship Id="rId3" Type="http://schemas.openxmlformats.org/officeDocument/2006/relationships/hyperlink" Target="http://www.nndb.com/lists/960/000106642/" TargetMode="External"/><Relationship Id="rId4" Type="http://schemas.openxmlformats.org/officeDocument/2006/relationships/hyperlink" Target="http://www.nndb.com/lists/467/000106149/" TargetMode="External"/><Relationship Id="rId5" Type="http://schemas.openxmlformats.org/officeDocument/2006/relationships/hyperlink" Target="http://www.nndb.com/lists/332/000069125/" TargetMode="External"/><Relationship Id="rId6" Type="http://schemas.openxmlformats.org/officeDocument/2006/relationships/hyperlink" Target="http://www.nndb.com/gov/072/000051916/" TargetMode="External"/><Relationship Id="rId7" Type="http://schemas.openxmlformats.org/officeDocument/2006/relationships/image" Target="../media/image20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nndb.com/lists/826/000106508/" TargetMode="External"/><Relationship Id="rId2" Type="http://schemas.openxmlformats.org/officeDocument/2006/relationships/hyperlink" Target="http://www.nndb.com/lists/895/000105580/" TargetMode="External"/><Relationship Id="rId3" Type="http://schemas.openxmlformats.org/officeDocument/2006/relationships/hyperlink" Target="http://www.nndb.com/lists/052/000106731/" TargetMode="External"/><Relationship Id="rId4" Type="http://schemas.openxmlformats.org/officeDocument/2006/relationships/hyperlink" Target="http://www.nndb.com/lists/481/000106163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slideLayout" Target="../slideLayouts/slideLayout253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June_12" TargetMode="External"/><Relationship Id="rId3" Type="http://schemas.openxmlformats.org/officeDocument/2006/relationships/hyperlink" Target="http://en.wikipedia.org/wiki/1978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81" TargetMode="External"/><Relationship Id="rId6" Type="http://schemas.openxmlformats.org/officeDocument/2006/relationships/hyperlink" Target="http://en.wikipedia.org/wiki/September_11" TargetMode="External"/><Relationship Id="rId7" Type="http://schemas.openxmlformats.org/officeDocument/2006/relationships/hyperlink" Target="http://en.wikipedia.org/wiki/1917" TargetMode="External"/><Relationship Id="rId8" Type="http://schemas.openxmlformats.org/officeDocument/2006/relationships/hyperlink" Target="http://en.wikipedia.org/wiki/Sarrat,_Ilocos_Norte" TargetMode="External"/><Relationship Id="rId9" Type="http://schemas.openxmlformats.org/officeDocument/2006/relationships/hyperlink" Target="http://en.wikipedia.org/wiki/Ilocos_Norte" TargetMode="External"/><Relationship Id="rId10" Type="http://schemas.openxmlformats.org/officeDocument/2006/relationships/hyperlink" Target="http://en.wikipedia.org/wiki/Philippines" TargetMode="External"/><Relationship Id="rId11" Type="http://schemas.openxmlformats.org/officeDocument/2006/relationships/hyperlink" Target="http://en.wikipedia.org/wiki/Imelda_Marcos" TargetMode="External"/><Relationship Id="rId12" Type="http://schemas.openxmlformats.org/officeDocument/2006/relationships/slideLayout" Target="../slideLayouts/slideLayout265.xml"/><Relationship Id="rId1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resident_of_the_Philippines" TargetMode="External"/><Relationship Id="rId2" Type="http://schemas.openxmlformats.org/officeDocument/2006/relationships/hyperlink" Target="http://en.wikipedia.org/wiki/March_22" TargetMode="External"/><Relationship Id="rId3" Type="http://schemas.openxmlformats.org/officeDocument/2006/relationships/hyperlink" Target="http://en.wikipedia.org/wiki/1897" TargetMode="External"/><Relationship Id="rId4" Type="http://schemas.openxmlformats.org/officeDocument/2006/relationships/hyperlink" Target="http://en.wikipedia.org/wiki/April_1" TargetMode="External"/><Relationship Id="rId5" Type="http://schemas.openxmlformats.org/officeDocument/2006/relationships/hyperlink" Target="http://en.wikipedia.org/wiki/1901" TargetMode="External"/><Relationship Id="rId6" Type="http://schemas.openxmlformats.org/officeDocument/2006/relationships/hyperlink" Target="http://en.wikipedia.org/wiki/March_22" TargetMode="External"/><Relationship Id="rId7" Type="http://schemas.openxmlformats.org/officeDocument/2006/relationships/hyperlink" Target="http://en.wikipedia.org/wiki/1869" TargetMode="External"/><Relationship Id="rId8" Type="http://schemas.openxmlformats.org/officeDocument/2006/relationships/hyperlink" Target="http://en.wikipedia.org/wiki/Kawit,_Cavite" TargetMode="External"/><Relationship Id="rId9" Type="http://schemas.openxmlformats.org/officeDocument/2006/relationships/hyperlink" Target="http://en.wikipedia.org/wiki/Cavite" TargetMode="External"/><Relationship Id="rId10" Type="http://schemas.openxmlformats.org/officeDocument/2006/relationships/hyperlink" Target="http://en.wikipedia.org/wiki/February_6" TargetMode="External"/><Relationship Id="rId11" Type="http://schemas.openxmlformats.org/officeDocument/2006/relationships/hyperlink" Target="http://en.wikipedia.org/wiki/1964" TargetMode="External"/><Relationship Id="rId12" Type="http://schemas.openxmlformats.org/officeDocument/2006/relationships/hyperlink" Target="http://en.wikipedia.org/wiki/Quezon_City" TargetMode="External"/><Relationship Id="rId13" Type="http://schemas.openxmlformats.org/officeDocument/2006/relationships/hyperlink" Target="http://en.wikipedia.org/wiki/Metro_Manila" TargetMode="External"/><Relationship Id="rId14" Type="http://schemas.openxmlformats.org/officeDocument/2006/relationships/hyperlink" Target="http://en.wikipedia.org/wiki/Hilaria_Aguinaldo" TargetMode="External"/><Relationship Id="rId15" Type="http://schemas.openxmlformats.org/officeDocument/2006/relationships/hyperlink" Target="http://en.wikipedia.org/wiki/Military" TargetMode="External"/><Relationship Id="rId16" Type="http://schemas.openxmlformats.org/officeDocument/2006/relationships/hyperlink" Target="http://en.wikipedia.org/wiki/Roman_Catholic_Church" TargetMode="External"/><Relationship Id="rId17" Type="http://schemas.openxmlformats.org/officeDocument/2006/relationships/slideLayout" Target="../slideLayouts/slideLayout289.xml"/><Relationship Id="rId18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Ph_pres_ramos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0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Quezon_Sig.pn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November_15" TargetMode="External"/><Relationship Id="rId5" Type="http://schemas.openxmlformats.org/officeDocument/2006/relationships/hyperlink" Target="http://en.wikipedia.org/wiki/1935" TargetMode="External"/><Relationship Id="rId6" Type="http://schemas.openxmlformats.org/officeDocument/2006/relationships/hyperlink" Target="http://en.wikipedia.org/wiki/August_1" TargetMode="External"/><Relationship Id="rId7" Type="http://schemas.openxmlformats.org/officeDocument/2006/relationships/hyperlink" Target="http://en.wikipedia.org/wiki/1944" TargetMode="External"/><Relationship Id="rId8" Type="http://schemas.openxmlformats.org/officeDocument/2006/relationships/hyperlink" Target="http://en.wikipedia.org/wiki/August_19" TargetMode="External"/><Relationship Id="rId9" Type="http://schemas.openxmlformats.org/officeDocument/2006/relationships/hyperlink" Target="http://en.wikipedia.org/wiki/1878" TargetMode="External"/><Relationship Id="rId10" Type="http://schemas.openxmlformats.org/officeDocument/2006/relationships/hyperlink" Target="http://en.wikipedia.org/wiki/Baler,_Aurora" TargetMode="External"/><Relationship Id="rId11" Type="http://schemas.openxmlformats.org/officeDocument/2006/relationships/hyperlink" Target="http://en.wikipedia.org/wiki/Aurora_province" TargetMode="External"/><Relationship Id="rId12" Type="http://schemas.openxmlformats.org/officeDocument/2006/relationships/hyperlink" Target="http://en.wikipedia.org/wiki/August_1" TargetMode="External"/><Relationship Id="rId13" Type="http://schemas.openxmlformats.org/officeDocument/2006/relationships/hyperlink" Target="http://en.wikipedia.org/wiki/1944" TargetMode="External"/><Relationship Id="rId14" Type="http://schemas.openxmlformats.org/officeDocument/2006/relationships/hyperlink" Target="http://en.wikipedia.org/wiki/Saranac_Lake,_New_York" TargetMode="External"/><Relationship Id="rId15" Type="http://schemas.openxmlformats.org/officeDocument/2006/relationships/hyperlink" Target="http://en.wikipedia.org/wiki/New_York" TargetMode="External"/><Relationship Id="rId16" Type="http://schemas.openxmlformats.org/officeDocument/2006/relationships/hyperlink" Target="http://en.wikipedia.org/wiki/United_States" TargetMode="External"/><Relationship Id="rId17" Type="http://schemas.openxmlformats.org/officeDocument/2006/relationships/hyperlink" Target="http://en.wikipedia.org/wiki/Nacionalista_Party_(Philippines)" TargetMode="External"/><Relationship Id="rId18" Type="http://schemas.openxmlformats.org/officeDocument/2006/relationships/hyperlink" Target="http://en.wikipedia.org/wiki/Aurora_Quezon" TargetMode="External"/><Relationship Id="rId19" Type="http://schemas.openxmlformats.org/officeDocument/2006/relationships/hyperlink" Target="http://en.wikipedia.org/wiki/Lawyer" TargetMode="External"/><Relationship Id="rId20" Type="http://schemas.openxmlformats.org/officeDocument/2006/relationships/hyperlink" Target="http://en.wikipedia.org/wiki/Roman_Catholic_Church" TargetMode="External"/><Relationship Id="rId21" Type="http://schemas.openxmlformats.org/officeDocument/2006/relationships/slideLayout" Target="../slideLayouts/slideLayout61.xml"/><Relationship Id="rId2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Ramos_Sig.png" TargetMode="External"/><Relationship Id="rId2" Type="http://schemas.openxmlformats.org/officeDocument/2006/relationships/image" Target="../media/image25.png"/><Relationship Id="rId3" Type="http://schemas.openxmlformats.org/officeDocument/2006/relationships/hyperlink" Target="http://en.wikipedia.org/wiki/President_of_the_Philippines" TargetMode="External"/><Relationship Id="rId4" Type="http://schemas.openxmlformats.org/officeDocument/2006/relationships/hyperlink" Target="http://en.wikipedia.org/wiki/June_30" TargetMode="External"/><Relationship Id="rId5" Type="http://schemas.openxmlformats.org/officeDocument/2006/relationships/hyperlink" Target="http://en.wikipedia.org/wiki/1992" TargetMode="External"/><Relationship Id="rId6" Type="http://schemas.openxmlformats.org/officeDocument/2006/relationships/hyperlink" Target="http://en.wikipedia.org/wiki/June_30" TargetMode="External"/><Relationship Id="rId7" Type="http://schemas.openxmlformats.org/officeDocument/2006/relationships/hyperlink" Target="http://en.wikipedia.org/wiki/1998" TargetMode="External"/><Relationship Id="rId8" Type="http://schemas.openxmlformats.org/officeDocument/2006/relationships/hyperlink" Target="http://en.wikipedia.org/wiki/March_18" TargetMode="External"/><Relationship Id="rId9" Type="http://schemas.openxmlformats.org/officeDocument/2006/relationships/hyperlink" Target="http://en.wikipedia.org/wiki/1928" TargetMode="External"/><Relationship Id="rId10" Type="http://schemas.openxmlformats.org/officeDocument/2006/relationships/hyperlink" Target="http://en.wikipedia.org/wiki/Lingayen,_Pangasinan" TargetMode="External"/><Relationship Id="rId11" Type="http://schemas.openxmlformats.org/officeDocument/2006/relationships/hyperlink" Target="http://en.wikipedia.org/wiki/Pangasinan" TargetMode="External"/><Relationship Id="rId12" Type="http://schemas.openxmlformats.org/officeDocument/2006/relationships/hyperlink" Target="http://en.wikipedia.org/wiki/Philippines" TargetMode="External"/><Relationship Id="rId13" Type="http://schemas.openxmlformats.org/officeDocument/2006/relationships/slideLayout" Target="../slideLayouts/slideLayout109.xml"/><Relationship Id="rId1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ndb.com/lists/542/000106224/" TargetMode="External"/><Relationship Id="rId2" Type="http://schemas.openxmlformats.org/officeDocument/2006/relationships/hyperlink" Target="http://www.nndb.com/lists/932/000105617/" TargetMode="External"/><Relationship Id="rId3" Type="http://schemas.openxmlformats.org/officeDocument/2006/relationships/hyperlink" Target="http://www.nndb.com/geo/878/000069671/" TargetMode="External"/><Relationship Id="rId4" Type="http://schemas.openxmlformats.org/officeDocument/2006/relationships/hyperlink" Target="http://www.nndb.com/people/237/000112898/" TargetMode="External"/><Relationship Id="rId5" Type="http://schemas.openxmlformats.org/officeDocument/2006/relationships/hyperlink" Target="http://www.nndb.com/gov/072/000051916/" TargetMode="External"/><Relationship Id="rId6" Type="http://schemas.openxmlformats.org/officeDocument/2006/relationships/hyperlink" Target="http://www.nndb.com/honors/347/000059170/" TargetMode="External"/><Relationship Id="rId7" Type="http://schemas.openxmlformats.org/officeDocument/2006/relationships/slideLayout" Target="../slideLayouts/slideLayout13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WordArt 6"/>
          <p:cNvSpPr txBox="1"/>
          <p:nvPr/>
        </p:nvSpPr>
        <p:spPr>
          <a:xfrm>
            <a:off x="762120" y="990720"/>
            <a:ext cx="7191360" cy="44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14 PRESIDENT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OF THE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Viner Hand ITC"/>
              </a:rPr>
              <a:t>PHILIPPINES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Viner Hand ITC"/>
              <a:ea typeface="Viner Hand ITC"/>
            </a:endParaRPr>
          </a:p>
        </p:txBody>
      </p:sp>
      <p:sp>
        <p:nvSpPr>
          <p:cNvPr id="33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3" name=""/>
          <p:cNvGraphicFramePr/>
          <p:nvPr/>
        </p:nvGraphicFramePr>
        <p:xfrm>
          <a:off x="1600200" y="1295280"/>
          <a:ext cx="6172200" cy="5386680"/>
        </p:xfrm>
        <a:graphic>
          <a:graphicData uri="http://schemas.openxmlformats.org/drawingml/2006/table">
            <a:tbl>
              <a:tblPr/>
              <a:tblGrid>
                <a:gridCol w="3124080"/>
                <a:gridCol w="3048120"/>
              </a:tblGrid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2n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October 1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ugust 1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9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February 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February 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March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Tana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Batang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November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5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Kapisanan ng Paglilingkod sa Bagong Pilipin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KALIBAP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Pacencia Hida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99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4" name="WordArt 24"/>
          <p:cNvSpPr txBox="1"/>
          <p:nvPr/>
        </p:nvSpPr>
        <p:spPr>
          <a:xfrm>
            <a:off x="1600200" y="457200"/>
            <a:ext cx="6095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empus Sans ITC"/>
              </a:rPr>
              <a:t>JOSE P. LAUREL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empus Sans ITC"/>
              <a:ea typeface="Tempus Sans ITC"/>
            </a:endParaRPr>
          </a:p>
        </p:txBody>
      </p:sp>
      <p:sp>
        <p:nvSpPr>
          <p:cNvPr id="3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3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3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6" name="Picture 2" descr="Elpidio Quirino"/>
          <p:cNvPicPr/>
          <p:nvPr/>
        </p:nvPicPr>
        <p:blipFill>
          <a:blip r:embed="rId1"/>
          <a:stretch/>
        </p:blipFill>
        <p:spPr>
          <a:xfrm>
            <a:off x="205740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3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8" name="WordArt 2"/>
          <p:cNvSpPr txBox="1"/>
          <p:nvPr/>
        </p:nvSpPr>
        <p:spPr>
          <a:xfrm>
            <a:off x="1324080" y="2089080"/>
            <a:ext cx="649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LPIDIO QUIR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NOLI DE CASTR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0" name="Rectangle 2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Rectangle 3"/>
          <p:cNvSpPr/>
          <p:nvPr/>
        </p:nvSpPr>
        <p:spPr>
          <a:xfrm>
            <a:off x="2590920" y="1468800"/>
            <a:ext cx="4343400" cy="50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1"/>
              </a:rPr>
              <a:t>16-Nov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2"/>
              </a:rPr>
              <a:t>189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Vigan, Ilocos Sur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3"/>
              </a:rPr>
              <a:t>29-Feb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4"/>
              </a:rPr>
              <a:t>1956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5"/>
              </a:rPr>
              <a:t>Manila,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elig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6"/>
              </a:rPr>
              <a:t>Roman Catholi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ultiracia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6th President of the Philippin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Ilocano (paternal) and Spanish (maternal) desc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riano Quirin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Gregoria Rive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Baskerville Old Face"/>
                <a:ea typeface="Times New Roman"/>
                <a:hlinkClick r:id="rId7"/>
              </a:rPr>
              <a:t>President of the Philippines</a:t>
            </a:r>
            <a:r>
              <a:rPr b="0" lang="en-US" sz="16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8-Apr-1948 to 30-Dec-1953</a:t>
            </a:r>
            <a:br>
              <a:rPr sz="16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WordArt 4"/>
          <p:cNvSpPr txBox="1"/>
          <p:nvPr/>
        </p:nvSpPr>
        <p:spPr>
          <a:xfrm>
            <a:off x="1828800" y="304920"/>
            <a:ext cx="5867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ELPIDIO QUIR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3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4" name="Picture 2" descr="Joseph Estra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04920"/>
            <a:ext cx="4938840" cy="6172200"/>
          </a:xfrm>
          <a:prstGeom prst="rect">
            <a:avLst/>
          </a:prstGeom>
          <a:ln w="0">
            <a:noFill/>
          </a:ln>
        </p:spPr>
      </p:pic>
      <p:sp>
        <p:nvSpPr>
          <p:cNvPr id="339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6" name="WordArt 2"/>
          <p:cNvSpPr txBox="1"/>
          <p:nvPr/>
        </p:nvSpPr>
        <p:spPr>
          <a:xfrm>
            <a:off x="1490760" y="2089080"/>
            <a:ext cx="61624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PIOLO PASCU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97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8" name="Rectangle 2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Rectangle 3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Rectangle 4"/>
          <p:cNvSpPr/>
          <p:nvPr/>
        </p:nvSpPr>
        <p:spPr>
          <a:xfrm>
            <a:off x="0" y="5731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1" name=""/>
          <p:cNvGraphicFramePr/>
          <p:nvPr/>
        </p:nvGraphicFramePr>
        <p:xfrm>
          <a:off x="1676520" y="304920"/>
          <a:ext cx="3962160" cy="624816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</a:tblGrid>
              <a:tr h="1657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3th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9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Tond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48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artido ng Masang Pilipin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PM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uisa Pimen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c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66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2" name="WordArt 22"/>
          <p:cNvSpPr txBox="1"/>
          <p:nvPr/>
        </p:nvSpPr>
        <p:spPr>
          <a:xfrm rot="5400000">
            <a:off x="4152240" y="3162240"/>
            <a:ext cx="556272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JOSEPH EJERCITO ESTRADA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3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925"/>
                                        <p:tgtEl>
                                          <p:spTgt spid="3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1925" fill="hold"/>
                                        <p:tgtEl>
                                          <p:spTgt spid="3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1925" fill="hold"/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3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4" name="Picture 4" descr="sergio_osmena"/>
          <p:cNvPicPr/>
          <p:nvPr/>
        </p:nvPicPr>
        <p:blipFill>
          <a:blip r:embed="rId1"/>
          <a:stretch/>
        </p:blipFill>
        <p:spPr>
          <a:xfrm>
            <a:off x="1600200" y="228600"/>
            <a:ext cx="5987880" cy="6400800"/>
          </a:xfrm>
          <a:prstGeom prst="rect">
            <a:avLst/>
          </a:prstGeom>
          <a:ln w="0">
            <a:noFill/>
          </a:ln>
        </p:spPr>
      </p:pic>
      <p:sp>
        <p:nvSpPr>
          <p:cNvPr id="340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WordArt 2"/>
          <p:cNvSpPr txBox="1"/>
          <p:nvPr/>
        </p:nvSpPr>
        <p:spPr>
          <a:xfrm>
            <a:off x="909720" y="2089080"/>
            <a:ext cx="7324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Rectangle 4"/>
          <p:cNvSpPr/>
          <p:nvPr/>
        </p:nvSpPr>
        <p:spPr>
          <a:xfrm>
            <a:off x="0" y="34308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9" name=""/>
          <p:cNvGraphicFramePr/>
          <p:nvPr/>
        </p:nvGraphicFramePr>
        <p:xfrm>
          <a:off x="228600" y="838080"/>
          <a:ext cx="4876920" cy="548640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</a:tblGrid>
              <a:tr h="743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4th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66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5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September 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878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Cebu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Ceb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66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October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196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83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Quezon 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Nacionalista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Esperanza Limj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eec85e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0" name="WordArt 86"/>
          <p:cNvSpPr txBox="1"/>
          <p:nvPr/>
        </p:nvSpPr>
        <p:spPr>
          <a:xfrm>
            <a:off x="5181480" y="1981080"/>
            <a:ext cx="396252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High Tower Text"/>
              </a:rPr>
              <a:t>SERGIO OSMENA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High Tower Text"/>
              <a:ea typeface="High Tower Text"/>
            </a:endParaRPr>
          </a:p>
        </p:txBody>
      </p:sp>
      <p:sp>
        <p:nvSpPr>
          <p:cNvPr id="34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3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3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2" name="Picture 2" descr="quezon"/>
          <p:cNvPicPr/>
          <p:nvPr/>
        </p:nvPicPr>
        <p:blipFill>
          <a:blip r:embed="rId1"/>
          <a:stretch/>
        </p:blipFill>
        <p:spPr>
          <a:xfrm>
            <a:off x="2057400" y="380880"/>
            <a:ext cx="4998960" cy="6248520"/>
          </a:xfrm>
          <a:prstGeom prst="rect">
            <a:avLst/>
          </a:prstGeom>
          <a:ln w="0">
            <a:noFill/>
          </a:ln>
        </p:spPr>
      </p:pic>
      <p:sp>
        <p:nvSpPr>
          <p:cNvPr id="33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2" name="Picture 2" descr="Gloria Macapagal-Arroy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12840" y="304920"/>
            <a:ext cx="4668840" cy="6248160"/>
          </a:xfrm>
          <a:prstGeom prst="rect">
            <a:avLst/>
          </a:prstGeom>
          <a:ln w="0">
            <a:noFill/>
          </a:ln>
        </p:spPr>
      </p:pic>
      <p:sp>
        <p:nvSpPr>
          <p:cNvPr id="34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WordArt 2"/>
          <p:cNvSpPr txBox="1"/>
          <p:nvPr/>
        </p:nvSpPr>
        <p:spPr>
          <a:xfrm>
            <a:off x="295200" y="2133720"/>
            <a:ext cx="884880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GLORIA MACAPAGAL ARROY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KRIS AQUINO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RIAN RIVER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1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6" name="Rectangle 2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Rectangle 3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Rectangle 4"/>
          <p:cNvSpPr/>
          <p:nvPr/>
        </p:nvSpPr>
        <p:spPr>
          <a:xfrm>
            <a:off x="0" y="4255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9" name=""/>
          <p:cNvGraphicFramePr/>
          <p:nvPr/>
        </p:nvGraphicFramePr>
        <p:xfrm>
          <a:off x="3429000" y="533520"/>
          <a:ext cx="3886200" cy="58672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Incumb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ssumed office 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January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Vice Presid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Noli de C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8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5 Apri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60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n Ju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Riz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7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D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2-1998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Lakas-CM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8-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KAMP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1997-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Jose Miguel Arro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Econom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0" name="WordArt 25"/>
          <p:cNvSpPr txBox="1"/>
          <p:nvPr/>
        </p:nvSpPr>
        <p:spPr>
          <a:xfrm rot="5400000">
            <a:off x="-543240" y="3210120"/>
            <a:ext cx="634356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skerville Old Face"/>
              </a:rPr>
              <a:t>GLORIA MACAPAGAL ARROYO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  <p:sp>
        <p:nvSpPr>
          <p:cNvPr id="34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3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2" name="Picture 4" descr="Ph_pres_roxas"/>
          <p:cNvPicPr/>
          <p:nvPr/>
        </p:nvPicPr>
        <p:blipFill>
          <a:blip r:embed="rId1"/>
          <a:stretch/>
        </p:blipFill>
        <p:spPr>
          <a:xfrm>
            <a:off x="2057400" y="304920"/>
            <a:ext cx="4998960" cy="6248160"/>
          </a:xfrm>
          <a:prstGeom prst="rect">
            <a:avLst/>
          </a:prstGeom>
          <a:ln w="0">
            <a:noFill/>
          </a:ln>
        </p:spPr>
      </p:pic>
      <p:sp>
        <p:nvSpPr>
          <p:cNvPr id="34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WordArt 2"/>
          <p:cNvSpPr txBox="1"/>
          <p:nvPr/>
        </p:nvSpPr>
        <p:spPr>
          <a:xfrm>
            <a:off x="1457280" y="2089080"/>
            <a:ext cx="62294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ROXA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Rectangle 12"/>
          <p:cNvSpPr/>
          <p:nvPr/>
        </p:nvSpPr>
        <p:spPr>
          <a:xfrm>
            <a:off x="0" y="552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7" name=""/>
          <p:cNvGraphicFramePr/>
          <p:nvPr/>
        </p:nvGraphicFramePr>
        <p:xfrm>
          <a:off x="4267080" y="228600"/>
          <a:ext cx="4581720" cy="6248520"/>
        </p:xfrm>
        <a:graphic>
          <a:graphicData uri="http://schemas.openxmlformats.org/drawingml/2006/table">
            <a:tbl>
              <a:tblPr/>
              <a:tblGrid>
                <a:gridCol w="2336760"/>
                <a:gridCol w="2244960"/>
              </a:tblGrid>
              <a:tr h="10774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5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3rd President of the Commonwealth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3rd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5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y 2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s Commonwealth President until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ly 4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4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as Republic President thereafter)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pril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0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January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9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Capiz (now Roxas City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Cap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pril 1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56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Clark Air 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Angele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Pamp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Trinidad de Le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28" name="WordArt 70"/>
          <p:cNvSpPr txBox="1"/>
          <p:nvPr/>
        </p:nvSpPr>
        <p:spPr>
          <a:xfrm>
            <a:off x="457200" y="21337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Berlin Sans FB Demi"/>
              </a:rPr>
              <a:t>MANUEL ROXAS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Berlin Sans FB Demi"/>
              <a:ea typeface="Berlin Sans FB Demi"/>
            </a:endParaRPr>
          </a:p>
        </p:txBody>
      </p:sp>
      <p:sp>
        <p:nvSpPr>
          <p:cNvPr id="34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3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3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3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5000"/>
                                        <p:tgtEl>
                                          <p:spTgt spid="3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0" name="Picture 4" descr="Ramon Magsaysay"/>
          <p:cNvPicPr/>
          <p:nvPr/>
        </p:nvPicPr>
        <p:blipFill>
          <a:blip r:embed="rId1"/>
          <a:stretch/>
        </p:blipFill>
        <p:spPr>
          <a:xfrm>
            <a:off x="213372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WordArt 2"/>
          <p:cNvSpPr txBox="1"/>
          <p:nvPr/>
        </p:nvSpPr>
        <p:spPr>
          <a:xfrm>
            <a:off x="747720" y="2089080"/>
            <a:ext cx="76485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 RIZ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Rectangle 5"/>
          <p:cNvSpPr/>
          <p:nvPr/>
        </p:nvSpPr>
        <p:spPr>
          <a:xfrm>
            <a:off x="0" y="15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Rectangle 6"/>
          <p:cNvSpPr/>
          <p:nvPr/>
        </p:nvSpPr>
        <p:spPr>
          <a:xfrm>
            <a:off x="1295280" y="1680840"/>
            <a:ext cx="669924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1"/>
              </a:rPr>
              <a:t>31-Aug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2"/>
              </a:rPr>
              <a:t>190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Iba, Zambales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3"/>
              </a:rPr>
              <a:t>17-M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4"/>
              </a:rPr>
              <a:t>195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t. Manunggal, Cebu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5"/>
              </a:rPr>
              <a:t>Accident - Airpl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7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ilitary servi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 Army (31st Infantry); Western Luzon Guerilla Fo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Exequiel Magsaysay (blacksmith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erfecta del Fierro (schoolteache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Baskerville Old Face"/>
                <a:ea typeface="Times New Roman"/>
                <a:hlinkClick r:id="rId6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30-Dec-1953 to 17-Mar-1957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WordArt 7"/>
          <p:cNvSpPr txBox="1"/>
          <p:nvPr/>
        </p:nvSpPr>
        <p:spPr>
          <a:xfrm>
            <a:off x="457200" y="68580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RAMON MAGSAYSA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3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3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8" name="Picture 4" descr="Carlos P. Garcia"/>
          <p:cNvPicPr/>
          <p:nvPr/>
        </p:nvPicPr>
        <p:blipFill>
          <a:blip r:embed="rId1"/>
          <a:stretch/>
        </p:blipFill>
        <p:spPr>
          <a:xfrm>
            <a:off x="2149560" y="304920"/>
            <a:ext cx="4937040" cy="6172200"/>
          </a:xfrm>
          <a:prstGeom prst="rect">
            <a:avLst/>
          </a:prstGeom>
          <a:ln w="0">
            <a:noFill/>
          </a:ln>
        </p:spPr>
      </p:pic>
      <p:sp>
        <p:nvSpPr>
          <p:cNvPr id="34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4" name="WordArt 2"/>
          <p:cNvSpPr txBox="1"/>
          <p:nvPr/>
        </p:nvSpPr>
        <p:spPr>
          <a:xfrm>
            <a:off x="304920" y="1981080"/>
            <a:ext cx="859140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SERGIO OSM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0" name="WordArt 2"/>
          <p:cNvSpPr txBox="1"/>
          <p:nvPr/>
        </p:nvSpPr>
        <p:spPr>
          <a:xfrm>
            <a:off x="276120" y="2089080"/>
            <a:ext cx="859176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POLINARIO MABINI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CARLOS GARCI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Rectangle 5"/>
          <p:cNvSpPr/>
          <p:nvPr/>
        </p:nvSpPr>
        <p:spPr>
          <a:xfrm>
            <a:off x="0" y="16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Rectangle 6"/>
          <p:cNvSpPr/>
          <p:nvPr/>
        </p:nvSpPr>
        <p:spPr>
          <a:xfrm>
            <a:off x="1334520" y="2156040"/>
            <a:ext cx="684972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AKA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Carlos Polestico Gar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1"/>
              </a:rPr>
              <a:t>4-Nov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2"/>
              </a:rPr>
              <a:t>189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Talibon, Bohol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Die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3"/>
              </a:rPr>
              <a:t>14-Ju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4"/>
              </a:rPr>
              <a:t>197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Location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Quezon City,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Cause of death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r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ispan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8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olicronio Garcia (mayor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Mo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Ambrosia Pol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    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23-Mar-1957 to 30-Dec-1961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WordArt 7"/>
          <p:cNvSpPr txBox="1"/>
          <p:nvPr/>
        </p:nvSpPr>
        <p:spPr>
          <a:xfrm>
            <a:off x="1600200" y="91440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ARLOS P. GARCIA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3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3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4" descr="Ph_pres_marcos"/>
          <p:cNvPicPr/>
          <p:nvPr/>
        </p:nvPicPr>
        <p:blipFill>
          <a:blip r:embed="rId1"/>
          <a:stretch/>
        </p:blipFill>
        <p:spPr>
          <a:xfrm>
            <a:off x="1965240" y="228600"/>
            <a:ext cx="5121360" cy="6400800"/>
          </a:xfrm>
          <a:prstGeom prst="rect">
            <a:avLst/>
          </a:prstGeom>
          <a:ln w="0">
            <a:noFill/>
          </a:ln>
        </p:spPr>
      </p:pic>
      <p:sp>
        <p:nvSpPr>
          <p:cNvPr id="34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8" name="WordArt 2"/>
          <p:cNvSpPr txBox="1"/>
          <p:nvPr/>
        </p:nvSpPr>
        <p:spPr>
          <a:xfrm>
            <a:off x="42840" y="2089080"/>
            <a:ext cx="905832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ANDRES BONIFACI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GRACIANO LOPEZ JAEN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0" name="Rectangle 1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Rectangle 15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Rectangle 20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Rectangle 21"/>
          <p:cNvSpPr/>
          <p:nvPr/>
        </p:nvSpPr>
        <p:spPr>
          <a:xfrm>
            <a:off x="0" y="-228600"/>
            <a:ext cx="9144000" cy="176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Rectangle 24"/>
          <p:cNvSpPr/>
          <p:nvPr/>
        </p:nvSpPr>
        <p:spPr>
          <a:xfrm>
            <a:off x="0" y="-2286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5" name=""/>
          <p:cNvGraphicFramePr/>
          <p:nvPr/>
        </p:nvGraphicFramePr>
        <p:xfrm>
          <a:off x="3048120" y="1828800"/>
          <a:ext cx="3276360" cy="469584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2050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0th </a:t>
                      </a:r>
                      <a:r>
                        <a:rPr b="0" lang="en-US" sz="18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6th President of the 3rd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4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88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600"/>
                      </a:br>
                      <a:r>
                        <a:rPr b="1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June 1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9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September 1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17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Sarra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Ilocos Nor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cc00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Imelda Romuald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6" name="WordArt 81"/>
          <p:cNvSpPr txBox="1"/>
          <p:nvPr/>
        </p:nvSpPr>
        <p:spPr>
          <a:xfrm>
            <a:off x="609480" y="45720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ERDINAND MARCOS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3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8" name="Picture 2" descr="Aguinaldo"/>
          <p:cNvPicPr/>
          <p:nvPr/>
        </p:nvPicPr>
        <p:blipFill>
          <a:blip r:embed="rId1"/>
          <a:stretch/>
        </p:blipFill>
        <p:spPr>
          <a:xfrm>
            <a:off x="2209680" y="228600"/>
            <a:ext cx="4637160" cy="6400800"/>
          </a:xfrm>
          <a:prstGeom prst="rect">
            <a:avLst/>
          </a:prstGeom>
          <a:ln w="0">
            <a:noFill/>
          </a:ln>
        </p:spPr>
      </p:pic>
      <p:sp>
        <p:nvSpPr>
          <p:cNvPr id="345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WordArt 2"/>
          <p:cNvSpPr txBox="1"/>
          <p:nvPr/>
        </p:nvSpPr>
        <p:spPr>
          <a:xfrm>
            <a:off x="762120" y="1905120"/>
            <a:ext cx="756288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RAMON MAGSAYSA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1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2" name="Rectangle 2"/>
          <p:cNvSpPr/>
          <p:nvPr/>
        </p:nvSpPr>
        <p:spPr>
          <a:xfrm>
            <a:off x="0" y="11592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3" name=""/>
          <p:cNvGraphicFramePr/>
          <p:nvPr/>
        </p:nvGraphicFramePr>
        <p:xfrm>
          <a:off x="2362320" y="152280"/>
          <a:ext cx="5790960" cy="6742080"/>
        </p:xfrm>
        <a:graphic>
          <a:graphicData uri="http://schemas.openxmlformats.org/drawingml/2006/table">
            <a:tbl>
              <a:tblPr/>
              <a:tblGrid>
                <a:gridCol w="2895480"/>
                <a:gridCol w="2895480"/>
              </a:tblGrid>
              <a:tr h="177444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Baskerville Old Face"/>
                          <a:ea typeface="Times New Roman"/>
                        </a:rPr>
                        <a:t>1st </a:t>
                      </a: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Tejeros Convention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Biyak-na-Bato Republic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ctator of the Dictatorial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Revolutionary Government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resident of the 1st Philippine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7160"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2"/>
                        </a:rPr>
                        <a:t>March 2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1897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April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92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March 2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86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Cavite El Viejo (Kawit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Cav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February 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196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94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Quezon City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Metro Mani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gdalo faction of the Katipunan, National Socialist 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Hilaria del Rosario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-died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aria Agonci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3399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4" name="WordArt 24"/>
          <p:cNvSpPr txBox="1"/>
          <p:nvPr/>
        </p:nvSpPr>
        <p:spPr>
          <a:xfrm rot="5400000">
            <a:off x="-438120" y="2952720"/>
            <a:ext cx="502920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EMILIO AGUINAL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sp>
        <p:nvSpPr>
          <p:cNvPr id="34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3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8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1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3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6" name="Picture 4" descr="Fidel V. Ram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380880"/>
            <a:ext cx="4913280" cy="6172200"/>
          </a:xfrm>
          <a:prstGeom prst="rect">
            <a:avLst/>
          </a:prstGeom>
          <a:ln w="0">
            <a:noFill/>
          </a:ln>
        </p:spPr>
      </p:pic>
      <p:sp>
        <p:nvSpPr>
          <p:cNvPr id="34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WordArt 2"/>
          <p:cNvSpPr txBox="1"/>
          <p:nvPr/>
        </p:nvSpPr>
        <p:spPr>
          <a:xfrm>
            <a:off x="866880" y="2089080"/>
            <a:ext cx="74102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EMILIO AGUINALD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RCELO DEL PILAR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FIDEL RAM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6" name="Rectangle 2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Rectangle 3"/>
          <p:cNvSpPr/>
          <p:nvPr/>
        </p:nvSpPr>
        <p:spPr>
          <a:xfrm>
            <a:off x="0" y="95580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8" name="Picture 4" descr="Manuel L. Quezon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5638680"/>
            <a:ext cx="1219320" cy="22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9" name=""/>
          <p:cNvGraphicFramePr/>
          <p:nvPr/>
        </p:nvGraphicFramePr>
        <p:xfrm>
          <a:off x="228600" y="380880"/>
          <a:ext cx="5791320" cy="5867640"/>
        </p:xfrm>
        <a:graphic>
          <a:graphicData uri="http://schemas.openxmlformats.org/drawingml/2006/table">
            <a:tbl>
              <a:tblPr/>
              <a:tblGrid>
                <a:gridCol w="2895480"/>
                <a:gridCol w="2895840"/>
              </a:tblGrid>
              <a:tr h="7700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st President of the Commonweal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21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November 1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3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August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August 19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87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Bale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Aur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D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August 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3"/>
                        </a:rPr>
                        <a:t>194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(aged 65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4"/>
                        </a:rPr>
                        <a:t>Saranac Lak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5"/>
                        </a:rPr>
                        <a:t>New York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6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7"/>
                        </a:rPr>
                        <a:t>Coalición Nacionalis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8"/>
                        </a:rPr>
                        <a:t>Aurora Ar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19"/>
                        </a:rPr>
                        <a:t>Lawy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ffcc"/>
                          </a:solidFill>
                          <a:uFillTx/>
                          <a:latin typeface="Baskerville Old Face"/>
                          <a:ea typeface="Times New Roman"/>
                          <a:hlinkClick r:id="rId20"/>
                        </a:rPr>
                        <a:t>Roman Cathol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0" name="WordArt 26"/>
          <p:cNvSpPr txBox="1"/>
          <p:nvPr/>
        </p:nvSpPr>
        <p:spPr>
          <a:xfrm rot="5400000">
            <a:off x="4952520" y="266688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Bauhaus 93"/>
              </a:rPr>
              <a:t>MANUEL L. QUEZON</a:t>
            </a:r>
            <a:endParaRPr b="0" i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Bauhaus 93"/>
              <a:ea typeface="Bauhaus 93"/>
            </a:endParaRPr>
          </a:p>
        </p:txBody>
      </p:sp>
      <p:sp>
        <p:nvSpPr>
          <p:cNvPr id="3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3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3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0"/>
                                        <p:tgtEl>
                                          <p:spTgt spid="3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00" fill="hold"/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0" name="Rectangle 13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Rectangle 27"/>
          <p:cNvSpPr/>
          <p:nvPr/>
        </p:nvSpPr>
        <p:spPr>
          <a:xfrm>
            <a:off x="0" y="1079640"/>
            <a:ext cx="3286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2" name="Picture 4" descr="Fidel V. Ramos's signatu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6095880"/>
            <a:ext cx="1218960" cy="400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3" name=""/>
          <p:cNvGraphicFramePr/>
          <p:nvPr/>
        </p:nvGraphicFramePr>
        <p:xfrm>
          <a:off x="3657600" y="533520"/>
          <a:ext cx="4343400" cy="601956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</a:tblGrid>
              <a:tr h="1349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12th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3"/>
                        </a:rPr>
                        <a:t>President of the Philippines</a:t>
                      </a:r>
                      <a:br>
                        <a:rPr sz="1800"/>
                      </a:b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2nd President of the 5th Re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In office</a:t>
                      </a:r>
                      <a:br>
                        <a:rPr sz="1800"/>
                      </a:br>
                      <a:r>
                        <a:rPr b="1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4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5"/>
                        </a:rPr>
                        <a:t>199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 – 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6"/>
                        </a:rPr>
                        <a:t>June 3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7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Bo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8"/>
                        </a:rPr>
                        <a:t>March 1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9"/>
                        </a:rPr>
                        <a:t>192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 ) (age 79)</a:t>
                      </a:r>
                      <a:br>
                        <a:rPr sz="1600"/>
                      </a:b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0"/>
                        </a:rPr>
                        <a:t>Lingaye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1"/>
                        </a:rPr>
                        <a:t>Pangasinan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, </a:t>
                      </a:r>
                      <a:r>
                        <a:rPr b="0" lang="en-US" sz="1600" spc="-1" strike="noStrike" u="sng">
                          <a:solidFill>
                            <a:srgbClr val="ffffcc"/>
                          </a:solidFill>
                          <a:uFillTx/>
                          <a:latin typeface="Baskerville Old Face"/>
                          <a:ea typeface="Times New Roman"/>
                          <a:hlinkClick r:id="rId12"/>
                        </a:rPr>
                        <a:t>Philipp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Political p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Lakas-Christian Muslim Democr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p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Amelita Martine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Occup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Mili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Reli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United Method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Baskerville Old Face"/>
                          <a:ea typeface="Times New Roman"/>
                        </a:rPr>
                        <a:t>Signa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4" name="WordArt 65"/>
          <p:cNvSpPr txBox="1"/>
          <p:nvPr/>
        </p:nvSpPr>
        <p:spPr>
          <a:xfrm rot="5400000">
            <a:off x="-723960" y="2628720"/>
            <a:ext cx="5867640" cy="1371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IDEL V. RAMO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5000" fill="hold"/>
                                        <p:tgtEl>
                                          <p:spTgt spid="3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3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1" dur="2000" fill="hold"/>
                                        <p:tgtEl>
                                          <p:spTgt spid="34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247" dur="500" fill="hold"/>
                                        <p:tgtEl>
                                          <p:spTgt spid="3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6" name="Picture 2" descr="Diosdado Macapagal"/>
          <p:cNvPicPr/>
          <p:nvPr/>
        </p:nvPicPr>
        <p:blipFill>
          <a:blip r:embed="rId1"/>
          <a:stretch/>
        </p:blipFill>
        <p:spPr>
          <a:xfrm>
            <a:off x="2117880" y="380880"/>
            <a:ext cx="4816440" cy="6019920"/>
          </a:xfrm>
          <a:prstGeom prst="rect">
            <a:avLst/>
          </a:prstGeom>
          <a:ln w="0">
            <a:noFill/>
          </a:ln>
        </p:spPr>
      </p:pic>
      <p:sp>
        <p:nvSpPr>
          <p:cNvPr id="34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8" name="WordArt 2"/>
          <p:cNvSpPr txBox="1"/>
          <p:nvPr/>
        </p:nvSpPr>
        <p:spPr>
          <a:xfrm>
            <a:off x="19080" y="2089080"/>
            <a:ext cx="91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MANUEL QUEZO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DIOSDADO MACAPAGA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4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0" name="Rectangle 2"/>
          <p:cNvSpPr/>
          <p:nvPr/>
        </p:nvSpPr>
        <p:spPr>
          <a:xfrm>
            <a:off x="662760" y="1754280"/>
            <a:ext cx="7723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or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8-Sep-191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Birthplace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Lubao, Pampanga,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ied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21-Apr-1997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Location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kati Medical Cente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Cause of death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rt Failur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mains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Buried, Libingan ng mga Bayani, Taguig, 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Gend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Mal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elig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 Catholic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Race or Ethnic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Asi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Sexual orient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Occupation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Nationalit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Executive summary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9th President of the Philipp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Fa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Urbano Macapag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Moth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Romana Panga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Baskerville Old Face"/>
              </a:rPr>
              <a:t>Daughter: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 Gloria Macapagal-Arroyo (President of the Philipp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        </a:t>
            </a:r>
            <a:r>
              <a:rPr b="0" lang="en-US" sz="1800" spc="-1" strike="noStrike">
                <a:solidFill>
                  <a:srgbClr val="ffffff"/>
                </a:solidFill>
                <a:latin typeface="Baskerville Old Face"/>
              </a:rPr>
              <a:t>President of the Philippines 30-Dec-1961 to 30-Dec-19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WordArt 3"/>
          <p:cNvSpPr txBox="1"/>
          <p:nvPr/>
        </p:nvSpPr>
        <p:spPr>
          <a:xfrm>
            <a:off x="457200" y="762120"/>
            <a:ext cx="8077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DIOSDADO MACAPAGAL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4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0" fill="hold"/>
                                        <p:tgtEl>
                                          <p:spTgt spid="3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0"/>
                                        <p:tgtEl>
                                          <p:spTgt spid="3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2" name="Picture 2" descr="Corazon Aquino"/>
          <p:cNvPicPr/>
          <p:nvPr/>
        </p:nvPicPr>
        <p:blipFill>
          <a:blip r:embed="rId1"/>
          <a:stretch/>
        </p:blipFill>
        <p:spPr>
          <a:xfrm>
            <a:off x="1833480" y="380880"/>
            <a:ext cx="5558040" cy="6096240"/>
          </a:xfrm>
          <a:prstGeom prst="rect">
            <a:avLst/>
          </a:prstGeom>
          <a:ln w="0">
            <a:noFill/>
          </a:ln>
        </p:spPr>
      </p:pic>
      <p:sp>
        <p:nvSpPr>
          <p:cNvPr id="33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WordArt 2"/>
          <p:cNvSpPr txBox="1"/>
          <p:nvPr/>
        </p:nvSpPr>
        <p:spPr>
          <a:xfrm>
            <a:off x="919080" y="2089080"/>
            <a:ext cx="7305840" cy="26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CORAZON AQUIN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LOREN LEGAR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MIRIAM SANTIAGO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6" name="Rectangle 2"/>
          <p:cNvSpPr/>
          <p:nvPr/>
        </p:nvSpPr>
        <p:spPr>
          <a:xfrm>
            <a:off x="152280" y="1219320"/>
            <a:ext cx="6324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or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1"/>
              </a:rPr>
              <a:t>25-Jan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-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2"/>
              </a:rPr>
              <a:t>193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Birthplace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3"/>
              </a:rPr>
              <a:t>Manila,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Gend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ema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Race or Ethnic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Sexual orient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Straigh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Occupation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Head of St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Nationalit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Philippin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Executive summary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Former housewife turned political wid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Father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José Cojuangco, Sr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Husband: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4"/>
              </a:rPr>
              <a:t>Benigno Aquino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(Philippine Senator, m. 1955, five children, d. 1983 assassination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5"/>
              </a:rPr>
              <a:t>President of the Philippines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25-Feb-1986 to 30-Jun-199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    </a:t>
            </a:r>
            <a:r>
              <a:rPr b="0" lang="en-US" sz="1800" spc="-1" strike="noStrike" u="sng">
                <a:solidFill>
                  <a:srgbClr val="ffcc66"/>
                </a:solidFill>
                <a:uFillTx/>
                <a:latin typeface="Baskerville Old Face"/>
                <a:ea typeface="Times New Roman"/>
                <a:hlinkClick r:id="rId6"/>
              </a:rPr>
              <a:t>Time Man of the Year</a:t>
            </a:r>
            <a:r>
              <a:rPr b="0" lang="en-US" sz="1800" spc="-1" strike="noStrike">
                <a:solidFill>
                  <a:srgbClr val="000000"/>
                </a:solidFill>
                <a:latin typeface="Baskerville Old Face"/>
                <a:ea typeface="Times New Roman"/>
              </a:rPr>
              <a:t> 19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WordArt 3"/>
          <p:cNvSpPr txBox="1"/>
          <p:nvPr/>
        </p:nvSpPr>
        <p:spPr>
          <a:xfrm rot="5400000">
            <a:off x="5143320" y="2933280"/>
            <a:ext cx="525780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"/>
              </a:rPr>
              <a:t>CORAZON AQUIN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"/>
              <a:ea typeface="comic"/>
            </a:endParaRPr>
          </a:p>
        </p:txBody>
      </p:sp>
      <p:sp>
        <p:nvSpPr>
          <p:cNvPr id="33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3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9" name="Picture 2" descr="jose_laurel"/>
          <p:cNvPicPr/>
          <p:nvPr/>
        </p:nvPicPr>
        <p:blipFill>
          <a:blip r:embed="rId1"/>
          <a:stretch/>
        </p:blipFill>
        <p:spPr>
          <a:xfrm>
            <a:off x="1600200" y="228600"/>
            <a:ext cx="5843520" cy="6248520"/>
          </a:xfrm>
          <a:prstGeom prst="rect">
            <a:avLst/>
          </a:prstGeom>
          <a:ln w="0">
            <a:noFill/>
          </a:ln>
        </p:spPr>
      </p:pic>
      <p:sp>
        <p:nvSpPr>
          <p:cNvPr id="33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1" name="WordArt 3"/>
          <p:cNvSpPr txBox="1"/>
          <p:nvPr/>
        </p:nvSpPr>
        <p:spPr>
          <a:xfrm>
            <a:off x="304920" y="1981080"/>
            <a:ext cx="8343720" cy="245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A. FERDINAND MARCOS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B. JOSE LAUREL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empus Sans ITC"/>
              </a:rPr>
              <a:t>C. JOSEPH ESTRAD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empus Sans ITC"/>
              <a:ea typeface="Tempus Sans ITC"/>
            </a:endParaRPr>
          </a:p>
        </p:txBody>
      </p:sp>
      <p:sp>
        <p:nvSpPr>
          <p:cNvPr id="33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1T03:54:54Z</dcterms:created>
  <dc:creator>Mr Ramos</dc:creator>
  <dc:description/>
  <dc:language>en-US</dc:language>
  <cp:lastModifiedBy>LEGION</cp:lastModifiedBy>
  <dcterms:modified xsi:type="dcterms:W3CDTF">2017-07-03T12:49:43Z</dcterms:modified>
  <cp:revision>8</cp:revision>
  <dc:subject/>
  <dc:title>Presidents of the Phillipines</dc:title>
</cp:coreProperties>
</file>