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notesMasterIdLst>
    <p:notesMasterId r:id="rId59"/>
  </p:notesMasterIdLst>
  <p:sldIdLst>
    <p:sldId id="256" r:id="rId60"/>
    <p:sldId id="257" r:id="rId61"/>
    <p:sldId id="258" r:id="rId62"/>
    <p:sldId id="259" r:id="rId63"/>
    <p:sldId id="260" r:id="rId64"/>
    <p:sldId id="261" r:id="rId65"/>
    <p:sldId id="262" r:id="rId66"/>
    <p:sldId id="263" r:id="rId67"/>
    <p:sldId id="264" r:id="rId68"/>
    <p:sldId id="265" r:id="rId69"/>
    <p:sldId id="266" r:id="rId70"/>
    <p:sldId id="267" r:id="rId71"/>
    <p:sldId id="268" r:id="rId72"/>
    <p:sldId id="269" r:id="rId73"/>
    <p:sldId id="270" r:id="rId74"/>
    <p:sldId id="271" r:id="rId75"/>
    <p:sldId id="272" r:id="rId76"/>
    <p:sldId id="273" r:id="rId77"/>
    <p:sldId id="274" r:id="rId78"/>
    <p:sldId id="275" r:id="rId79"/>
    <p:sldId id="276" r:id="rId80"/>
    <p:sldId id="277" r:id="rId81"/>
    <p:sldId id="278" r:id="rId82"/>
    <p:sldId id="279" r:id="rId83"/>
    <p:sldId id="280" r:id="rId84"/>
    <p:sldId id="281" r:id="rId85"/>
    <p:sldId id="282" r:id="rId86"/>
    <p:sldId id="283" r:id="rId87"/>
    <p:sldId id="284" r:id="rId88"/>
    <p:sldId id="285" r:id="rId89"/>
    <p:sldId id="286" r:id="rId90"/>
    <p:sldId id="287" r:id="rId91"/>
    <p:sldId id="288" r:id="rId92"/>
    <p:sldId id="289" r:id="rId93"/>
    <p:sldId id="290" r:id="rId94"/>
    <p:sldId id="291" r:id="rId95"/>
    <p:sldId id="292" r:id="rId96"/>
    <p:sldId id="293" r:id="rId97"/>
    <p:sldId id="294" r:id="rId98"/>
    <p:sldId id="295" r:id="rId99"/>
    <p:sldId id="296" r:id="rId100"/>
    <p:sldId id="297" r:id="rId101"/>
    <p:sldId id="298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notesMaster" Target="notesMasters/notesMaster1.xml"/><Relationship Id="rId60" Type="http://schemas.openxmlformats.org/officeDocument/2006/relationships/slide" Target="slides/slide1.xml"/><Relationship Id="rId61" Type="http://schemas.openxmlformats.org/officeDocument/2006/relationships/slide" Target="slides/slide2.xml"/><Relationship Id="rId62" Type="http://schemas.openxmlformats.org/officeDocument/2006/relationships/slide" Target="slides/slide3.xml"/><Relationship Id="rId63" Type="http://schemas.openxmlformats.org/officeDocument/2006/relationships/slide" Target="slides/slide4.xml"/><Relationship Id="rId64" Type="http://schemas.openxmlformats.org/officeDocument/2006/relationships/slide" Target="slides/slide5.xml"/><Relationship Id="rId65" Type="http://schemas.openxmlformats.org/officeDocument/2006/relationships/slide" Target="slides/slide6.xml"/><Relationship Id="rId66" Type="http://schemas.openxmlformats.org/officeDocument/2006/relationships/slide" Target="slides/slide7.xml"/><Relationship Id="rId67" Type="http://schemas.openxmlformats.org/officeDocument/2006/relationships/slide" Target="slides/slide8.xml"/><Relationship Id="rId68" Type="http://schemas.openxmlformats.org/officeDocument/2006/relationships/slide" Target="slides/slide9.xml"/><Relationship Id="rId69" Type="http://schemas.openxmlformats.org/officeDocument/2006/relationships/slide" Target="slides/slide10.xml"/><Relationship Id="rId70" Type="http://schemas.openxmlformats.org/officeDocument/2006/relationships/slide" Target="slides/slide11.xml"/><Relationship Id="rId71" Type="http://schemas.openxmlformats.org/officeDocument/2006/relationships/slide" Target="slides/slide12.xml"/><Relationship Id="rId72" Type="http://schemas.openxmlformats.org/officeDocument/2006/relationships/slide" Target="slides/slide13.xml"/><Relationship Id="rId73" Type="http://schemas.openxmlformats.org/officeDocument/2006/relationships/slide" Target="slides/slide14.xml"/><Relationship Id="rId74" Type="http://schemas.openxmlformats.org/officeDocument/2006/relationships/slide" Target="slides/slide15.xml"/><Relationship Id="rId75" Type="http://schemas.openxmlformats.org/officeDocument/2006/relationships/slide" Target="slides/slide16.xml"/><Relationship Id="rId76" Type="http://schemas.openxmlformats.org/officeDocument/2006/relationships/slide" Target="slides/slide17.xml"/><Relationship Id="rId77" Type="http://schemas.openxmlformats.org/officeDocument/2006/relationships/slide" Target="slides/slide18.xml"/><Relationship Id="rId78" Type="http://schemas.openxmlformats.org/officeDocument/2006/relationships/slide" Target="slides/slide19.xml"/><Relationship Id="rId79" Type="http://schemas.openxmlformats.org/officeDocument/2006/relationships/slide" Target="slides/slide20.xml"/><Relationship Id="rId80" Type="http://schemas.openxmlformats.org/officeDocument/2006/relationships/slide" Target="slides/slide21.xml"/><Relationship Id="rId81" Type="http://schemas.openxmlformats.org/officeDocument/2006/relationships/slide" Target="slides/slide22.xml"/><Relationship Id="rId82" Type="http://schemas.openxmlformats.org/officeDocument/2006/relationships/slide" Target="slides/slide23.xml"/><Relationship Id="rId83" Type="http://schemas.openxmlformats.org/officeDocument/2006/relationships/slide" Target="slides/slide24.xml"/><Relationship Id="rId84" Type="http://schemas.openxmlformats.org/officeDocument/2006/relationships/slide" Target="slides/slide25.xml"/><Relationship Id="rId85" Type="http://schemas.openxmlformats.org/officeDocument/2006/relationships/slide" Target="slides/slide26.xml"/><Relationship Id="rId86" Type="http://schemas.openxmlformats.org/officeDocument/2006/relationships/slide" Target="slides/slide27.xml"/><Relationship Id="rId87" Type="http://schemas.openxmlformats.org/officeDocument/2006/relationships/slide" Target="slides/slide28.xml"/><Relationship Id="rId88" Type="http://schemas.openxmlformats.org/officeDocument/2006/relationships/slide" Target="slides/slide29.xml"/><Relationship Id="rId89" Type="http://schemas.openxmlformats.org/officeDocument/2006/relationships/slide" Target="slides/slide30.xml"/><Relationship Id="rId90" Type="http://schemas.openxmlformats.org/officeDocument/2006/relationships/slide" Target="slides/slide31.xml"/><Relationship Id="rId91" Type="http://schemas.openxmlformats.org/officeDocument/2006/relationships/slide" Target="slides/slide32.xml"/><Relationship Id="rId92" Type="http://schemas.openxmlformats.org/officeDocument/2006/relationships/slide" Target="slides/slide33.xml"/><Relationship Id="rId93" Type="http://schemas.openxmlformats.org/officeDocument/2006/relationships/slide" Target="slides/slide34.xml"/><Relationship Id="rId94" Type="http://schemas.openxmlformats.org/officeDocument/2006/relationships/slide" Target="slides/slide35.xml"/><Relationship Id="rId95" Type="http://schemas.openxmlformats.org/officeDocument/2006/relationships/slide" Target="slides/slide36.xml"/><Relationship Id="rId96" Type="http://schemas.openxmlformats.org/officeDocument/2006/relationships/slide" Target="slides/slide37.xml"/><Relationship Id="rId97" Type="http://schemas.openxmlformats.org/officeDocument/2006/relationships/slide" Target="slides/slide38.xml"/><Relationship Id="rId98" Type="http://schemas.openxmlformats.org/officeDocument/2006/relationships/slide" Target="slides/slide39.xml"/><Relationship Id="rId99" Type="http://schemas.openxmlformats.org/officeDocument/2006/relationships/slide" Target="slides/slide40.xml"/><Relationship Id="rId100" Type="http://schemas.openxmlformats.org/officeDocument/2006/relationships/slide" Target="slides/slide41.xml"/><Relationship Id="rId101" Type="http://schemas.openxmlformats.org/officeDocument/2006/relationships/slide" Target="slides/slide42.xml"/><Relationship Id="rId102" Type="http://schemas.openxmlformats.org/officeDocument/2006/relationships/slide" Target="slides/slide43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dt" idx="17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 type="ftr" idx="17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 type="sldNum" idx="17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3DA0-7F31-44E6-BB46-6C51978CC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732-BADB-4264-BAA6-01AA7957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EF0-173B-4202-A931-7BD345A7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A1616-F584-4D29-BA96-4BEF8A60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55DD9-4349-4F3C-94DD-09D391F9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869F7-C5D4-4671-A565-973EB76E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4E93F-E109-4452-9CE5-5F90154E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F8543-1A3D-4E08-897F-18948D99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AAD0E-98C5-4409-877F-03562E9B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21AFC-182B-4CCE-838F-ABBCF12E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0A2B7-672C-4E96-B5E2-373DF47A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A47A1-DEB2-4303-9836-3BCF43AA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274A0-CC15-44B7-AEDA-0FAB88D0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0B80-E1A4-4A8A-9B4B-B600BF6C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7C48C-5FC9-4910-8335-39C0B2DD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C9836-38EC-4E85-B349-574BA6EC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A230E-377E-4B41-BD63-46C5C4FB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A87BF-A96B-4EC6-ADE9-849211D0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14ABB-7C34-4385-9B56-49540F2E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69A3E-8414-4E78-A208-0F65E02F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7FFBD-24ED-4B14-A02B-86B74DD1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934D3-2620-4CD2-B34F-77B9BD6C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8970E-DE85-4B62-89F2-7170F435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090B5-ADB8-4715-95E8-D8E7369D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5B89-D8CE-4458-89CA-F8FBE0DB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D9218-6924-439C-AA3B-85EA7186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77305-A3A7-4EF0-852C-E0C78B23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024F5-2F76-46C2-A2A7-60870229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F2EC1-86D2-4E8D-9AF6-255F1B86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48882-34C2-44E4-8EBE-818F4C76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5C30F-E3C8-45F4-A74E-B4EB200C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0216F-0E7B-4551-AE47-EE23BC19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E9E9E-C1B3-49A0-9B38-FEE5F843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2ED1F-FAD1-46F8-A98C-09A10A25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03052-8B1F-4D33-80A8-D9068F73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E8F2-65E7-4FDE-BC75-92B4765E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EB397-3DF7-4D7A-BA9D-8CC7E4E4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B82A8-C1EA-4A02-9D16-AD87C1C2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6BF0F-1EA1-46C8-8320-9527B746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91071-4F87-42F7-AF8F-EE7D31A8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CDFAC-1354-43B0-B418-AC62E296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07B86-CB42-4696-93A9-C506725C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E962C-8B67-44E2-A1F0-437CDC00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C24EC-8DD8-40C4-B5A4-4C223E6C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C203D-0DC1-434E-892C-FE9D0B12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F9B29-7ED3-45BF-AFD6-FC46B58C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8432-B58A-4838-9C31-4751FF71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B0364-3AC5-41D5-9B33-177F6128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23177-B55B-4126-A456-1C841485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B0191-FB54-4B93-A437-F02DBFB5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EDA22-5EB9-4D4A-A39A-38DED279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130C1-86CD-4C79-9057-3E07EB98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7B3730-DB7F-4A4B-98FE-63E66ECF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0139D-A470-4584-B929-F8DE95AF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BCA10-4A14-42D1-B9FE-2AB5F388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E1E57-DE27-4C35-9C39-3D1DFF3E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A4A4A-80CF-4378-B063-2096AA71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9636-39B1-4C1E-92F3-E17271D9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9388DD-1661-4CE1-8E28-41EC6DB7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00E299-4EBD-4951-A7E7-68BFBDFC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8B3FA8-15FE-4BA1-86AE-E414875D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9873A6-9F4A-46E4-A1C1-4A9D3DB1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4B287-F8E4-4BC9-BA1F-8F12066A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19B480-16B7-49DB-8CC8-CC0D8BDB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879710-DC42-41FE-BE1D-57D2726B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795653-8815-432B-8F81-2A9C931A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BE4C54-5FEC-476A-B1A0-234ABE9A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31E154-70C2-4B3C-8FDF-1E790D6F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7209-DB62-4E94-8FEC-B40C92C3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E7D96A-BBA2-4C88-B991-8E8F9147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5D39DB-A0EE-4C53-9AF0-03306267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D6C49F-0223-43C3-B508-BAA09421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78480F-03F1-41AC-BCFC-1FD2192A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AE00AE-3F1C-4C04-88F9-1E127933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1757F-2211-4CA5-AB7A-A8A804CE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07D9A8-6BFB-4A86-82EE-266DC3F6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61ECE2-14C6-4B35-BA68-8EE35FCC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23CF8D-7877-468A-A9DB-4018F574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A2FD0-CDC1-4726-ABFD-6210E9EE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EB78-2BCB-4360-8F2A-5634ECD1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217164-60E5-4F78-AD8D-EFBA567A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D5BACE-F1E6-42AC-AB67-2FA2EBB0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308025-8608-427B-98B1-E1DDB6B4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A4B830-1908-4BCA-AA13-91DC63F8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BA612E-C5DB-4610-9B72-2759D203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196D8C-440B-4D33-97CC-A425979C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E0BE2D-571D-4EFB-86B1-E2A52957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CD7A0D-B49A-4EF1-A8D3-C48993E0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491EB8-1823-4D07-8CC4-29A2F7FF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A0F475-45CD-474D-A11D-07FE0287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5F65-C8EE-4434-AEB5-272CABA3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F4ACA1-FF8E-4969-9F96-A03B48FD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D29A17-A1A6-4785-B02C-FF45FA7A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E4488C-A8C8-4CF0-824B-701140AE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C7F5C4-9B7D-4390-B8FC-1D5868DD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6BF4B9-3E6F-4DF4-9CDD-7F025253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A5C196-33FE-4891-8D68-19BD485C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96A76E-9667-4138-BEE2-7F74DD44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226208-47B8-4054-B4C6-110E9020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93343F-5053-4DB7-A0C8-C4CFFD9C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347E2F-3888-4C01-BA0F-03C550AD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5138-24B4-4F7D-9485-D4D90D91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90D667-E11D-4A05-8919-27C6C65A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9C1A7B-E0A2-4C1C-BC7A-59E3BF8B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5B108C-2AD6-4DEE-B025-153F2F81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256392-3705-477C-A837-9FA4A698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C05154-4439-4FE0-BB4E-CA8A1FB4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89EF3E-B036-4909-AC85-43FBB7D5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E5296C-D58F-4CD9-9EE4-47A5EE07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50948C-7571-4175-8AB9-BCA39E34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FF5F51-EC8D-48EB-A0B7-0242BABC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6551F6-BF5E-4CE5-8D22-3C9D1988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C552-A52D-4CCE-9AA9-EC42AE5B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B03D-3C09-4209-B19A-E7AF2A5A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7AE48D-ED5A-42D1-B9AD-DB2E9D5B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3A036A-D803-4197-98D4-0FBB313E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271665-91DB-45EC-B525-3929B173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3DE63D-07EC-455D-961A-2E6D222B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88F59E-AD33-4138-B9D4-FD20D505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165047-2DB1-4B5B-BD22-0433621A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28C976-A65B-4358-AB28-0468EC9D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BA1FDA-0E00-4209-851E-DD6A40F8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AFF646-01EF-438B-8AD4-44364742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D734D0-0DA8-494E-8BEE-9F05F4BD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233B-9F23-4F0F-942C-49AAC570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D5788D-EAC0-4711-ACC4-42E2D5E2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BA70A5-3D16-4951-A999-DBF6189C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9D8E57-6542-49BF-AB89-E1285E10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0A8573-5D1C-4D8D-8D2A-706FFAF2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5545CA-C1D2-46F2-B4DD-97F830C4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C9F115-3088-4123-BF87-7DBF5326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53D821-16DE-45CA-8ACF-9AD19A46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2DA487-F9A9-404F-BACB-CAA7B956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7A0E79-67F7-428C-87FF-E8C53D52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184E6E-B4D2-4B8E-B532-3C69E95D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AB4E-02B8-4461-B45D-4706C822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5C0F54-12A3-46BE-B8F2-4510CCE5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B5AAFD-907E-482C-B21F-22D465B7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5E6BA5-9F82-49F5-BA89-9C2BEC28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A254D4-95E0-478F-A534-4DAE37C7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1C6137-6746-43B3-8800-6148DE90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42100F-7773-424F-94FF-D25C5E39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E66D23-F6F3-402D-ABB5-4A0BDC47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11198C-C1EC-41B9-BECE-9251AF6D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3E2B13-6D4D-4133-9733-657E7B72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43AFD6-107B-4468-8216-12C27159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FAC2-C084-47EC-B517-5213E6E7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9158C6-E027-4668-B609-17FAC110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93C257-404D-4381-B1EA-9D19F21F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1D0EDB-1A57-45D4-9811-C1F67DEE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9053EB-0884-4FD2-A28F-9EE05EAA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92D1B6-C99E-4C71-8CFE-406E2874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FBE1EA-295A-4050-82FB-B30604C2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74287D-3752-4D2C-A602-77183BF8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D7D5A9-5BA6-4B41-9083-52D318D0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C1F244-3A3D-4C95-89C5-567ED0E3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A057EB-E8A0-479C-AFB2-9A66C5B6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3B5C-2728-425D-B37B-EDF14E42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FB296A-5AFB-40BB-9AE7-2BF882AC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A290EF-A849-4915-A006-7D90012B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1D4F4B-A8EA-4FD9-A895-B17E0C36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1E6142-7311-46B5-A6CF-A00BE23F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C9025C-0613-4E70-858C-ACD61FBB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289BEB-6436-4337-9D2B-432A761C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56B300-9901-4E6A-8DDD-F824C62E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5ADB97-27B7-4B56-9ADD-A33D53CC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8DEFBB-A639-4FA3-B4AB-F1780511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F504C5-CA45-4279-BCA2-9292B293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E4C71-9962-46B8-B4E6-EA1AAFF8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072E89-F368-4DA7-A38E-535C3CD2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6770BC-1B33-4DE9-AA91-94AD87F5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4F8B23-9287-4B47-8D1F-44296C9B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75EF70-5885-488D-9372-70CAEFB6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08988E-59CB-467D-8112-41475BCE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033C07-6294-4EF8-A1C3-F5C5FC90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9A786C-6EB5-49EF-A66C-1E3725C2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CC0625-0373-4623-AF89-AB7A3CD8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F5AD94-82F2-4891-A09E-0940C953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16159A-E57B-4696-A034-C4FF5223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9AB1B-F9A9-4BDE-A848-5B4B46D1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344135-6AD5-4EB4-BE17-9F0A8BBA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A3E7B3-A2B8-4DE8-A506-D5B883BA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D81091-7F3C-491F-B4B7-64D20C6B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FD5A26-D416-4D0B-9F27-8596002D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5BA2F9-777F-43B7-B3E5-2A7CF89E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1D4BE0-F58E-4B6D-8D98-D9212781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3E5A43-4D9D-4FEA-B825-2AB35E82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260D06-A926-4644-8261-6F1D7FB2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937F17-5C4B-43C6-B00B-4745910E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5481E7-4BFF-4074-8A79-CE6FB27D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0866F-5510-485E-B00B-D21ADC3C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AF5152-80B0-4D9D-8831-16EC2B57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F02D68-EBFB-49D9-8213-C7541516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F15034-C7D3-4016-9D7E-43F8C1D3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01FA09-F9AC-4ADB-9F0D-5BDD615A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9AEE00-8EA8-46FF-88A5-B0727CCF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4A416E-6E0B-47A8-AECB-D82AC7E7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A2FD29-2533-41C9-8B9B-747E0D4E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01F4C0-E353-47CE-A112-4D3CFA2E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71F54E-BDE5-4906-8B50-8440F5DA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7EC08B-ADF5-465E-B089-AE0E0FD3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B7E89-8664-4CA2-B394-EFAA54EC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8355BD-372F-4E8C-A567-E3771527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5508AF-0D62-42A8-B0E3-0D04DD02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D25283-AFBF-44C3-AB33-11232568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B0A8C6-73CC-44C6-ADD6-C1A56720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121802-1835-401C-BB89-5B2AAE99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1FBC16-C910-4AB7-8171-207C3D9A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430669-3EA6-4C85-B7E9-182D4B9E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11F315-DF41-4EB2-B401-1852F279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E73B56-D8A2-4F83-9E4C-D32F78A1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6779A8-183C-4AC9-819E-A19AE291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72986-FFEA-4DF7-8DD5-32FB9E93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5DCE0B-9BA3-4D44-9792-6580F57B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730263-C329-4659-9A4C-2C2DA7D9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8BE00B-AE4D-465B-8B18-94BB7F03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7A76BB-C8A5-495E-B71E-DCF7D912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F9C6D2-80D1-447B-9C10-B5409B50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C2C668-2348-4614-BC94-32E55CFB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02D33E-462D-456B-82FA-768CF832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3D5D66-5DDA-47DB-8EFA-B15DAE2A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F56E6C-48AB-4F14-89CE-6385EC0D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823F20-78F0-47AF-8AA4-D33C7DA9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8A2-E8E3-40A1-AA0C-F4486A61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9C277-46E6-4395-9DEB-E57E284F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54172C-1176-4A4D-AE36-D0975E5D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2FE6D5-3112-4906-8EAA-31F9E516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27E549-200C-4879-8ECF-A3FF82E2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99B400-B282-45B6-9035-DEA480E2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8114F9-C797-48BE-B3F6-6BFBB834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2C75F2-7A09-46BF-A90B-F14DE02A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6081DB-F533-476D-90A2-37817669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C2470E-3316-4AD5-BBA5-6FA7FF4D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166338-4653-41D5-AAD5-9AA99AF2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B3B8ED-4E58-416B-8748-03FDAC40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FDBC1-2C02-47C6-9F4F-D9F91D09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140BDA-6272-4C24-9BBF-D373C220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926C69-4A45-4B80-B73E-6430BA92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1D2FD7-A3ED-4658-BD39-E77C2331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A0F0F8-EB22-453F-8980-D8FB5615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B92785-A622-452C-917C-2AC1F946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A021C5-9F9A-437E-A148-41FFF2A1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6A5ADC-41D2-482D-AA62-84971C2F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6CBCE7-1577-4A7D-9A0C-9EE554A0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01C82B-FA67-47FB-99AC-84CEBE74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B96477-DFF5-4FB6-9934-49C33A0A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B5C6A-B537-4545-BA6C-8C267CE3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E87651-9C28-47C4-A228-679DBF7A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7E355D-2900-4731-96D3-8FE545B6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66839E-49A2-42D6-8E97-F2900F38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C4BE8D-7EA3-4118-B504-B0C78202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1E281E-A04D-4D56-991C-42A8599B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B8AF8A-0F96-4048-8338-F74552F5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9D2A7E-FAA7-4A8A-B16C-647C4B23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427FB2-CDF7-438C-AAC1-9498BDCF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131939-C4B2-437E-9504-692D70F5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BB6B11-9508-4637-ABEB-999BF511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117CF-FD3E-419D-8842-61784C8B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3C0A3C-02CB-475E-882D-71BFE160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326C2A-8698-4B9C-9138-3F78FE7C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EC5B28-7BD5-4915-ABC1-774BC341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C7F5EE-DF1D-4DC2-A857-9D6F009B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566622-EA98-469D-A89C-C906B81C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4DA995-0F6F-4AA0-8B30-82A2BB03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56FF97-DE69-4B75-9274-63F239C7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0B2BEC5-BFF8-41BF-A7EA-F19D1282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A9E8A9C-511B-445A-AB2F-8C0C8710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77A86B4-8F68-4BCB-9434-77053F50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29463-FE97-422F-A984-59BA9967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D205C7D-E436-4A75-82C5-2EEBEFEF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BC42894-18CB-458F-ADCB-127C66F3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9F4AE13-87C9-4154-AA5D-2DDAA2A8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E71F71A-2680-44C9-AD76-E0C65793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0149729-620B-4376-9870-90576D58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B634893-2191-45EA-B2FB-E95A20BA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81D7A30-46BB-4066-B96D-302E0274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336C184-7356-4E56-A35C-4CD971A5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03F0384-92DA-4D70-B6A4-AFE66758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02EF4E-C6BE-45C3-A713-27A1745A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CAEDA-5ABA-414B-8526-877D171B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4886F1-1B7D-454F-9013-42D636EE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3A4016-6BC7-4AA4-8AFC-2D930E4B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50A78C-2918-47D8-A6A4-AF90DD9C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F06A87-B7EB-40B5-8E13-BF97EC06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BB474D-707E-4A26-A711-EA3B5E9C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A77B22-C639-43B3-8156-5678A306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26E080-4C15-41A3-8A4B-7EBAE773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19881B-00B6-4F77-8D9E-160A0B29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07BA92-8C13-4DDD-822F-984E396E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E47E62-5E53-45FF-AFD4-3DE617A1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886DE-2464-4897-A952-FA7D48E4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1CB97F-F71D-4D21-98E6-6B240B08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D60BAD-8786-478F-8E58-6D855969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3A4701-3788-4F77-98E2-521DAD1E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853ADC-1146-4EF9-99F7-B94CF86D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DC64BB-97EC-49BE-BAB6-69ECC144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02BFCC-87FA-48C3-8142-BAAF9C55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ED328F-459F-4F02-A89D-746E0650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8C1796-F8A1-440B-8D1B-6ECAE66F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C9364A-D25C-4F3D-A057-6EB618DD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B121EB-D836-49EC-AB87-82EB1E4D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400C45-2C59-43F8-88C2-B01C88BB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B3CF76-90D6-4604-89F5-5B10C1F2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D4BFEF-9237-4A0B-8CAC-370EA2E2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D10CA0-1CA0-4E92-80E6-4C1D72E1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F23467-5C5B-4883-AFC0-DEB06721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343118-B010-45DF-A5A4-ABBD0A48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A48CCE-93F4-45F6-BE41-60D25ABC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D7A55A2-36CB-4F10-8018-0EC0F566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DBBE7F-27C6-4B00-84D4-BA0A3B34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B595438-9B9E-4C9F-A5B8-96005C70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A317E2-5235-4DD5-BB42-CB0BE1F7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69BF5F-561E-4B2A-B63C-FC45016E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14C323-C018-4FCF-94D7-267A7F83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CF9EB4-14D2-4BD8-B6E8-75EB17A0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ABA0CC4-169E-4FA6-B764-1D3F33B3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4C8742-672D-459A-9639-6C2B9EB3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6C640F-06E3-492B-AB1C-778A64A2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4D841F-6DBF-4F94-8A39-CD66EA62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B32F87-A4A2-413C-BC11-13C3D777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9C5471-9804-4B96-A068-0EA24F61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7A06E0A-A9D4-4439-974D-B4382AC7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F23DD9C-7267-47A1-9DDD-60EA8DA0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C2F263-BE60-42B3-BD46-CA64851A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8EF3650-78C5-4440-B6DF-5CA5619B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9D5205-F088-4DEF-B68D-53CE2D17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ED463F-A3E5-410B-A001-CF21D0C0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D751AC-8583-49F1-82D3-77F05F32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A62E1C9-3239-4B02-89AC-74F1D623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60078D-FCD4-4425-9172-EF3791B3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D24D808-2693-41D0-890E-AC4B2FD1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3093BD-CE59-417D-88CA-BF7914A8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B40CDA-224F-408C-88C5-58FB60DD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265E94-6FB3-4344-BED1-D08DE236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FC2E-CBAA-40C3-A151-BC802C06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6E9FCF-3493-4440-8161-A605BB28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D0BA97-76B0-49C4-99CD-546C51CC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4E72B5-909F-481C-A9B2-78492C0D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0A1F819-B6C7-4BEB-9BEE-F5017F26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717701B-8B20-46DD-AE3A-949A9507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6A5710-D50C-4571-AC49-5744ABF1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030C951-BB17-40B9-B5A7-22352AA3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6E6E1C-0093-4E3C-BD44-93949C2C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E93DB0-B5A0-4B55-9575-6F09D02D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E80499-9A6E-4CEC-885A-9F95EEC2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729D3FC-4AA0-4A42-8CC5-8DD38FA0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3A7BDA-71D3-4CB5-B1C6-978EF518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ECEDCF9-5341-4E2D-9D8A-6D2E8D8A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1974A8C-0A45-4F13-BE28-EBB1D475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769ADA2-E4B4-4EBC-88CE-7D39860D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FEA1174-B885-4BB1-BD80-4ACAABF5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468ED0D-AE19-45AC-9DAA-91A377A3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6D53570-C953-4F35-AF4C-59B76D98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31A267F-91BA-4A92-B255-8E156A6C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306C3E9-F6A8-4464-BCB8-4DD64E1A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8482BB6-61E1-4ED8-BE75-9B1FBA80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7050797-F1BA-44BF-BCA4-C15ADF35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4D3988-0D4B-47D8-B9DC-363886ED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E6E15F1-64AA-4BE7-9CE7-5FE4C175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C198BE-6D9D-4171-BE39-C081F6B6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B9D839-52B7-4C7A-962B-89ECF937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74B30CA-6314-4558-BFA1-0722D2DF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6BB351-5B45-4E80-B572-A154E71A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38BD60D-5803-4BC4-99C4-0FB9FFC9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68BAA7E-6D03-4FAD-A547-83B7E2AD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39B54C-9DEB-4BB2-AB9E-13C490A8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297DB9C-8C03-4153-A30D-BC873A78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4243A6-0D3C-4BEB-AA0B-F4EDB629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A91DBA-BB8A-402C-9EDC-702E2877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E667B00-E190-4DE4-B9F9-06CCA7FE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653EFC-7B4C-4F39-81D8-75C8FF36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5F407E-DCE2-46B5-B69B-69D142CD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0C19488-0BE2-4055-BFF6-F3B6A47A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CC1C7D6-8671-4D03-8646-3D8794E4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D07FBE0-BC9F-4650-8055-6C62BEC1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8768416-E490-4F93-8B15-294B7E03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07C7CC-1F25-424A-BFFC-3E6839C1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2B2FA5E-C4E1-457D-A442-9E17F7B0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1A68334-4D36-40A1-916A-48967CB2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5CB35D-B520-4719-B31D-8D249349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6E6CD8D-8CB1-45A4-9A73-798CE1EB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81A184A-C021-4974-AF2F-444B10E5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2C382BF-320A-436F-9675-2A264AED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9ABCBE9-1722-46E4-B403-B3C9ED2A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9236025-2693-4BBF-8CE7-AC5AB6D7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AFEE73-A234-4703-ADF0-E5C5ADA6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0C3AC70-0FCC-4303-A81A-8D1B4FEC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A27E422-ABCD-44C4-83F1-0C138F9E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6F36A36-B365-413E-B45E-3A6AC4FE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3752852-4E31-4C9F-B3B5-455B9D41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81929A-C097-41A0-BE80-C676E75B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C6D063B-E1A5-4500-B225-76BB26AB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AC412CC-BC04-4A41-AED1-6E735503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92D6BB3-5A2C-4C0C-B7CD-C03FC9E2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598ECAE-2C0E-4755-B16D-03DA20B8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6F4CC82-4984-4485-A8DE-6BB1D103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485CB32-03F0-4F12-A234-967A7D12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E2A95A9-C79B-4A32-A6E4-F5352580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28F9701-2FBC-4BDB-8C80-FE0829FA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91BC526-9044-4360-8385-18C0FEDE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F6C47C8-9D5F-45E4-8C5F-F0F1C44D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B31888-C440-4F0F-B009-F465E3CD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321506E-7528-497E-B6B8-E115EB98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A5CB412-7D78-4EB4-8208-50E2DC8A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832F7A2-621E-4FE6-A1BB-CD5FE55B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513DFCE-BB83-4FFA-A62F-5CF09ECB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9A5D2A7-1352-42BE-ACFE-65D5779C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0858F19-6E46-49E5-A10F-3F5A898A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E6C8ABD-AC03-4D93-8722-0AE23B1B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3A6EF55-C0BE-4AEB-A135-93AE3412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E780D6D-8F4E-4804-8A88-CBD0098D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074FC50-7B1B-49DA-8CE9-5F3B0D8B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29EFFA-3556-4369-A42A-B4B47F0A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A29C762-E081-403F-B6B5-A787AB3B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AD62873-6740-4BD0-BE6A-94877AE7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33C2FC8-957B-46CE-89E4-71E67EE4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D180D38-1B06-4277-8803-98A7AAD0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CB12ECD-A410-4645-922F-0DE55206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20EBDE2-DDBD-42EA-B5A5-C9373506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3E0221E-C205-4218-A94E-EDC72338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0CDCC69-79D1-42B5-88A5-262E3689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8F013AC-7813-4774-91E1-4CC9BF8F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816AC59-DEA3-48FB-B25B-D6AEC92B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642500-98E2-429A-8F09-3F99066F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ECB1FF3-C001-4379-962C-6AD80364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B6A0557-9B8F-46B4-A40C-91D8C919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34CC951-2F34-4A20-ABB6-445A2550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466A3EB-7BAC-439A-AEDF-F965E978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DD244FB-5531-4A95-B68A-48E5B482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E8FC275-D9D2-48B3-AA49-2A8A78D5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63562BE-5050-4FAF-88BA-3090BA93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032957C-8347-4476-B0A7-5DCAAEEB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7DDA4BA-1BBC-477F-AC82-CE06DC46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36A56BF-3DEA-4811-BF47-A4B626A6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BAC65-4E5D-4375-AF81-2BA0F843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92FCAFB-23FC-486E-93E3-486228BB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A1AD665-10F5-4626-B712-783EDF84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18BFE22-9D35-4FAB-B9B7-E707F870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D73F60F-0C5F-45BD-A2CB-59428A30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3BD2B83-1005-48D5-9AF7-23873876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D4AE59A-3133-4ABB-98AD-C75AB4DE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95A4A41-F758-40A8-BA44-7071D3AC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413A036-C1EE-424F-8906-CFA49C82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2434B00-78AF-4D3B-864A-C743A158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E6C6184-3F12-4F87-80B7-826F17F3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5A3-1896-43EF-8735-2F105F8B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A0BE1-C7CC-4C72-ABC5-49849AA3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BE7B055-E9EA-4754-8A6A-AD120AAE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FFA5224-A2DF-42AA-8AD3-92EF881C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96B9EAB-D8FC-4045-9335-DF654779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301F8CC-274E-4E63-A024-4736B170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6DB229F-5FC6-4322-A0A4-97C8294B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E54B98A-ABFF-42D8-8985-48445340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AB720E0-39E2-4DA4-8F1B-F9122971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A6DD2C7-62F2-4D24-80CD-F087295E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1C2F59D-FBCA-456C-B737-B422E294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C072727-2D29-4A08-837B-B6B271E4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5C4CD-A660-45BD-B1F9-7879BFED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D324EE3-03AC-457A-A7DC-35208441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E469B0A-9F0D-4176-A07B-5E99F912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EDECA51-677D-45DE-B760-502B0DC6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FE22FCE-14F1-4609-A5D1-F45F06D4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51EE2CC-F5D9-442C-809B-66BBC665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3D5AA51-695C-4469-B91D-FBF08213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B66865B-BB44-4AF6-B6DD-A2F546D9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F18F67B-70EF-4DCC-800B-9E2FFD1B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BDD7211-C621-4C18-B419-C2C65A26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FD71161-6D6F-4339-9D90-A3736106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EFB89-9CCB-4288-BC2E-5A2E51F0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DFE057F-0BD3-469E-B110-3A305FFF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31CD623-74AB-4977-AB04-0B5EF607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A8D003D-9917-4536-8D3D-8358A666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ACC861A-E12A-4B74-B96F-5C8DD5A1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027B194-3171-4A6A-BCBE-79085FB0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C8B2FDF-EA69-45DA-81D3-BFABAC53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00A4B3A-3B76-44A3-9D74-7046CE38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41CEB6F-3FF1-42E2-9439-4AC7E376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9ABF5F5-6A49-415D-A97A-E8DB4A56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C998CCE-4B48-4B7C-A0CF-919DE8DD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2D0BA-3FD8-492B-BF35-7C4148FC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9AC0237-C332-4405-B3C1-19294A99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09ECD01-52CC-4040-8831-867130A1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139C3B3-C409-4B38-A6E6-4962ECD1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E1C733A-1497-4B3A-9B3A-BACB1DBD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6E37D3F-398B-44B2-9A72-99DFE576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38AB114-5375-4948-A4A4-D385001B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29A4679-24CA-40BA-B3F4-1CC557B7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2E74221-AB25-4056-93FD-2CB408E5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2644960-CD53-4C43-AB0C-19B3B6D2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F5D5EBB-E005-4657-A158-5BB71637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63C93-EB6A-4642-88FD-EB921C4D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4843EE3-CFBF-46FC-9BA4-FE5D294C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BFB76C7-7DE9-41A9-BC6A-D903B8CF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08E5E71-2BF6-45C9-83FB-2A200A6F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5AD3B9D-E08F-43B3-BA31-FAD24C89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06CEF30-6A8A-42B5-83E9-3C560F84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D2262E8-A8DB-46B4-9A3F-58A34375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EA15BFA-7066-4C60-94ED-321A7008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0C26925-E611-419C-B910-E45E2AD4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8E16699-02F5-4167-A274-53358CE3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0794C07-A34B-4447-A4A2-1CD1A2AC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C07FF-10EA-4F12-80D9-196F7347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AA2D0EA-C6B1-4580-8684-EA7C2538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B7CC823-41A0-4B08-BF1D-49E227E0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9FFB181-6DBD-4603-BAEA-9A8BACA9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60E21B5-5458-4594-A358-1F031AC2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039F99C-E445-47E1-9063-D3B2AA9D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5419C94-D218-4171-BBF3-C370CDE5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100B4FF-3423-496D-9516-9C54F5A2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67DEC09-3642-4838-8B27-FCC7A6D1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A38BEA3-3E87-4982-92C7-2989BDC7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8F87CA2-4B82-4B34-B239-3F81AFBF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B3E01-73A2-47AC-AC10-3F313075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6413CA1-CD53-46E5-885B-7300DF98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93C0D5B-97C4-4B1F-956B-43CF05E1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5CF92BB-6CA1-4E99-82C8-4795C25D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2A8645C-30E4-4E35-88B3-0809946E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8160921-9A93-4685-AA11-017C66D1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6D19E83-87AF-4101-9564-3B600D9B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6A6B7F0-10CD-4DFE-9336-9AB7CEC0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5684326-33AB-4083-BE49-92929784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A3957E5-5DF6-4177-90B5-82DB2518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199298F-4497-4A50-A093-F6552EFA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20AE2-9397-4072-B184-E8CFD885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8730F17-82E1-4BFD-AB8D-276417E1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0AB6770-3197-48AD-87A1-BBA68873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55E3E28-F222-4D7C-B468-B27F7486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6100A12-3E45-443A-898B-54F4319F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6FAB9AB-730E-457E-AD1C-D150BAA7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7915B40-B2B7-462E-AF82-37EFA89E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28B51B2-B493-4AB7-8609-28C78B41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3C52ECB-3D06-43C8-BB26-174113CA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B470CBD-C658-4B91-B975-9293B714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FF79603-B93D-4AB6-9140-3AA9D5DE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12456-2CA0-4329-91D5-6F64BBD6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B7B449C-C05F-4A17-9D07-CAB60792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681A7B3-9D11-47F4-87B1-26709709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F0C1BA4-AEEE-4496-AEF6-D8DC3084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AB0181C-C9F1-43C9-AAAB-37C80ADD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301C41E-1AC9-401B-AF4D-86CC146F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44DB204-AD8B-4F8C-8469-588234C7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46A8983-DCD8-429B-9C53-62C062A2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B35CBDB-5D95-40FB-A602-A0340142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5D37269-CE85-423C-B067-6DCEFF37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F3F3C38-773C-49F0-88E0-B94A5AB3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249BE-3786-45F6-B3C6-CE77C67A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F468D29-FD9E-4C53-A799-39854D62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2E7D334-D16C-4894-A291-0098AF5E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5C0C579-BBCF-44EC-8F1F-9806D139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3BB0369-D276-4C68-9DFB-7E614AE1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05A8367-14FC-4432-A4BB-EDC08C4B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6193683-421C-4A5D-9B60-5578674A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543C7F1-B7AA-440C-90BD-C39AC254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9AF474F-E3C5-431D-B327-06C4D749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CD4E5D4-3694-4A75-958B-7A060E08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6EAEE66-60D0-49CF-B207-8152FED5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C17-8A0F-4BA8-BB9C-7817ED38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EB5DD-1CCB-47B3-8F03-73CD9019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AC7B9AE-E76E-4074-B165-ADA8C4B8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2733E97C-2E78-4973-8A6E-9573934F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DE6792A-4180-4AA3-A2AF-E3212589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D3606E4-F6EE-445A-8076-0CF45BF0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152C3D5-F7DF-44EE-8843-BD7DD0E4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10AEE4D-3848-4A01-BA36-318C4795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F15AFA9-AD04-4C1C-AA17-6752F5B0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1A5E7FA-DCBE-4557-A8A2-AE08ECC6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7B12669-87EB-44A4-96B1-762FE7A2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B35C997-C314-4CEB-9B78-41F3EA35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E3B43-344E-44E6-A2A6-C69BFA8D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69B05F1-0721-41CB-84A2-C2F4A8FE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2EB94D2-5376-46C0-988B-E1FBE97D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3C79C5D-6544-420E-BD09-472585D9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69AFEA7-934C-46F8-8409-17CCAAF0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4BB8C9D-9F6B-49C5-85CE-A9F75825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49CEF86-FF0F-4DC0-8256-8D60121E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8225993-547A-4E88-BDE3-F00AAF59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C41876D-2872-42AA-9020-5297164F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B3D27B4-98C9-4308-968C-4014A6E1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3EE8F70-924B-4E3C-AD78-9E823B23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4D598-0947-4452-918C-A084276E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7A4E6B5-CB7B-4E7A-B6F0-2F965337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A5D7D3D-EB7D-4E81-A7B6-7EC7C9A7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9FC7DDD-84E8-4AFC-8B30-D1A89A7A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4EA7CA4-7206-4FFD-82E7-F32BA4C0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4CB367B-4343-4B9F-BF60-679BD63E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3EF907E-77C7-4191-A949-FB9B957C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9AA152E-2932-43B8-92DC-67481739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330076C-CF20-4A98-B58C-4B68DAF8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EC6E129-792E-45EB-B576-EF5A81EE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DC1BDDA-4A42-4E68-B809-B7A72DF0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7B3F8-5B53-42F3-8D14-F594CA51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EC08D35-F1CA-41CE-987A-ECDF1681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EAA6C12-5B0F-44BB-AF50-0550C548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205A6CC-25EB-41B2-83D9-567B4349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FBC40C2-BAC2-4467-A757-1E76DD46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74101E3-C5B0-42A4-B223-A8648375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44C3629-BFF5-4DFD-9B81-9B51BC0B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8DF1B63-01F5-4577-8BF8-924A65D6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D271203-D15B-49F8-9552-6C3BA5CE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06B5AC4-20CB-4EA3-BCC8-5C0DF829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6906F58-AB2D-4DD3-95D9-99518DF9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0AFE0-1500-48D5-B4F0-F6F9D1C4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DD98A65-0BF0-4487-AA17-0742138B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AAAA097-44D3-4D1D-AADD-942CD3C2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2A7F9B1-A254-40F5-8ABA-EAE0AB91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4FEC316-D505-448E-BB8B-68DACC1B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91D9E77-4073-48A7-A4F3-69773AF9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9026A40-DC5F-4E71-95AB-46AB37BD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B10E059-C373-4823-A866-053A0231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DEF504A-2E0D-4C12-837E-050AC52E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9C0C938-C3B1-49FA-9A7C-3189E912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460BBF7-490A-4D4B-8FDF-4CDA85A2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AF6E5-7D58-4582-BF5C-FB3D4AA8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FBC04B7-FDC6-4D99-8B6C-F393D254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AAB8AF3-2BF7-42A9-8126-FBDFC965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74A2A7F-2442-43ED-B3E1-BB682061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33DA8E0-7C97-474D-8E70-5223DE9C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8C087B2-DDDA-4449-9D22-C98CBFDC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3B7B724-D9C6-4942-B6D6-0F16D78D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C3E895F-CA34-4D2A-ADCF-CEF2C210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D1EC386-CE2B-4BC3-8815-C472F58E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2CCDD35-D4AC-45E7-9601-B6A83EED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D4F69E1-FBEE-4888-918C-55818897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C8191-560B-449D-A9DC-5D7568FB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B2451FB-E1F0-4733-B5D4-BE8DEC04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C024136-9233-49B5-B34E-72FCF7A0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A8DFAFD-C37F-44DB-8EB7-C6771FA1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51A213A-EA26-4A12-8DEF-0F7C4C25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F861780-A4FF-4945-881B-1E748B62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440338F-5A78-4CD2-8F18-DEB0B92D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5515819-1CED-44FE-A0AA-C26BF6DC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858C6A5-57DA-4408-89C3-647FC536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B2BAC10-885B-422A-9106-099339C6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AF6FFA3-6CF1-4987-88DD-3EB65A4F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51786-6208-4EC8-92E7-C747A663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7979110-37B3-428D-BA8F-BB1137F4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69145D9-F60B-437C-A94D-576F85DC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0FC3BBD-636D-433A-82EF-555E0A3A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B7CD868-FC0D-4E78-B612-B766F1C0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E5586CF-FA06-4D7A-8BDF-2A7FB5E9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8759854-494D-4CDA-8272-43F6FB8C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A9B0E5A-4502-4EF2-9173-FE7F8E33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F0F8325-136A-4227-9ECF-E42CA71F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40131FA-0353-4C31-904B-905EC22F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99FC5B9-DC4E-4D47-A2FF-EDC90032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E3B5A-2E4C-497B-A174-6ADC9542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C51B6BC-0197-4EAE-8ECB-8725F7FC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52340F1-4776-42C1-BA7E-AE5663DF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F578445-EE33-4442-8F6A-AF260682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ECEDA24-9512-4010-97FF-081A7CF8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5798383-F8BF-4FEC-82EF-E8234283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4EFA5-ABF2-4643-A6DA-6AF8C30B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704-F6EC-423C-918F-3E7CA37B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0989C-9F8B-4AF3-8B2A-585C4F8B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F9DEB-BE2A-4BA4-B49A-17012F7D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EB19E-F680-4DC3-86E1-D81D9F9F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072622-2ED7-4691-BD91-369ED4AD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93ABA2-A2EF-4E3D-99F8-0B974EBD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ECF78A-ADFC-4083-8F59-A2F93A75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3D96B0-2566-4021-9D88-68A91A6C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E48479-14FD-4472-A074-436EF325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349E8B-5A0D-414E-B52D-D828392D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8D1FB6-759F-467D-A231-16B6E5C2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BDE-6FD3-4A8F-9195-6B379709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1E9D8E-6627-4831-BED0-39ECD17F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694476-02E1-4051-8313-22EAA8F1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F6AE91-9BB2-49AF-A885-E070A1B1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C961D4-902E-43BC-969A-32E7C952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825CFC-587D-4751-9EB2-9A074FE5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58556-31BE-4995-BAD4-3784F535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F6772-0237-4225-8A25-876C2FF9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88317-38EB-4E5E-8545-15D923B8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D72FF-0918-4926-A720-D30934BE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CDEE3-22C2-4B08-A7D2-22C456C1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0491-5773-4F5E-9B77-ABF97A1F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BD492-8FA9-498D-94DD-9B5DC902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93315-B3B7-453A-8A77-39A01628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309AF-89E2-48FF-A5CC-7064F5C4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EE46D-A1BE-4015-B00D-CE6D919F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D22C5-A30D-4B82-84AF-C2D19125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9411F-8AC3-443E-96C1-95AAA058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5D544-99AF-4EB7-8605-8288C0A4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B0CE2-1837-4639-9DBD-D5DD3487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9BC9B-9BCC-4702-8210-E78082F5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B2405-8290-4335-AAF6-99E305CF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41.xml"/><Relationship Id="rId8" Type="http://schemas.openxmlformats.org/officeDocument/2006/relationships/slideLayout" Target="../slideLayouts/slideLayout542.xml"/><Relationship Id="rId9" Type="http://schemas.openxmlformats.org/officeDocument/2006/relationships/slideLayout" Target="../slideLayouts/slideLayout543.xml"/><Relationship Id="rId10" Type="http://schemas.openxmlformats.org/officeDocument/2006/relationships/slideLayout" Target="../slideLayouts/slideLayout544.xml"/><Relationship Id="rId11" Type="http://schemas.openxmlformats.org/officeDocument/2006/relationships/slideLayout" Target="../slideLayouts/slideLayout545.xml"/><Relationship Id="rId12" Type="http://schemas.openxmlformats.org/officeDocument/2006/relationships/slideLayout" Target="../slideLayouts/slideLayout546.xml"/><Relationship Id="rId13" Type="http://schemas.openxmlformats.org/officeDocument/2006/relationships/slideLayout" Target="../slideLayouts/slideLayout547.xml"/><Relationship Id="rId14" Type="http://schemas.openxmlformats.org/officeDocument/2006/relationships/slideLayout" Target="../slideLayouts/slideLayout548.xml"/><Relationship Id="rId15" Type="http://schemas.openxmlformats.org/officeDocument/2006/relationships/slideLayout" Target="../slideLayouts/slideLayout549.xml"/><Relationship Id="rId16" Type="http://schemas.openxmlformats.org/officeDocument/2006/relationships/slideLayout" Target="../slideLayouts/slideLayout550.xml"/><Relationship Id="rId17" Type="http://schemas.openxmlformats.org/officeDocument/2006/relationships/slideLayout" Target="../slideLayouts/slideLayout551.xml"/><Relationship Id="rId18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0C17-90A3-4DD3-9AC3-A25FE94FC4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A03E-AADB-498A-AECD-E6AC58D7D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D206-56D3-47B8-B820-E659C85EAE4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7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760E-8933-487D-89AC-DB939F8417F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3EC2-4A5E-43D6-B7B7-A5ED5059B4F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7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0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DF58-48F1-4A9B-8939-B7462657938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CE61-3583-47CB-B135-5ADECBBD23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8C35-1F23-4C9D-A759-BC0B57172F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8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9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8726-E9FD-4EDD-AB9B-396B86208F1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80B9-B373-4567-8F3E-F1D575EEFA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1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2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3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75E2-513F-4D4B-A7CD-23316BDEE4F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32DE-9039-4D50-BB71-DB8631D2D8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746C-CE07-4DF6-9069-69F641E03F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AA9B-ECDB-4D9E-8F5D-E0BFD859B73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dt" idx="6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ftr" idx="6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BD57-08D4-403C-BC56-33183BCC7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E2A1-5874-4A57-9706-ECD643E24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7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7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7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35B3-F8F5-4442-AF86-9EB8C5E9F3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31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1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2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2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32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2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3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3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4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4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5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5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5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5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6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6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7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7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8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8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8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8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9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9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0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40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40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40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1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1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1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2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2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42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2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9CB5-A244-4DD4-80AA-CA4D889FEC7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46C4-F366-4818-B11B-1CF9190439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9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83F4-2964-422F-AC5F-E6922CFFAA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545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2370-C0E9-4978-B24E-88DDA00A07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AA8A-374F-42F9-AD67-204768E239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4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06F5-8429-4951-AB6D-3DF3C0FBE7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69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C316-B162-4329-A7D0-2E475AACC4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3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339F-1D2D-4352-BD77-65B4D718E8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4CD0-A628-42EB-AA6E-897D86EE11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5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5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9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9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94EC-DD05-4D07-A54D-10E076E70F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 type="dt" idx="10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 type="ftr" idx="10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 type="sldNum" idx="10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AAC5-7D06-44D9-864D-3FFDBDD51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4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5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5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54EF-8010-4AC6-B298-CE31D12401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ftr" idx="1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1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42F9-32A9-4CCA-970B-7F9EAB2083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6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9A0C-F823-482F-8849-2B97250EE9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1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1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1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1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1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1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0A9C-B6C8-4799-B162-F5967FBAEB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6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550D-6259-4C10-BD24-A91AE47F2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D253-A673-4B76-96EA-318E8F7BE6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dt" idx="11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 type="ftr" idx="1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 type="sldNum" idx="12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3A90-34BA-479E-AE68-91DAA237B66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7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A237-8322-41FC-B845-4B917AF2EA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0C56-86D4-48F9-BBCD-244E65CDFBC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7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7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0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9A94-338A-468A-917C-A2EA2F2C42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4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 type="dt" idx="13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 type="ftr" idx="13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184F-9BAF-4B77-9C33-834C72F058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2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7C99-1C51-4F8E-B760-350F80D763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8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9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FAC9-3CD0-435F-98CC-7514585C6D0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7"/>
    <p:sldLayoutId id="2147484235" r:id="rId8"/>
    <p:sldLayoutId id="2147484236" r:id="rId9"/>
    <p:sldLayoutId id="2147484237" r:id="rId10"/>
    <p:sldLayoutId id="2147484238" r:id="rId11"/>
    <p:sldLayoutId id="2147484239" r:id="rId12"/>
    <p:sldLayoutId id="2147484240" r:id="rId13"/>
    <p:sldLayoutId id="2147484241" r:id="rId14"/>
    <p:sldLayoutId id="2147484242" r:id="rId15"/>
    <p:sldLayoutId id="2147484243" r:id="rId16"/>
    <p:sldLayoutId id="2147484244" r:id="rId17"/>
    <p:sldLayoutId id="2147484245" r:id="rId18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66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E524-29D1-401A-B6C2-7F1BB35545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0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11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12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9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5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26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9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730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3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34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38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1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742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5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193E-7BB7-48FF-8852-E33FFABFC57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 type="ftr" idx="14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1881-60CF-435D-9AAE-EE1296CCF9D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9285-5340-4F28-B82A-9D5A8F3A6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3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 type="dt" idx="14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 type="ftr" idx="14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5"/>
          <p:cNvSpPr>
            <a:spLocks noGrp="1"/>
          </p:cNvSpPr>
          <p:nvPr>
            <p:ph type="sldNum" idx="15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488E-E561-4482-AD0D-E1EF98A6E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 type="ftr" idx="1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 type="sldNum" idx="1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9D7F-5FDB-4286-B0C7-A9763B1CE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5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292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6B8B-682C-49BC-BE44-509AE4563C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3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974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75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978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979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980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2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83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84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5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6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87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8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9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0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1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2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93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4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5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96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7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8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9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0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1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02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3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4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05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6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7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08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9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0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1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2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3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14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5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6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17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8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9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20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1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2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23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4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5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026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7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8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029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0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1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032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3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4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035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6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7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038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9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0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041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2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3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044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5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6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8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049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0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1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052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3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4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055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6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7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58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9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0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61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2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3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64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5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6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067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8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9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070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1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2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073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4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5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076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7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8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079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0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81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082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083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90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1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092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0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41D9-FD3B-49AC-9281-D3C748821BD1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5B14-C6BB-45E7-82BA-1C408A3D3D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9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95E9-B6B8-4E2C-9E8A-21E18C125F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4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24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9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325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 type="dt" idx="16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 type="ftr" idx="16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5"/>
          <p:cNvSpPr>
            <a:spLocks noGrp="1"/>
          </p:cNvSpPr>
          <p:nvPr>
            <p:ph type="sldNum" idx="16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0FDE-DC33-45C6-97B1-4ED137D85F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9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 type="dt" idx="1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0A0F-0150-4312-8A9D-174F7266CC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8219-9143-433C-83F9-D0DFE1145E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5A89-5CB8-42AE-B62D-C078F766B8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60E5-B4F1-41E6-AF5F-385020A0C5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D72D-9EB2-4E67-8834-DDF55927C2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October_14" TargetMode="External"/><Relationship Id="rId3" Type="http://schemas.openxmlformats.org/officeDocument/2006/relationships/hyperlink" Target="http://en.wikipedia.org/wiki/1943" TargetMode="External"/><Relationship Id="rId4" Type="http://schemas.openxmlformats.org/officeDocument/2006/relationships/hyperlink" Target="http://en.wikipedia.org/wiki/August_17" TargetMode="External"/><Relationship Id="rId5" Type="http://schemas.openxmlformats.org/officeDocument/2006/relationships/hyperlink" Target="http://en.wikipedia.org/wiki/1945" TargetMode="External"/><Relationship Id="rId6" Type="http://schemas.openxmlformats.org/officeDocument/2006/relationships/hyperlink" Target="http://en.wikipedia.org/wiki/February_29" TargetMode="External"/><Relationship Id="rId7" Type="http://schemas.openxmlformats.org/officeDocument/2006/relationships/hyperlink" Target="http://en.wikipedia.org/wiki/1936" TargetMode="External"/><Relationship Id="rId8" Type="http://schemas.openxmlformats.org/officeDocument/2006/relationships/hyperlink" Target="http://en.wikipedia.org/wiki/February_5" TargetMode="External"/><Relationship Id="rId9" Type="http://schemas.openxmlformats.org/officeDocument/2006/relationships/hyperlink" Target="http://en.wikipedia.org/wiki/1942" TargetMode="External"/><Relationship Id="rId10" Type="http://schemas.openxmlformats.org/officeDocument/2006/relationships/hyperlink" Target="http://en.wikipedia.org/wiki/March_9" TargetMode="External"/><Relationship Id="rId11" Type="http://schemas.openxmlformats.org/officeDocument/2006/relationships/hyperlink" Target="http://en.wikipedia.org/wiki/1891" TargetMode="External"/><Relationship Id="rId12" Type="http://schemas.openxmlformats.org/officeDocument/2006/relationships/hyperlink" Target="http://en.wikipedia.org/wiki/Tanauan_City" TargetMode="External"/><Relationship Id="rId13" Type="http://schemas.openxmlformats.org/officeDocument/2006/relationships/hyperlink" Target="http://en.wikipedia.org/wiki/Batangas" TargetMode="External"/><Relationship Id="rId14" Type="http://schemas.openxmlformats.org/officeDocument/2006/relationships/hyperlink" Target="http://en.wikipedia.org/wiki/November_6" TargetMode="External"/><Relationship Id="rId15" Type="http://schemas.openxmlformats.org/officeDocument/2006/relationships/hyperlink" Target="http://en.wikipedia.org/wiki/1959" TargetMode="External"/><Relationship Id="rId16" Type="http://schemas.openxmlformats.org/officeDocument/2006/relationships/hyperlink" Target="http://en.wikipedia.org/wiki/Manila" TargetMode="External"/><Relationship Id="rId17" Type="http://schemas.openxmlformats.org/officeDocument/2006/relationships/hyperlink" Target="http://en.wikipedia.org/wiki/Kapisanan_ng_Paglilingkod_sa_Bagong_Pilipinas" TargetMode="External"/><Relationship Id="rId18" Type="http://schemas.openxmlformats.org/officeDocument/2006/relationships/hyperlink" Target="http://en.wikipedia.org/wiki/Pacencia_Laurel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45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ndb.com/lists/838/000106520/" TargetMode="External"/><Relationship Id="rId2" Type="http://schemas.openxmlformats.org/officeDocument/2006/relationships/hyperlink" Target="http://www.nndb.com/lists/889/000105574/" TargetMode="External"/><Relationship Id="rId3" Type="http://schemas.openxmlformats.org/officeDocument/2006/relationships/hyperlink" Target="http://www.nndb.com/lists/943/000106625/" TargetMode="External"/><Relationship Id="rId4" Type="http://schemas.openxmlformats.org/officeDocument/2006/relationships/hyperlink" Target="http://www.nndb.com/lists/466/000106148/" TargetMode="External"/><Relationship Id="rId5" Type="http://schemas.openxmlformats.org/officeDocument/2006/relationships/hyperlink" Target="http://www.nndb.com/geo/878/000069671/" TargetMode="External"/><Relationship Id="rId6" Type="http://schemas.openxmlformats.org/officeDocument/2006/relationships/hyperlink" Target="http://www.nndb.com/lists/758/000094476/" TargetMode="External"/><Relationship Id="rId7" Type="http://schemas.openxmlformats.org/officeDocument/2006/relationships/hyperlink" Target="http://www.nndb.com/gov/072/000051916/" TargetMode="External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estrad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30" TargetMode="External"/><Relationship Id="rId3" Type="http://schemas.openxmlformats.org/officeDocument/2006/relationships/hyperlink" Target="http://en.wikipedia.org/wiki/1992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8" TargetMode="External"/><Relationship Id="rId6" Type="http://schemas.openxmlformats.org/officeDocument/2006/relationships/hyperlink" Target="http://en.wikipedia.org/wiki/April_19" TargetMode="External"/><Relationship Id="rId7" Type="http://schemas.openxmlformats.org/officeDocument/2006/relationships/hyperlink" Target="http://en.wikipedia.org/wiki/1937" TargetMode="External"/><Relationship Id="rId8" Type="http://schemas.openxmlformats.org/officeDocument/2006/relationships/hyperlink" Target="http://en.wikipedia.org/wiki/Tondo" TargetMode="External"/><Relationship Id="rId9" Type="http://schemas.openxmlformats.org/officeDocument/2006/relationships/hyperlink" Target="http://en.wikipedia.org/wiki/Manila" TargetMode="External"/><Relationship Id="rId10" Type="http://schemas.openxmlformats.org/officeDocument/2006/relationships/hyperlink" Target="http://en.wikipedia.org/wiki/Partido_ng_Masang_Pilipino" TargetMode="External"/><Relationship Id="rId11" Type="http://schemas.openxmlformats.org/officeDocument/2006/relationships/hyperlink" Target="http://en.wikipedia.org/wiki/Loi_Estrada" TargetMode="External"/><Relationship Id="rId12" Type="http://schemas.openxmlformats.org/officeDocument/2006/relationships/hyperlink" Target="http://en.wikipedia.org/wiki/Actor" TargetMode="External"/><Relationship Id="rId13" Type="http://schemas.openxmlformats.org/officeDocument/2006/relationships/hyperlink" Target="http://en.wikipedia.org/wiki/Roman_Catholic_Church" TargetMode="External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August_1" TargetMode="External"/><Relationship Id="rId3" Type="http://schemas.openxmlformats.org/officeDocument/2006/relationships/hyperlink" Target="http://en.wikipedia.org/wiki/1944" TargetMode="External"/><Relationship Id="rId4" Type="http://schemas.openxmlformats.org/officeDocument/2006/relationships/hyperlink" Target="http://en.wikipedia.org/wiki/May_28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November_15" TargetMode="External"/><Relationship Id="rId7" Type="http://schemas.openxmlformats.org/officeDocument/2006/relationships/hyperlink" Target="http://en.wikipedia.org/wiki/1935" TargetMode="External"/><Relationship Id="rId8" Type="http://schemas.openxmlformats.org/officeDocument/2006/relationships/hyperlink" Target="http://en.wikipedia.org/wiki/August_1" TargetMode="External"/><Relationship Id="rId9" Type="http://schemas.openxmlformats.org/officeDocument/2006/relationships/hyperlink" Target="http://en.wikipedia.org/wiki/1944" TargetMode="External"/><Relationship Id="rId10" Type="http://schemas.openxmlformats.org/officeDocument/2006/relationships/hyperlink" Target="http://en.wikipedia.org/wiki/September_9" TargetMode="External"/><Relationship Id="rId11" Type="http://schemas.openxmlformats.org/officeDocument/2006/relationships/hyperlink" Target="http://en.wikipedia.org/wiki/1878" TargetMode="External"/><Relationship Id="rId12" Type="http://schemas.openxmlformats.org/officeDocument/2006/relationships/hyperlink" Target="http://en.wikipedia.org/wiki/Cebu_City" TargetMode="External"/><Relationship Id="rId13" Type="http://schemas.openxmlformats.org/officeDocument/2006/relationships/hyperlink" Target="http://en.wikipedia.org/wiki/Cebu_Province" TargetMode="External"/><Relationship Id="rId14" Type="http://schemas.openxmlformats.org/officeDocument/2006/relationships/hyperlink" Target="http://en.wikipedia.org/wiki/October_19" TargetMode="External"/><Relationship Id="rId15" Type="http://schemas.openxmlformats.org/officeDocument/2006/relationships/hyperlink" Target="http://en.wikipedia.org/wiki/1961" TargetMode="External"/><Relationship Id="rId16" Type="http://schemas.openxmlformats.org/officeDocument/2006/relationships/hyperlink" Target="http://en.wikipedia.org/wiki/Quezon_City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Esperanza_Osme&#241;a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81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arroyo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Incumbent" TargetMode="External"/><Relationship Id="rId3" Type="http://schemas.openxmlformats.org/officeDocument/2006/relationships/hyperlink" Target="http://en.wikipedia.org/wiki/January_20" TargetMode="External"/><Relationship Id="rId4" Type="http://schemas.openxmlformats.org/officeDocument/2006/relationships/hyperlink" Target="http://en.wikipedia.org/wiki/2001" TargetMode="External"/><Relationship Id="rId5" Type="http://schemas.openxmlformats.org/officeDocument/2006/relationships/hyperlink" Target="http://en.wikipedia.org/wiki/Noli_de_Castro" TargetMode="External"/><Relationship Id="rId6" Type="http://schemas.openxmlformats.org/officeDocument/2006/relationships/hyperlink" Target="http://en.wikipedia.org/wiki/April_5" TargetMode="External"/><Relationship Id="rId7" Type="http://schemas.openxmlformats.org/officeDocument/2006/relationships/hyperlink" Target="http://en.wikipedia.org/wiki/1947" TargetMode="External"/><Relationship Id="rId8" Type="http://schemas.openxmlformats.org/officeDocument/2006/relationships/hyperlink" Target="http://en.wikipedia.org/wiki/San_Juan,_Metro_Manila" TargetMode="External"/><Relationship Id="rId9" Type="http://schemas.openxmlformats.org/officeDocument/2006/relationships/hyperlink" Target="http://en.wikipedia.org/wiki/Rizal" TargetMode="External"/><Relationship Id="rId10" Type="http://schemas.openxmlformats.org/officeDocument/2006/relationships/hyperlink" Target="http://en.wikipedia.org/wiki/Laban_ng_Demokratikong_Pilipino" TargetMode="External"/><Relationship Id="rId11" Type="http://schemas.openxmlformats.org/officeDocument/2006/relationships/hyperlink" Target="http://en.wikipedia.org/wiki/Lakas-Christian_Muslim_Democrats" TargetMode="External"/><Relationship Id="rId12" Type="http://schemas.openxmlformats.org/officeDocument/2006/relationships/hyperlink" Target="http://en.wikipedia.org/wiki/Kabalikat_ng_Malayang_Pilipino" TargetMode="External"/><Relationship Id="rId13" Type="http://schemas.openxmlformats.org/officeDocument/2006/relationships/hyperlink" Target="http://en.wikipedia.org/wiki/Jose_Miguel_Arroyo" TargetMode="External"/><Relationship Id="rId14" Type="http://schemas.openxmlformats.org/officeDocument/2006/relationships/hyperlink" Target="http://en.wikipedia.org/wiki/Economist" TargetMode="External"/><Relationship Id="rId15" Type="http://schemas.openxmlformats.org/officeDocument/2006/relationships/hyperlink" Target="http://en.wikipedia.org/wiki/Roman_Catholic" TargetMode="External"/><Relationship Id="rId16" Type="http://schemas.openxmlformats.org/officeDocument/2006/relationships/slideLayout" Target="../slideLayouts/slideLayout193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y_28" TargetMode="External"/><Relationship Id="rId3" Type="http://schemas.openxmlformats.org/officeDocument/2006/relationships/hyperlink" Target="http://en.wikipedia.org/wiki/1946" TargetMode="External"/><Relationship Id="rId4" Type="http://schemas.openxmlformats.org/officeDocument/2006/relationships/hyperlink" Target="http://en.wikipedia.org/wiki/July_4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April_15" TargetMode="External"/><Relationship Id="rId7" Type="http://schemas.openxmlformats.org/officeDocument/2006/relationships/hyperlink" Target="http://en.wikipedia.org/wiki/1948" TargetMode="External"/><Relationship Id="rId8" Type="http://schemas.openxmlformats.org/officeDocument/2006/relationships/hyperlink" Target="http://en.wikipedia.org/wiki/January_1" TargetMode="External"/><Relationship Id="rId9" Type="http://schemas.openxmlformats.org/officeDocument/2006/relationships/hyperlink" Target="http://en.wikipedia.org/wiki/1892" TargetMode="External"/><Relationship Id="rId10" Type="http://schemas.openxmlformats.org/officeDocument/2006/relationships/hyperlink" Target="http://en.wikipedia.org/wiki/Roxas_City" TargetMode="External"/><Relationship Id="rId11" Type="http://schemas.openxmlformats.org/officeDocument/2006/relationships/hyperlink" Target="http://en.wikipedia.org/wiki/Capiz" TargetMode="External"/><Relationship Id="rId12" Type="http://schemas.openxmlformats.org/officeDocument/2006/relationships/hyperlink" Target="http://en.wikipedia.org/wiki/April_15" TargetMode="External"/><Relationship Id="rId13" Type="http://schemas.openxmlformats.org/officeDocument/2006/relationships/hyperlink" Target="http://en.wikipedia.org/wiki/1948" TargetMode="External"/><Relationship Id="rId14" Type="http://schemas.openxmlformats.org/officeDocument/2006/relationships/hyperlink" Target="http://en.wikipedia.org/wiki/Clark_Air_Base" TargetMode="External"/><Relationship Id="rId15" Type="http://schemas.openxmlformats.org/officeDocument/2006/relationships/hyperlink" Target="http://en.wikipedia.org/wiki/Angeles" TargetMode="External"/><Relationship Id="rId16" Type="http://schemas.openxmlformats.org/officeDocument/2006/relationships/hyperlink" Target="http://en.wikipedia.org/wiki/Pampanga" TargetMode="External"/><Relationship Id="rId17" Type="http://schemas.openxmlformats.org/officeDocument/2006/relationships/hyperlink" Target="http://en.wikipedia.org/wiki/Trinidad_Roxas" TargetMode="External"/><Relationship Id="rId18" Type="http://schemas.openxmlformats.org/officeDocument/2006/relationships/hyperlink" Target="http://en.wikipedia.org/wiki/Lawyer" TargetMode="External"/><Relationship Id="rId19" Type="http://schemas.openxmlformats.org/officeDocument/2006/relationships/hyperlink" Target="http://en.wikipedia.org/wiki/Roman_Catholic_Church" TargetMode="External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slideLayout" Target="../slideLayouts/slideLayout205.xml"/><Relationship Id="rId2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ndb.com/lists/761/000106443/" TargetMode="External"/><Relationship Id="rId2" Type="http://schemas.openxmlformats.org/officeDocument/2006/relationships/hyperlink" Target="http://www.nndb.com/lists/906/000105591/" TargetMode="External"/><Relationship Id="rId3" Type="http://schemas.openxmlformats.org/officeDocument/2006/relationships/hyperlink" Target="http://www.nndb.com/lists/960/000106642/" TargetMode="External"/><Relationship Id="rId4" Type="http://schemas.openxmlformats.org/officeDocument/2006/relationships/hyperlink" Target="http://www.nndb.com/lists/467/000106149/" TargetMode="External"/><Relationship Id="rId5" Type="http://schemas.openxmlformats.org/officeDocument/2006/relationships/hyperlink" Target="http://www.nndb.com/lists/332/000069125/" TargetMode="External"/><Relationship Id="rId6" Type="http://schemas.openxmlformats.org/officeDocument/2006/relationships/hyperlink" Target="http://www.nndb.com/gov/072/000051916/" TargetMode="External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29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ndb.com/lists/826/000106508/" TargetMode="External"/><Relationship Id="rId2" Type="http://schemas.openxmlformats.org/officeDocument/2006/relationships/hyperlink" Target="http://www.nndb.com/lists/895/000105580/" TargetMode="External"/><Relationship Id="rId3" Type="http://schemas.openxmlformats.org/officeDocument/2006/relationships/hyperlink" Target="http://www.nndb.com/lists/052/000106731/" TargetMode="External"/><Relationship Id="rId4" Type="http://schemas.openxmlformats.org/officeDocument/2006/relationships/hyperlink" Target="http://www.nndb.com/lists/481/000106163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12" TargetMode="External"/><Relationship Id="rId3" Type="http://schemas.openxmlformats.org/officeDocument/2006/relationships/hyperlink" Target="http://en.wikipedia.org/wiki/1978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81" TargetMode="External"/><Relationship Id="rId6" Type="http://schemas.openxmlformats.org/officeDocument/2006/relationships/hyperlink" Target="http://en.wikipedia.org/wiki/September_11" TargetMode="External"/><Relationship Id="rId7" Type="http://schemas.openxmlformats.org/officeDocument/2006/relationships/hyperlink" Target="http://en.wikipedia.org/wiki/1917" TargetMode="External"/><Relationship Id="rId8" Type="http://schemas.openxmlformats.org/officeDocument/2006/relationships/hyperlink" Target="http://en.wikipedia.org/wiki/Sarrat,_Ilocos_Norte" TargetMode="External"/><Relationship Id="rId9" Type="http://schemas.openxmlformats.org/officeDocument/2006/relationships/hyperlink" Target="http://en.wikipedia.org/wiki/Ilocos_Norte" TargetMode="External"/><Relationship Id="rId10" Type="http://schemas.openxmlformats.org/officeDocument/2006/relationships/hyperlink" Target="http://en.wikipedia.org/wiki/Philippines" TargetMode="External"/><Relationship Id="rId11" Type="http://schemas.openxmlformats.org/officeDocument/2006/relationships/hyperlink" Target="http://en.wikipedia.org/wiki/Imelda_Marcos" TargetMode="External"/><Relationship Id="rId12" Type="http://schemas.openxmlformats.org/officeDocument/2006/relationships/slideLayout" Target="../slideLayouts/slideLayout265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rch_22" TargetMode="External"/><Relationship Id="rId3" Type="http://schemas.openxmlformats.org/officeDocument/2006/relationships/hyperlink" Target="http://en.wikipedia.org/wiki/1897" TargetMode="External"/><Relationship Id="rId4" Type="http://schemas.openxmlformats.org/officeDocument/2006/relationships/hyperlink" Target="http://en.wikipedia.org/wiki/April_1" TargetMode="External"/><Relationship Id="rId5" Type="http://schemas.openxmlformats.org/officeDocument/2006/relationships/hyperlink" Target="http://en.wikipedia.org/wiki/1901" TargetMode="External"/><Relationship Id="rId6" Type="http://schemas.openxmlformats.org/officeDocument/2006/relationships/hyperlink" Target="http://en.wikipedia.org/wiki/March_22" TargetMode="External"/><Relationship Id="rId7" Type="http://schemas.openxmlformats.org/officeDocument/2006/relationships/hyperlink" Target="http://en.wikipedia.org/wiki/1869" TargetMode="External"/><Relationship Id="rId8" Type="http://schemas.openxmlformats.org/officeDocument/2006/relationships/hyperlink" Target="http://en.wikipedia.org/wiki/Kawit,_Cavite" TargetMode="External"/><Relationship Id="rId9" Type="http://schemas.openxmlformats.org/officeDocument/2006/relationships/hyperlink" Target="http://en.wikipedia.org/wiki/Cavite" TargetMode="External"/><Relationship Id="rId10" Type="http://schemas.openxmlformats.org/officeDocument/2006/relationships/hyperlink" Target="http://en.wikipedia.org/wiki/February_6" TargetMode="External"/><Relationship Id="rId11" Type="http://schemas.openxmlformats.org/officeDocument/2006/relationships/hyperlink" Target="http://en.wikipedia.org/wiki/1964" TargetMode="External"/><Relationship Id="rId12" Type="http://schemas.openxmlformats.org/officeDocument/2006/relationships/hyperlink" Target="http://en.wikipedia.org/wiki/Quezon_City" TargetMode="External"/><Relationship Id="rId13" Type="http://schemas.openxmlformats.org/officeDocument/2006/relationships/hyperlink" Target="http://en.wikipedia.org/wiki/Metro_Manila" TargetMode="External"/><Relationship Id="rId14" Type="http://schemas.openxmlformats.org/officeDocument/2006/relationships/hyperlink" Target="http://en.wikipedia.org/wiki/Hilaria_Aguinaldo" TargetMode="External"/><Relationship Id="rId15" Type="http://schemas.openxmlformats.org/officeDocument/2006/relationships/hyperlink" Target="http://en.wikipedia.org/wiki/Military" TargetMode="External"/><Relationship Id="rId16" Type="http://schemas.openxmlformats.org/officeDocument/2006/relationships/hyperlink" Target="http://en.wikipedia.org/wiki/Roman_Catholic_Church" TargetMode="External"/><Relationship Id="rId17" Type="http://schemas.openxmlformats.org/officeDocument/2006/relationships/slideLayout" Target="../slideLayouts/slideLayout289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ramo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Quezon_Sig.pn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November_15" TargetMode="External"/><Relationship Id="rId5" Type="http://schemas.openxmlformats.org/officeDocument/2006/relationships/hyperlink" Target="http://en.wikipedia.org/wiki/1935" TargetMode="External"/><Relationship Id="rId6" Type="http://schemas.openxmlformats.org/officeDocument/2006/relationships/hyperlink" Target="http://en.wikipedia.org/wiki/August_1" TargetMode="External"/><Relationship Id="rId7" Type="http://schemas.openxmlformats.org/officeDocument/2006/relationships/hyperlink" Target="http://en.wikipedia.org/wiki/1944" TargetMode="External"/><Relationship Id="rId8" Type="http://schemas.openxmlformats.org/officeDocument/2006/relationships/hyperlink" Target="http://en.wikipedia.org/wiki/August_19" TargetMode="External"/><Relationship Id="rId9" Type="http://schemas.openxmlformats.org/officeDocument/2006/relationships/hyperlink" Target="http://en.wikipedia.org/wiki/1878" TargetMode="External"/><Relationship Id="rId10" Type="http://schemas.openxmlformats.org/officeDocument/2006/relationships/hyperlink" Target="http://en.wikipedia.org/wiki/Baler,_Aurora" TargetMode="External"/><Relationship Id="rId11" Type="http://schemas.openxmlformats.org/officeDocument/2006/relationships/hyperlink" Target="http://en.wikipedia.org/wiki/Aurora_province" TargetMode="External"/><Relationship Id="rId12" Type="http://schemas.openxmlformats.org/officeDocument/2006/relationships/hyperlink" Target="http://en.wikipedia.org/wiki/August_1" TargetMode="External"/><Relationship Id="rId13" Type="http://schemas.openxmlformats.org/officeDocument/2006/relationships/hyperlink" Target="http://en.wikipedia.org/wiki/1944" TargetMode="External"/><Relationship Id="rId14" Type="http://schemas.openxmlformats.org/officeDocument/2006/relationships/hyperlink" Target="http://en.wikipedia.org/wiki/Saranac_Lake,_New_York" TargetMode="External"/><Relationship Id="rId15" Type="http://schemas.openxmlformats.org/officeDocument/2006/relationships/hyperlink" Target="http://en.wikipedia.org/wiki/New_York" TargetMode="External"/><Relationship Id="rId16" Type="http://schemas.openxmlformats.org/officeDocument/2006/relationships/hyperlink" Target="http://en.wikipedia.org/wiki/United_States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Aurora_Quezon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Ramos_Sig.png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2" TargetMode="External"/><Relationship Id="rId6" Type="http://schemas.openxmlformats.org/officeDocument/2006/relationships/hyperlink" Target="http://en.wikipedia.org/wiki/June_30" TargetMode="External"/><Relationship Id="rId7" Type="http://schemas.openxmlformats.org/officeDocument/2006/relationships/hyperlink" Target="http://en.wikipedia.org/wiki/1998" TargetMode="External"/><Relationship Id="rId8" Type="http://schemas.openxmlformats.org/officeDocument/2006/relationships/hyperlink" Target="http://en.wikipedia.org/wiki/March_18" TargetMode="External"/><Relationship Id="rId9" Type="http://schemas.openxmlformats.org/officeDocument/2006/relationships/hyperlink" Target="http://en.wikipedia.org/wiki/1928" TargetMode="External"/><Relationship Id="rId10" Type="http://schemas.openxmlformats.org/officeDocument/2006/relationships/hyperlink" Target="http://en.wikipedia.org/wiki/Lingayen,_Pangasinan" TargetMode="External"/><Relationship Id="rId11" Type="http://schemas.openxmlformats.org/officeDocument/2006/relationships/hyperlink" Target="http://en.wikipedia.org/wiki/Pangasinan" TargetMode="External"/><Relationship Id="rId12" Type="http://schemas.openxmlformats.org/officeDocument/2006/relationships/hyperlink" Target="http://en.wikipedia.org/wiki/Philippines" TargetMode="External"/><Relationship Id="rId13" Type="http://schemas.openxmlformats.org/officeDocument/2006/relationships/slideLayout" Target="../slideLayouts/slideLayout109.xml"/><Relationship Id="rId1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ndb.com/lists/542/000106224/" TargetMode="External"/><Relationship Id="rId2" Type="http://schemas.openxmlformats.org/officeDocument/2006/relationships/hyperlink" Target="http://www.nndb.com/lists/932/000105617/" TargetMode="External"/><Relationship Id="rId3" Type="http://schemas.openxmlformats.org/officeDocument/2006/relationships/hyperlink" Target="http://www.nndb.com/geo/878/000069671/" TargetMode="External"/><Relationship Id="rId4" Type="http://schemas.openxmlformats.org/officeDocument/2006/relationships/hyperlink" Target="http://www.nndb.com/people/237/000112898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hyperlink" Target="http://www.nndb.com/honors/347/000059170/" TargetMode="External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WordArt 6"/>
          <p:cNvSpPr txBox="1"/>
          <p:nvPr/>
        </p:nvSpPr>
        <p:spPr>
          <a:xfrm>
            <a:off x="762120" y="990720"/>
            <a:ext cx="7191360" cy="44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14 PRESIDENT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OF THE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PHILIPPINE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  <p:sp>
        <p:nvSpPr>
          <p:cNvPr id="33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3" name=""/>
          <p:cNvGraphicFramePr/>
          <p:nvPr/>
        </p:nvGraphicFramePr>
        <p:xfrm>
          <a:off x="1600200" y="1295280"/>
          <a:ext cx="6172200" cy="5386680"/>
        </p:xfrm>
        <a:graphic>
          <a:graphicData uri="http://schemas.openxmlformats.org/drawingml/2006/table">
            <a:tbl>
              <a:tblPr/>
              <a:tblGrid>
                <a:gridCol w="3124080"/>
                <a:gridCol w="304812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2n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October 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ugust 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February 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February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March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9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Tana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Batan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November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5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Kapisanan ng Paglilingkod sa Bagong Pilipin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KALIBA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Pacencia Hida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4" name="WordArt 24"/>
          <p:cNvSpPr txBox="1"/>
          <p:nvPr/>
        </p:nvSpPr>
        <p:spPr>
          <a:xfrm>
            <a:off x="1600200" y="4572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JOSE P. LAUREL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3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3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6" name="Picture 2" descr="Elpidio Quirino"/>
          <p:cNvPicPr/>
          <p:nvPr/>
        </p:nvPicPr>
        <p:blipFill>
          <a:blip r:embed="rId1"/>
          <a:stretch/>
        </p:blipFill>
        <p:spPr>
          <a:xfrm>
            <a:off x="2057400" y="228600"/>
            <a:ext cx="5121360" cy="6400800"/>
          </a:xfrm>
          <a:prstGeom prst="rect">
            <a:avLst/>
          </a:prstGeom>
          <a:ln w="0">
            <a:noFill/>
          </a:ln>
        </p:spPr>
      </p:pic>
      <p:sp>
        <p:nvSpPr>
          <p:cNvPr id="33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WordArt 2"/>
          <p:cNvSpPr txBox="1"/>
          <p:nvPr/>
        </p:nvSpPr>
        <p:spPr>
          <a:xfrm>
            <a:off x="1324080" y="2089080"/>
            <a:ext cx="649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LPIDIO QUIR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NOLI DE CASTR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Rectangle 2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Rectangle 3"/>
          <p:cNvSpPr/>
          <p:nvPr/>
        </p:nvSpPr>
        <p:spPr>
          <a:xfrm>
            <a:off x="2590920" y="1468800"/>
            <a:ext cx="43434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1"/>
              </a:rPr>
              <a:t>16-Nov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2"/>
              </a:rPr>
              <a:t>189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Vigan, Ilocos Sur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3"/>
              </a:rPr>
              <a:t>29-Feb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4"/>
              </a:rPr>
              <a:t>195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5"/>
              </a:rPr>
              <a:t>Manila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elig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6"/>
              </a:rPr>
              <a:t>Roman Cathol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ultiraci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6th President of the Philipp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Ilocano (paternal) and Spanish (maternal) desc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riano Quirin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Gregoria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7"/>
              </a:rPr>
              <a:t>President of the Philippines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8-Apr-1948 to 30-Dec-1953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WordArt 4"/>
          <p:cNvSpPr txBox="1"/>
          <p:nvPr/>
        </p:nvSpPr>
        <p:spPr>
          <a:xfrm>
            <a:off x="1828800" y="3049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LPIDIO QUIR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4" name="Picture 2" descr="Joseph Estra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04920"/>
            <a:ext cx="4938840" cy="6172200"/>
          </a:xfrm>
          <a:prstGeom prst="rect">
            <a:avLst/>
          </a:prstGeom>
          <a:ln w="0">
            <a:noFill/>
          </a:ln>
        </p:spPr>
      </p:pic>
      <p:sp>
        <p:nvSpPr>
          <p:cNvPr id="339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WordArt 2"/>
          <p:cNvSpPr txBox="1"/>
          <p:nvPr/>
        </p:nvSpPr>
        <p:spPr>
          <a:xfrm>
            <a:off x="1490760" y="2089080"/>
            <a:ext cx="61624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PIOLO PASCU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97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Rectangle 2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Rectangle 3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Rectangle 4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1" name=""/>
          <p:cNvGraphicFramePr/>
          <p:nvPr/>
        </p:nvGraphicFramePr>
        <p:xfrm>
          <a:off x="1676520" y="304920"/>
          <a:ext cx="3962160" cy="624816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165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3th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2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Ton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artido ng Masang Pilipin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PM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uisa Pimen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2" name="WordArt 22"/>
          <p:cNvSpPr txBox="1"/>
          <p:nvPr/>
        </p:nvSpPr>
        <p:spPr>
          <a:xfrm rot="5400000">
            <a:off x="4152240" y="316224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JOSEPH EJERCITO ESTRADA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925"/>
                                        <p:tgtEl>
                                          <p:spTgt spid="3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925" fill="hold"/>
                                        <p:tgtEl>
                                          <p:spTgt spid="3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1925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4" name="Picture 4" descr="sergio_osmena"/>
          <p:cNvPicPr/>
          <p:nvPr/>
        </p:nvPicPr>
        <p:blipFill>
          <a:blip r:embed="rId1"/>
          <a:stretch/>
        </p:blipFill>
        <p:spPr>
          <a:xfrm>
            <a:off x="1600200" y="228600"/>
            <a:ext cx="5987880" cy="6400800"/>
          </a:xfrm>
          <a:prstGeom prst="rect">
            <a:avLst/>
          </a:prstGeom>
          <a:ln w="0">
            <a:noFill/>
          </a:ln>
        </p:spPr>
      </p:pic>
      <p:sp>
        <p:nvSpPr>
          <p:cNvPr id="34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WordArt 2"/>
          <p:cNvSpPr txBox="1"/>
          <p:nvPr/>
        </p:nvSpPr>
        <p:spPr>
          <a:xfrm>
            <a:off x="909720" y="2089080"/>
            <a:ext cx="7324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Rectangle 4"/>
          <p:cNvSpPr/>
          <p:nvPr/>
        </p:nvSpPr>
        <p:spPr>
          <a:xfrm>
            <a:off x="0" y="34308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9" name=""/>
          <p:cNvGraphicFramePr/>
          <p:nvPr/>
        </p:nvGraphicFramePr>
        <p:xfrm>
          <a:off x="228600" y="838080"/>
          <a:ext cx="4876920" cy="548640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</a:tblGrid>
              <a:tr h="743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4th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September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78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Cebu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Ce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October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6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83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Quezon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Nacionalista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Esperanza Limj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0" name="WordArt 86"/>
          <p:cNvSpPr txBox="1"/>
          <p:nvPr/>
        </p:nvSpPr>
        <p:spPr>
          <a:xfrm>
            <a:off x="5181480" y="1981080"/>
            <a:ext cx="39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High Tower Text"/>
              </a:rPr>
              <a:t>SERGIO OSMEN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High Tower Text"/>
              <a:ea typeface="High Tower Text"/>
            </a:endParaRPr>
          </a:p>
        </p:txBody>
      </p:sp>
      <p:sp>
        <p:nvSpPr>
          <p:cNvPr id="34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2" name="Picture 2" descr="quezon"/>
          <p:cNvPicPr/>
          <p:nvPr/>
        </p:nvPicPr>
        <p:blipFill>
          <a:blip r:embed="rId1"/>
          <a:stretch/>
        </p:blipFill>
        <p:spPr>
          <a:xfrm>
            <a:off x="2057400" y="380880"/>
            <a:ext cx="4998960" cy="6248520"/>
          </a:xfrm>
          <a:prstGeom prst="rect">
            <a:avLst/>
          </a:prstGeom>
          <a:ln w="0">
            <a:noFill/>
          </a:ln>
        </p:spPr>
      </p:pic>
      <p:sp>
        <p:nvSpPr>
          <p:cNvPr id="33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Gloria Macapagal-Arroy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2840" y="304920"/>
            <a:ext cx="4668840" cy="6248160"/>
          </a:xfrm>
          <a:prstGeom prst="rect">
            <a:avLst/>
          </a:prstGeom>
          <a:ln w="0">
            <a:noFill/>
          </a:ln>
        </p:spPr>
      </p:pic>
      <p:sp>
        <p:nvSpPr>
          <p:cNvPr id="34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WordArt 2"/>
          <p:cNvSpPr txBox="1"/>
          <p:nvPr/>
        </p:nvSpPr>
        <p:spPr>
          <a:xfrm>
            <a:off x="295200" y="2133720"/>
            <a:ext cx="884880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GLORIA MACAPAGAL ARROY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KRIS AQU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RIAN RIVE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Rectangle 2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Rectangle 3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Rectangle 4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9" name=""/>
          <p:cNvGraphicFramePr/>
          <p:nvPr/>
        </p:nvGraphicFramePr>
        <p:xfrm>
          <a:off x="3429000" y="533520"/>
          <a:ext cx="3886200" cy="58672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Incum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ssumed office 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January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Vice Pres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Noli de Ca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5 Apr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6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n J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Riz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D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2-199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akas-CM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8-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KAMP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7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Jose Miguel Arr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Econom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0" name="WordArt 25"/>
          <p:cNvSpPr txBox="1"/>
          <p:nvPr/>
        </p:nvSpPr>
        <p:spPr>
          <a:xfrm rot="5400000">
            <a:off x="-543240" y="3210120"/>
            <a:ext cx="63435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skerville Old Face"/>
              </a:rPr>
              <a:t>GLORIA MACAPAGAL ARROYO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3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3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2" name="Picture 4" descr="Ph_pres_roxas"/>
          <p:cNvPicPr/>
          <p:nvPr/>
        </p:nvPicPr>
        <p:blipFill>
          <a:blip r:embed="rId1"/>
          <a:stretch/>
        </p:blipFill>
        <p:spPr>
          <a:xfrm>
            <a:off x="2057400" y="304920"/>
            <a:ext cx="4998960" cy="6248160"/>
          </a:xfrm>
          <a:prstGeom prst="rect">
            <a:avLst/>
          </a:prstGeom>
          <a:ln w="0">
            <a:noFill/>
          </a:ln>
        </p:spPr>
      </p:pic>
      <p:sp>
        <p:nvSpPr>
          <p:cNvPr id="34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WordArt 2"/>
          <p:cNvSpPr txBox="1"/>
          <p:nvPr/>
        </p:nvSpPr>
        <p:spPr>
          <a:xfrm>
            <a:off x="1457280" y="2089080"/>
            <a:ext cx="62294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Rectangle 12"/>
          <p:cNvSpPr/>
          <p:nvPr/>
        </p:nvSpPr>
        <p:spPr>
          <a:xfrm>
            <a:off x="0" y="552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7" name=""/>
          <p:cNvGraphicFramePr/>
          <p:nvPr/>
        </p:nvGraphicFramePr>
        <p:xfrm>
          <a:off x="4267080" y="228600"/>
          <a:ext cx="4581720" cy="6248520"/>
        </p:xfrm>
        <a:graphic>
          <a:graphicData uri="http://schemas.openxmlformats.org/drawingml/2006/table">
            <a:tbl>
              <a:tblPr/>
              <a:tblGrid>
                <a:gridCol w="2336760"/>
                <a:gridCol w="2244960"/>
              </a:tblGrid>
              <a:tr h="1077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5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Commonwealth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3r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5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s Commonwealth President until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ly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as Republic President thereafter)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January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9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Capiz (now Roxas City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Cap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pril 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56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Clark Air 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Angel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Pamp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Trinidad de L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8" name="WordArt 70"/>
          <p:cNvSpPr txBox="1"/>
          <p:nvPr/>
        </p:nvSpPr>
        <p:spPr>
          <a:xfrm>
            <a:off x="457200" y="2133720"/>
            <a:ext cx="3733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Berlin Sans FB Demi"/>
              </a:rPr>
              <a:t>MANUEL ROX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  <p:sp>
        <p:nvSpPr>
          <p:cNvPr id="34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3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0"/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0" name="Picture 4" descr="Ramon Magsaysay"/>
          <p:cNvPicPr/>
          <p:nvPr/>
        </p:nvPicPr>
        <p:blipFill>
          <a:blip r:embed="rId1"/>
          <a:stretch/>
        </p:blipFill>
        <p:spPr>
          <a:xfrm>
            <a:off x="2133720" y="304920"/>
            <a:ext cx="4937040" cy="6172200"/>
          </a:xfrm>
          <a:prstGeom prst="rect">
            <a:avLst/>
          </a:prstGeom>
          <a:ln w="0">
            <a:noFill/>
          </a:ln>
        </p:spPr>
      </p:pic>
      <p:sp>
        <p:nvSpPr>
          <p:cNvPr id="34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WordArt 2"/>
          <p:cNvSpPr txBox="1"/>
          <p:nvPr/>
        </p:nvSpPr>
        <p:spPr>
          <a:xfrm>
            <a:off x="747720" y="2089080"/>
            <a:ext cx="7648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 RIZ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Rectangle 5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Rectangle 6"/>
          <p:cNvSpPr/>
          <p:nvPr/>
        </p:nvSpPr>
        <p:spPr>
          <a:xfrm>
            <a:off x="1295280" y="1680840"/>
            <a:ext cx="669924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1"/>
              </a:rPr>
              <a:t>31-Aug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2"/>
              </a:rPr>
              <a:t>190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Iba, Zambales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3"/>
              </a:rPr>
              <a:t>17-M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4"/>
              </a:rPr>
              <a:t>195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t. Manunggal, Cebu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5"/>
              </a:rPr>
              <a:t>Accident -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7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ilitary servi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 Army (31st Infantry); Western Luzon Guerilla 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Exequiel Magsaysay (blacksmith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erfecta del Fierro (schoolteach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6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30-Dec-1953 to 17-Mar-195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WordArt 7"/>
          <p:cNvSpPr txBox="1"/>
          <p:nvPr/>
        </p:nvSpPr>
        <p:spPr>
          <a:xfrm>
            <a:off x="457200" y="68580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RAMON MAGSAY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4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4" descr="Carlos P. Garcia"/>
          <p:cNvPicPr/>
          <p:nvPr/>
        </p:nvPicPr>
        <p:blipFill>
          <a:blip r:embed="rId1"/>
          <a:stretch/>
        </p:blipFill>
        <p:spPr>
          <a:xfrm>
            <a:off x="2149560" y="304920"/>
            <a:ext cx="4937040" cy="6172200"/>
          </a:xfrm>
          <a:prstGeom prst="rect">
            <a:avLst/>
          </a:prstGeom>
          <a:ln w="0">
            <a:noFill/>
          </a:ln>
        </p:spPr>
      </p:pic>
      <p:sp>
        <p:nvSpPr>
          <p:cNvPr id="34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WordArt 2"/>
          <p:cNvSpPr txBox="1"/>
          <p:nvPr/>
        </p:nvSpPr>
        <p:spPr>
          <a:xfrm>
            <a:off x="304920" y="1981080"/>
            <a:ext cx="859140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WordArt 2"/>
          <p:cNvSpPr txBox="1"/>
          <p:nvPr/>
        </p:nvSpPr>
        <p:spPr>
          <a:xfrm>
            <a:off x="276120" y="2089080"/>
            <a:ext cx="85917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POLINARIO MABINI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Rectangle 5"/>
          <p:cNvSpPr/>
          <p:nvPr/>
        </p:nvSpPr>
        <p:spPr>
          <a:xfrm>
            <a:off x="0" y="16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Rectangle 6"/>
          <p:cNvSpPr/>
          <p:nvPr/>
        </p:nvSpPr>
        <p:spPr>
          <a:xfrm>
            <a:off x="1334520" y="2156040"/>
            <a:ext cx="68497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KA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Carlos Polestico Gar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1"/>
              </a:rPr>
              <a:t>4-Nov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2"/>
              </a:rPr>
              <a:t>18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Talibon, Bohol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3"/>
              </a:rPr>
              <a:t>14-Ju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4"/>
              </a:rPr>
              <a:t>197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Quezon City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ispan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8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olicronio Garcia (mayo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mbrosia Pol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23-Mar-1957 to 30-Dec-196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7"/>
          <p:cNvSpPr txBox="1"/>
          <p:nvPr/>
        </p:nvSpPr>
        <p:spPr>
          <a:xfrm>
            <a:off x="1600200" y="9144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RLOS P. GARCIA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3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3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6" name="Picture 4" descr="Ph_pres_marcos"/>
          <p:cNvPicPr/>
          <p:nvPr/>
        </p:nvPicPr>
        <p:blipFill>
          <a:blip r:embed="rId1"/>
          <a:stretch/>
        </p:blipFill>
        <p:spPr>
          <a:xfrm>
            <a:off x="1965240" y="228600"/>
            <a:ext cx="5121360" cy="6400800"/>
          </a:xfrm>
          <a:prstGeom prst="rect">
            <a:avLst/>
          </a:prstGeom>
          <a:ln w="0">
            <a:noFill/>
          </a:ln>
        </p:spPr>
      </p:pic>
      <p:sp>
        <p:nvSpPr>
          <p:cNvPr id="34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WordArt 2"/>
          <p:cNvSpPr txBox="1"/>
          <p:nvPr/>
        </p:nvSpPr>
        <p:spPr>
          <a:xfrm>
            <a:off x="42840" y="2089080"/>
            <a:ext cx="905832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NDRES BONIFACI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GRACIANO LOPEZ JA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Rectangle 1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Rectangle 15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Rectangle 20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Rectangle 21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Rectangle 2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5" name=""/>
          <p:cNvGraphicFramePr/>
          <p:nvPr/>
        </p:nvGraphicFramePr>
        <p:xfrm>
          <a:off x="3048120" y="1828800"/>
          <a:ext cx="3276360" cy="469584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</a:tblGrid>
              <a:tr h="2050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0th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6th President of the 3rd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4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1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September 1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rr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Ilocos Nor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Imelda Romual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6" name="WordArt 81"/>
          <p:cNvSpPr txBox="1"/>
          <p:nvPr/>
        </p:nvSpPr>
        <p:spPr>
          <a:xfrm>
            <a:off x="609480" y="4572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RDINAND MARCO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8" name="Picture 2" descr="Aguinaldo"/>
          <p:cNvPicPr/>
          <p:nvPr/>
        </p:nvPicPr>
        <p:blipFill>
          <a:blip r:embed="rId1"/>
          <a:stretch/>
        </p:blipFill>
        <p:spPr>
          <a:xfrm>
            <a:off x="2209680" y="228600"/>
            <a:ext cx="4637160" cy="6400800"/>
          </a:xfrm>
          <a:prstGeom prst="rect">
            <a:avLst/>
          </a:prstGeom>
          <a:ln w="0">
            <a:noFill/>
          </a:ln>
        </p:spPr>
      </p:pic>
      <p:sp>
        <p:nvSpPr>
          <p:cNvPr id="345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WordArt 2"/>
          <p:cNvSpPr txBox="1"/>
          <p:nvPr/>
        </p:nvSpPr>
        <p:spPr>
          <a:xfrm>
            <a:off x="762120" y="1905120"/>
            <a:ext cx="75628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61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Rectangle 2"/>
          <p:cNvSpPr/>
          <p:nvPr/>
        </p:nvSpPr>
        <p:spPr>
          <a:xfrm>
            <a:off x="0" y="1159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3" name=""/>
          <p:cNvGraphicFramePr/>
          <p:nvPr/>
        </p:nvGraphicFramePr>
        <p:xfrm>
          <a:off x="2362320" y="152280"/>
          <a:ext cx="5790960" cy="67420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</a:tblGrid>
              <a:tr h="177444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askerville Old Face"/>
                          <a:ea typeface="Times New Roman"/>
                        </a:rPr>
                        <a:t>1st </a:t>
                      </a: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Tejeros Convention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Biyak-na-Bato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ctator of the Dictatorial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Revolutionary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1st Philippine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16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rch 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89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pril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March 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86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Cavite El Viejo (Kawit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Cav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February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96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94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Quezon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Metro 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gdalo faction of the Katipunan, National Socialist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Hilaria del Rosari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-die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ria Agonci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4" name="WordArt 24"/>
          <p:cNvSpPr txBox="1"/>
          <p:nvPr/>
        </p:nvSpPr>
        <p:spPr>
          <a:xfrm rot="5400000">
            <a:off x="-438120" y="2952720"/>
            <a:ext cx="50292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MILIO AGUINAL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34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6" name="Picture 4" descr="Fidel V. Ra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80880"/>
            <a:ext cx="4913280" cy="6172200"/>
          </a:xfrm>
          <a:prstGeom prst="rect">
            <a:avLst/>
          </a:prstGeom>
          <a:ln w="0">
            <a:noFill/>
          </a:ln>
        </p:spPr>
      </p:pic>
      <p:sp>
        <p:nvSpPr>
          <p:cNvPr id="34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WordArt 2"/>
          <p:cNvSpPr txBox="1"/>
          <p:nvPr/>
        </p:nvSpPr>
        <p:spPr>
          <a:xfrm>
            <a:off x="866880" y="2089080"/>
            <a:ext cx="7410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RCELO DEL PILA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Rectangle 2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Rectangle 3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8" name="Picture 4" descr="Manuel L. Quezon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5638680"/>
            <a:ext cx="121932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9" name=""/>
          <p:cNvGraphicFramePr/>
          <p:nvPr/>
        </p:nvGraphicFramePr>
        <p:xfrm>
          <a:off x="228600" y="380880"/>
          <a:ext cx="5791320" cy="58676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77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Ba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Aur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ugust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5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Saranac Lak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New Y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Coalición Naciona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Aurora Ar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0" name="WordArt 26"/>
          <p:cNvSpPr txBox="1"/>
          <p:nvPr/>
        </p:nvSpPr>
        <p:spPr>
          <a:xfrm rot="5400000">
            <a:off x="4952520" y="26668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uhaus 93"/>
              </a:rPr>
              <a:t>MANUEL L. QUEZON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  <p:sp>
        <p:nvSpPr>
          <p:cNvPr id="3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3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Rectangle 13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Rectangle 27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2" name="Picture 4" descr="Fidel V. Ramos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6095880"/>
            <a:ext cx="1218960" cy="40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3" name=""/>
          <p:cNvGraphicFramePr/>
          <p:nvPr/>
        </p:nvGraphicFramePr>
        <p:xfrm>
          <a:off x="3657600" y="533520"/>
          <a:ext cx="4343400" cy="60195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1349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2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March 1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2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9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ingay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Pangasin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Lakas-Christian Muslim Democr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melita Martin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United Method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4" name="WordArt 65"/>
          <p:cNvSpPr txBox="1"/>
          <p:nvPr/>
        </p:nvSpPr>
        <p:spPr>
          <a:xfrm rot="5400000">
            <a:off x="-723960" y="262872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IDEL V. RAM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3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3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34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6" name="Picture 2" descr="Diosdado Macapagal"/>
          <p:cNvPicPr/>
          <p:nvPr/>
        </p:nvPicPr>
        <p:blipFill>
          <a:blip r:embed="rId1"/>
          <a:stretch/>
        </p:blipFill>
        <p:spPr>
          <a:xfrm>
            <a:off x="2117880" y="380880"/>
            <a:ext cx="4816440" cy="6019920"/>
          </a:xfrm>
          <a:prstGeom prst="rect">
            <a:avLst/>
          </a:prstGeom>
          <a:ln w="0">
            <a:noFill/>
          </a:ln>
        </p:spPr>
      </p:pic>
      <p:sp>
        <p:nvSpPr>
          <p:cNvPr id="34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WordArt 2"/>
          <p:cNvSpPr txBox="1"/>
          <p:nvPr/>
        </p:nvSpPr>
        <p:spPr>
          <a:xfrm>
            <a:off x="19080" y="2089080"/>
            <a:ext cx="91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Rectangle 2"/>
          <p:cNvSpPr/>
          <p:nvPr/>
        </p:nvSpPr>
        <p:spPr>
          <a:xfrm>
            <a:off x="662760" y="1754280"/>
            <a:ext cx="772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or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8-Sep-191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irthplace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Lubao, Pampanga,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ied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1-Apr-1997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Location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kati Medical Cen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Cause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rt Failur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mains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Buried, Libingan ng mga Bayani, Taguig, 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Gend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lig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 Catholic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ce or Ethnic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Sexual orient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Occup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National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Executive summar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9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Fa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Urbano Macapag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Mo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a Pang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aught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Gloria Macapagal-Arroyo (President of the Philipp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       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President of the Philippines 30-Dec-1961 to 30-Dec-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WordArt 3"/>
          <p:cNvSpPr txBox="1"/>
          <p:nvPr/>
        </p:nvSpPr>
        <p:spPr>
          <a:xfrm>
            <a:off x="457200" y="76212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OSDADO MACAPAG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2" name="Picture 2" descr="Corazon Aquino"/>
          <p:cNvPicPr/>
          <p:nvPr/>
        </p:nvPicPr>
        <p:blipFill>
          <a:blip r:embed="rId1"/>
          <a:stretch/>
        </p:blipFill>
        <p:spPr>
          <a:xfrm>
            <a:off x="1833480" y="380880"/>
            <a:ext cx="5558040" cy="6096240"/>
          </a:xfrm>
          <a:prstGeom prst="rect">
            <a:avLst/>
          </a:prstGeom>
          <a:ln w="0">
            <a:noFill/>
          </a:ln>
        </p:spPr>
      </p:pic>
      <p:sp>
        <p:nvSpPr>
          <p:cNvPr id="3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WordArt 2"/>
          <p:cNvSpPr txBox="1"/>
          <p:nvPr/>
        </p:nvSpPr>
        <p:spPr>
          <a:xfrm>
            <a:off x="919080" y="2089080"/>
            <a:ext cx="73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CORAZON AQU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LOREN LEGAR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IRIAM SANTIAG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Rectangle 2"/>
          <p:cNvSpPr/>
          <p:nvPr/>
        </p:nvSpPr>
        <p:spPr>
          <a:xfrm>
            <a:off x="152280" y="1219320"/>
            <a:ext cx="6324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1"/>
              </a:rPr>
              <a:t>25-Ja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2"/>
              </a:rPr>
              <a:t>193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3"/>
              </a:rPr>
              <a:t>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e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ormer housewife turned political wid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José Cojuangco, S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Husban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4"/>
              </a:rPr>
              <a:t>Benigno Aquino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Philippine Senator, m. 1955, five children, d. 1983 assassinatio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25-Feb-1986 to 30-Jun-199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6"/>
              </a:rPr>
              <a:t>Time Man of the Ye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WordArt 3"/>
          <p:cNvSpPr txBox="1"/>
          <p:nvPr/>
        </p:nvSpPr>
        <p:spPr>
          <a:xfrm rot="5400000">
            <a:off x="5143320" y="2933280"/>
            <a:ext cx="52578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CORAZON AQUI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"/>
              <a:ea typeface="comic"/>
            </a:endParaRPr>
          </a:p>
        </p:txBody>
      </p:sp>
      <p:sp>
        <p:nvSpPr>
          <p:cNvPr id="3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9" name="Picture 2" descr="jose_laurel"/>
          <p:cNvPicPr/>
          <p:nvPr/>
        </p:nvPicPr>
        <p:blipFill>
          <a:blip r:embed="rId1"/>
          <a:stretch/>
        </p:blipFill>
        <p:spPr>
          <a:xfrm>
            <a:off x="1600200" y="228600"/>
            <a:ext cx="5843520" cy="6248520"/>
          </a:xfrm>
          <a:prstGeom prst="rect">
            <a:avLst/>
          </a:prstGeom>
          <a:ln w="0">
            <a:noFill/>
          </a:ln>
        </p:spPr>
      </p:pic>
      <p:sp>
        <p:nvSpPr>
          <p:cNvPr id="3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WordArt 3"/>
          <p:cNvSpPr txBox="1"/>
          <p:nvPr/>
        </p:nvSpPr>
        <p:spPr>
          <a:xfrm>
            <a:off x="304920" y="1981080"/>
            <a:ext cx="83437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3:54:54Z</dcterms:created>
  <dc:creator>Mr Ramos</dc:creator>
  <dc:description/>
  <dc:language>en-US</dc:language>
  <cp:lastModifiedBy>LEGION</cp:lastModifiedBy>
  <dcterms:modified xsi:type="dcterms:W3CDTF">2017-07-03T12:49:43Z</dcterms:modified>
  <cp:revision>8</cp:revision>
  <dc:subject/>
  <dc:title>Presidents of the Phillipines</dc:title>
</cp:coreProperties>
</file>