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9736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74B1C-6525-4840-B18A-A11733309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15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ew Toward the Galactic 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Visibl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oking toward the Galaxy Center in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– Infrared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ctic Center – Zooming in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Infrared Ligh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Galactic Center – Zooming in,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 Infrared Ligh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hows very high density at the Cente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Radio 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alactic Nucleus – in Infra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Black Hole Area at the Center of our Galaxy might look something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bits of Stars in Different Parts of Our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GC 4144, very similar to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ur Galaxy rotates, and the center rotates faster than the outer parts do – Kepler’s 3rd Law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O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uch Dark Matter Doe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r Galaxy Hav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DID YOU THIN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stars does the Milky Way Galaxy cont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has about 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is our Solar System located in the Milky Way Galax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un moving through the Milky Way Galaxy and, if so, how fas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discover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Side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ge-on view showing the Milky Way’s disk, nuclear bulge, and ha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Milky Way – Top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We Map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 of the Gala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w Big?  How Many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000 light years thick where we 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 billion st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n is 26,000 light years from the galactic ce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97360" y="8829720"/>
            <a:ext cx="2982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174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8680" y="4416120"/>
            <a:ext cx="550548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hat Kinds of Sta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clear bulge about 20,000 light years dia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k contains gas, dust, and Population I stars (young, metal-rich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alo is composed mostly of Population II stars (old, metal-poor st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2B7-DDB3-46AA-BB83-BBBA9AF6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E975-8056-4C1C-B4AF-58E043DE0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A560-88C2-4EF7-8411-A8D494779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43CB-81B0-4975-A1B8-C44F2001C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3FA-2C18-43E1-98AD-18A9B0D86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9A113-20C4-4731-91EB-66A4781D7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AF1DC-719C-4014-BEC2-468942DA9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E5CAC-F3AC-4B8F-A407-1888D6992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8BD56-8C02-4C18-BDEB-C8CAC433E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86E35-3ED4-4C66-8867-64FF3CEA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75103-92FD-4277-9FA2-B0C3CAB98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63F9-D5DE-49C0-A3B1-9F635E458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4857-53DC-430F-A07B-FEB877795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FA1D7-0E72-427D-9ECB-4776C51F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81E43-B8E2-46ED-B90D-D12D1B207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4BE8-21B9-41A9-9228-A4EAA3687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0A30-A726-4C75-A3D9-65850CAC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402A-AA6D-4D51-B753-6357D67CB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001-DD49-454A-9355-E00327A9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3ACE-55F8-497E-9DFD-23DFB8B5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D315-0755-4EA2-AD3E-ABB044C07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287F-3ED3-4BFB-9D0A-3ECAA7E4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64AD-078F-43AB-87CD-3E3B1A9A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50EE1-6CE8-447B-8D9B-155B1C87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3C62-48C3-4606-8C29-DB4D9CC70C6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AD5F4-BDDA-4D06-A725-87AE7932CDD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1344600"/>
            <a:ext cx="2895480" cy="3075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Arial"/>
              </a:rPr>
              <a:t>Chapter 15: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Milky Way Galaxy</a:t>
            </a:r>
            <a:br>
              <a:rPr sz="3600"/>
            </a:b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6" name="Picture 6" descr="milky way optical &amp; ir"/>
          <p:cNvPicPr/>
          <p:nvPr/>
        </p:nvPicPr>
        <p:blipFill>
          <a:blip r:embed="rId1"/>
          <a:stretch/>
        </p:blipFill>
        <p:spPr>
          <a:xfrm>
            <a:off x="3352680" y="812880"/>
            <a:ext cx="6197760" cy="61974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View Toward the Galactic Center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9" name="Picture 3" descr="COMINS 15-06"/>
          <p:cNvPicPr/>
          <p:nvPr/>
        </p:nvPicPr>
        <p:blipFill>
          <a:blip r:embed="rId1"/>
          <a:stretch/>
        </p:blipFill>
        <p:spPr>
          <a:xfrm>
            <a:off x="1752480" y="1219320"/>
            <a:ext cx="5640480" cy="46242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0" name="Text Box 4"/>
          <p:cNvSpPr/>
          <p:nvPr/>
        </p:nvSpPr>
        <p:spPr>
          <a:xfrm>
            <a:off x="1295280" y="5867280"/>
            <a:ext cx="6934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re than a million stars in the disk of our Galaxy fill this view, looking toward the galactic nucleus in Sagittariu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Visible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3" name="Picture 3" descr="COMINS 15-05"/>
          <p:cNvPicPr/>
          <p:nvPr/>
        </p:nvPicPr>
        <p:blipFill>
          <a:blip r:embed="rId1"/>
          <a:stretch/>
        </p:blipFill>
        <p:spPr>
          <a:xfrm>
            <a:off x="76320" y="1838160"/>
            <a:ext cx="9021600" cy="4105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4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Looking toward the Galaxy Center in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Sagittarius –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523880" y="7451640"/>
            <a:ext cx="655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COMINS 15-12"/>
          <p:cNvPicPr/>
          <p:nvPr/>
        </p:nvPicPr>
        <p:blipFill>
          <a:blip r:embed="rId1"/>
          <a:stretch/>
        </p:blipFill>
        <p:spPr>
          <a:xfrm>
            <a:off x="152280" y="1828800"/>
            <a:ext cx="8967960" cy="42973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The Galactic Center – Zooming in,</a:t>
            </a:r>
            <a:br>
              <a:rPr sz="3600"/>
            </a:b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in Infrared Light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1" name="Picture 3" descr="COMIN 15-13abc"/>
          <p:cNvPicPr/>
          <p:nvPr/>
        </p:nvPicPr>
        <p:blipFill>
          <a:blip r:embed="rId1"/>
          <a:stretch/>
        </p:blipFill>
        <p:spPr>
          <a:xfrm>
            <a:off x="90360" y="1676520"/>
            <a:ext cx="8977320" cy="4260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52" name="Text Box 4"/>
          <p:cNvSpPr/>
          <p:nvPr/>
        </p:nvSpPr>
        <p:spPr>
          <a:xfrm>
            <a:off x="2286000" y="6156360"/>
            <a:ext cx="484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ws very high density at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868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Radio Waves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334200" cy="45241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56" name="Text Box 5"/>
          <p:cNvSpPr/>
          <p:nvPr/>
        </p:nvSpPr>
        <p:spPr>
          <a:xfrm>
            <a:off x="1295280" y="5927760"/>
            <a:ext cx="685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gittarius A (Sgr A) is at the Galaxy Center, and is very bright in Radio Waves.  SNR = Supernova Remn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Galactic Nucleus – in Infrared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838080" y="5927760"/>
            <a:ext cx="80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rs orbiting a MASSIVE object that cannot be seen – a 4 million solar mass BLACK HOLE – where the Sgr A radio source is loca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5" descr="COMINS 15-14b"/>
          <p:cNvPicPr/>
          <p:nvPr/>
        </p:nvPicPr>
        <p:blipFill>
          <a:blip r:embed="rId1"/>
          <a:stretch/>
        </p:blipFill>
        <p:spPr>
          <a:xfrm>
            <a:off x="2062080" y="914400"/>
            <a:ext cx="4872240" cy="485784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The Black Hole Area at the Center of our Galaxy might look something like this.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3" name="Picture 3" descr="hubble black hole accretion disk"/>
          <p:cNvPicPr/>
          <p:nvPr/>
        </p:nvPicPr>
        <p:blipFill>
          <a:blip r:embed="rId1"/>
          <a:stretch/>
        </p:blipFill>
        <p:spPr>
          <a:xfrm>
            <a:off x="1339920" y="1600200"/>
            <a:ext cx="6508800" cy="516888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rbits of Stars in Different Parts of Our Galaxy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6" name="Picture 3" descr="FINAL COMIN 15-15"/>
          <p:cNvPicPr/>
          <p:nvPr/>
        </p:nvPicPr>
        <p:blipFill>
          <a:blip r:embed="rId1"/>
          <a:stretch/>
        </p:blipFill>
        <p:spPr>
          <a:xfrm>
            <a:off x="1828800" y="1295280"/>
            <a:ext cx="5548320" cy="45799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67" name="Text Box 4"/>
          <p:cNvSpPr/>
          <p:nvPr/>
        </p:nvSpPr>
        <p:spPr>
          <a:xfrm>
            <a:off x="2209680" y="6095880"/>
            <a:ext cx="495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GC 4144, very similar to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53452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Our Galaxy rotates, and the center rotates faster than the outer parts do – Kepler’s 3</a:t>
            </a:r>
            <a:r>
              <a:rPr b="1" lang="en-US" sz="2800" spc="-1" strike="noStrike" baseline="30000">
                <a:solidFill>
                  <a:srgbClr val="b2b2b2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b2b2b2"/>
                </a:solidFill>
                <a:latin typeface="Arial"/>
              </a:rPr>
              <a:t> Law !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0" name="Picture 4" descr="COMINS 15-17a"/>
          <p:cNvPicPr/>
          <p:nvPr/>
        </p:nvPicPr>
        <p:blipFill>
          <a:blip r:embed="rId1"/>
          <a:stretch/>
        </p:blipFill>
        <p:spPr>
          <a:xfrm>
            <a:off x="228600" y="2108160"/>
            <a:ext cx="4259160" cy="36831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COMINS 15-17b"/>
          <p:cNvPicPr/>
          <p:nvPr/>
        </p:nvPicPr>
        <p:blipFill>
          <a:blip r:embed="rId2"/>
          <a:stretch/>
        </p:blipFill>
        <p:spPr>
          <a:xfrm>
            <a:off x="4800600" y="2092320"/>
            <a:ext cx="4159080" cy="3699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6"/>
          <p:cNvSpPr/>
          <p:nvPr/>
        </p:nvSpPr>
        <p:spPr>
          <a:xfrm>
            <a:off x="990720" y="6994440"/>
            <a:ext cx="73152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7"/>
          <p:cNvSpPr/>
          <p:nvPr/>
        </p:nvSpPr>
        <p:spPr>
          <a:xfrm>
            <a:off x="1523880" y="6004080"/>
            <a:ext cx="170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8"/>
          <p:cNvSpPr/>
          <p:nvPr/>
        </p:nvSpPr>
        <p:spPr>
          <a:xfrm>
            <a:off x="6249240" y="60199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 TH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2b2b2"/>
                </a:solidFill>
                <a:latin typeface="Arial"/>
              </a:rPr>
              <a:t>The Galaxy’s Rotation Curve – shows there’s Dark Matter beyond the visible edge of the Galaxy.</a:t>
            </a:r>
            <a:endParaRPr b="0" lang="en-US" sz="2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7" name="Picture 3" descr="COMINS 15-18"/>
          <p:cNvPicPr/>
          <p:nvPr/>
        </p:nvPicPr>
        <p:blipFill>
          <a:blip r:embed="rId1"/>
          <a:stretch/>
        </p:blipFill>
        <p:spPr>
          <a:xfrm>
            <a:off x="990720" y="1219320"/>
            <a:ext cx="7138800" cy="55609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O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about how fast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How Much Dark Matter Does</a:t>
            </a:r>
            <a:br>
              <a:rPr sz="3200"/>
            </a:br>
            <a:r>
              <a:rPr b="0" lang="en-US" sz="3200" spc="-1" strike="noStrike">
                <a:solidFill>
                  <a:srgbClr val="b2b2b2"/>
                </a:solidFill>
                <a:latin typeface="Arial"/>
              </a:rPr>
              <a:t>Our Galaxy Have?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tars and other objects that give off radiation account for only 10% of the Galaxy’s total mas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ther 90% of our Galaxy is made of stuff that we can’t see at any wavelength of radiation – so we call it “Dark Matter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rk Matter forms a sphere around the Galaxy, at least 12 times farther from the center than we ar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don’t know what this Dark Matter is, but it does have grav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WHAT DID YOU THINK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How many stars does the Milky Way Galaxy contai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Milky Way has about 200 billion star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ere is our Solar System located in the Milky Way Galax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olar System is in the Orion Arm, about 26,000 light years from the center of the Galax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Is the Sun moving through the Milky Way Galaxy and, if so, how fast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Sun orbits the center of the Milky Way Galaxy at a speed of 828,000 km per hour.  How many miles per hour is that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277920"/>
            <a:ext cx="84582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You will discover…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Milky Way Galaxy is made of billions of stars, and gas and dust, all bound together by mutual gravitational attrac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roperties of our Milky Way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arth’s location in the Milky Wa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there is a huge Black Hole at the center of our Galax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at observations reveal the presence of significant hidden mass in the Milky Way – but we don’t know what it i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Side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5" descr="COMINS 15-01a"/>
          <p:cNvPicPr/>
          <p:nvPr/>
        </p:nvPicPr>
        <p:blipFill>
          <a:blip r:embed="rId1"/>
          <a:stretch/>
        </p:blipFill>
        <p:spPr>
          <a:xfrm>
            <a:off x="1523880" y="1143000"/>
            <a:ext cx="6216840" cy="485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16" name="Text Box 6"/>
          <p:cNvSpPr/>
          <p:nvPr/>
        </p:nvSpPr>
        <p:spPr>
          <a:xfrm>
            <a:off x="685800" y="6172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dge-on view showing the Milky Way’s disk, nuclear bulge, and ha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The Milky Way – Top View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990720" y="57754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p view showing spiral arms.  Latest research shows that the Milky Way also has a bar in the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5" descr="milky way barred spiral"/>
          <p:cNvPicPr/>
          <p:nvPr/>
        </p:nvPicPr>
        <p:blipFill>
          <a:blip r:embed="rId1"/>
          <a:stretch/>
        </p:blipFill>
        <p:spPr>
          <a:xfrm>
            <a:off x="2306520" y="1184400"/>
            <a:ext cx="4530960" cy="453060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7891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How We Map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3" descr="COMINS 15-08"/>
          <p:cNvPicPr/>
          <p:nvPr/>
        </p:nvPicPr>
        <p:blipFill>
          <a:blip r:embed="rId1"/>
          <a:stretch/>
        </p:blipFill>
        <p:spPr>
          <a:xfrm>
            <a:off x="1828800" y="1219320"/>
            <a:ext cx="5448240" cy="44226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4"/>
          <p:cNvSpPr/>
          <p:nvPr/>
        </p:nvSpPr>
        <p:spPr>
          <a:xfrm>
            <a:off x="228600" y="5775480"/>
            <a:ext cx="8763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dio waves from different gas clouds show slightly different Doppler shifts, permitting astronomers to sort out the gas clouds and map the Galax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2b2b2"/>
                </a:solidFill>
                <a:latin typeface="Arial"/>
              </a:rPr>
              <a:t>Map of the Galax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7" name="Picture 3" descr="COMINS 15-09"/>
          <p:cNvPicPr/>
          <p:nvPr/>
        </p:nvPicPr>
        <p:blipFill>
          <a:blip r:embed="rId1"/>
          <a:stretch/>
        </p:blipFill>
        <p:spPr>
          <a:xfrm>
            <a:off x="0" y="1752480"/>
            <a:ext cx="9167760" cy="36561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8" name="Text Box 4"/>
          <p:cNvSpPr/>
          <p:nvPr/>
        </p:nvSpPr>
        <p:spPr>
          <a:xfrm>
            <a:off x="609480" y="57754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map (left), based on radio telescope surveys of 21-cm radiation, shows the distribution of hydrogen gas in the Milky W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960" y="76320"/>
            <a:ext cx="3429000" cy="1828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How Big?  How Many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2174400"/>
            <a:ext cx="259092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ameter 100,000 light years (only the visible stuff – dark matter area is much larger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,000 light years thick where we a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00 billion st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n is 26,000 light years from the galactic cen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COMINS 15-11"/>
          <p:cNvPicPr/>
          <p:nvPr/>
        </p:nvPicPr>
        <p:blipFill>
          <a:blip r:embed="rId1"/>
          <a:stretch/>
        </p:blipFill>
        <p:spPr>
          <a:xfrm>
            <a:off x="4191120" y="38160"/>
            <a:ext cx="4030560" cy="68198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124080" cy="19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2b2b2"/>
                </a:solidFill>
                <a:latin typeface="Arial"/>
              </a:rPr>
              <a:t>What Kinds of Stars?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266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clear bulge about 20,000 light years dia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sk contains gas, dust, and Population I stars (young, metal-rich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lo is composed mostly of Population II stars (old, metal-poor star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4" descr="COMINS 15-11"/>
          <p:cNvPicPr/>
          <p:nvPr/>
        </p:nvPicPr>
        <p:blipFill>
          <a:blip r:embed="rId1"/>
          <a:stretch/>
        </p:blipFill>
        <p:spPr>
          <a:xfrm>
            <a:off x="4191120" y="25560"/>
            <a:ext cx="4039920" cy="68324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18:35:13Z</dcterms:created>
  <dc:creator>Dr. Mark Hollabaugh</dc:creator>
  <dc:description/>
  <dc:language>en-US</dc:language>
  <cp:lastModifiedBy>Legion</cp:lastModifiedBy>
  <dcterms:modified xsi:type="dcterms:W3CDTF">2017-01-26T14:01:38Z</dcterms:modified>
  <cp:revision>40</cp:revision>
  <dc:subject/>
  <dc:title>Chapter 15: The Milky Way Galaxy</dc:title>
</cp:coreProperties>
</file>