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6800-4A45-4E56-AC0B-DEEA368D3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pter 15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Galaxy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5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Galax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ew Toward the Galactic Cen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than a million stars in the disk of our Galaxy fill this view, looking toward the galactic nucleus in Sagittariu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ew Toward 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than a million stars in the disk of our Galaxy fill this view, looking toward the galactic nucleus in Sagittar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gittarius – Visible L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gittarius – Visibl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gittarius – Infrared L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gittarius – Infrared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alactic Center – Zooming in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Infrared L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s very high density at the Cen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Galactic Center – Zooming in,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 Infrared L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ows very high density at the Cent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lactic Nucleus – in Radio W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gittarius A (Sgr A) is at the Galaxy Center, and is very bright in Radio Waves.  SNR = Supernova Remna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lactic Nucleus – in Radi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gittarius A (Sgr A) is at the Galaxy Center, and is very bright in Radio Waves.  SNR = Supernova Remn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lactic Nucleus – in Infra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s orbiting a MASSIVE object that cannot be seen – a 4 million solar mass BLACK HOLE – where the Sgr A radio source is loca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lactic Nucleus – in Infr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s orbiting a MASSIVE object that cannot be seen – a 4 million solar mass BLACK HOLE – where the Sgr A radio source is lo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ack Hole Area at the Center of our Galaxy might look something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lack Hole Area at the Center of our Galaxy might look something like th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bits of Stars in Different Parts of Our Gal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GC 4144, very similar to the Milky 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bits of Stars in Different Parts of Our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GC 4144, very similar to the Milk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Galaxy rotates, and the center rotates faster than the outer parts do – Kepler’s 3rd Law 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like th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ke TH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r Galaxy rotates, and the center rotates faster than the outer parts do – Kepler’s 3rd Law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alaxy’s Rotation Curve – shows there’s Dark Matter beyond the visible edge of the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alaxy’s Rotation Curve – shows there’s Dark Matter beyond the visible edge of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un moving through the Milky Way Galaxy and, if so, about how fa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THINK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about how fas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Dark Matter Do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Galaxy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nd other objects that give off radiation account for only 10% of the Galaxy’s total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90% of our Galaxy is made of stuff that we can’t see at any wavelength of radiation – so we call it “Dark Matte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Matter forms a sphere around the Galaxy, at least 12 times farther from the center than w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know what this Dark Matter is, but it does have gra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uch Dark Matter Do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Galaxy Hav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tars and other objects that give off radiation account for only 10% of the Galaxy’s total mas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ther 90% of our Galaxy is made of stuff that we can’t see at any wavelength of radiation – so we call it “Dark Matter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rk Matter forms a sphere around the Galaxy, at least 12 times farther from the center than we a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don’t know what this Dark Matter is, but it does have grav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ID YOU THINK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has about 200 billion st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in the Orion Arm, about 26,000 light years from the center of the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how fast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un orbits the center of the Milky Way Galaxy at a speed of 828,000 km per hour.  How many miles per hour is tha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has about 200 billion st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System is in the Orion Arm, about 26,000 light years from the center of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un moving through the Milky Way Galaxy and, if so, how fas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orbits the center of the Milky Way Galaxy at a speed of 828,000 km per hour.  How many miles per hour is t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discove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Galaxy is made of billions of stars, and gas and dust, all bound together by mutual gravitational attr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perties of our Milky Way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location in the Milk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re is a huge Black Hole at the center of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observations reveal the presence of significant hidden mass in the Milky Way – but we don’t know what it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will discove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Galaxy is made of billions of stars, and gas and dust, all bound together by mutual gravitational attra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operties of our Milky Way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’s location in the Milky 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t there is a huge Black Hole at the center of our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t observations reveal the presence of significant hidden mass in the Milky Way – but we don’t know what it 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– Side 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ge-on view showing the Milky Way’s disk, nuclear bulge, and ha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ilky Way – Sid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ge-on view showing the Milky Way’s disk, nuclear bulge, and ha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– Top 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view showing spiral arms.  Latest research shows that the Milky Way also has a bar in the cen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ilky Way – Top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 view showing spiral arms.  Latest research shows that the Milky Way also has a bar in the ce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We Map the Gal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 waves from different gas clouds show slightly different Doppler shifts, permitting astronomers to sort out the gas clouds and map the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We Map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dio waves from different gas clouds show slightly different Doppler shifts, permitting astronomers to sort out the gas clouds and map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p of the Gal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map (left), based on radio telescope surveys of 21-cm radiation, shows the distribution of hydrogen gas in the Milky 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p of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map (left), based on radio telescope surveys of 21-cm radiation, shows the distribution of hydrogen gas in the Milk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Big?  How Many Sta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ameter 100,000 light years (only the visible stuff – dark matter area is much large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,000 light years thick where we a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 billion st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n is 26,000 light years from the galactic cen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Big?  How Many Sta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ameter 100,000 light years (only the visible stuff – dark matter area is much larg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000 light years thick where w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 billion st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n is 26,000 light years from the galactic ce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Kinds of Sta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bulge about 20,000 light years diame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k contains gas, dust, and Population I stars (young, metal-rich star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o is composed mostly of Population II stars (old, metal-poor star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Kinds of Sta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clear bulge about 20,000 light years dia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k contains gas, dust, and Population I stars (young, metal-rich sta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lo is composed mostly of Population II stars (old, metal-poor sta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D3A6-870C-4BFB-95D4-47972267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1B98-88BC-427B-84C3-79404D2B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3860-3AE8-4AFD-8488-B93CD4E97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3CB9-1B44-43C1-9E18-2C0FD203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5E5B-BD6E-44A9-B7AF-A308668B7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FD83-7567-4860-9202-1F158149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472E-14D0-4DDB-85CC-3ACBBDD3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3FDF-9EA8-44FC-9180-D8C5F533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31A5-4228-46C5-B0C9-A18D00A8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122D-CA4B-4664-B1C5-B2A92CB9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D43B-A7B8-483A-A16D-1953C291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715B-A5EF-47F3-A6F1-CD5975FF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69C1-CD93-49E9-9CF8-5E4E9A1B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1597-DEFA-4ED7-B911-4CCA07EE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ABA1-CAA5-4DD8-A32D-1EB7433C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9CD3-8A45-4E68-B575-A93864A20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BDB3-72AB-4B0C-AF3C-6793A375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FCDD-D8B1-4CB6-8968-891F6893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C6F3-38D4-49AE-BA29-99256C63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B60D-8E53-49D5-BC8D-82F1D32E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5B85-9595-4E9F-94A0-06B6B2C8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39A7-A7F1-4999-B0D8-8C2BD8CF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1B1E-81C5-4ACD-9531-CE4DA5A3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A660-1558-4D96-9DD0-44957C52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2F52-3686-44EC-8B7B-787B4D1EC9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78E3-B9C8-4D75-A7A0-05C959A89C3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1344600"/>
            <a:ext cx="2895480" cy="307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hapter 15: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The Milky Way Galaxy</a:t>
            </a:r>
            <a:br>
              <a:rPr sz="3600"/>
            </a:b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6" name="Picture 6" descr="milky way optical &amp; ir"/>
          <p:cNvPicPr/>
          <p:nvPr/>
        </p:nvPicPr>
        <p:blipFill>
          <a:blip r:embed="rId1"/>
          <a:stretch/>
        </p:blipFill>
        <p:spPr>
          <a:xfrm>
            <a:off x="3352680" y="812880"/>
            <a:ext cx="6197760" cy="61974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View Toward the Galactic Center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9" name="Picture 3" descr="COMINS 15-06"/>
          <p:cNvPicPr/>
          <p:nvPr/>
        </p:nvPicPr>
        <p:blipFill>
          <a:blip r:embed="rId1"/>
          <a:stretch/>
        </p:blipFill>
        <p:spPr>
          <a:xfrm>
            <a:off x="1752480" y="1219320"/>
            <a:ext cx="5640480" cy="4624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0" name="Text Box 4"/>
          <p:cNvSpPr/>
          <p:nvPr/>
        </p:nvSpPr>
        <p:spPr>
          <a:xfrm>
            <a:off x="1295280" y="586728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than a million stars in the disk of our Galaxy fill this view, looking toward the galactic nucleus in Sagittari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93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Looking toward the Galaxy Center in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Sagittarius – Visible Ligh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Picture 3" descr="COMINS 15-05"/>
          <p:cNvPicPr/>
          <p:nvPr/>
        </p:nvPicPr>
        <p:blipFill>
          <a:blip r:embed="rId1"/>
          <a:stretch/>
        </p:blipFill>
        <p:spPr>
          <a:xfrm>
            <a:off x="76320" y="1838160"/>
            <a:ext cx="9021600" cy="4105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4" name="Text Box 4"/>
          <p:cNvSpPr/>
          <p:nvPr/>
        </p:nvSpPr>
        <p:spPr>
          <a:xfrm>
            <a:off x="1523880" y="745164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Looking toward the Galaxy Center in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Sagittarius – Infrared Ligh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523880" y="745164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COMINS 15-12"/>
          <p:cNvPicPr/>
          <p:nvPr/>
        </p:nvPicPr>
        <p:blipFill>
          <a:blip r:embed="rId1"/>
          <a:stretch/>
        </p:blipFill>
        <p:spPr>
          <a:xfrm>
            <a:off x="152280" y="1828800"/>
            <a:ext cx="8967960" cy="4297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The Galactic Center – Zooming in,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in Infrared Ligh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1" name="Picture 3" descr="COMIN 15-13abc"/>
          <p:cNvPicPr/>
          <p:nvPr/>
        </p:nvPicPr>
        <p:blipFill>
          <a:blip r:embed="rId1"/>
          <a:stretch/>
        </p:blipFill>
        <p:spPr>
          <a:xfrm>
            <a:off x="90360" y="1676520"/>
            <a:ext cx="8977320" cy="42606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52" name="Text Box 4"/>
          <p:cNvSpPr/>
          <p:nvPr/>
        </p:nvSpPr>
        <p:spPr>
          <a:xfrm>
            <a:off x="2286000" y="6156360"/>
            <a:ext cx="48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ws very high density at the Ce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868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Galactic Nucleus – in Radio Wav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334200" cy="4524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6" name="Text Box 5"/>
          <p:cNvSpPr/>
          <p:nvPr/>
        </p:nvSpPr>
        <p:spPr>
          <a:xfrm>
            <a:off x="1295280" y="592776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gittarius A (Sgr A) is at the Galaxy Center, and is very bright in Radio Waves.  SNR = Supernova Remna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Galactic Nucleus – in Infrared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838080" y="592776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s orbiting a MASSIVE object that cannot be seen – a 4 million solar mass BLACK HOLE – where the Sgr A radio source is loca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COMINS 15-14b"/>
          <p:cNvPicPr/>
          <p:nvPr/>
        </p:nvPicPr>
        <p:blipFill>
          <a:blip r:embed="rId1"/>
          <a:stretch/>
        </p:blipFill>
        <p:spPr>
          <a:xfrm>
            <a:off x="2062080" y="914400"/>
            <a:ext cx="4872240" cy="48578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e Black Hole Area at the Center of our Galaxy might look something like this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3" name="Picture 3" descr="hubble black hole accretion disk"/>
          <p:cNvPicPr/>
          <p:nvPr/>
        </p:nvPicPr>
        <p:blipFill>
          <a:blip r:embed="rId1"/>
          <a:stretch/>
        </p:blipFill>
        <p:spPr>
          <a:xfrm>
            <a:off x="1339920" y="1600200"/>
            <a:ext cx="6508800" cy="51688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Orbits of Stars in Different Parts of Our Galaxy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6" name="Picture 3" descr="FINAL COMIN 15-15"/>
          <p:cNvPicPr/>
          <p:nvPr/>
        </p:nvPicPr>
        <p:blipFill>
          <a:blip r:embed="rId1"/>
          <a:stretch/>
        </p:blipFill>
        <p:spPr>
          <a:xfrm>
            <a:off x="1828800" y="1295280"/>
            <a:ext cx="5548320" cy="4579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7" name="Text Box 4"/>
          <p:cNvSpPr/>
          <p:nvPr/>
        </p:nvSpPr>
        <p:spPr>
          <a:xfrm>
            <a:off x="2209680" y="6095880"/>
            <a:ext cx="49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GC 4144, very similar to the Milky W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Our Galaxy rotates, and the center rotates faster than the outer parts do – Kepler’s 3</a:t>
            </a:r>
            <a:r>
              <a:rPr b="1" lang="en-US" sz="2800" spc="-1" strike="noStrike" baseline="30000">
                <a:solidFill>
                  <a:srgbClr val="b2b2b2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Law !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0" name="Picture 4" descr="COMINS 15-17a"/>
          <p:cNvPicPr/>
          <p:nvPr/>
        </p:nvPicPr>
        <p:blipFill>
          <a:blip r:embed="rId1"/>
          <a:stretch/>
        </p:blipFill>
        <p:spPr>
          <a:xfrm>
            <a:off x="228600" y="2108160"/>
            <a:ext cx="4259160" cy="3683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OMINS 15-17b"/>
          <p:cNvPicPr/>
          <p:nvPr/>
        </p:nvPicPr>
        <p:blipFill>
          <a:blip r:embed="rId2"/>
          <a:stretch/>
        </p:blipFill>
        <p:spPr>
          <a:xfrm>
            <a:off x="4800600" y="2092320"/>
            <a:ext cx="4159080" cy="3699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990720" y="6994440"/>
            <a:ext cx="7315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1523880" y="6004080"/>
            <a:ext cx="170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like th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6249240" y="601992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 TH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The Galaxy’s Rotation Curve – shows there’s Dark Matter beyond the visible edge of the Galaxy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7" name="Picture 3" descr="COMINS 15-18"/>
          <p:cNvPicPr/>
          <p:nvPr/>
        </p:nvPicPr>
        <p:blipFill>
          <a:blip r:embed="rId1"/>
          <a:stretch/>
        </p:blipFill>
        <p:spPr>
          <a:xfrm>
            <a:off x="990720" y="1219320"/>
            <a:ext cx="7138800" cy="55609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HAT DO YOU THIN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about how fa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How Much Dark Matter Does</a:t>
            </a:r>
            <a:br>
              <a:rPr sz="32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Our Galaxy Have?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ars and other objects that give off radiation account for only 10% of the Galaxy’s total m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ther 90% of our Galaxy is made of stuff that we can’t see at any wavelength of radiation – so we call it “Dark Matter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rk Matter forms a sphere around the Galaxy, at least 12 times farther from the center than we 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don’t know what this Dark Matter is, but it does have gra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HAT DID YOU THIN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ilky Way has about 200 billion st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ar System is in the Orion Arm, about 26,000 light years from the center of the Galax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how fas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un orbits the center of the Milky Way Galaxy at a speed of 828,000 km per hour.  How many miles per hour is tha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277920"/>
            <a:ext cx="8458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You will discover…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ilky Way Galaxy is made of billions of stars, and gas and dust, all bound together by mutual gravitational attr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perties of our Milky Way Galax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’s location in the Milky 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there is a huge Black Hole at the center of our Galax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observations reveal the presence of significant hidden mass in the Milky Way – but we don’t know what it 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The Milky Way – Side View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Picture 5" descr="COMINS 15-01a"/>
          <p:cNvPicPr/>
          <p:nvPr/>
        </p:nvPicPr>
        <p:blipFill>
          <a:blip r:embed="rId1"/>
          <a:stretch/>
        </p:blipFill>
        <p:spPr>
          <a:xfrm>
            <a:off x="1523880" y="1143000"/>
            <a:ext cx="6216840" cy="4853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6" name="Text Box 6"/>
          <p:cNvSpPr/>
          <p:nvPr/>
        </p:nvSpPr>
        <p:spPr>
          <a:xfrm>
            <a:off x="685800" y="61722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ge-on view showing the Milky Way’s disk, nuclear bulge, and ha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The Milky Way – Top View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990720" y="577548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p view showing spiral arms.  Latest research shows that the Milky Way also has a bar in the ce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milky way barred spiral"/>
          <p:cNvPicPr/>
          <p:nvPr/>
        </p:nvPicPr>
        <p:blipFill>
          <a:blip r:embed="rId1"/>
          <a:stretch/>
        </p:blipFill>
        <p:spPr>
          <a:xfrm>
            <a:off x="2306520" y="1184400"/>
            <a:ext cx="4530960" cy="45306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How We Map the Galax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3" name="Picture 3" descr="COMINS 15-08"/>
          <p:cNvPicPr/>
          <p:nvPr/>
        </p:nvPicPr>
        <p:blipFill>
          <a:blip r:embed="rId1"/>
          <a:stretch/>
        </p:blipFill>
        <p:spPr>
          <a:xfrm>
            <a:off x="1828800" y="1219320"/>
            <a:ext cx="5448240" cy="44226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228600" y="57754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dio waves from different gas clouds show slightly different Doppler shifts, permitting astronomers to sort out the gas clouds and map the Galax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ap of the Galax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7" name="Picture 3" descr="COMINS 15-09"/>
          <p:cNvPicPr/>
          <p:nvPr/>
        </p:nvPicPr>
        <p:blipFill>
          <a:blip r:embed="rId1"/>
          <a:stretch/>
        </p:blipFill>
        <p:spPr>
          <a:xfrm>
            <a:off x="0" y="1752480"/>
            <a:ext cx="9167760" cy="36561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8" name="Text Box 4"/>
          <p:cNvSpPr/>
          <p:nvPr/>
        </p:nvSpPr>
        <p:spPr>
          <a:xfrm>
            <a:off x="609480" y="577548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map (left), based on radio telescope surveys of 21-cm radiation, shows the distribution of hydrogen gas in the Milky W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34290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How Big?  How Many Stars?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2174400"/>
            <a:ext cx="259092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meter 100,000 light years (only the visible stuff – dark matter area is much larger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,000 light years thick where we 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 billion st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 is 26,000 light years from the galactic ce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3" descr="COMINS 15-11"/>
          <p:cNvPicPr/>
          <p:nvPr/>
        </p:nvPicPr>
        <p:blipFill>
          <a:blip r:embed="rId1"/>
          <a:stretch/>
        </p:blipFill>
        <p:spPr>
          <a:xfrm>
            <a:off x="4191120" y="38160"/>
            <a:ext cx="4030560" cy="6819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3124080" cy="19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What Kinds of Stars?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clear bulge about 20,000 light years diame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k contains gas, dust, and Population I stars (young, metal-rich star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lo is composed mostly of Population II stars (old, metal-poor star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COMINS 15-11"/>
          <p:cNvPicPr/>
          <p:nvPr/>
        </p:nvPicPr>
        <p:blipFill>
          <a:blip r:embed="rId1"/>
          <a:stretch/>
        </p:blipFill>
        <p:spPr>
          <a:xfrm>
            <a:off x="4191120" y="25560"/>
            <a:ext cx="4039920" cy="6832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8:35:13Z</dcterms:created>
  <dc:creator>Dr. Mark Hollabaugh</dc:creator>
  <dc:description/>
  <dc:language>en-US</dc:language>
  <cp:lastModifiedBy>Legion</cp:lastModifiedBy>
  <dcterms:modified xsi:type="dcterms:W3CDTF">2017-01-26T14:01:38Z</dcterms:modified>
  <cp:revision>40</cp:revision>
  <dc:subject/>
  <dc:title>Chapter 15: The Milky Way Galaxy</dc:title>
</cp:coreProperties>
</file>