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WHOOSH.WAV" ContentType="audio/x-wav"/>
  <Override PartName="/ppt/media/image39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CC6D-6E26-497C-B893-6A9591828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94F-4896-438F-815E-E06A8BBC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4E7-8256-4BFE-8335-182EB1A4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3FE-F040-40A9-BFFA-EB4300E7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65E-D515-43AA-94E6-267D1FCF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507-8946-41D8-9C97-2F681EA6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5DD-DD63-48FA-BB75-E07EFB13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1D3-D51D-49A7-BEC0-683856B3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FC3-46EE-411D-B3B1-D1D77660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A85-B8C9-497B-A48E-197F1912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79D-F65B-4F81-981E-623F4322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3CD-3EF2-48C1-A05A-ACAAB9E6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9B9-FB6D-4CA8-AA87-A1477921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7BC8-15E4-4E90-B93B-8B074C55D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/>
              <a:ahLst/>
              <a:rect l="l" t="t" r="r" b="b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7-01-26T13:55:46Z</dcterms:modified>
  <cp:revision>53</cp:revision>
  <dc:subject/>
  <dc:title>Foundation 1 - Discovering Astronomy</dc:title>
</cp:coreProperties>
</file>