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3D70-7896-4159-8E9D-DEA24ACEE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6FB-844C-4AE8-AADA-F4F81565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EBD-DFDE-41C1-BE69-BD632B67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603-5394-4D46-BB6D-88E64AAF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2082-DCE7-4FAA-B883-DDC9BC1D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99E-3BF4-4945-B3F0-0E326831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EF1-2F08-4E17-AA0E-498FF29A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E4D4-34E2-46FC-9AF6-54B09FC7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1A5-6307-4E62-936D-0D679322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48D-7F8C-4E8A-B3C8-7554CA0A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E78-A226-4A6F-91CB-85B28451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02D-6C81-487C-9BA5-8C83104D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DA8-0502-443A-8971-7B565834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4001-597F-4537-AF9F-EB8D2E90E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/>
              <a:ahLst/>
              <a:rect l="l" t="t" r="r" b="b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7-01-26T13:55:46Z</dcterms:modified>
  <cp:revision>53</cp:revision>
  <dc:subject/>
  <dc:title>Foundation 1 - Discovering Astronomy</dc:title>
</cp:coreProperties>
</file>