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gif" ContentType="image/gif"/>
  <Override PartName="/ppt/media/image14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5.png" ContentType="image/png"/>
  <Override PartName="/ppt/media/image13.gif" ContentType="image/gif"/>
  <Override PartName="/ppt/media/image22.wmf" ContentType="image/x-wmf"/>
  <Override PartName="/ppt/media/image20.png" ContentType="image/png"/>
  <Override PartName="/ppt/media/image17.gif" ContentType="image/gif"/>
  <Override PartName="/ppt/media/image3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9.jpeg" ContentType="image/jpeg"/>
  <Override PartName="/ppt/media/image15.jpeg" ContentType="image/jpeg"/>
  <Override PartName="/ppt/media/image19.gif" ContentType="image/gif"/>
  <Override PartName="/ppt/media/image1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6153-43BD-4FC2-963E-5A45E055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5:  The Sun:  A Nuclear Powerho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pter 15:  The Sun:  A Nuclear Powerhou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re are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simply convert atoms in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ase, we get out the energy differ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there ar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can’t simply convert atoms in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rearrange the protons and neutrons in nuclei to get a lower-mass configur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difference between initial mass and final mass is converted to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energy comes from rearranging atoms to configurations of lower energy (mas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energy comes from rearranging nuclei to configurations of lower mass (energy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ase, we get out the energy differ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ary Particles (condens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particles play a fundamental role in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 make atomic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orbit nuclei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are emitted by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are also e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mentary Particles (condens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5 particles play a fundamental role in the Su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s and neutrons make atomic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ectrons orbit nuclei of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are emitted by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are also emit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3 The Atomic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ways to rearrange nuclei and get energ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ombs, nuclear re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Uranium 235, Plutonium 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no Uranium or Plutonium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-bomb, tokamak, internal confinement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has lots of Hydrogen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3 The Atomic Nucle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ways to rearrange nuclei and get energ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iss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breaking up massive nuclei like Uranium into less massive nuclei like Barium and Kryp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blem: no Uranium or Plutonium o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duces energy by combining light nuclei like Hydrogen to make more massive nuclei like Hel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Fusion Wo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: nuclei are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charges re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usion, electrical repulsion must be “overco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two nuclei get close enoug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es Fusion Work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by which two light nuclei combine to form a single larger nucle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: nuclei are positively charge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ike charges repe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nuclei naturally repel each other and thus cannot fuse spontaneous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fusion, electrical repulsion must be “overcome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two nuclei are very close the strong nuclear force takes over and holds them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do two nuclei get close enoug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needs fast moving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fast moving nuclei means hig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needs fast moving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ast moving nuclei can overcome the repulsion - they get a running star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ts of fast moving nuclei means high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ore of the Sun has a temperature of 15 million degrees Kelvin.  (ouch!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s the source of energy for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trying to harness fusion to generate electr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rtial confinement fusion - Lawrence Livermore National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 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 on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is the source of energy for hydrogen bomb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 are trying to harness fusion to generate electricity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kamak - magnetic confinement machine as envisioned for ITER shown to the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ertial confinement fusion - Lawrence Livermore National La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TER react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Powers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: neutrinos from Sun produced by fusion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:  all stars produce energy by nuclear fu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Powers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s in the cores of stars are above the approximately 8 million K needed to fuse hydrogen nuclei togeth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alculations:  observed power output of the Sun consistent with fusion of hydrogen nuclei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bservation: neutrinos from Sun produced by fusion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pothesis:  all stars produce energy by nuclear fus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e two helium-3 to make helium 4He plus two hydrogen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ydrogen, H (1 proton) to make deuterium, 2H (1 proton, 1 neutron), neutrino and 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one deuterium and one hydrogen to make helium-3 3He (1 proton, 2 neutrons), gamma ray (energetic phot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e two helium-3 to make helium 4He plus two hydrogen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 complicated ch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r, but less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his happening are very, very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e too slow to power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a complicated chai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would be simpler if four protons would collide simultaneously to make one helium nucleu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impler, but less likel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 for four objects to collide simultaneously with high enough energ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his happening are very, very smal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te too slow to power the Su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oton-proton chain: each step involves collision of two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ance of two particles colliding and fusing is much higher, so nature slowly builds up the helium nucle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appy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only in Sun'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place its h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determines Sun's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and So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only in Sun's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place its hot en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determines Sun's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usion and Solar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Core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: balance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from the hot core pushing outward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s the star collapse to the very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rate is very sensitive to temper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Core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: balance betwe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from the hot core pushing outwards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s the star collapse to the very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rate is very sensitive to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slight increase/decrease in T causes fusion rate to increase/decrease by a large amoun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's second law: 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quilibrium: no acceleration if forces on object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tries to pull 1/4 pounder to center of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 opposes gra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 on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ud of gas" (like 1/4 pound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cloud to 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gas below opposes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from fusion in the hot core increases pressur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controls size of su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from hot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 from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ce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wton's second law: F = m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tic equilibrium: no acceleration if forces on object bal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tries to pull 1/4 pounder to center of the Ear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 opposes gravit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 on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"cloud of gas" (like 1/4 pound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pulls cloud to the cen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gas below opposes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at from fusion in the hot core increases pressur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 output controls size of su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 from hot g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: random motion of atoms in a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: amount of force per unit area on piston from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pressure increases with increasing tempera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 and Press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emperature: random motion of atoms in a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ssure: amount of force per unit area on piston from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pressure increases with increasing tempera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ing Fusion, Gravity and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rate of fusion increases, the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pressure increases causing the star to exp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ansion would reduce compression of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n the core would drop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fusion rate would subsequently slow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rmal pressure would then dr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 would shr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ing Fusion, Gravity and Press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rate of fusion increases, the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rmal pressure increases causing the star to exp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r expands to a new point where gravity would balance the thermal press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ansion would reduce compression of the co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in the core would drop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fusion rate would subsequently slow dow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hermal pressure would then drop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tar would shrin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temperature would rise again and the nuclear fusion rate would incr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ability would be re-established between the nuclear reaction rates and the gravity compre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static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ydrostatic Equilib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alance between pressure, heat from fusion and gravity determines Sun's s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ig stars have cooler cores, small stars have hotter cores – more compress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is not the only product in the fusion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ther particle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ther Partic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elium is not the only product in the fusion of hydro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wo other particle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 Propagation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rons quickly annihilate with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w migration because they scatter off the dense gas partic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about only a centimeter between collis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amma Ray Propagation in the Su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itrons quickly annihilate with electr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otons produced in core of the Sun take about a million years to move to the surfac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ow migration because they scatter off the dense gas particle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ove about only a centimeter between collis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each collision, they transfer some of their energy to the gas partic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s they reach the photosphere, gamma rays have become visible phot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massless particles with no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ely interact with ordinary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travel extremely f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t the speed of light if small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arly massless particles with no char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rely interact with ordinary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travel extremely f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lmost at the speed of light if small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pass from the core of the Sun to the surface in only two second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y take less than 8.5 minutes to travel the distance from the Sun to the Eart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inci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Coun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principl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se neutrino count at Earth as indicator of 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roblem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have a very low probability of interacting with mat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uld pass through a light year of lead and not be stopped by any of the lead atom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the Sun Shi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gives off energy (duh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must come from somewhere - there’s no fre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rvation of energy is a fundamental tenet of phys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energy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the 20th century only 2 possibilities were know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y Does the Sun Shi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gives off energy (duh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must come from somewhere - there’s no free lun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servation of energy is a fundamental tenet of phys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re does the energy come fro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til the 20th century only 2 possibilities were known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hemical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Abu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A LOT of neutrin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feel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o worr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utrinos do not damage anyth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Abund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A LOT of neutrino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 one second several million billion neutrinos pass through your bod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o you feel them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to worry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cting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etecting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e the odds of detecting neutrinos by using a LARGE amount of a material that reacts with neutrinos in a measurable w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hlorine isotope changes to a radioactive isotope of argon when hit by a neutrin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gallium isotope changes to a radioactive isotope of germaniu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s can interact with protons and neutrons and produce an electron.  The electron can be det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e largest detectors detect only a few neutrinos per d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miok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 Dav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in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detectors use hundreds of thousands of liters of these materials in a container buried under many tens of meters of rock to shield the detectors from other energetic particles from space called cosmic ray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ven the largest detectors detect only a few neutrinos per da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Kamiokan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ay Da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bel Prize in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mber of neutrinos produced in the Sun is directly proportional to the number of nuclear reactions taking place in the Sun's co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ame principle with neutrinos produced via the Carbon-Nitrogen-Oxygen ch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more reactions there are, the more neutrinos are produced and the more that should be detected here on the Earth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hysicists find that the number of neutrinos coming from the Sun is smaller than exp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arly experiments detected only 1/3 of the expected number of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experiments used hundreds of thousands of liters of cleaning fluid (composed of chlorine compounds) or very pure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Production (cont’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Production (cont’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ater experiments using many tons of gallium were able to detect the more abundant low-energy neutrino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ever, those experiments also found the same problem: too few neutrinos (the gallium experiments found about 2/3 the expected number)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puzzling lack of neutrinos from the Sun is called the solar neutrino problem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Explan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 is not the Sun's power source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were not calibrated correctl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Explanations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fusion is not the Sun's power source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t supported by observations, not likely to be the correct reas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were not calibrated correctl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nuclear reaction rate in the Sun is lower than what our calculations say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ossible but many people have checked and re-checked the physics of the reaction rat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constraints in how much one can lower the temperature in the core of the Sun to slow down the reac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eutrino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neutrinos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one type, called electron neutr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eriments detect only electron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olar Neutrino Solu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ree types of neutrinos exi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one type, called electron neutrino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xperiments detect only electron-typ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 their way from the Sun, neutrinos can transform from one type to another  we only detect 1/3 of the mix at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also implies that neutrinos have mass, very small, but not zer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ino Oscil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e neutrinos (gre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3 mix on their way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eutrino Oscill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only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e neutrinos (green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becomes one of the types 1, 2, or 3 on its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se 3 mix on their way to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en we look at the neutrinos on Earth, some of the original green is now blue or yellow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’s Energy Out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w bright is the Sun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un produces 4x1026 wat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n = 8 x 1016 of these power plants (80,000 trillion)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yway you look at it, the Sun gives off a lot of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bright is the Su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produces 4x1026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t is the unit for the rate of energy use, commonly seen on light bulbs and appliances.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argest power plants produce around 5 x 109 watts of power (5,000 megawatts or 5 gigawat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= 8 x 1016 of these power plants (80,000 trilli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way you look at it, the Sun gives off a lot of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are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arrange the atoms in molecules, as in 2H2 + O2  2H2O + energy.  This reaction combines hydrogen and oxygen gas to produce water plus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verse the process: 2H2O + energy  2H2 + O2.  By adding energy we can dissociate water into hydrogen and oxyg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energy factor is often left out of chemical reaction formulas, for convenie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Powered by Chemical Reac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a few thousand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s the Sun Powered by Chemical Reactio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f the Sun is powered by burning coal or oil, how long could its fuel las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nly a few thousand year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process that uses fuel more efficiently is needed - something that gets more energy out of every kilogram of materia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Squeez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 a book  noise!  Gravitational potenti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iciency ~ 1/10000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can't be the Sun's main 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t did help ignite the Sun when it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Squeez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ational contraction: falling layers of the Sun's material compress the Sun 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drop a book  noise!  Gravitational potential energ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contraction of 40m per day would account for the Sun’s energy outp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fficiency ~ 1/10000 %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ould power the Sun for about 100 million years  but the Sun is at least 4 billion years old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ravity can't be the Sun's main energy sour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ut it did help ignite the Sun when it form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 Mass, Energy, and the Special Theory of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physics deals with the structure of the nuclei of 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 Mass, Energy, and the Special Theory of Relativ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o understand the way the Sun produces energy, we need to learn a little about nuclear physics and the special theory of relativ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uclear physics deals with the structure of the nuclei of ato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special theory of relativity deals with the behavior of things moving at close to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2.1 Converting Mass to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2 is the square of the speed of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5.2.1 Converting Mass to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Out of the special theory of relativity comes the most famous equation in science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is equation tells us that mass (m) is just another form of energy (E)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he c2 is the square of the speed of ligh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1 gram of matter is equivalent to the energy obtained by burning 15,000 barrels of oi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417-EB0E-4910-A9B9-42D420F3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417-C02A-4AE6-AC1E-92C189D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C7E-3986-4E68-B500-F7E525DA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870-D20B-4450-8AB1-490D66D2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D50FA-2A2D-406F-A423-EFC295EFD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B61F-7689-474A-94AF-046DF6AA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061C9F-CD78-4321-80BD-6141B10A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C3F73-C496-4148-A0DA-F3C0D07B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CD847-232A-4D89-AA8D-28F79248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6EB7-8BFE-4F55-B826-0CC4BCAB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CBD38-D8B4-4DFD-A001-5D47AE2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E8D-D5CD-4552-9A34-ADB6BBF9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41CC4-7782-4796-90B6-534D25E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564CA-F609-483F-B34E-CCB3136E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6D96A-2477-4583-9D8C-9C0D7F1F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0F93F-2AED-4FDA-8228-7EA789BC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588120"/>
            <a:ext cx="2944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AF385-130C-4C64-8449-7A18225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FF80-EFEB-43E9-89AF-DB253EC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CAF-9919-455A-855A-46C0942D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81BE-5586-4D76-B346-34A23EDF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8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9F5-A774-4C7D-96FA-11CA338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996-6C17-40A2-8E66-33932AA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588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734F-2E37-4AF7-8795-A9A8BB63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588120"/>
            <a:ext cx="91440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E3B3-F342-4168-8F64-94390CC2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686A-6BF9-450D-9A45-AFDDD74EE3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5AA1-3933-4B6A-9CD3-69D030691A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it_19970914_0121_304"/>
          <p:cNvPicPr/>
          <p:nvPr/>
        </p:nvPicPr>
        <p:blipFill>
          <a:blip r:embed="rId1"/>
          <a:srcRect l="0" t="11579" r="0" b="12586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2971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pter 15:  The Sun:  A Nuclear Powerhous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…</a:t>
            </a: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but there are rule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can’t simply convert atoms in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e rearrange the protons and neutrons in nuclei to get a lower-mass configurat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81160" indent="-2811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difference between initial mass and final mass is converted to energ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energy comes from rearranging atoms to configurations of lower energy (mass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energy comes from rearranging nuclei to configurations of lower mass (energy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09120" indent="-23436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ase, we get out the energy differ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Particle_chart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Elementary Particles (condense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0" y="7621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5 particles play a fundamental role in the Su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tons and neutrons make atomic nuclei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lectrons orbit nuclei of atom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hotons are emitted by the Su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2200" indent="-32220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are also emitted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838080"/>
          <a:ext cx="4876920" cy="5326200"/>
        </p:xfrm>
        <a:graphic>
          <a:graphicData uri="http://schemas.openxmlformats.org/drawingml/2006/table">
            <a:tbl>
              <a:tblPr/>
              <a:tblGrid>
                <a:gridCol w="1625760"/>
                <a:gridCol w="1763640"/>
                <a:gridCol w="1487520"/>
              </a:tblGrid>
              <a:tr h="154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article nam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Mass (MeV/c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Charge (e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3300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r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8.27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+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939.5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.5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Neutri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&lt;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Chalkboard"/>
                        </a:rPr>
                        <a:t>-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Phot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halkboard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3 The Atomic Nucleu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wo ways to rearrange nuclei and get energy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ission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reaking u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assive nuclei like Uranium into less massive nuclei like Barium and Kryp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-bombs, nuclear reac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s Uranium 235, Plutonium 23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blem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o Uranium or Plutonium on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Fusi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uces energy b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mbining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nuclei like Hydrogen to make more massive nuclei like Heliu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-bomb, tokamak, internal confinement fu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n has lots of Hydrogen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How Does Fusion Work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: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process by which two light nuclei combine to form a single larger nucleu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ever: nuclei are positively charged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ike charges rep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wo nuclei naturally repel each other and thus cannot fuse spontaneously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r fusion, electrical repulsion must be “overcome”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two nuclei are very close the </a:t>
            </a:r>
            <a:r>
              <a:rPr b="1" i="1" lang="en-US" sz="2800" spc="-1" strike="noStrike">
                <a:solidFill>
                  <a:srgbClr val="ffffff"/>
                </a:solidFill>
                <a:latin typeface="Chalkboard"/>
              </a:rPr>
              <a:t>strong nuclear forc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takes over and holds them together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ow do two nuclei get close enough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Fusion needs </a:t>
            </a:r>
            <a:r>
              <a:rPr b="0" lang="en-US" sz="4000" spc="-1" strike="noStrike">
                <a:solidFill>
                  <a:srgbClr val="ffff66"/>
                </a:solidFill>
                <a:latin typeface="Chalkboard"/>
              </a:rPr>
              <a:t>fast</a:t>
            </a:r>
            <a:r>
              <a:rPr b="0" lang="en-US" sz="3600" spc="-1" strike="noStrike">
                <a:solidFill>
                  <a:srgbClr val="ffff66"/>
                </a:solidFill>
                <a:latin typeface="Chalkboard"/>
              </a:rPr>
              <a:t> moving nuclei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76680" y="609480"/>
            <a:ext cx="4496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ast moving nuclei can overcome the repulsion - they get a running start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Lots of fast moving nuclei means high temperatur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core of the Sun has a temperature of 15 million degrees Kelvin.  (ouch!)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4419720" y="1224000"/>
            <a:ext cx="4724280" cy="2319480"/>
            <a:chOff x="4419720" y="1224000"/>
            <a:chExt cx="4724280" cy="2319480"/>
          </a:xfrm>
        </p:grpSpPr>
        <p:pic>
          <p:nvPicPr>
            <p:cNvPr id="138" name="Picture 5" descr="fuscond-anim1"/>
            <p:cNvPicPr/>
            <p:nvPr/>
          </p:nvPicPr>
          <p:blipFill>
            <a:blip r:embed="rId4"/>
            <a:stretch/>
          </p:blipFill>
          <p:spPr>
            <a:xfrm>
              <a:off x="4419720" y="1224000"/>
              <a:ext cx="4724280" cy="23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4488840" y="1292760"/>
              <a:ext cx="2076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Low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4419720" y="3943440"/>
            <a:ext cx="4705200" cy="2305080"/>
            <a:chOff x="4419720" y="3943440"/>
            <a:chExt cx="4705200" cy="2305080"/>
          </a:xfrm>
        </p:grpSpPr>
        <p:pic>
          <p:nvPicPr>
            <p:cNvPr id="141" name="Picture 8" descr="fuscond-anim2"/>
            <p:cNvPicPr/>
            <p:nvPr/>
          </p:nvPicPr>
          <p:blipFill>
            <a:blip r:embed="rId5"/>
            <a:stretch/>
          </p:blipFill>
          <p:spPr>
            <a:xfrm>
              <a:off x="4419720" y="3943440"/>
              <a:ext cx="47052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4439880" y="4003920"/>
              <a:ext cx="2071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ahoma"/>
                </a:rPr>
                <a:t>High speed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Fusion Power on Earth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is the source of energy for hydrogen bomb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e are trying to harness fusion to generate electricity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okamak - magnetic confinement machine as envisioned for ITER shown to the righ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nertial confinement fusion - Lawrence Livermore National La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46" name="Picture 5" descr="iter8-high"/>
          <p:cNvPicPr/>
          <p:nvPr/>
        </p:nvPicPr>
        <p:blipFill>
          <a:blip r:embed="rId5"/>
          <a:stretch/>
        </p:blipFill>
        <p:spPr>
          <a:xfrm>
            <a:off x="4648320" y="990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5992560" y="5638680"/>
            <a:ext cx="22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TER re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Powers the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s in the cores of stars are above the approximately 8 million K needed to fuse hydrogen nuclei together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alculations:  observed power output of the Sun consistent with fusion of hydrogen nuclei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bservation: neutrinos from Sun produced by fusion reacti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ypothesis:  all stars produce energy by nuclear fusio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roton-proton chain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53" name="Picture 5" descr="fusion-anim"/>
          <p:cNvPicPr/>
          <p:nvPr/>
        </p:nvPicPr>
        <p:blipFill>
          <a:blip r:embed="rId1"/>
          <a:stretch/>
        </p:blipFill>
        <p:spPr>
          <a:xfrm>
            <a:off x="0" y="914400"/>
            <a:ext cx="5153040" cy="364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457200" y="4876920"/>
                <a:ext cx="24354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752560" y="5691240"/>
                <a:ext cx="2097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5638680" y="5943600"/>
                <a:ext cx="28688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57" name="AutoShape 9"/>
          <p:cNvCxnSpPr/>
          <p:nvPr/>
        </p:nvCxnSpPr>
        <p:spPr>
          <a:xfrm>
            <a:off x="1866600" y="5219640"/>
            <a:ext cx="1028880" cy="689760"/>
          </a:xfrm>
          <a:prstGeom prst="curvedConnector5">
            <a:avLst>
              <a:gd name="adj1" fmla="val 49982"/>
              <a:gd name="adj2" fmla="val 49973"/>
              <a:gd name="adj3" fmla="val 49982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cxnSp>
        <p:nvCxnSpPr>
          <p:cNvPr id="158" name="AutoShape 10"/>
          <p:cNvCxnSpPr/>
          <p:nvPr/>
        </p:nvCxnSpPr>
        <p:spPr>
          <a:xfrm>
            <a:off x="4647960" y="5715000"/>
            <a:ext cx="997560" cy="59760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41400">
            <a:solidFill>
              <a:srgbClr val="ffcc00"/>
            </a:solidFill>
            <a:miter/>
            <a:tailEnd len="lg" type="stealth" w="lg"/>
          </a:ln>
        </p:spPr>
      </p:cxnSp>
      <p:sp>
        <p:nvSpPr>
          <p:cNvPr id="159" name="Text Box 11"/>
          <p:cNvSpPr/>
          <p:nvPr/>
        </p:nvSpPr>
        <p:spPr>
          <a:xfrm>
            <a:off x="5181480" y="0"/>
            <a:ext cx="396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ydrogen,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1 proton) to make deuterium,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1 neutron), neutrino and posi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one deuterium and one hydrogen to make helium-3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1 proton, 2 neutrons)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gamma ra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nergetic photon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se two helium-3 to make helium 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us two hydrogen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Why a complicated chain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would be simpler if four protons would collide simultaneously to make one helium nucleus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mpler, but less </a:t>
            </a:r>
            <a:r>
              <a:rPr b="0" lang="en-US" sz="2800" spc="-1" strike="noStrike">
                <a:solidFill>
                  <a:srgbClr val="ffcc00"/>
                </a:solidFill>
                <a:latin typeface="Chalkboard"/>
              </a:rPr>
              <a:t>likel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re for four objects to collide simultaneously with high enough energy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his happening are very, very smal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rate too slow to power the Sun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roton-proton chain: each step involves collision of two particle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hance of two particles colliding and fusing is much higher, so nature slowly builds up the helium nucleu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Happy Su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94" name="Picture 1028" descr=""/>
          <p:cNvPicPr/>
          <p:nvPr/>
        </p:nvPicPr>
        <p:blipFill>
          <a:blip r:embed="rId1"/>
          <a:stretch/>
        </p:blipFill>
        <p:spPr>
          <a:xfrm>
            <a:off x="1866960" y="7621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477120" y="1066680"/>
            <a:ext cx="2666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usion only in Sun's cor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nly place its hot enough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heat from fusion determines Sun's structur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Fusion and Solar Struct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66" name="Picture 1033" descr=""/>
          <p:cNvPicPr/>
          <p:nvPr/>
        </p:nvPicPr>
        <p:blipFill>
          <a:blip r:embed="rId4"/>
          <a:srcRect l="4468" t="1933" r="3215" b="1803"/>
          <a:stretch/>
        </p:blipFill>
        <p:spPr>
          <a:xfrm>
            <a:off x="0" y="1066680"/>
            <a:ext cx="6629400" cy="5264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Heat from Core</a:t>
            </a:r>
            <a:r>
              <a:rPr b="0" i="1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determines Sun's Siz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ydrostatic equilibrium: balance between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mal pressure from the hot core pushing outwards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vity squeezes the star collapse to the very center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clear fusion rate is very sensitive to temperatu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 slight increase/decrease in T causes fusion rate to increase/decrease by a large amount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1"/>
          <p:cNvSpPr/>
          <p:nvPr/>
        </p:nvSpPr>
        <p:spPr>
          <a:xfrm>
            <a:off x="6019920" y="4038480"/>
            <a:ext cx="3124080" cy="2438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Gravity and Pressure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6019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force equilibrium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ton's second law: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 = m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tic equilibrium: no acceleration if forces on object balanc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tries to pull 1/4 pounder to center of the Earth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table opposes gravity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hydrostatic equilibriu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n S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"cloud of gas" (like 1/4 pounder)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vity pulls cloud to the center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sure from gas below opposes gravity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heat from fusion in the hot core increases pressure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energy output controls size of sun!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grpSp>
        <p:nvGrpSpPr>
          <p:cNvPr id="174" name="Group 10"/>
          <p:cNvGrpSpPr/>
          <p:nvPr/>
        </p:nvGrpSpPr>
        <p:grpSpPr>
          <a:xfrm>
            <a:off x="6172200" y="1219320"/>
            <a:ext cx="2895480" cy="1828800"/>
            <a:chOff x="6172200" y="1219320"/>
            <a:chExt cx="2895480" cy="1828800"/>
          </a:xfrm>
        </p:grpSpPr>
        <p:pic>
          <p:nvPicPr>
            <p:cNvPr id="175" name="Picture 5" descr="qtrcheeseLG"/>
            <p:cNvPicPr/>
            <p:nvPr/>
          </p:nvPicPr>
          <p:blipFill>
            <a:blip r:embed="rId12"/>
            <a:srcRect l="13782" t="26442" r="14664" b="26002"/>
            <a:stretch/>
          </p:blipFill>
          <p:spPr>
            <a:xfrm>
              <a:off x="6933960" y="1219320"/>
              <a:ext cx="1371600" cy="91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9"/>
            <p:cNvGrpSpPr/>
            <p:nvPr/>
          </p:nvGrpSpPr>
          <p:grpSpPr>
            <a:xfrm>
              <a:off x="6172200" y="2133720"/>
              <a:ext cx="2895480" cy="914400"/>
              <a:chOff x="6172200" y="2133720"/>
              <a:chExt cx="2895480" cy="914400"/>
            </a:xfrm>
          </p:grpSpPr>
          <p:sp>
            <p:nvSpPr>
              <p:cNvPr id="177" name="Rectangle 6"/>
              <p:cNvSpPr/>
              <p:nvPr/>
            </p:nvSpPr>
            <p:spPr>
              <a:xfrm>
                <a:off x="6172200" y="2133720"/>
                <a:ext cx="2895480" cy="152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2448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Rectangle 8"/>
              <p:cNvSpPr/>
              <p:nvPr/>
            </p:nvSpPr>
            <p:spPr>
              <a:xfrm>
                <a:off x="8686800" y="2210040"/>
                <a:ext cx="228600" cy="8380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80" name="Line 14"/>
          <p:cNvSpPr/>
          <p:nvPr/>
        </p:nvSpPr>
        <p:spPr>
          <a:xfrm flipV="1">
            <a:off x="7620120" y="53352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772400" y="15228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sure from t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7718400" y="2666880"/>
            <a:ext cx="112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6629400" y="4876920"/>
            <a:ext cx="2133720" cy="685800"/>
          </a:xfrm>
          <a:prstGeom prst="cloudCallout">
            <a:avLst>
              <a:gd name="adj1" fmla="val -26115"/>
              <a:gd name="adj2" fmla="val 45601"/>
            </a:avLst>
          </a:prstGeom>
          <a:solidFill>
            <a:srgbClr val="ff6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620120" y="2057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22"/>
          <p:cNvSpPr/>
          <p:nvPr/>
        </p:nvSpPr>
        <p:spPr>
          <a:xfrm flipV="1">
            <a:off x="7620120" y="41148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23"/>
          <p:cNvSpPr/>
          <p:nvPr/>
        </p:nvSpPr>
        <p:spPr>
          <a:xfrm>
            <a:off x="7620120" y="5486400"/>
            <a:ext cx="0" cy="838080"/>
          </a:xfrm>
          <a:prstGeom prst="line">
            <a:avLst/>
          </a:prstGeom>
          <a:ln w="414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848720" y="3962520"/>
            <a:ext cx="108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pressure from hot ga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7870680" y="5562720"/>
            <a:ext cx="11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ight from grav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Temperature and Pressure 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1" name="Picture 1029" descr="idealgas-anim"/>
          <p:cNvPicPr/>
          <p:nvPr/>
        </p:nvPicPr>
        <p:blipFill>
          <a:blip r:embed="rId1"/>
          <a:stretch/>
        </p:blipFill>
        <p:spPr>
          <a:xfrm>
            <a:off x="4952880" y="1295280"/>
            <a:ext cx="4141800" cy="4724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mperature: random motion of atoms in a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ressure: amount of force per unit area on piston from ga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8960" indent="-318960">
              <a:spcBef>
                <a:spcPts val="601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enerally pressure increases with increasing temperatur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Balancing Fusion, Gravity and Pressur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f the rate of fusion increases, then: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rmal pressure increases causing the star to expand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 expands to a new point where gravity would balance the thermal pressure.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xpansion would reduce compression of the cor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in the core would drop 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nuclear fusion rate would subsequently slow dow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rmal pressure would then drop 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ar would shrink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emperature would rise again and the nuclear fusion rate would increase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bility would be re-established between the nuclear reaction rates and the gravity compression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Hydrostatic Equilibrium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98" name="Picture 1029" descr="hydroeql-strong"/>
          <p:cNvPicPr/>
          <p:nvPr/>
        </p:nvPicPr>
        <p:blipFill>
          <a:blip r:embed="rId1"/>
          <a:stretch/>
        </p:blipFill>
        <p:spPr>
          <a:xfrm>
            <a:off x="5562720" y="990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30" descr="hydroeql-weak"/>
          <p:cNvPicPr/>
          <p:nvPr/>
        </p:nvPicPr>
        <p:blipFill>
          <a:blip r:embed="rId2"/>
          <a:stretch/>
        </p:blipFill>
        <p:spPr>
          <a:xfrm>
            <a:off x="0" y="685800"/>
            <a:ext cx="4343400" cy="4302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50288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alance between pressure, heat from fusion and gravity determines Sun's siz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644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ig stars have cooler cores, small stars have hotter cores – more compress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Other Particl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lium is not the only product in the fusion of hydroge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wo other particles produce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Positron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Neutrino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04" name="Picture 21" descr="neutrino-maker"/>
          <p:cNvPicPr/>
          <p:nvPr/>
        </p:nvPicPr>
        <p:blipFill>
          <a:blip r:embed="rId5"/>
          <a:stretch/>
        </p:blipFill>
        <p:spPr>
          <a:xfrm>
            <a:off x="3990960" y="2743200"/>
            <a:ext cx="5153040" cy="36482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Chalkboard"/>
              </a:rPr>
              <a:t>Gamma Ray Propagation in the Sun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ositrons quick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annihilat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ith electr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otons produced in core of the Sun take about a million years to move to the surfac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low migration because they scatter off the dense gas particles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move about only a centimeter between collision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In each collision, they transfer some of their energy to the gas particles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s they reach the photosphere, gamma rays have become visible photon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arly massless particles with no charg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rely interact with ordinary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travel extremely fast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most at the speed of light if small mas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utrinos pass from the core of the Sun to the surface in on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Verdana"/>
              </a:rPr>
              <a:t>two second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y take less than 8.5 minutes to travel the distance from the Sun to the Earth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Counting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In principle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se neutrino count at Earth as indicator of the Sun’s energy outpu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901"/>
              </a:spcBef>
              <a:buSzPct val="1096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problem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utrinos have a very low probability of interacting with mat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83280" indent="-2628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uld pass through a light year of lead and not be stopped by any of the lead atom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Why Does the Sun Shin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gives off energy (duh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nergy must come from somewhere - there’s no free lunc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nservation of energy is a fundamental tenet of physics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does the energy come fro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Until the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century only 2 possibilities were known: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hemical reaction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Abundance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96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 Sun produces A LOT of neutrino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329040" indent="-329040">
              <a:spcBef>
                <a:spcPts val="901"/>
              </a:spcBef>
              <a:buSzPct val="1096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In one second several m</a:t>
            </a:r>
            <a:r>
              <a:rPr b="0" i="1" lang="en-US" sz="3600" spc="-1" strike="noStrike">
                <a:solidFill>
                  <a:srgbClr val="66ff33"/>
                </a:solidFill>
                <a:latin typeface="Chalkboard"/>
              </a:rPr>
              <a:t>illion billion</a:t>
            </a:r>
            <a:r>
              <a:rPr b="0" lang="en-US" sz="3600" spc="-1" strike="noStrike">
                <a:solidFill>
                  <a:srgbClr val="66ff33"/>
                </a:solidFill>
                <a:latin typeface="Chalkboard"/>
              </a:rPr>
              <a:t> neutrinos pass through your body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o you feel them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713160" indent="-2743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 to worry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eutrinos do not damage anythin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great majority of neutrinos pass right through the entire Earth as if it wasn’t the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Detecting Neutrino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crease the odds of detecting neutrinos by using a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LARGE amoun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of a material that reacts with neutrinos in a measurable way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chlorine isotope changes to a radioactive isotope of argon when hit by a neutrino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gallium isotope changes to a radioactive isotope of germanium.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98400" indent="-2685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s can interact with protons and neutrons and produce an electron.  The electron can be detecte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2817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Neutrino Detector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791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eutrino detectors use hundreds of thousands of liters of these materials in a container buried under many tens of meters of rock to shield the detectors from other energetic particles from space called 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cosmic rays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Even the largest detectors detect only a few neutrinos per day</a:t>
            </a:r>
            <a:r>
              <a:rPr b="0" i="1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6400800" y="0"/>
            <a:ext cx="27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4"/>
          <a:stretch/>
        </p:blipFill>
        <p:spPr>
          <a:xfrm>
            <a:off x="5888160" y="3886200"/>
            <a:ext cx="3255840" cy="22510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3889800" y="563868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Kamioka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779360" y="685800"/>
            <a:ext cx="15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Ray Dav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6017760" y="297180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ahoma"/>
              </a:rPr>
              <a:t>Nobel Prize in 200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Solar Neutrino Produc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ber of neutrinos produced in the Sun is directly proportional to the number of nuclear reactions taking place in the Sun's core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 principle with neutrinos produced via the Carbon-Nitrogen-Oxygen chain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re reactions there are, the more neutrinos are produced and the more that should be detected here on the Earth. 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hysicists find that the number of neutrinos coming from the Sun is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smaller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than expected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experiments detected only 1/3 of the expected number of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se experiments used hundreds of thousands of liters of cleaning fluid (composed of chlorine compounds) or very pure water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Solar Neutrino Production (cont’d)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Later experiments using many tons of gallium were able to detect the more abundant low-energy neutrinos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ever, those experiments also found the same problem: too few neutrinos (the gallium experiments found about 2/3 the expected number)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25800" indent="-32580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puzzling lack of neutrinos from the Sun is call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olar neutrino problem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"/>
              </a:rPr>
              <a:t>Possible Explanations: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ar fusion is not the Sun's power source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Not supported by observations, not likely to be the correct reaso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xperiments were not calibrated correctl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likely that all carefully-tuned experiments were tuned in the same wrong way. Experiments independently verified by many other scientists; astronomers think that the results are correct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nuclear reaction rate in the Sun is lower than what our calculations say. 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ssible but many people have checked and re-checked the physics of the reaction rates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trong constraints in how much one can lower the temperature in the core of the Sun to slow down the reaction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Solar Neutrino Solution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types of neutrinos exis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un produces only one type, called electron neutrino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experiments detect only electron-type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 their way from the Sun, neutrinos can transform from one type to ano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we only detect 1/3 of the mix at Earth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15360" indent="-315360">
              <a:spcBef>
                <a:spcPts val="799"/>
              </a:spcBef>
              <a:buSzPct val="1233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also implies that neutrinos have mass, very small, but not zero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Neutrino Oscillations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0" y="762120"/>
            <a:ext cx="4495680" cy="5410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495680" y="761760"/>
            <a:ext cx="4648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409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Sun produces onl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neutrinos (green)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s becomes one of the type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, or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on its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se 3 mix on their way to Earth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-31212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n we look at the neutrinos on Earth, some of the original green is now blue or yellow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The Sun’s Energy Output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w bright is the Sun?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Sun produces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4x10</a:t>
            </a:r>
            <a:r>
              <a:rPr b="0" lang="en-US" sz="2400" spc="-1" strike="noStrike" baseline="30000">
                <a:solidFill>
                  <a:srgbClr val="ffcc00"/>
                </a:solidFill>
                <a:latin typeface="Verdana"/>
              </a:rPr>
              <a:t>26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watt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t is the unit for the rate of energy use, commonly seen on light bulbs and appliances. 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r largest power plants produce around 5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watts of power (5,000 megawatts or 5 gigawatt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n = 8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erdana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of these power plants (80,000 trillion)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way you look at it, the Sun gives off a lot of energy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01" name="Picture 5" descr="FMNV03P14_14"/>
          <p:cNvPicPr/>
          <p:nvPr/>
        </p:nvPicPr>
        <p:blipFill>
          <a:blip r:embed="rId6"/>
          <a:stretch/>
        </p:blipFill>
        <p:spPr>
          <a:xfrm>
            <a:off x="6324480" y="685800"/>
            <a:ext cx="2590920" cy="174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7"/>
          <a:stretch/>
        </p:blipFill>
        <p:spPr>
          <a:xfrm>
            <a:off x="6040440" y="2438280"/>
            <a:ext cx="3103560" cy="396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are chemical reactions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arrange the atoms in molecules, as in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.  This reaction combines hydrogen and oxygen gas to produce water plu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energy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erse the process: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O + energy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2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.  By adding energy we can dissociate water into hydrogen and oxygen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 energy factor is often left out of chemical reaction formulas, for convenience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Is the Sun Powered by Chemical Reactions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the Sun is powered by burning coal or oil, how long could its fuel last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nly a few thousand year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process that uses fuel more efficiently is needed - something that gets more energy out of every kilogram of materia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Gravity Squeeze?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SzPct val="14097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ational contraction: falling layers of the Sun's material compress the Su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heat energy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drop a book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noise!  Gravitational potential energ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contraction of 40m per day would account for the Sun’s energy output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fficiency ~ 1/10000 %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ould power the Sun for about 100 million years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but the Sun is at least 4 billion years old!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305280" indent="-305280">
              <a:spcBef>
                <a:spcPts val="700"/>
              </a:spcBef>
              <a:buSzPct val="14097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ravity can't be the Sun's main energy sourc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660960" indent="-25416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But it did help </a:t>
            </a:r>
            <a:r>
              <a:rPr b="0" lang="en-US" sz="2400" spc="-1" strike="noStrike">
                <a:solidFill>
                  <a:srgbClr val="ffcc00"/>
                </a:solidFill>
                <a:latin typeface="Chalkboard"/>
              </a:rPr>
              <a:t>ignite</a:t>
            </a: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the Sun when it formed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 Mass, Energy, and the Special Theory of Relativit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o understand the way the Sun produces energy, we need to learn a little abou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nuclear physics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and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Chalkboard"/>
              </a:rPr>
              <a:t>special theory of relativity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uclear physics deals with the structure of the nuclei of atoms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special theory of relativity deals with the behavior of things moving at close to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halkboard"/>
              </a:rPr>
              <a:t>15.2.1 Converting Mass to Energy</a:t>
            </a:r>
            <a:endParaRPr b="0" lang="en-US" sz="4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233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ut of the special theory of relativity comes the most famous equation in scienc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is equation tells us that mass (m) is just another form of energy (E)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c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halkboar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the square of the speed of light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294840" indent="-294840">
              <a:spcBef>
                <a:spcPts val="799"/>
              </a:spcBef>
              <a:buSzPct val="1233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1 gram of matter is equivalent to the energy obtained by burning 15,000 barrels of oil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118" name="Picture 6" descr="final"/>
          <p:cNvPicPr/>
          <p:nvPr/>
        </p:nvPicPr>
        <p:blipFill>
          <a:blip r:embed="rId5"/>
          <a:stretch/>
        </p:blipFill>
        <p:spPr>
          <a:xfrm>
            <a:off x="3429000" y="1981080"/>
            <a:ext cx="2146320" cy="5842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6:15:49Z</dcterms:created>
  <dc:creator>Sean Gavin</dc:creator>
  <dc:description/>
  <cp:keywords/>
  <dc:language>en-US</dc:language>
  <cp:lastModifiedBy>Legion</cp:lastModifiedBy>
  <cp:lastPrinted>2003-10-27T22:25:26Z</cp:lastPrinted>
  <dcterms:modified xsi:type="dcterms:W3CDTF">2017-01-26T10:32:27Z</dcterms:modified>
  <cp:revision>110</cp:revision>
  <dc:subject/>
  <dc:title>PowerPoint Presentation  -  The Sun as a Power House</dc:title>
</cp:coreProperties>
</file>