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14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5.png" ContentType="image/png"/>
  <Override PartName="/ppt/media/image13.gif" ContentType="image/gif"/>
  <Override PartName="/ppt/media/image22.wmf" ContentType="image/x-wmf"/>
  <Override PartName="/ppt/media/image20.png" ContentType="image/png"/>
  <Override PartName="/ppt/media/image17.gif" ContentType="image/gif"/>
  <Override PartName="/ppt/media/image3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9.jpeg" ContentType="image/jpeg"/>
  <Override PartName="/ppt/media/image15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8272-3436-41F7-9779-7070B5983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:  The Sun:  A Nuclear Power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pter 15:  The Sun:  A Nuclear Powerho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re ar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simply convert atoms in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ase, we get out the energy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there ar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can’t simply convert atoms in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ase, we get out the energy differ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ary Particles (conden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particles play a fundamental role in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make atomic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orbit nuclei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are emitted by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are also e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mentary Particles (condens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 particles play a fundamental role in the Su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s and neutrons make atomic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ctrons orbit nuclei of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are emitted by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are also emit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3 The Atomic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ways to rearrange nuclei and get energ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ombs, nuclear re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Uranium 235, Plutonium 2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no Uranium or Plutonium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-bomb, tokamak, internal confinement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has lots of Hydroge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3 The Atomic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ways to rearrange nuclei and get energ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ss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blem: no Uranium or Plutonium o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Fusion 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: nuclei are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charges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usion, electrical repulsion must be “overc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wo nuclei get close en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es Fusion Work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: nuclei are positively charge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ke charges rep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 fusion, electrical repulsion must be “overcome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 two nuclei get close enoug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needs fast moving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fast moving nuclei means hig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needs fast moving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ts of fast moving nuclei means high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s the source of energy for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trying to harness fusion to generate electri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rtial confinement fusion - Lawrence Livermore National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 re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 on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is the source of energy for hydrogen b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are trying to harness fusion to generate electricit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ertial confinement fusion - Lawrence Livermore National La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ER react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s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neutrinos from Sun produced by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all stars produce energy by nuclea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s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bservation: neutrinos from Sun produced by fusion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pothesis:  all stars produce energy by nuclear fus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two helium-3 to make helium 4He plus two hydrogen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elium-3 to make helium 4He plus two hydrogen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 complicated ch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r, but less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his happening are very, very 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too slow to power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a complicated ch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impler, but less like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his happening are very, very sm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te too slow to power the Su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appy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only in Sun'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place its h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determines Sun's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and So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only in Sun's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place its hot en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determines Sun's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and Solar Struct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Core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: bal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from the hot core pushing outward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s the star collapse to the ver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rate is very sensitive to temper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Core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: balance betwe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from the hot core pushing outwards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s the star collapse to the very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rate is very sensitive to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's second law: 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quilibrium: no acceleration if forces on objec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tries to pull 1/4 pounder to center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 opposes gra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 on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ud of gas" (like 1/4 poun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cloud to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gas below opposes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in the hot core increases pressur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controls size of su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hot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wton's second law: F = m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tic equilibrium: no acceleration if forces on object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tries to pull 1/4 pounder to center of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 opposes gravit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 on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"cloud of gas" (like 1/4 pound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pulls cloud to the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gas below opposes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in the hot core increases pressur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 output controls size of su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hot g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: random motion of atoms in a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: amount of force per unit area on piston from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pressure increases with increasing tempera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 and Press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: random motion of atoms in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: amount of force per unit area on piston from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pressure increases with increasing tempera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Fusion, 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rate of fusion increases, 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increases causing the star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ansion would reduce compression of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n the core would drop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fusion rate would subsequently slow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al pressure would then dr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 would shr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ing Fusion, 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rate of fusion increases, the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increases causing the star to exp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ansion would reduce compression of the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in the core would drop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fusion rate would subsequently slow dow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hermal pressure would then dro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tar would shr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is not the only product in the fusion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ther particle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ther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lium is not the only product in the fusion of hydro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other particle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 Propagation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s quickly annihilate with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migration because they scatter off the dense gas partic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about only a centimeter between collis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amma Ray Propagation i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s quickly annihilate with electr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ow migration because they scatter off the dense gas particl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ove about only a centimeter between collis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massless particles with no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ly interact with ordinary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travel extremely f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t the speed of light if small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arly massless particles with no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ly interact with ordinary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travel extremely f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most at the speed of light if small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Cou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inci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Coun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princi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roblem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the Sun Sh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gives off energy (duh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must come from somewhere - there’s no fre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 is a fundamental tenet of phys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 20th century only 2 possibilities were kn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Does the Sun Shi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gives off energy (duh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must come from somewhere - there’s no free lun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nservation of energy is a fundamental tenet of phys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re does the energy come fr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til the 20th century only 2 possibilities were know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Abu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A LOT of neutri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feel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wor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inos do not damage anyth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Abun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A LOT of neutrino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 you feel th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to wor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ing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tecting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largest detectors detect only a few neutrinos per d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mioka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 Da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in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ven the largest detectors detect only a few neutrinos per d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Kamiokan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y Da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bel Prize in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Explan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is not the Sun's power sourc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were not calibrated correctl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Explanation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is not the Sun's power source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were not calibrated correctl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neutrinos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one type, called electron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detect only electron-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So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ree types of neutrinos exi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one type, called electron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detect only electron-typ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Oscil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e neutrinos (gre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3 mix on their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Oscill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e neutrinos (gree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3 mix on their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bright is the Sun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4x1026 wat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= 8 x 1016 of these power plants (80,000 trilli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yway you look at it, the Sun gives off a lot of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bright is the Su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4x1026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= 8 x 1016 of these power plants (80,000 trill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way you look at it, the Sun gives off a lot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are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few thousand ye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a few thousand year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 a book  noise!  Gravitational potenti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~ 1/1000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an't be the Sun's main 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did help ignite the Sun when i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rop a book  noise!  Gravitational potential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fficiency ~ 1/10000 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an't be the Sun's main energy sour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it did help ignite the Sun when it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 Mass, Energy, and the Special Theory of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hysics deals with the structure of the nuclei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 Mass, Energy, and the Special Theory of Relati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physics deals with the structure of the nuclei of atom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1 Converting Mass to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2 is the square of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1 Converting Mass to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2 is the square of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C0FF-195C-4A4D-A5F5-232CE93A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C733-F85E-4663-AC33-BD5C893B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2CF7-C65F-4947-9C07-ACB59F30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CD4A-7D88-4D00-9BB7-DAC650DC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453AB-0EB5-4C80-9F71-B3126A0D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C46AA-EF65-485C-A44F-BF00415F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CA786-359A-40EB-840E-C6694E9F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3B91F-1F7D-4141-B822-5B941441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A25D5-87B6-476B-B558-C52F973A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87368-1368-4B26-98FB-294C0C28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922CA-1BB4-4320-AF4F-AEFFBE75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FB64-231A-408B-8455-7A336D10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AE915-2C0E-4DE6-A6D3-23D9E862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CC0E6-DBED-4F44-AE43-327E79BF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07055-061F-4347-A815-2F79234A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99D26-355D-438C-A91C-DF078E59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B0B7B-B442-4C4F-9FF1-11BCAF89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B29-1C9B-488F-A0CF-D3E2588D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45F-FFE8-48DF-A501-6735D970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9C69-79D3-40AA-AEDE-89DBDCBF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CD1-64BC-4E7F-997C-F36EE64D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1617-A9E3-4A39-B658-7F148E63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C52D-DD13-4A4A-815A-F3DCC4F6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B1B0-DF1D-47E7-8C9F-19AACBCE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E1C6-C2DE-4A6D-B34A-552C5EB700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C44E-386C-46AB-9734-523FAB1AD0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eit_19970914_0121_304"/>
          <p:cNvPicPr/>
          <p:nvPr/>
        </p:nvPicPr>
        <p:blipFill>
          <a:blip r:embed="rId1"/>
          <a:srcRect l="0" t="11579" r="0" b="12586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hapter 15:  The Sun:  A Nuclear Powerhous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…</a:t>
            </a: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but there are rule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can’t simply convert atoms in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rearrange the protons and neutrons in nuclei to get a lower-mass configurat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difference between initial mass and final mass is converted 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energy comes from rearranging atoms to configurations of lower energy (mass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energy comes from rearranging nuclei to configurations of lower mass (energy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ase, we get out the energy differ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Particle_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Elementary Particles (condense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0" y="7621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5 particles play a fundamental role in the Su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tons and neutrons make atomic nucle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lectrons orbit nuclei of atom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hotons are emitted by the Su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are also emitt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838080"/>
          <a:ext cx="4876920" cy="5326200"/>
        </p:xfrm>
        <a:graphic>
          <a:graphicData uri="http://schemas.openxmlformats.org/drawingml/2006/table">
            <a:tbl>
              <a:tblPr/>
              <a:tblGrid>
                <a:gridCol w="1625760"/>
                <a:gridCol w="1763640"/>
                <a:gridCol w="1487520"/>
              </a:tblGrid>
              <a:tr h="15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article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Mass (MeV/c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Charge (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8.2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9.5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.5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i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&lt;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h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3 The Atomic Nucleu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wo ways to rearrange nuclei and get energy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ission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reaking u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ssive nuclei like Uranium into less massive nuclei like Barium and Kryp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roblem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 Uranium or Plutonium on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u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mbin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ht nuclei like Hydrogen to make more massive nuclei like Heliu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How Does Fusion Work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: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process by which two light nuclei combine to form a single larger nucleu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ever: nuclei are positively charged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ke charges rep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wo nuclei naturally repel each other and thus cannot fuse spontaneousl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r fusion, electrical repulsion must be “overcome”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two nuclei are very close the </a:t>
            </a:r>
            <a:r>
              <a:rPr b="1" i="1" lang="en-US" sz="2800" spc="-1" strike="noStrike">
                <a:solidFill>
                  <a:srgbClr val="ffffff"/>
                </a:solidFill>
                <a:latin typeface="Chalkboard"/>
              </a:rPr>
              <a:t>strong nuclear forc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takes over and holds them together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 do two nuclei get close enough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Fusion needs </a:t>
            </a:r>
            <a:r>
              <a:rPr b="0" lang="en-US" sz="4000" spc="-1" strike="noStrike">
                <a:solidFill>
                  <a:srgbClr val="ffff66"/>
                </a:solidFill>
                <a:latin typeface="Chalkboard"/>
              </a:rPr>
              <a:t>fast</a:t>
            </a: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 moving nucle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76680" y="609480"/>
            <a:ext cx="4496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ast moving nuclei can overcome the repulsion - they get a running start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ots of fast moving nuclei means high temperatur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core of the Sun has a temperature of 15 million degrees Kelvin.  (ouch!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4419720" y="1224000"/>
            <a:ext cx="4724280" cy="2319480"/>
            <a:chOff x="4419720" y="1224000"/>
            <a:chExt cx="4724280" cy="2319480"/>
          </a:xfrm>
        </p:grpSpPr>
        <p:pic>
          <p:nvPicPr>
            <p:cNvPr id="138" name="Picture 5" descr="fuscond-anim1"/>
            <p:cNvPicPr/>
            <p:nvPr/>
          </p:nvPicPr>
          <p:blipFill>
            <a:blip r:embed="rId4"/>
            <a:stretch/>
          </p:blipFill>
          <p:spPr>
            <a:xfrm>
              <a:off x="4419720" y="1224000"/>
              <a:ext cx="472428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6"/>
            <p:cNvSpPr/>
            <p:nvPr/>
          </p:nvSpPr>
          <p:spPr>
            <a:xfrm>
              <a:off x="4488840" y="1292760"/>
              <a:ext cx="2076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Low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0" name="Group 7"/>
          <p:cNvGrpSpPr/>
          <p:nvPr/>
        </p:nvGrpSpPr>
        <p:grpSpPr>
          <a:xfrm>
            <a:off x="4419720" y="3943440"/>
            <a:ext cx="4705200" cy="2305080"/>
            <a:chOff x="4419720" y="3943440"/>
            <a:chExt cx="4705200" cy="2305080"/>
          </a:xfrm>
        </p:grpSpPr>
        <p:pic>
          <p:nvPicPr>
            <p:cNvPr id="141" name="Picture 8" descr="fuscond-anim2"/>
            <p:cNvPicPr/>
            <p:nvPr/>
          </p:nvPicPr>
          <p:blipFill>
            <a:blip r:embed="rId5"/>
            <a:stretch/>
          </p:blipFill>
          <p:spPr>
            <a:xfrm>
              <a:off x="4419720" y="3943440"/>
              <a:ext cx="4705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9"/>
            <p:cNvSpPr/>
            <p:nvPr/>
          </p:nvSpPr>
          <p:spPr>
            <a:xfrm>
              <a:off x="4439880" y="4003920"/>
              <a:ext cx="2071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High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Fusion Power on Earth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is the source of energy for hydrogen bomb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 are trying to harness fusion to generate electricity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okamak - magnetic confinement machine as envisioned for ITER shown to the righ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ertial confinement fusion - Lawrence Livermore National La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46" name="Picture 5" descr="iter8-high"/>
          <p:cNvPicPr/>
          <p:nvPr/>
        </p:nvPicPr>
        <p:blipFill>
          <a:blip r:embed="rId5"/>
          <a:stretch/>
        </p:blipFill>
        <p:spPr>
          <a:xfrm>
            <a:off x="4648320" y="990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5992560" y="563868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TER re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Powers the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s in the cores of stars are above the approximately 8 million K needed to fuse hydrogen nuclei together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alculations:  observed power output of the Sun consistent with fusion of hydrogen nuclei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bservation: neutrinos from Sun produced by fusion reacti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ypothesis:  all stars produce energy by nuclear fus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roton-proton chain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53" name="Picture 5" descr="fusion-anim"/>
          <p:cNvPicPr/>
          <p:nvPr/>
        </p:nvPicPr>
        <p:blipFill>
          <a:blip r:embed="rId1"/>
          <a:stretch/>
        </p:blipFill>
        <p:spPr>
          <a:xfrm>
            <a:off x="0" y="914400"/>
            <a:ext cx="5153040" cy="364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Object 6"/>
              <p:cNvSpPr txBox="1"/>
              <p:nvPr/>
            </p:nvSpPr>
            <p:spPr>
              <a:xfrm>
                <a:off x="457200" y="4876920"/>
                <a:ext cx="2435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2752560" y="5691240"/>
                <a:ext cx="2097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8"/>
              <p:cNvSpPr txBox="1"/>
              <p:nvPr/>
            </p:nvSpPr>
            <p:spPr>
              <a:xfrm>
                <a:off x="5638680" y="5943600"/>
                <a:ext cx="28688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7" name="AutoShape 9"/>
          <p:cNvCxnSpPr/>
          <p:nvPr/>
        </p:nvCxnSpPr>
        <p:spPr>
          <a:xfrm>
            <a:off x="1866600" y="5219640"/>
            <a:ext cx="1028880" cy="689760"/>
          </a:xfrm>
          <a:prstGeom prst="curvedConnector5">
            <a:avLst>
              <a:gd name="adj1" fmla="val 49982"/>
              <a:gd name="adj2" fmla="val 49973"/>
              <a:gd name="adj3" fmla="val 49982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cxnSp>
        <p:nvCxnSpPr>
          <p:cNvPr id="158" name="AutoShape 10"/>
          <p:cNvCxnSpPr/>
          <p:nvPr/>
        </p:nvCxnSpPr>
        <p:spPr>
          <a:xfrm>
            <a:off x="4647960" y="5715000"/>
            <a:ext cx="997560" cy="59760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sp>
        <p:nvSpPr>
          <p:cNvPr id="159" name="Text Box 11"/>
          <p:cNvSpPr/>
          <p:nvPr/>
        </p:nvSpPr>
        <p:spPr>
          <a:xfrm>
            <a:off x="5181480" y="0"/>
            <a:ext cx="396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ydrogen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1 proton) to make deuterium,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1 neutron), neutrino and posi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one deuterium and one hydrogen to make helium-3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2 neutrons)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gamma ra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energetic phot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elium-3 to make helium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us two hydrogen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Why a complicated chain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would be simpler if four protons would collide simultaneously to make one helium nucleus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mpler, but less </a:t>
            </a:r>
            <a:r>
              <a:rPr b="0" lang="en-US" sz="2800" spc="-1" strike="noStrike">
                <a:solidFill>
                  <a:srgbClr val="ffcc00"/>
                </a:solidFill>
                <a:latin typeface="Chalkboard"/>
              </a:rPr>
              <a:t>likel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re for four objects to collide simultaneously with high enough energy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his happening are very, very smal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te too slow to power the Sun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roton-proton chain: each step involves collision of two particl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wo particles colliding and fusing is much higher, so nature slowly builds up the helium nucleu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Happy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4" name="Picture 1028" descr=""/>
          <p:cNvPicPr/>
          <p:nvPr/>
        </p:nvPicPr>
        <p:blipFill>
          <a:blip r:embed="rId1"/>
          <a:stretch/>
        </p:blipFill>
        <p:spPr>
          <a:xfrm>
            <a:off x="1866960" y="76212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477120" y="1066680"/>
            <a:ext cx="2666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only in Sun's co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nly place its hot enough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eat from fusion determines Sun's structur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and Solar Struct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66" name="Picture 1033" descr=""/>
          <p:cNvPicPr/>
          <p:nvPr/>
        </p:nvPicPr>
        <p:blipFill>
          <a:blip r:embed="rId4"/>
          <a:srcRect l="4468" t="1933" r="3215" b="1803"/>
          <a:stretch/>
        </p:blipFill>
        <p:spPr>
          <a:xfrm>
            <a:off x="0" y="1066680"/>
            <a:ext cx="6629400" cy="52642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t from Core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etermines Sun's Siz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ydrostatic equilibrium: balance between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mal pressure from the hot core pushing outwards 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vity squeezes the star collapse to the very cente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fusion rate is very sensitive to temperatu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light increase/decrease in T causes fusion rate to increase/decrease by a large amount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1"/>
          <p:cNvSpPr/>
          <p:nvPr/>
        </p:nvSpPr>
        <p:spPr>
          <a:xfrm>
            <a:off x="6019920" y="4038480"/>
            <a:ext cx="3124080" cy="243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Gravity and Pressur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019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ton's second law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ic equilibrium: no acceleration if forces on object balanc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tries to pull 1/4 pounder to center of the Earth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table opposes gravity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ydrostatic equilibriu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n Su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cloud of gas" (like 1/4 pounder)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pulls cloud to the center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gas below opposes gravity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heat from fusion in the hot core increases pressure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energy output controls size of sun!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74" name="Group 10"/>
          <p:cNvGrpSpPr/>
          <p:nvPr/>
        </p:nvGrpSpPr>
        <p:grpSpPr>
          <a:xfrm>
            <a:off x="6172200" y="1219320"/>
            <a:ext cx="2895480" cy="1828800"/>
            <a:chOff x="6172200" y="1219320"/>
            <a:chExt cx="2895480" cy="1828800"/>
          </a:xfrm>
        </p:grpSpPr>
        <p:pic>
          <p:nvPicPr>
            <p:cNvPr id="175" name="Picture 5" descr="qtrcheeseLG"/>
            <p:cNvPicPr/>
            <p:nvPr/>
          </p:nvPicPr>
          <p:blipFill>
            <a:blip r:embed="rId12"/>
            <a:srcRect l="13782" t="26442" r="14664" b="26002"/>
            <a:stretch/>
          </p:blipFill>
          <p:spPr>
            <a:xfrm>
              <a:off x="6933960" y="1219320"/>
              <a:ext cx="137160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Group 9"/>
            <p:cNvGrpSpPr/>
            <p:nvPr/>
          </p:nvGrpSpPr>
          <p:grpSpPr>
            <a:xfrm>
              <a:off x="6172200" y="2133720"/>
              <a:ext cx="2895480" cy="914400"/>
              <a:chOff x="6172200" y="2133720"/>
              <a:chExt cx="2895480" cy="914400"/>
            </a:xfrm>
          </p:grpSpPr>
          <p:sp>
            <p:nvSpPr>
              <p:cNvPr id="177" name="Rectangle 6"/>
              <p:cNvSpPr/>
              <p:nvPr/>
            </p:nvSpPr>
            <p:spPr>
              <a:xfrm>
                <a:off x="6172200" y="2133720"/>
                <a:ext cx="2895480" cy="152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Rectangle 7"/>
              <p:cNvSpPr/>
              <p:nvPr/>
            </p:nvSpPr>
            <p:spPr>
              <a:xfrm>
                <a:off x="632448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Rectangle 8"/>
              <p:cNvSpPr/>
              <p:nvPr/>
            </p:nvSpPr>
            <p:spPr>
              <a:xfrm>
                <a:off x="868680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80" name="Line 14"/>
          <p:cNvSpPr/>
          <p:nvPr/>
        </p:nvSpPr>
        <p:spPr>
          <a:xfrm flipV="1">
            <a:off x="7620120" y="53352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7772400" y="15228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7718400" y="2666880"/>
            <a:ext cx="112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6629400" y="4876920"/>
            <a:ext cx="2133720" cy="685800"/>
          </a:xfrm>
          <a:prstGeom prst="cloudCallout">
            <a:avLst>
              <a:gd name="adj1" fmla="val -26115"/>
              <a:gd name="adj2" fmla="val 45601"/>
            </a:avLst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7620120" y="2057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22"/>
          <p:cNvSpPr/>
          <p:nvPr/>
        </p:nvSpPr>
        <p:spPr>
          <a:xfrm flipV="1">
            <a:off x="7620120" y="41148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23"/>
          <p:cNvSpPr/>
          <p:nvPr/>
        </p:nvSpPr>
        <p:spPr>
          <a:xfrm>
            <a:off x="7620120" y="5486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7848720" y="396252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pressure from hot g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7870680" y="5562720"/>
            <a:ext cx="11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Temperature and Pressure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91" name="Picture 1029" descr="idealgas-anim"/>
          <p:cNvPicPr/>
          <p:nvPr/>
        </p:nvPicPr>
        <p:blipFill>
          <a:blip r:embed="rId1"/>
          <a:stretch/>
        </p:blipFill>
        <p:spPr>
          <a:xfrm>
            <a:off x="4952880" y="1295280"/>
            <a:ext cx="4141800" cy="47246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: random motion of atoms in a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ressure: amount of force per unit area on piston from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601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enerally pressure increases with increasing temperatur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Balancing Fusion, Gravity and Press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the rate of fusion increases, then: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mal pressure increases causing the star to expand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 expands to a new point where gravity would balance the thermal pressure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xpansion would reduce compression of the cor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in the core would drop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nuclear fusion rate would subsequently slow dow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rmal pressure would then drop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ar would shrink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would rise again and the nuclear fusion rate would increas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bility would be re-established between the nuclear reaction rates and the gravity compressio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Hydrostatic Equilibrium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98" name="Picture 1029" descr="hydroeql-strong"/>
          <p:cNvPicPr/>
          <p:nvPr/>
        </p:nvPicPr>
        <p:blipFill>
          <a:blip r:embed="rId1"/>
          <a:stretch/>
        </p:blipFill>
        <p:spPr>
          <a:xfrm>
            <a:off x="5562720" y="990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30" descr="hydroeql-weak"/>
          <p:cNvPicPr/>
          <p:nvPr/>
        </p:nvPicPr>
        <p:blipFill>
          <a:blip r:embed="rId2"/>
          <a:stretch/>
        </p:blipFill>
        <p:spPr>
          <a:xfrm>
            <a:off x="0" y="685800"/>
            <a:ext cx="4343400" cy="4302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5028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alance between pressure, heat from fusion and gravity determines Sun's siz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ig stars have cooler cores, small stars have hotter cores – more compress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Other Particle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ium is not the only product in the fusion of hydroge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other particles produce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ositr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eutrin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04" name="Picture 21" descr="neutrino-maker"/>
          <p:cNvPicPr/>
          <p:nvPr/>
        </p:nvPicPr>
        <p:blipFill>
          <a:blip r:embed="rId5"/>
          <a:stretch/>
        </p:blipFill>
        <p:spPr>
          <a:xfrm>
            <a:off x="3990960" y="2743200"/>
            <a:ext cx="5153040" cy="364824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halkboard"/>
              </a:rPr>
              <a:t>Gamma Ray Propagation in the Sun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ositrons quick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nnihilate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ith electr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otons produced in core of the Sun take about a million years to move to the surfac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low migration because they scatter off the dense gas particles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ove about only a centimeter between collision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ollision, they transfer some of their energy to the gas particle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s they reach the photosphere, gamma rays have become visible phot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arly massless particles with no charg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rely interact with ordinary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travel extremely fast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most at the speed of light if small mas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pass from the core of the Sun to the surface in on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wo seco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take less than 8.5 minutes to travel the distance from the Sun to the Earth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Counting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 principle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se neutrino count at Earth as indicator of the Sun’s energy outpu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901"/>
              </a:spcBef>
              <a:buSzPct val="1096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problem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eutrinos have a very low probability of interacting with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uld pass through a light year of lead and not be stopped by any of the lead atom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Why Does the Sun Shin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gives off energy (duh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nergy must come from somewhere - there’s no free lunc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nservation of energy is a fundamental tenet of physic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does the energy come fro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ntil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century only 2 possibilities were known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reactio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Abundanc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Sun produces A LOT of neutrino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901"/>
              </a:spcBef>
              <a:buSzPct val="1096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In one second several m</a:t>
            </a:r>
            <a:r>
              <a:rPr b="0" i="1" lang="en-US" sz="3600" spc="-1" strike="noStrike">
                <a:solidFill>
                  <a:srgbClr val="66ff33"/>
                </a:solidFill>
                <a:latin typeface="Chalkboard"/>
              </a:rPr>
              <a:t>illion billion</a:t>
            </a: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 neutrinos pass through your body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o you feel the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t to worry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Detecting 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ncrease the odds of detecting neutrinos by using a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LARGE amount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of a material that reacts with neutrinos in a measurable way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chlorine isotope changes to a radioactive isotope of argon when hit by a neutrino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gallium isotope changes to a radioactive isotope of germanium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can interact with protons and neutrons and produce an electron.  The electron can be detected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172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Detector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791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 detectors use hundreds of thousands of liters of these materials in a container buried under many tens of meters of rock to shield the detectors from other energetic particles from space called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cosmic rays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ven the largest detectors detect only a few neutrinos per day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722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4"/>
          <a:stretch/>
        </p:blipFill>
        <p:spPr>
          <a:xfrm>
            <a:off x="5888160" y="3886200"/>
            <a:ext cx="3255840" cy="22510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3889800" y="56386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Kamioka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779360" y="6858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ay Dav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6017760" y="29718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Nobel Prize in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olar Neutrino Produc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 of neutrinos produced in the Sun is directly proportional to the number of nuclear reactions taking place in the Sun's co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e principle with neutrinos produced via the Carbon-Nitrogen-Oxygen chai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re reactions there are, the more neutrinos are produced and the more that should be detected here on the Earth. 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ysicists find that the number of neutrinos coming from the Sun is </a:t>
            </a:r>
            <a:r>
              <a:rPr b="0" i="1" lang="en-US" sz="3200" spc="-1" strike="noStrike">
                <a:solidFill>
                  <a:srgbClr val="ffffff"/>
                </a:solidFill>
                <a:latin typeface="Chalkboard"/>
              </a:rPr>
              <a:t>smaller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than expected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Early experiments detected only 1/3 of the expected number of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se experiments used hundreds of thousands of liters of cleaning fluid (composed of chlorine compounds) or very pure wa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Later experiments using many tons of gallium were able to detect the more abundant low-energy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owever, those experiments also found the same problem: too few neutrinos (the gallium experiments found about 2/3 the expected number)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puzzling lack of neutrinos from the Sun is call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olar neutrino problem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ossible Explanations: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 is not the Sun's power source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ot supported by observations, not likely to be the correct reaso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xperiments were not calibrated correctl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nuclear reaction rate in the Sun is lower than what our calculations sa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ossible but many people have checked and re-checked the physics of the reaction rate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trong constraints in how much one can lower the temperature in the core of the Sun to slow down the reaction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Solar Neutrino Solu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ree types of neutrinos exis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produces only one type, called electron neutrino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xperiments detect only electron-typ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 their way from the Sun, neutrinos can transform from one type to ano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e only detect 1/3 of the mix at Eart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also implies that neutrinos have mass, very small, but not zero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Neutrino Oscillation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5410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49568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Sun produces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neutrinos (green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s becomes one of the typ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o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on its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se 3 mix on their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we look at the neutrinos on Earth, some of the original green is now blue or yellow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The Sun’s Energy Outpu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bright is the Sun?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 produces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4x10</a:t>
            </a:r>
            <a:r>
              <a:rPr b="0" lang="en-US" sz="2400" spc="-1" strike="noStrike" baseline="30000">
                <a:solidFill>
                  <a:srgbClr val="ffcc00"/>
                </a:solidFill>
                <a:latin typeface="Verdana"/>
              </a:rPr>
              <a:t>26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 wat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tt is the unit for the rate of energy use, commonly seen on light bulbs and appliances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r largest power plants produce around 5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atts of power (5,000 megawatts or 5 gigawatt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n = 8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f these power plants (80,000 trillion)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yway you look at it, the Sun gives off a lot of energy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1" name="Picture 5" descr="FMNV03P14_14"/>
          <p:cNvPicPr/>
          <p:nvPr/>
        </p:nvPicPr>
        <p:blipFill>
          <a:blip r:embed="rId6"/>
          <a:stretch/>
        </p:blipFill>
        <p:spPr>
          <a:xfrm>
            <a:off x="6324480" y="685800"/>
            <a:ext cx="2590920" cy="174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7"/>
          <a:stretch/>
        </p:blipFill>
        <p:spPr>
          <a:xfrm>
            <a:off x="6040440" y="2438280"/>
            <a:ext cx="3103560" cy="39625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at are chemical reactions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arrange the atoms in molecules, as in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.  This reaction combines hydrogen and oxygen gas to produce water plu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verse the process: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 By adding energy we can dissociate water into hydrogen and oxyge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nergy factor is often left out of chemical reaction formulas, for conveni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f the Sun is powered by burning coal or oil, how long could its fuel last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ly a few thousand year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process that uses fuel more efficiently is needed - something that gets more energy out of every kilogram of materia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Gravity Squeez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ational contraction: falling layers of the Sun's material compress the Su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heat energ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rop a boo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noise!  Gravitational potential energy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contraction of 40m per day would account for the Sun’s energy output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fficiency ~ 1/10000 %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ould power the Sun for about 100 million year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but the Sun is at least 4 billion years old!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an't be the Sun's main energy sourc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ut it did help </a:t>
            </a:r>
            <a:r>
              <a:rPr b="0" lang="en-US" sz="2400" spc="-1" strike="noStrike">
                <a:solidFill>
                  <a:srgbClr val="ffcc00"/>
                </a:solidFill>
                <a:latin typeface="Chalkboard"/>
              </a:rPr>
              <a:t>ignit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the Sun when it form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 Mass, Energy, and the Special Theory of Relativit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o understand the way the Sun produces energy, we need to learn a little abo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nuclear physics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pecial theory of relativity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uclear physics deals with the structure of the nuclei of atom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pecial theory of relativity deals with the behavior of things moving at close to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1 Converting Mass to Energ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ut of the special theory of relativity comes the most famous equation in scienc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equation tells us that mass (m) is just another form of energy (E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is the square of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1 gram of matter is equivalent to the energy obtained by burning 15,000 barrels of oi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18" name="Picture 6" descr="final"/>
          <p:cNvPicPr/>
          <p:nvPr/>
        </p:nvPicPr>
        <p:blipFill>
          <a:blip r:embed="rId5"/>
          <a:stretch/>
        </p:blipFill>
        <p:spPr>
          <a:xfrm>
            <a:off x="3429000" y="1981080"/>
            <a:ext cx="2146320" cy="584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6:15:49Z</dcterms:created>
  <dc:creator>Sean Gavin</dc:creator>
  <dc:description/>
  <cp:keywords/>
  <dc:language>en-US</dc:language>
  <cp:lastModifiedBy>Legion</cp:lastModifiedBy>
  <cp:lastPrinted>2003-10-27T22:25:26Z</cp:lastPrinted>
  <dcterms:modified xsi:type="dcterms:W3CDTF">2017-01-26T10:32:27Z</dcterms:modified>
  <cp:revision>110</cp:revision>
  <dc:subject/>
  <dc:title>PowerPoint Presentation  -  The Sun as a Power House</dc:title>
</cp:coreProperties>
</file>