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4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3DD9-7B34-4B9F-90C1-16AA575A97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r we see but seldom no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tar we see but seldom noti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Journey through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urney from the Sun’s core to the edge of its ‘atmosphere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where its light origin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what the different regions of the Sun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how energy in the core makes it to the light we se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Journey through th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Journey from the Sun’s core to the edge of its ‘atmosphere.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where its light originat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what the different regions of the Sun are lik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how energy in the core makes it to the light we see on Ear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= 20 x density of 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atoms fuse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Helium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 The Co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ensity = 20 x density of Ir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emperature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ydrogen atoms fuse togeth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reate Helium atom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4 H ato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x (1.674 x10-27 kg) = 6.694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He atom:  = 6.646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extra 4.8 x 10-29 kg g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!  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(4.8 x 10-29 kg ) x (3.0 x 108 m/s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hc/l  l = 4.6 x 10-14 m (gamma ray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: 4H  He +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4H  H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ass of 4 H atom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4 x (1.674 x10-27 kg) = 6.694 x 10-27 kg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ass of He atom:  = 6.646 x 10-27 kg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does the extra 4.8 x 10-29 kg go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!  E = mc2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 = (4.8 x 10-29 kg ) x (3.0 x 108 m/s)2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 = hc/l  l = 4.6 x 10-14 m (gamma rays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: 4H  He + light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dia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gion is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emperatures near the core all atoms are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float freely fro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 wave hits atom, no electron to absorb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: Light and atoms don’t inter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assed from core, through this region, and towards surface by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Radia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region is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the temperatures near the core all atoms are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lectrons float freely from nuclei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light wave hits atom, no electron to absorb i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: Light and atoms don’t interac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is passed from core, through this region, and towards surface by radia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vec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gion is totally opaque to lig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r to surface, the temperature is cool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o longer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ound nuclei can absorb light from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ght from core ever reaches the surfa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ere does the energy in the light g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stead makes it to the surface by conv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Convec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region is totally opaque to light.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loser to surface, the temperature is cool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oms are no longer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lectrons around nuclei can absorb light from below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o light from core ever reaches the surfac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where does the energy in the light go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instead makes it to the surface by convec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t of boiling wa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material ri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material sin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from the pot’s hot bottom is physically carried by the convection cells in the water to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for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 pot of boiling water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t material ris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oler material sink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energy from the pot’s hot bottom is physically carried by the convection cells in the water to the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for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ross-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ly smaller convection cells carry the energy toward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ops of these cells as gran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Cross-Sec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gressively smaller convection cells carry the energy towards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tops of these cells as granul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origin of the 5800 K blackbody radiation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photosphere, the density is so low that the gas is again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 convection cell tops radiate energy as a function of their temperature (5800 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= k/T = k/(5800 K)  l = 480 nm (visible l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light we s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’s why we see this as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Phot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is the origin of the 5800 K blackbody radiation we see.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the photosphere, the density is so low that the gas is again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ot convection cell tops radiate energy as a function of their temperature (5800 K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 = k/T = k/(5800 K)  l = 480 nm (visible light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is the light we se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at’s why we see this as the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ve the photosphere,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radiative zone, here atoms not totally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, there are electrons in atoms able to absorb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lines in solar spectrum are from these layers in the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At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bove the photosphere,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nlike radiative zone, here atoms not totally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refore, there are electrons in atoms able to absorb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bsorption lines in solar spectrum are from these layers in the atm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same as inter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seen on Jup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 rest of the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mospheric Composi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same as interio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seen on Jupi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the rest of the Univers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ize the overall properti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different parts of the Sun and how do we know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light we see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ctivity and magnetic fiel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mmarize the overall properties of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are the different parts of the Sun and how do we know this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does the light we see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activity and magnetic field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low 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also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 gas tubes we saw in class and la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below excites the atoms and produces emission from this lay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ominant element – Hydro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st hydrogen line – H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=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low den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also very ho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the gas tubes we saw in class and lab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from below excites the atoms and produces emission from this lay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edominant element – Hydroge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ightest hydrogen line – H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romosphere = colo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and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 from the atmosphere is very faint relative to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olent storms in the Chro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curved promin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hin spic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icules and 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mission from the atmosphere is very faint relative to phot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iolent storms in the Chrom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iant curved promin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ong thin spicul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by Robert Gend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a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 by Robert Gendl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and other magnetic activity carry energy up to the Transition Z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 km abov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climbs to 1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photosphere is only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, low density, gas at this altitude emits the radiation we see as the Coro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icules and other magnetic activity carry energy up to the Transition Zon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0,000 km above phot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emperature climbs to 1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emember photosphere is only 58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ot, low density, gas at this altitude emits the radiation we see as the Coron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X-Ray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: At 1,000,000 K where does a blackbody spectrum have its pea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monitor the Solar Coronasphere in the X-ray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X-Ray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Q: At 1,000,000 K where does a blackbody spectrum have its peak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: X-ray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monitor the Solar Coronasphere in the X-ray spectru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onitor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nd above the coron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is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steam above our boiling pot of water, the gas ‘evaporates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passes out through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 carries away a million tons of Sun’s mass each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0.1% of total Sun’s mass in last 4.6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and above the corona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 is very ho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energeti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ike steam above our boiling pot of water, the gas ‘evaporates’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ind passes out through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 carries away a million tons of Sun’s mass each second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nly 0.1% of total Sun’s mass in last 4.6 billion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Our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n average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un, we base our understanding of all stars in the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Jovian Planets it’s a giant ball of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olid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, Our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 is an average sta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the Sun, we base our understanding of all stars in the Univers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ike Jovian Planets it’s a giant ball of ga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o solid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u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wind passes out through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s of electrons, protons and other charged particles stripped from the Sun’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action with planetary magnetic fields gives rise to the auro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Auror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wind passes out through the Solar Syste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sists of electrons, protons and other charged particles stripped from the Sun’s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action with planetary magnetic fields gives rise to the auror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iv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luminosity is nearly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light fluc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cycle of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Activ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luminosity is nearly consta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slight fluctuation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1-year cycle of activ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solar wind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Auroral displays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disruptions on and around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Cyc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solar wind activ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- Coronal Mass Ejection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Auroral displays on Earth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disruptions on and around Ear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sunspot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– Umbra: 45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 – Penumbra: 55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: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1-year sunspot cycl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nter – Umbra: 45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dge – Penumbra: 55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sphere: 58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ee that Sun doesn’t rotate as a solid bo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or rotates f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fferential rotation leads to complications in the Solar magnetic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see that Sun doesn’t rotate as a solid bod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quator rotates fas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differential rotation leads to complications in the Solar magnetic fiel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kinks, disruption in convection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kinks, disruption in convection cell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 for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ome in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site orientation in North and Sou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ther cycle the magnetic fields swit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 come in pai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posite orientation in North and Sou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 other cycle the magnetic fields switc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 Numb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s around sunspots give rise to th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reas around sunspots give rise to the 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l Stat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100 x Earth (696,000 k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300,000 x Earth (1.99 x 1030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temp = 578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mp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= 4 x 1026 Wa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“Day”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.9 Earth days (equat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8 Earth days (p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ital Statistic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us = 100 x Earth (696,000 k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= 300,000 x Earth (1.99 x 1030 kg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temp = 578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temp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= 4 x 1026 Wat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“Day” =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24.9 Earth days (equator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29.8 Earth days (poles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’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e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s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’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mosphere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ansis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ior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vec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a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ize what happens on the in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omputer programs model the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 predicts what will happen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 model prediction with observations of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Metho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what’s inside the Su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orize what happens on the in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plex computer programs model the theor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odel predicts what will happen on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pare model prediction with observations of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cientific Method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nitoring of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based observa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pacecraft (SOH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of the Sun is ‘ringing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cross the the solar interior and reflect off of the surface (photospher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tinuous monitoring of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round based observatori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ne spacecraft (SOHO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of the Sun is ‘ringing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und waves cross the the solar interior and reflect off of the surface (photosphere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= 20 x density of 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= 10,000 x less dense tha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density =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= 578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ior Properti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= 20 x density of ir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= 10,000 x less dense than ai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density = Jupi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= 578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see the l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solar system reflects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also absorbs light and heats up producing blackbody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: Where does this light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ere does the Sun’s light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 you see the ligh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thing in the solar system reflects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thing also absorbs light and heats up producing blackbody radia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Q: Where does this light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: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where does the Sun’s light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447-E751-4F55-8EF0-0882C1B3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67C-489F-4444-85CD-69F72A12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21F-B1FB-40B6-A0D5-F90DB593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33C-6080-4733-B91E-FDE06B65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321C-AC72-4A03-A180-67C6F7C4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EBCA-8E3C-43B2-A783-0990C366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B681-1248-482C-B887-92807F51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5B57-856C-4ECA-AADB-85D15C3F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5A7A-81A5-4913-A363-B5875B5D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BFF3-9106-4CA5-9304-19E9248A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95A2-DC4E-4577-AD0E-5BAB5FF5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1FAC-3A77-47A9-8361-ED6E5BD8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0CAA-D81A-4EFC-9626-8F7B652C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DC2B-14F2-40BA-AD84-1CE0FB02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474A-AAD9-411C-A452-663402BE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CB51-2166-4998-A900-48FED729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F6F6-EE78-4875-881E-BCF33DF1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075-61BB-4F9C-B874-BA2FC67D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7B4-5EB6-4431-8B93-20B49BDF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46B-3405-4EE6-AA5E-1CDFEC72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DE3-1129-4BD4-B7F3-0C70E657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48F-418E-4969-8048-A8811AB8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E52-89A3-4D4E-A658-F3715FDE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37C-BD24-4482-858C-9B0ACF04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C:\Documents and Settings\Tyler_Nordgren\My Documents\My Pictures\astro images\images\solstice_erupt.jpg"/>
          <p:cNvPicPr/>
          <p:nvPr/>
        </p:nvPicPr>
        <p:blipFill>
          <a:blip r:embed="rId2"/>
          <a:stretch/>
        </p:blipFill>
        <p:spPr>
          <a:xfrm>
            <a:off x="7543800" y="5843520"/>
            <a:ext cx="1600200" cy="101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AA1A-24E3-43E6-9B2C-CB392E46D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3160" y="5943600"/>
            <a:ext cx="95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7A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33" descr="C:\Documents and Settings\Tyler_Nordgren\My Documents\My Pictures\astro images\images\solstice_erupt.jpg"/>
          <p:cNvPicPr/>
          <p:nvPr/>
        </p:nvPicPr>
        <p:blipFill>
          <a:blip r:embed="rId2"/>
          <a:stretch/>
        </p:blipFill>
        <p:spPr>
          <a:xfrm>
            <a:off x="685800" y="628560"/>
            <a:ext cx="8013600" cy="5086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2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7</a:t>
            </a:r>
            <a:r>
              <a:rPr b="1" lang="en-US" sz="4800" spc="-1" strike="noStrike">
                <a:solidFill>
                  <a:srgbClr val="ff3300"/>
                </a:solidFill>
                <a:latin typeface="Palatino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5DEE-A237-432D-BA17-ED1465719B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Palatino"/>
              </a:rPr>
              <a:t>TH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52120" y="350496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Palatino"/>
              </a:rPr>
              <a:t>The star we see but seldom noti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Our Journey through th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Journey from the Sun’s core to the edge of its ‘atmosphere.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where its light originat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what the different regions of the Sun are lik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how energy in the core makes it to the light we see on Eart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3720" y="75960"/>
            <a:ext cx="54100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In The Co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25905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Density = 20 x density of Iro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emperature = 15,000,0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Hydrogen atoms fuse togethe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reate Helium atom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31" name="Picture 4" descr="D:\CHAISSON\BG309\IMAGES\AAAKKUC0.jpg"/>
          <p:cNvPicPr/>
          <p:nvPr/>
        </p:nvPicPr>
        <p:blipFill>
          <a:blip r:embed="rId1"/>
          <a:stretch/>
        </p:blipFill>
        <p:spPr>
          <a:xfrm>
            <a:off x="2666880" y="1523880"/>
            <a:ext cx="6324840" cy="42102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Nuclear Fus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4H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H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mass of 4 H atom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4 x (1.674 x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kg) =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6.694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mass of He atom:  =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6.646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does the extra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4.8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9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o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ENERGY!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 E = m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E = (4.8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9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 ) x (3.0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8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m/s)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2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E = hc/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= 4.6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14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m (gamma rays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: 4H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He + light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Radiation Zon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region is transparent to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 the temperatures near the core all atoms are ionized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lectrons float freely from nuclei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f light wave hits atom, no electron to absorb it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: Light and atoms don’t interac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is passed from core, through this region, and towards surface by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radiation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Convection Zon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region is totally opaque to light.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loser to surface, the temperature is cooler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oms are no longer ionized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lectrons around nuclei can absorb light from below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No light from core ever reaches the surface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ut where does the energy in the light go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instead makes it to the surface by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convection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onvec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A pot of boiling water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t material ris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oler material sink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energy from the pot’s hot bottom is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physically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carried by the convection cells in the water to the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"/>
              </a:rPr>
              <a:t>Same for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Cross-Sec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57240" y="388620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ogressively smaller convection cells carry the energy towards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tops of these cells as granul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47" name="Picture 4" descr="D:\CHAISSON\BG309\IMAGES\AAAKKTIO.GIF"/>
          <p:cNvPicPr/>
          <p:nvPr/>
        </p:nvPicPr>
        <p:blipFill>
          <a:blip r:embed="rId1"/>
          <a:stretch/>
        </p:blipFill>
        <p:spPr>
          <a:xfrm>
            <a:off x="380880" y="990720"/>
            <a:ext cx="6553440" cy="2530440"/>
          </a:xfrm>
          <a:prstGeom prst="rect">
            <a:avLst/>
          </a:prstGeom>
          <a:ln w="0">
            <a:noFill/>
          </a:ln>
        </p:spPr>
      </p:pic>
      <p:pic>
        <p:nvPicPr>
          <p:cNvPr id="148" name="gr20M_22_50_3.mpeg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Phot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is the origin of the 5800 K blackbody radiation we see.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 the photosphere, the density is so low that the gas is again transparent to light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hot convection cell tops radiate energy as a function of their temperature (5800 K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= k/T = k/(5800 K) </a:t>
            </a:r>
            <a:r>
              <a:rPr b="0" lang="en-US" sz="28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= 480 nm (visible light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is the light we se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at’s why we see this as the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olar Atm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bove the photosphere, transparent to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nlike radiative zone, here atoms not totally ionized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refore, there are electrons in atoms able to absorb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bsorption lines in solar spectrum are from these layers in the atm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5" name="Picture 4" descr="C:\Documents and Settings\Tyler_Nordgren\My Documents\My Pictures\astro images\images\solarspectrum_noao.jp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Atmospheric Composi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562360" y="1752120"/>
            <a:ext cx="2895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obably same as interio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seen on Jupi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the rest of the Univers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9" name="Picture 4" descr="D:\CHAISSON\BG309\HTML\Table0902\Table0902.GIF"/>
          <p:cNvPicPr/>
          <p:nvPr/>
        </p:nvPicPr>
        <p:blipFill>
          <a:blip r:embed="rId1"/>
          <a:stretch/>
        </p:blipFill>
        <p:spPr>
          <a:xfrm>
            <a:off x="609480" y="1752480"/>
            <a:ext cx="4800600" cy="43070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mmarize the overall properties of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are the different parts of the Sun and how do we know this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does the light we see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activity and magnetic field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Chrom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00040" y="14475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low density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ut also very ho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the gas tubes we saw in class and lab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from below excites the atoms and produces emission from this lay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edominant element – Hydroge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rightest hydrogen line – </a:t>
            </a:r>
            <a:r>
              <a:rPr b="1" lang="en-US" sz="2800" spc="-1" strike="noStrike">
                <a:solidFill>
                  <a:srgbClr val="ff3300"/>
                </a:solidFill>
                <a:latin typeface="Palatino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hromosphere = colo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3" name="Picture 4" descr="C:\Documents and Settings\Tyler_Nordgren\My Documents\My Pictures\astro images\Sun\augeclipse_limb_bob_yen.jpg"/>
          <p:cNvPicPr/>
          <p:nvPr/>
        </p:nvPicPr>
        <p:blipFill>
          <a:blip r:embed="rId1"/>
          <a:stretch/>
        </p:blipFill>
        <p:spPr>
          <a:xfrm>
            <a:off x="152280" y="1752480"/>
            <a:ext cx="2921040" cy="43434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38120" y="304560"/>
            <a:ext cx="44197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picules and Prominenc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38120" y="2209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mission from the atmosphere is very faint relative to phot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iolent storms in the Chrom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iant curved prominanc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ong thin spicul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09\IMAGES\AAAKKTM0.jpg"/>
          <p:cNvPicPr/>
          <p:nvPr/>
        </p:nvPicPr>
        <p:blipFill>
          <a:blip r:embed="rId1"/>
          <a:stretch/>
        </p:blipFill>
        <p:spPr>
          <a:xfrm>
            <a:off x="152280" y="228600"/>
            <a:ext cx="3657600" cy="3809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D:\CHAISSON\BG309\IMAGES\AAAKKTN0.jpg"/>
          <p:cNvPicPr/>
          <p:nvPr/>
        </p:nvPicPr>
        <p:blipFill>
          <a:blip r:embed="rId2"/>
          <a:stretch/>
        </p:blipFill>
        <p:spPr>
          <a:xfrm>
            <a:off x="152280" y="3581280"/>
            <a:ext cx="2221200" cy="32767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Prominenc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pic>
        <p:nvPicPr>
          <p:cNvPr id="171" name="Picture 6" descr="D:\CHAISSON\BG309\IMAGES\AAAKKTY0b.jpg"/>
          <p:cNvPicPr/>
          <p:nvPr/>
        </p:nvPicPr>
        <p:blipFill>
          <a:blip r:embed="rId1"/>
          <a:stretch/>
        </p:blipFill>
        <p:spPr>
          <a:xfrm>
            <a:off x="228600" y="1523880"/>
            <a:ext cx="4876920" cy="4584960"/>
          </a:xfrm>
          <a:prstGeom prst="rect">
            <a:avLst/>
          </a:prstGeom>
          <a:ln w="0">
            <a:noFill/>
          </a:ln>
        </p:spPr>
      </p:pic>
      <p:pic>
        <p:nvPicPr>
          <p:cNvPr id="172" name="promerupt495.mpeg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Documents and Settings\Tyler_Nordgren\My Documents\My Pictures\astro images\Sun\Sun_and_earth.jpg"/>
          <p:cNvPicPr/>
          <p:nvPr/>
        </p:nvPicPr>
        <p:blipFill>
          <a:blip r:embed="rId1"/>
          <a:stretch/>
        </p:blipFill>
        <p:spPr>
          <a:xfrm>
            <a:off x="609480" y="114480"/>
            <a:ext cx="6705720" cy="65912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Documents and Settings\Tyler_Nordgren\My Documents\My Pictures\astro images\Sun\sunhalpha_robert_gendler.jpg"/>
          <p:cNvPicPr/>
          <p:nvPr/>
        </p:nvPicPr>
        <p:blipFill>
          <a:blip r:embed="rId1"/>
          <a:stretch/>
        </p:blipFill>
        <p:spPr>
          <a:xfrm>
            <a:off x="152280" y="165240"/>
            <a:ext cx="7772400" cy="6257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4640" y="228600"/>
            <a:ext cx="2133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H</a:t>
            </a:r>
            <a:r>
              <a:rPr b="1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3840" y="632448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Palatino"/>
              </a:rPr>
              <a:t>Photo by Robert Gendler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orona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picules and other magnetic activity carry energy up to the Transition Zon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0,000 km above phot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emperature climbs to 1,000,0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emember photosphere is only 58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hot, low density, gas at this altitude emits the radiation we see as the Corona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C:\My Documents\tyler\images\corona99_espanek_big.jpg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558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:\Documents and Settings\Tyler_Nordgren\My Documents\My Pictures\astro images\Sun\tse2001cmp_espenak_c1.jpg"/>
          <p:cNvPicPr/>
          <p:nvPr/>
        </p:nvPicPr>
        <p:blipFill>
          <a:blip r:embed="rId2"/>
          <a:stretch/>
        </p:blipFill>
        <p:spPr>
          <a:xfrm>
            <a:off x="380880" y="177840"/>
            <a:ext cx="8382240" cy="55926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86040" y="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X-Ray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Q: At 1,000,000 K where does a blackbody spectrum have its peak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: X-ray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an monitor the Solar Coronasphere in the X-ray spectrum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Monitor Coronal Ho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8" name="Picture 4" descr="D:\CHAISSON\BG309\IMAGES\AABSHBW0.jpg"/>
          <p:cNvPicPr/>
          <p:nvPr/>
        </p:nvPicPr>
        <p:blipFill>
          <a:blip r:embed="rId1"/>
          <a:stretch/>
        </p:blipFill>
        <p:spPr>
          <a:xfrm>
            <a:off x="76320" y="0"/>
            <a:ext cx="5371920" cy="67532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C:\Documents and Settings\Tyler_Nordgren\My Documents\My Pictures\astro images\Sun\latest_mdi_igram.gif"/>
          <p:cNvPicPr/>
          <p:nvPr/>
        </p:nvPicPr>
        <p:blipFill>
          <a:blip r:embed="rId1"/>
          <a:stretch/>
        </p:blipFill>
        <p:spPr>
          <a:xfrm>
            <a:off x="1752480" y="1219320"/>
            <a:ext cx="4632480" cy="4632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Tyler_Nordgren\My Documents\My Pictures\astro images\Sun\latest_eit_heII.gif"/>
          <p:cNvPicPr/>
          <p:nvPr/>
        </p:nvPicPr>
        <p:blipFill>
          <a:blip r:embed="rId2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Tyler_Nordgren\My Documents\My Pictures\astro images\Sun\latest_eit_feX.gif"/>
          <p:cNvPicPr/>
          <p:nvPr/>
        </p:nvPicPr>
        <p:blipFill>
          <a:blip r:embed="rId3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C:\Documents and Settings\Tyler_Nordgren\My Documents\My Pictures\astro images\Sun\latest_eit_feXV.gif"/>
          <p:cNvPicPr/>
          <p:nvPr/>
        </p:nvPicPr>
        <p:blipFill>
          <a:blip r:embed="rId4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C:\Documents and Settings\Tyler_Nordgren\My Documents\My Pictures\astro images\Sun\latest_sxt_xray.gif"/>
          <p:cNvPicPr/>
          <p:nvPr/>
        </p:nvPicPr>
        <p:blipFill>
          <a:blip r:embed="rId5"/>
          <a:srcRect l="0" t="0" r="0" b="9094"/>
          <a:stretch/>
        </p:blipFill>
        <p:spPr>
          <a:xfrm>
            <a:off x="1143000" y="990720"/>
            <a:ext cx="5867280" cy="533376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Wind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 and above the corona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 is very ho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energetic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ike steam above our boiling pot of water, the gas ‘evaporates’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ind passes out through Coronal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Wind carries away a million tons of Sun’s mass each second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nly 0.1% of total Sun’s mass in last 4.6 billion ye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un, Our Star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Sun is an average sta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the Sun, we base our understanding of all stars in the Univers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ike Jovian Planets it’s a giant ball of ga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No solid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Aurora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solar wind passes out through the Solar System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nsists of electrons, protons and other charged particles stripped from the Sun’s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nteraction with planetary magnetic fields gives rise to the aurora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01" name="Picture 4" descr="C:\Documents and Settings\Julie_Rathbun\My Documents\My Pictures\alaska aurora.jpg"/>
          <p:cNvPicPr/>
          <p:nvPr/>
        </p:nvPicPr>
        <p:blipFill>
          <a:blip r:embed="rId1"/>
          <a:stretch/>
        </p:blipFill>
        <p:spPr>
          <a:xfrm>
            <a:off x="4419720" y="152280"/>
            <a:ext cx="4572000" cy="3063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C:\Documents and Settings\Julie_Rathbun\My Documents\My Pictures\jupiter aurorae.jpg"/>
          <p:cNvPicPr/>
          <p:nvPr/>
        </p:nvPicPr>
        <p:blipFill>
          <a:blip r:embed="rId2"/>
          <a:srcRect l="3510" t="10926" r="1753" b="13654"/>
          <a:stretch/>
        </p:blipFill>
        <p:spPr>
          <a:xfrm>
            <a:off x="4648320" y="3505320"/>
            <a:ext cx="4343400" cy="222228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Activ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luminosity is nearly consta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slight fluctuation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1-year cycle of activ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06" name="Picture 5" descr="C:\Documents and Settings\Tyler_Nordgren\My Documents\My Pictures\astro images\Sun\sunuv.gif"/>
          <p:cNvPicPr/>
          <p:nvPr/>
        </p:nvPicPr>
        <p:blipFill>
          <a:blip r:embed="rId1"/>
          <a:stretch/>
        </p:blipFill>
        <p:spPr>
          <a:xfrm>
            <a:off x="380880" y="2971800"/>
            <a:ext cx="8382240" cy="28414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Cycl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Coronal ho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solar wind activ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- Coronal Mass Ejections</a:t>
            </a:r>
            <a:endParaRPr b="0" lang="en-US" sz="20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Auroral displays on Earth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disruptions on and around Earth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10" name="Picture 4" descr="C:\Documents and Settings\Tyler_Nordgren\My Documents\My Pictures\astro images\Sun\solarmaximum.jpg"/>
          <p:cNvPicPr/>
          <p:nvPr/>
        </p:nvPicPr>
        <p:blipFill>
          <a:blip r:embed="rId1"/>
          <a:stretch/>
        </p:blipFill>
        <p:spPr>
          <a:xfrm>
            <a:off x="152280" y="3505320"/>
            <a:ext cx="6858000" cy="31510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24280" y="6854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52280" y="228600"/>
            <a:ext cx="8991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1-year sunspot cycle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enter – Umbra: 45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dge – Penumbra: 55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hotosphere: 58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214" name="Picture 11" descr="D:\CHAISSON\BG309\IMAGES\AAAKKTR0.jpg"/>
          <p:cNvPicPr/>
          <p:nvPr/>
        </p:nvPicPr>
        <p:blipFill>
          <a:blip r:embed="rId1"/>
          <a:stretch/>
        </p:blipFill>
        <p:spPr>
          <a:xfrm>
            <a:off x="228600" y="2438280"/>
            <a:ext cx="6426360" cy="42166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019560" y="838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see that Sun doesn’t rotate as a solid bod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quator rotates fas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differential rotation leads to complications in the Solar magnetic field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17" name="Picture 6" descr="C:\Documents and Settings\Tyler_Nordgren\My Documents\My Pictures\astro images\Sun\sunspots_mdi.jpg"/>
          <p:cNvPicPr/>
          <p:nvPr/>
        </p:nvPicPr>
        <p:blipFill>
          <a:blip r:embed="rId1"/>
          <a:stretch/>
        </p:blipFill>
        <p:spPr>
          <a:xfrm>
            <a:off x="152280" y="533520"/>
            <a:ext cx="5854680" cy="58546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Magnetic fields and 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 kinks, disruption in convection cell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nspots form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21" name="Picture 6" descr="D:\CHAISSON\BG309\IMAGES\AABSKTO0.jpg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41623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Magnetic fields and 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2200" y="16002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nspots come in pai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posite orientation in North and Sout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 other cycle the magnetic fields switc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25" name="Picture 4" descr="D:\CHAISSON\BG309\IMAGES\AAAKKTU0.jpg"/>
          <p:cNvPicPr/>
          <p:nvPr/>
        </p:nvPicPr>
        <p:blipFill>
          <a:blip r:embed="rId1"/>
          <a:stretch/>
        </p:blipFill>
        <p:spPr>
          <a:xfrm>
            <a:off x="304920" y="1371600"/>
            <a:ext cx="5790960" cy="513864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unspot Number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pic>
        <p:nvPicPr>
          <p:cNvPr id="228" name="Picture 3" descr="D:\CHAISSON\BG309\IMAGES\AAAKKTW0.jpg"/>
          <p:cNvPicPr/>
          <p:nvPr/>
        </p:nvPicPr>
        <p:blipFill>
          <a:blip r:embed="rId1"/>
          <a:stretch/>
        </p:blipFill>
        <p:spPr>
          <a:xfrm>
            <a:off x="1371600" y="2209680"/>
            <a:ext cx="7581960" cy="4457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D:\CHAISSON\BG309\IMAGES\AAAKKTX0.jpg"/>
          <p:cNvPicPr/>
          <p:nvPr/>
        </p:nvPicPr>
        <p:blipFill>
          <a:blip r:embed="rId2"/>
          <a:stretch/>
        </p:blipFill>
        <p:spPr>
          <a:xfrm>
            <a:off x="152280" y="1066680"/>
            <a:ext cx="515628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Active Region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reas around sunspots give rise to the prominenc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33" name="Picture 4" descr="D:\CHAISSON\BG309\IMAGES\AAAKKTY0a.jpg"/>
          <p:cNvPicPr/>
          <p:nvPr/>
        </p:nvPicPr>
        <p:blipFill>
          <a:blip r:embed="rId1"/>
          <a:stretch/>
        </p:blipFill>
        <p:spPr>
          <a:xfrm>
            <a:off x="5181480" y="2209680"/>
            <a:ext cx="3886200" cy="3368880"/>
          </a:xfrm>
          <a:prstGeom prst="rect">
            <a:avLst/>
          </a:prstGeom>
          <a:ln w="0">
            <a:noFill/>
          </a:ln>
        </p:spPr>
      </p:pic>
      <p:pic>
        <p:nvPicPr>
          <p:cNvPr id="234" name="eit_20000226_erupt_195.mpeg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Vital Statistic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Radius = 100 x Earth (696,000 km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= 300,000 x Earth (1.99 x 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30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kg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temp = 578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temp = 15,000,00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uminosity = 4 x 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26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Watt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“Day” =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24.9 Earth days (equator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29.8 Earth days (poles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tructu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’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hotosphe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mosphere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hromosphe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ransis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rona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olar win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nterior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vec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adia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07" name="Picture 5" descr="D:\CHAISSON\BG309\IMAGES\AAAKKTE0.JPG"/>
          <p:cNvPicPr/>
          <p:nvPr/>
        </p:nvPicPr>
        <p:blipFill>
          <a:blip r:embed="rId1"/>
          <a:srcRect l="0" t="0" r="0" b="8166"/>
          <a:stretch/>
        </p:blipFill>
        <p:spPr>
          <a:xfrm>
            <a:off x="3886200" y="609480"/>
            <a:ext cx="5105520" cy="492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D:\CHAISSON\BG309\IMAGES\AAAKKTF0.jpg"/>
          <p:cNvPicPr/>
          <p:nvPr/>
        </p:nvPicPr>
        <p:blipFill>
          <a:blip r:embed="rId2"/>
          <a:srcRect l="0" t="2128" r="2138" b="0"/>
          <a:stretch/>
        </p:blipFill>
        <p:spPr>
          <a:xfrm>
            <a:off x="3886200" y="609480"/>
            <a:ext cx="5105520" cy="49705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D:\CHAISSON\BG301\HTML\IN0101\AAAKKLJ0.jpg"/>
          <p:cNvPicPr/>
          <p:nvPr/>
        </p:nvPicPr>
        <p:blipFill>
          <a:blip r:embed="rId1">
            <a:lum contrast="-84000"/>
          </a:blip>
          <a:stretch/>
        </p:blipFill>
        <p:spPr>
          <a:xfrm>
            <a:off x="380880" y="1143000"/>
            <a:ext cx="7162920" cy="5500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olar Interior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what’s inside the Su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serve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orize what happens on the in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plex computer programs model the theor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odel predicts what will happen on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pare model prediction with observations of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"/>
              </a:rPr>
              <a:t>Scientific Method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Helioseismology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ntinuous monitoring of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round based observatori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ne spacecraft (SOHO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of the Sun is ‘ringing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und waves cross the the solar interior and reflect off of the surface (photosphere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16" name="Picture 4" descr="D:\CHAISSON\BG305\IMAGES\AAAKKLQ0.jpg"/>
          <p:cNvPicPr/>
          <p:nvPr/>
        </p:nvPicPr>
        <p:blipFill>
          <a:blip r:embed="rId1"/>
          <a:srcRect l="1717" t="3397" r="4001" b="707"/>
          <a:stretch/>
        </p:blipFill>
        <p:spPr>
          <a:xfrm>
            <a:off x="4876920" y="1371600"/>
            <a:ext cx="4190760" cy="4299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CHAISSON\BG309\IMAGES\AAADHPV0.jpg"/>
          <p:cNvPicPr/>
          <p:nvPr/>
        </p:nvPicPr>
        <p:blipFill>
          <a:blip r:embed="rId2"/>
          <a:srcRect l="1822" t="1817" r="1822" b="1817"/>
          <a:stretch/>
        </p:blipFill>
        <p:spPr>
          <a:xfrm>
            <a:off x="4800600" y="1371600"/>
            <a:ext cx="4343400" cy="42670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86200" y="5331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Interior Properti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= 20 x density of iro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= 10,000 x less dense than ai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verage density = Jupite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= 15,000,00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= 578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1" name="Picture 4" descr="D:\CHAISSON\BG309\IMAGES\AAAKKTH0.jpg"/>
          <p:cNvPicPr/>
          <p:nvPr/>
        </p:nvPicPr>
        <p:blipFill>
          <a:blip r:embed="rId1"/>
          <a:stretch/>
        </p:blipFill>
        <p:spPr>
          <a:xfrm>
            <a:off x="0" y="0"/>
            <a:ext cx="38210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Do you see the light?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thing in the solar system reflects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thing also absorbs light and heats up producing blackbody radiatio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Q: Where does this light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: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But where does the Sun’s light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7-01-26T10:31:01Z</dcterms:modified>
  <cp:revision>154</cp:revision>
  <dc:subject/>
  <dc:title>PowerPoint Presentation</dc:title>
</cp:coreProperties>
</file>