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DE61-0EF9-4CC1-A71F-C94B84AE08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7AB-27F2-476D-AED9-AA05B50C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B9B-933B-4471-A4F9-65E27C30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E07-195A-4A21-BA4A-1269565E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24C-3F54-4201-AAB1-3A4D917D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3D09-0CEE-4152-873E-BED7373A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5026-57D0-4D07-808A-585EF96D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B283-75D0-4B01-AD06-CD3D7E35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F798-1B47-4412-A380-8BCFF995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3EC6-9C4D-4D5C-98BA-3F798DB4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5EE4-DC36-4F61-BABE-44299BBF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CC2C-3F3B-4BC3-85E7-3E5E6CA0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5A5-975F-466C-AEDD-F9E58F3A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E27D-C227-4BD6-BC14-3E6E4585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8965-F768-45CB-B750-7DC77778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9AD8-2384-4D66-9A5A-371E0305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D5A3-7FF2-4EB6-A507-1FD6560E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C261-0A77-47F5-95D5-0ACF8EFD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9C1-E064-4A16-891E-4112DB97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667-F513-456B-BC0F-60E23803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8D9-AFDD-4796-933C-31434D38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30C-1574-42CB-837E-BD216CFD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3BC-1649-440D-9E32-A0F0980A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472-53B2-46F4-98D6-F4FEFDD4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967-4F22-490F-BD80-43C9A937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7543800" y="5843520"/>
            <a:ext cx="1600200" cy="101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0DC2-C66A-4BA7-AFB8-E47B5B9AA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3160" y="5943600"/>
            <a:ext cx="95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3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685800" y="628560"/>
            <a:ext cx="8013600" cy="5086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2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</a:t>
            </a:r>
            <a:r>
              <a:rPr b="1" lang="en-US" sz="4800" spc="-1" strike="noStrike">
                <a:solidFill>
                  <a:srgbClr val="ff3300"/>
                </a:solidFill>
                <a:latin typeface="Palatino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ED17-FEE1-46C9-82D3-52BD56D8C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Palatino"/>
              </a:rPr>
              <a:t>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52120" y="350496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Palatino"/>
              </a:rPr>
              <a:t>The star we see but seldom noti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Our Journey through 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Journey from the Sun’s core to the edge of its ‘atmosphere.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ere its light originat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at the different regions of the Sun are lik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how energy in the core makes it to the light we see on Ear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54100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 The Co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2590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Density = 20 x density of Iro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= 15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Hydrogen atoms fuse togethe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reate Helium atom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31" name="Picture 4" descr="D:\CHAISSON\BG309\IMAGES\AAAKKUC0.jpg"/>
          <p:cNvPicPr/>
          <p:nvPr/>
        </p:nvPicPr>
        <p:blipFill>
          <a:blip r:embed="rId1"/>
          <a:stretch/>
        </p:blipFill>
        <p:spPr>
          <a:xfrm>
            <a:off x="2666880" y="1523880"/>
            <a:ext cx="6324840" cy="4210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Nuclear Fus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4 H atom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 x (1.674 x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94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He atom: 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4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extra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ENERGY!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 E = m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(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 ) x (3.0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8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/s)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2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hc/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.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14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 (gamma rays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 + light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Radia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temperatures near the core all atoms are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float freely from nuclei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f light wave hits atom, no electron to absorb i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Light and atoms don’t interac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s passed from core, through this region, and towards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radia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onvec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otally opaque to light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loser to surface, the temperature is cooler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oms are no longer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around nuclei can absorb light from below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No light from core ever reaches the surface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where does the energy in the light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nstead makes it to the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convec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nv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A pot of boiling water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t material ris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oler material sink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energy from the pot’s hot bottom is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physically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carried by the convection cells in the water to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ame for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ross-S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57240" y="388620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gressively smaller convection cells carry the energy toward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tops of these cells as gran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47" name="Picture 4" descr="D:\CHAISSON\BG309\IMAGES\AAAKKTIO.GIF"/>
          <p:cNvPicPr/>
          <p:nvPr/>
        </p:nvPicPr>
        <p:blipFill>
          <a:blip r:embed="rId1"/>
          <a:stretch/>
        </p:blipFill>
        <p:spPr>
          <a:xfrm>
            <a:off x="380880" y="990720"/>
            <a:ext cx="6553440" cy="2530440"/>
          </a:xfrm>
          <a:prstGeom prst="rect">
            <a:avLst/>
          </a:prstGeom>
          <a:ln w="0">
            <a:noFill/>
          </a:ln>
        </p:spPr>
      </p:pic>
      <p:pic>
        <p:nvPicPr>
          <p:cNvPr id="148" name="gr20M_22_50_3.mpeg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Phot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origin of the 5800 K blackbody radiation we see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= k/T = k/(5800 K)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80 nm (visible light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light we se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at’s why we see this as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At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ove the photosphere,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nlike radiative zone, here atoms not totally ionize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refore, there are electrons in atoms able to absorb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sorption lines in solar spectrum are from these layers in the at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5" name="Picture 4" descr="C:\Documents and Settings\Tyler_Nordgren\My Documents\My Pictures\astro images\images\solarspectrum_noao.jp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tmospheric Composi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62360" y="1752120"/>
            <a:ext cx="2895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bably same as interio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seen on Jupi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rest of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9" name="Picture 4" descr="D:\CHAISSON\BG309\HTML\Table0902\Table0902.GIF"/>
          <p:cNvPicPr/>
          <p:nvPr/>
        </p:nvPicPr>
        <p:blipFill>
          <a:blip r:embed="rId1"/>
          <a:stretch/>
        </p:blipFill>
        <p:spPr>
          <a:xfrm>
            <a:off x="609480" y="1752480"/>
            <a:ext cx="4800600" cy="4307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mmarize the overall properties of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are the different parts of the Sun and how do we know this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light we see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activity and magnetic field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hro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00040" y="14475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low density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also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gas tubes we saw in class and lab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from below excites the atoms and produces emission from this lay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edominant element – Hydroge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rightest hydrogen line – </a:t>
            </a:r>
            <a:r>
              <a:rPr b="1" lang="en-US" sz="28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hromosphere = colo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3" name="Picture 4" descr="C:\Documents and Settings\Tyler_Nordgren\My Documents\My Pictures\astro images\Sun\augeclipse_limb_bob_yen.jpg"/>
          <p:cNvPicPr/>
          <p:nvPr/>
        </p:nvPicPr>
        <p:blipFill>
          <a:blip r:embed="rId1"/>
          <a:stretch/>
        </p:blipFill>
        <p:spPr>
          <a:xfrm>
            <a:off x="152280" y="1752480"/>
            <a:ext cx="2921040" cy="43434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38120" y="304560"/>
            <a:ext cx="4419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picules and 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38120" y="2209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mission from the atmosphere is very faint relative to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iolent storms in the Chro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iant curved promina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ong thin spic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09\IMAGES\AAAKKTM0.jpg"/>
          <p:cNvPicPr/>
          <p:nvPr/>
        </p:nvPicPr>
        <p:blipFill>
          <a:blip r:embed="rId1"/>
          <a:stretch/>
        </p:blipFill>
        <p:spPr>
          <a:xfrm>
            <a:off x="152280" y="228600"/>
            <a:ext cx="3657600" cy="3809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CHAISSON\BG309\IMAGES\AAAKKTN0.jpg"/>
          <p:cNvPicPr/>
          <p:nvPr/>
        </p:nvPicPr>
        <p:blipFill>
          <a:blip r:embed="rId2"/>
          <a:stretch/>
        </p:blipFill>
        <p:spPr>
          <a:xfrm>
            <a:off x="152280" y="3581280"/>
            <a:ext cx="2221200" cy="32767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171" name="Picture 6" descr="D:\CHAISSON\BG309\IMAGES\AAAKKTY0b.jpg"/>
          <p:cNvPicPr/>
          <p:nvPr/>
        </p:nvPicPr>
        <p:blipFill>
          <a:blip r:embed="rId1"/>
          <a:stretch/>
        </p:blipFill>
        <p:spPr>
          <a:xfrm>
            <a:off x="228600" y="1523880"/>
            <a:ext cx="4876920" cy="4584960"/>
          </a:xfrm>
          <a:prstGeom prst="rect">
            <a:avLst/>
          </a:prstGeom>
          <a:ln w="0">
            <a:noFill/>
          </a:ln>
        </p:spPr>
      </p:pic>
      <p:pic>
        <p:nvPicPr>
          <p:cNvPr id="172" name="promerupt495.mpeg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Tyler_Nordgren\My Documents\My Pictures\astro images\Sun\Sun_and_earth.jpg"/>
          <p:cNvPicPr/>
          <p:nvPr/>
        </p:nvPicPr>
        <p:blipFill>
          <a:blip r:embed="rId1"/>
          <a:stretch/>
        </p:blipFill>
        <p:spPr>
          <a:xfrm>
            <a:off x="609480" y="114480"/>
            <a:ext cx="6705720" cy="6591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Tyler_Nordgren\My Documents\My Pictures\astro images\Sun\sunhalpha_robert_gendler.jpg"/>
          <p:cNvPicPr/>
          <p:nvPr/>
        </p:nvPicPr>
        <p:blipFill>
          <a:blip r:embed="rId1"/>
          <a:stretch/>
        </p:blipFill>
        <p:spPr>
          <a:xfrm>
            <a:off x="152280" y="165240"/>
            <a:ext cx="7772400" cy="6257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4640" y="228600"/>
            <a:ext cx="2133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3840" y="632448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Palatino"/>
              </a:rPr>
              <a:t>Photo by Robert Gendler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ron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picules and other magnetic activity carry energy up to the Transition Zon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0,000 km above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climbs to 1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emember photosphere is only 58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:\My Documents\tyler\images\corona99_espanek_big.jpg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558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Documents and Settings\Tyler_Nordgren\My Documents\My Pictures\astro images\Sun\tse2001cmp_espenak_c1.jpg"/>
          <p:cNvPicPr/>
          <p:nvPr/>
        </p:nvPicPr>
        <p:blipFill>
          <a:blip r:embed="rId2"/>
          <a:stretch/>
        </p:blipFill>
        <p:spPr>
          <a:xfrm>
            <a:off x="380880" y="177840"/>
            <a:ext cx="8382240" cy="55926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86040" y="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X-Ray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Q: At 1,000,000 K where does a blackbody spectrum have its peak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: X-ray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an monitor the Solar Coronasphere in the X-ray spectrum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Monitor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8" name="Picture 4" descr="D:\CHAISSON\BG309\IMAGES\AABSHBW0.jpg"/>
          <p:cNvPicPr/>
          <p:nvPr/>
        </p:nvPicPr>
        <p:blipFill>
          <a:blip r:embed="rId1"/>
          <a:stretch/>
        </p:blipFill>
        <p:spPr>
          <a:xfrm>
            <a:off x="76320" y="0"/>
            <a:ext cx="5371920" cy="67532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C:\Documents and Settings\Tyler_Nordgren\My Documents\My Pictures\astro images\Sun\latest_mdi_igram.gif"/>
          <p:cNvPicPr/>
          <p:nvPr/>
        </p:nvPicPr>
        <p:blipFill>
          <a:blip r:embed="rId1"/>
          <a:stretch/>
        </p:blipFill>
        <p:spPr>
          <a:xfrm>
            <a:off x="1752480" y="1219320"/>
            <a:ext cx="4632480" cy="4632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Tyler_Nordgren\My Documents\My Pictures\astro images\Sun\latest_eit_heII.gif"/>
          <p:cNvPicPr/>
          <p:nvPr/>
        </p:nvPicPr>
        <p:blipFill>
          <a:blip r:embed="rId2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Tyler_Nordgren\My Documents\My Pictures\astro images\Sun\latest_eit_feX.gif"/>
          <p:cNvPicPr/>
          <p:nvPr/>
        </p:nvPicPr>
        <p:blipFill>
          <a:blip r:embed="rId3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:\Documents and Settings\Tyler_Nordgren\My Documents\My Pictures\astro images\Sun\latest_eit_feXV.gif"/>
          <p:cNvPicPr/>
          <p:nvPr/>
        </p:nvPicPr>
        <p:blipFill>
          <a:blip r:embed="rId4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:\Documents and Settings\Tyler_Nordgren\My Documents\My Pictures\astro images\Sun\latest_sxt_xray.gif"/>
          <p:cNvPicPr/>
          <p:nvPr/>
        </p:nvPicPr>
        <p:blipFill>
          <a:blip r:embed="rId5"/>
          <a:srcRect l="0" t="0" r="0" b="9094"/>
          <a:stretch/>
        </p:blipFill>
        <p:spPr>
          <a:xfrm>
            <a:off x="1143000" y="990720"/>
            <a:ext cx="5867280" cy="533376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Wind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and above the corona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 is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energetic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steam above our boiling pot of water, the gas ‘evaporates’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ind passes out through Coronal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Wind carries away a million tons of Sun’s mass each secon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nly 0.1% of total Sun’s mass in last 4.6 billion ye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un, Our Sta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un is an average sta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the Sun, we base our understanding of all stars in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Jovian Planets it’s a giant ball of ga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No solid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uror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olar wind passes out through the Solar Syste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action with planetary magnetic fields gives rise to the auror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1" name="Picture 4" descr="C:\Documents and Settings\Julie_Rathbun\My Documents\My Pictures\alaska aurora.jpg"/>
          <p:cNvPicPr/>
          <p:nvPr/>
        </p:nvPicPr>
        <p:blipFill>
          <a:blip r:embed="rId1"/>
          <a:stretch/>
        </p:blipFill>
        <p:spPr>
          <a:xfrm>
            <a:off x="4419720" y="152280"/>
            <a:ext cx="4572000" cy="3063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Julie_Rathbun\My Documents\My Pictures\jupiter aurorae.jpg"/>
          <p:cNvPicPr/>
          <p:nvPr/>
        </p:nvPicPr>
        <p:blipFill>
          <a:blip r:embed="rId2"/>
          <a:srcRect l="3510" t="10926" r="1753" b="13654"/>
          <a:stretch/>
        </p:blipFill>
        <p:spPr>
          <a:xfrm>
            <a:off x="4648320" y="3505320"/>
            <a:ext cx="4343400" cy="22222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ctiv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luminosity is nearly consta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slight fluctuation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cycle of activ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6" name="Picture 5" descr="C:\Documents and Settings\Tyler_Nordgren\My Documents\My Pictures\astro images\Sun\sunuv.gif"/>
          <p:cNvPicPr/>
          <p:nvPr/>
        </p:nvPicPr>
        <p:blipFill>
          <a:blip r:embed="rId1"/>
          <a:stretch/>
        </p:blipFill>
        <p:spPr>
          <a:xfrm>
            <a:off x="380880" y="2971800"/>
            <a:ext cx="8382240" cy="28414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ycl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solar wind activ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- Coronal Mass Ejections</a:t>
            </a: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Auroral displays on Earth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disruptions on and around Earth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0" name="Picture 4" descr="C:\Documents and Settings\Tyler_Nordgren\My Documents\My Pictures\astro images\Sun\solarmaximum.jpg"/>
          <p:cNvPicPr/>
          <p:nvPr/>
        </p:nvPicPr>
        <p:blipFill>
          <a:blip r:embed="rId1"/>
          <a:stretch/>
        </p:blipFill>
        <p:spPr>
          <a:xfrm>
            <a:off x="152280" y="3505320"/>
            <a:ext cx="6858000" cy="31510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24280" y="6854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52280" y="228600"/>
            <a:ext cx="8991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sunspot cycle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enter – Umbra: 4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dge – Penumbra: 5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hotosphere: 58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14" name="Picture 11" descr="D:\CHAISSON\BG309\IMAGES\AAAKKTR0.jpg"/>
          <p:cNvPicPr/>
          <p:nvPr/>
        </p:nvPicPr>
        <p:blipFill>
          <a:blip r:embed="rId1"/>
          <a:stretch/>
        </p:blipFill>
        <p:spPr>
          <a:xfrm>
            <a:off x="228600" y="2438280"/>
            <a:ext cx="6426360" cy="42166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19560" y="838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see that Sun doesn’t rotate as a solid bod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quator rotates fas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differential rotation leads to complications in the Solar magnetic fiel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7" name="Picture 6" descr="C:\Documents and Settings\Tyler_Nordgren\My Documents\My Pictures\astro images\Sun\sunspots_mdi.jpg"/>
          <p:cNvPicPr/>
          <p:nvPr/>
        </p:nvPicPr>
        <p:blipFill>
          <a:blip r:embed="rId1"/>
          <a:stretch/>
        </p:blipFill>
        <p:spPr>
          <a:xfrm>
            <a:off x="152280" y="533520"/>
            <a:ext cx="5854680" cy="5854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kinks, disruption in convection cell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for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1" name="Picture 6" descr="D:\CHAISSON\BG309\IMAGES\AABSKTO0.jpg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41623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2200" y="16002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come in pai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posite orientation in North and Sou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 other cycle the magnetic fields switc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5" name="Picture 4" descr="D:\CHAISSON\BG309\IMAGES\AAAKKTU0.jpg"/>
          <p:cNvPicPr/>
          <p:nvPr/>
        </p:nvPicPr>
        <p:blipFill>
          <a:blip r:embed="rId1"/>
          <a:stretch/>
        </p:blipFill>
        <p:spPr>
          <a:xfrm>
            <a:off x="304920" y="1371600"/>
            <a:ext cx="5790960" cy="5138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 Number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228" name="Picture 3" descr="D:\CHAISSON\BG309\IMAGES\AAAKKTW0.jpg"/>
          <p:cNvPicPr/>
          <p:nvPr/>
        </p:nvPicPr>
        <p:blipFill>
          <a:blip r:embed="rId1"/>
          <a:stretch/>
        </p:blipFill>
        <p:spPr>
          <a:xfrm>
            <a:off x="1371600" y="2209680"/>
            <a:ext cx="7581960" cy="445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D:\CHAISSON\BG309\IMAGES\AAAKKTX0.jpg"/>
          <p:cNvPicPr/>
          <p:nvPr/>
        </p:nvPicPr>
        <p:blipFill>
          <a:blip r:embed="rId2"/>
          <a:stretch/>
        </p:blipFill>
        <p:spPr>
          <a:xfrm>
            <a:off x="152280" y="1066680"/>
            <a:ext cx="51562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ctive Region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reas around sunspots give rise to the promine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33" name="Picture 4" descr="D:\CHAISSON\BG309\IMAGES\AAAKKTY0a.jpg"/>
          <p:cNvPicPr/>
          <p:nvPr/>
        </p:nvPicPr>
        <p:blipFill>
          <a:blip r:embed="rId1"/>
          <a:stretch/>
        </p:blipFill>
        <p:spPr>
          <a:xfrm>
            <a:off x="5181480" y="2209680"/>
            <a:ext cx="3886200" cy="3368880"/>
          </a:xfrm>
          <a:prstGeom prst="rect">
            <a:avLst/>
          </a:prstGeom>
          <a:ln w="0">
            <a:noFill/>
          </a:ln>
        </p:spPr>
      </p:pic>
      <p:pic>
        <p:nvPicPr>
          <p:cNvPr id="234" name="eit_20000226_erupt_195.mpeg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Vital Statistic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Radius = 100 x Earth (696,000 km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= 300,000 x Earth (1.99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30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temp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temp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uminosity = 4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26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Watt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“Day” =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4.9 Earth days (equator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9.8 Earth days (poles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tructu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’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hot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mosphere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hrom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ransis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ona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olar win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ior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vec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adia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07" name="Picture 5" descr="D:\CHAISSON\BG309\IMAGES\AAAKKTE0.JPG"/>
          <p:cNvPicPr/>
          <p:nvPr/>
        </p:nvPicPr>
        <p:blipFill>
          <a:blip r:embed="rId1"/>
          <a:srcRect l="0" t="0" r="0" b="8166"/>
          <a:stretch/>
        </p:blipFill>
        <p:spPr>
          <a:xfrm>
            <a:off x="3886200" y="609480"/>
            <a:ext cx="5105520" cy="492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:\CHAISSON\BG309\IMAGES\AAAKKTF0.jpg"/>
          <p:cNvPicPr/>
          <p:nvPr/>
        </p:nvPicPr>
        <p:blipFill>
          <a:blip r:embed="rId2"/>
          <a:srcRect l="0" t="2128" r="2138" b="0"/>
          <a:stretch/>
        </p:blipFill>
        <p:spPr>
          <a:xfrm>
            <a:off x="3886200" y="609480"/>
            <a:ext cx="5105520" cy="49705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D:\CHAISSON\BG301\HTML\IN0101\AAAKKLJ0.jpg"/>
          <p:cNvPicPr/>
          <p:nvPr/>
        </p:nvPicPr>
        <p:blipFill>
          <a:blip r:embed="rId1">
            <a:lum contrast="-84000"/>
          </a:blip>
          <a:stretch/>
        </p:blipFill>
        <p:spPr>
          <a:xfrm>
            <a:off x="380880" y="1143000"/>
            <a:ext cx="7162920" cy="5500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Interio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what’s inside the Su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serve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orize what happens on the in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lex computer programs model the theor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odel predicts what will happen on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are model prediction with observations of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cientific Metho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elioseismology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tinuous monitoring of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round based observatori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ne spacecraft (SOHO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of the Sun is ‘ringing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16" name="Picture 4" descr="D:\CHAISSON\BG305\IMAGES\AAAKKLQ0.jpg"/>
          <p:cNvPicPr/>
          <p:nvPr/>
        </p:nvPicPr>
        <p:blipFill>
          <a:blip r:embed="rId1"/>
          <a:srcRect l="1717" t="3397" r="4001" b="707"/>
          <a:stretch/>
        </p:blipFill>
        <p:spPr>
          <a:xfrm>
            <a:off x="4876920" y="1371600"/>
            <a:ext cx="4190760" cy="4299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CHAISSON\BG309\IMAGES\AAADHPV0.jpg"/>
          <p:cNvPicPr/>
          <p:nvPr/>
        </p:nvPicPr>
        <p:blipFill>
          <a:blip r:embed="rId2"/>
          <a:srcRect l="1822" t="1817" r="1822" b="1817"/>
          <a:stretch/>
        </p:blipFill>
        <p:spPr>
          <a:xfrm>
            <a:off x="4800600" y="1371600"/>
            <a:ext cx="4343400" cy="42670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8620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terior Properti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20 x density of iro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10,000 x less dense than ai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verage density = Jupite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1" name="Picture 4" descr="D:\CHAISSON\BG309\IMAGES\AAAKKTH0.jpg"/>
          <p:cNvPicPr/>
          <p:nvPr/>
        </p:nvPicPr>
        <p:blipFill>
          <a:blip r:embed="rId1"/>
          <a:stretch/>
        </p:blipFill>
        <p:spPr>
          <a:xfrm>
            <a:off x="0" y="0"/>
            <a:ext cx="38210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Do you see the light?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in the solar system reflects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also absorbs light and heats up producing blackbody radiatio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Q: Where does thi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: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But where does the Sun’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31:01Z</dcterms:modified>
  <cp:revision>154</cp:revision>
  <dc:subject/>
  <dc:title>PowerPoint Presentation</dc:title>
</cp:coreProperties>
</file>