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731-8DC6-4B5A-ADE6-245FE0D5B4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6F8-0800-422E-954C-A3983F08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55A-533A-4DD3-A199-CB5513F4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477-3A0F-4A15-AF49-256B87EB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3B8-D8A4-4B2B-BA3D-6934E6BA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155-F84C-4C0B-91CA-FCD1B912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332-225B-4F2F-9122-494D691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F2E-F1EA-4993-BAC4-DF56F830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A33-6E38-4E4A-BDF5-957D825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4FA-9B96-4E02-B77A-5EF1ECF0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617-A4DA-423D-9ECB-E12ADC4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44D-8983-4B6C-8AE6-863800B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746-CA5F-4781-AEB6-1EB3A79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9E1-AC33-4C15-AB8F-44E7180D2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7-01-26T10:30:29Z</dcterms:modified>
  <cp:revision>10</cp:revision>
  <dc:subject/>
  <dc:title>Outer Layers of the Sun</dc:title>
</cp:coreProperties>
</file>