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9616-EDE4-4BE5-AC69-D7C4F06CA6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A05-4008-431A-AA24-9A73BBC1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431-F175-400A-8E3A-ED479C0E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657-2FE1-461F-B6F4-7C5B3D88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038-4007-4C80-8D9A-D01A3C63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416-F05E-4BB2-806B-B61EAFAE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266-E35A-48E9-8B5A-D1FA7E36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3E0-351E-401B-A5E8-DD89735C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199-B277-4501-8DAE-5329271C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766-91D6-4E64-8339-FC87740B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819-6972-4846-A35F-4DE02616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39C-DAD2-4FBD-828B-22815237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4F7-B220-4B47-A496-E2F3FF46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F585-1BC7-4566-A917-427C9F53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7-01-26T10:30:29Z</dcterms:modified>
  <cp:revision>10</cp:revision>
  <dc:subject/>
  <dc:title>Outer Layers of the Sun</dc:title>
</cp:coreProperties>
</file>