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7D90-ED60-458F-9F30-0D76B7D612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571D-729F-471D-A09E-AD1EAE8C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6F1-242D-486C-BBBC-7209BF71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933-B1E4-4F3D-B8BB-EFEC3366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97B-1394-4DB4-B094-4A564188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550-8760-42F3-A93E-C6ABE14B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B9A-D1B7-4EAF-B69B-C0C98FC4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C5B6-4BA9-42F7-B59D-00D35503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8FB-BFF0-498A-900E-44AD977B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FFD1-82EF-4C59-992A-98C167E3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4CF6-15C9-4A6E-9416-433E8883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224-A440-4B01-B51C-2DB15E3C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E7E-9691-400F-80A6-9CECD6EC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9A82-52A0-4C93-A168-8605AD173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prominence_10jan00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me_anim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9400" y="1066680"/>
            <a:ext cx="2362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temp"/>
          <p:cNvPicPr/>
          <p:nvPr/>
        </p:nvPicPr>
        <p:blipFill>
          <a:blip r:embed="rId1"/>
          <a:srcRect l="5319" t="5326" r="7448" b="7450"/>
          <a:stretch/>
        </p:blipFill>
        <p:spPr>
          <a:xfrm>
            <a:off x="0" y="-28440"/>
            <a:ext cx="716292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temp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7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8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ormal solar magnetic field.   They can be as large as 50,000 km and last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27" descr="Z:\kaaret\class\2004f_29c50\Sunspot-Rotation-Animation.gif"/>
          <p:cNvPicPr/>
          <p:nvPr/>
        </p:nvPicPr>
        <p:blipFill>
          <a:blip r:embed="rId1"/>
          <a:stretch/>
        </p:blipFill>
        <p:spPr>
          <a:xfrm>
            <a:off x="380880" y="1828800"/>
            <a:ext cx="4649760" cy="464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8"/>
          <p:cNvSpPr/>
          <p:nvPr/>
        </p:nvSpPr>
        <p:spPr>
          <a:xfrm>
            <a:off x="5562720" y="1905120"/>
            <a:ext cx="3124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58000" y="3809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1 years, the Sun’s magnetic field changes direction.  Overall cycle is 22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Z:\kaaret\class\2004f_29c50\17f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temp"/>
          <p:cNvPicPr/>
          <p:nvPr/>
        </p:nvPicPr>
        <p:blipFill>
          <a:blip r:embed="rId1"/>
          <a:stretch/>
        </p:blipFill>
        <p:spPr>
          <a:xfrm>
            <a:off x="3657600" y="1539720"/>
            <a:ext cx="5486400" cy="53182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5715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Z:\kaaret\class\2004f_29c50\SolarProminence.jpg"/>
          <p:cNvPicPr/>
          <p:nvPr/>
        </p:nvPicPr>
        <p:blipFill>
          <a:blip r:embed="rId1"/>
          <a:srcRect l="7146" t="7141" r="9186" b="9191"/>
          <a:stretch/>
        </p:blipFill>
        <p:spPr>
          <a:xfrm>
            <a:off x="0" y="685800"/>
            <a:ext cx="7772400" cy="62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nence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ler than phot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Z:\kaaret\class\2004f_29c50\solar_flare.jpg"/>
          <p:cNvPicPr/>
          <p:nvPr/>
        </p:nvPicPr>
        <p:blipFill>
          <a:blip r:embed="rId1"/>
          <a:stretch/>
        </p:blipFill>
        <p:spPr>
          <a:xfrm>
            <a:off x="0" y="0"/>
            <a:ext cx="7010280" cy="689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flares 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ter, up to 40,000,000 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energ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Z:\kaaret\class\2004f_29c50\prominence_anim.gif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s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uption of gas, can reach Earth and affect aurora,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:\kaaret\class\2004f_29c50\soho_2_400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975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ar coronal temperature is abo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’s core has a temperature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ally intense regions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cooler than surroundings (dark by contrast with hotter surfa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5800 K layer we s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thin layer, a few 1000 km thick, at a temperature of about 10,000 K.  Can be seen during solar ecli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utermost layer, 1,000,000 km thick, at a temperature of about 1,000,0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Z:\kaaret\class\2004f_29c50\sunlayer.gif"/>
          <p:cNvPicPr/>
          <p:nvPr/>
        </p:nvPicPr>
        <p:blipFill>
          <a:blip r:embed="rId1"/>
          <a:stretch/>
        </p:blipFill>
        <p:spPr>
          <a:xfrm>
            <a:off x="1752480" y="0"/>
            <a:ext cx="5181840" cy="49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609480" y="51814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mp"/>
          <p:cNvPicPr/>
          <p:nvPr/>
        </p:nvPicPr>
        <p:blipFill>
          <a:blip r:embed="rId1"/>
          <a:srcRect l="7367" t="7365" r="7367" b="7371"/>
          <a:stretch/>
        </p:blipFill>
        <p:spPr>
          <a:xfrm>
            <a:off x="228600" y="304920"/>
            <a:ext cx="6553080" cy="630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Z:\kaaret\class\2004f_29c50\chromospher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Z:\kaaret\class\2004f_29c50\corona_beer.jpg"/>
          <p:cNvPicPr/>
          <p:nvPr/>
        </p:nvPicPr>
        <p:blipFill>
          <a:blip r:embed="rId1"/>
          <a:stretch/>
        </p:blipFill>
        <p:spPr>
          <a:xfrm>
            <a:off x="-380880" y="1295280"/>
            <a:ext cx="9524880" cy="326556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:\kaaret\class\2004f_29c50\corona.gif"/>
          <p:cNvPicPr/>
          <p:nvPr/>
        </p:nvPicPr>
        <p:blipFill>
          <a:blip r:embed="rId1"/>
          <a:stretch/>
        </p:blipFill>
        <p:spPr>
          <a:xfrm>
            <a:off x="0" y="168120"/>
            <a:ext cx="668988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temp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4889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58:33Z</dcterms:created>
  <dc:creator>Philip Kaaret</dc:creator>
  <dc:description/>
  <dc:language>en-US</dc:language>
  <cp:lastModifiedBy>Legion</cp:lastModifiedBy>
  <dcterms:modified xsi:type="dcterms:W3CDTF">2017-01-26T10:30:29Z</dcterms:modified>
  <cp:revision>10</cp:revision>
  <dc:subject/>
  <dc:title>Outer Layers of the Sun</dc:title>
</cp:coreProperties>
</file>