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EB5A-B4D3-4B3B-BA44-8F452E137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C793F-8F68-4EE5-962E-548D82184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08EAD-3F0D-44B9-8327-FB473F8AB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6BEA8-B35B-4B91-9E93-B927CE170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3CA83-5D25-4229-871D-3CBB785E7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50E26-0AF0-450C-9117-89DA23B84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72CF3-213E-41C9-9AFF-7B7C1EE99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BBEE1-B04B-4256-A44A-4D49D7372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7C682-DF41-4CD3-8611-8526FC76F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16982-E8BB-4430-9639-274D22C80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158BE-7F2A-4349-A3FD-EA5C18C74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93924-5E21-4FD2-A833-1461FDDD1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57836-CFED-4C23-BBCD-9A9DAD045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5EFB-E7E6-43B6-939D-7036820543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7-01-26T10:29:33Z</dcterms:modified>
  <cp:revision>2</cp:revision>
  <dc:subject/>
  <dc:title>Chapter 6  Our Solar System and Its Origin</dc:title>
</cp:coreProperties>
</file>