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8DBC-4538-4B29-B83C-ED41E5A6E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351DB-305D-4676-B9D9-35E7DAA93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E7081-4DFF-4E67-858A-D72FA8FA3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1F037-BC30-4532-969B-8DF5A58FE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C3619-5BB3-410E-9E1C-E8F3CF58C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5E3BF-67BC-46BB-8957-B8396ADAE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4ACA-E4E2-4176-B06A-2E4E1A74C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A0D47-3F73-43BB-B857-5605E64A3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B9EEE-1C83-4277-8D9C-FCEAD395C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5926A-39DE-4BF4-A1D1-6183E8924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A040-8F67-4621-A510-4C33A0299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0A5E-A67C-4332-98E8-14E490C3F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56C3E-B33D-4FFD-9FD9-7B271C797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4E54-161C-4F49-9A77-69E932B754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7-01-26T10:29:33Z</dcterms:modified>
  <cp:revision>2</cp:revision>
  <dc:subject/>
  <dc:title>Chapter 6  Our Solar System and Its Origin</dc:title>
</cp:coreProperties>
</file>