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AB7F-AA23-4C4B-B931-95B304439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4 billion kg of matter to energy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conversion = 1/140 of original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converts 560 billion kg of H to He (5.6 x 1011 kg)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Sun: 2 x 1030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1030 kg/ 5.6 x 1011 kg/sec = 3.6 x 1018 sec = 114 billion ye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We Can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: The Visible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ransparent than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ee a couple of hundred kilometers d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coole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know what stars are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thin but very h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so hot is a mys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ges: hot clouds in the 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min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, Faculae, Limb Dark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surface of the Sun is called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hin cool layer, the chromosphere, allows us to determine what the sun is mad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thin but very hot outer layer is called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in the sun is revealed by gran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s on the sun include sunspots, prominences, spicules and fac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s on the sun affect electrical and electronic equipment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pi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romin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: 150 million km (93 million miles) = 8.3 ligh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eter: 1.4 million km (870,000 miles) = 109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= 330,000 x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k density = 1.4 gm/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emperature = 5800 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on: 25 days at equator, 34 at 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he Sun is an ordinary middle-sized s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Gas La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x Volume is proportional to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= weight of overly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io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: 0-20% of radius. Energy produced by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Zone: 20-70% of radius: Energy travels as thermal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chocline: Boundary of Radiative Zone: Exterior slips over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Zone: Outer 30% of Sun: Energy moves by 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: 90 billion megatons/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utput = 6 microwatts/kg – less than a ca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body outputs 1.2 W/kg – 200,000 times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volume: Core of Sun =  0.9 W/m3; Human body = 1200 W/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duplicate sun’s energy output not practical on Earth; We try to use other fusion 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akes 10,000 – 100,000 years to reac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H = 4 x 1.00794 = 4.031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= 4.0026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 = 0.029158 = 0.7% = 1/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ed to energy via 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over being freaked out by Einstein, this is middle school m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=mc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 = m/sec = 300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joules (one Watt = 1 J/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’s energy output = 3.8 x 1026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mass is that per seco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 = E/c2  = 3.8 x 1026/(300,000,000)2 = 4 billion kg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un creates energy by nuclear fusion in its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8E84-ECCB-468F-BDE1-5807360D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88E-098D-401D-AE41-9CAEF995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520-2308-4D31-AB87-BCA1B34C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609E-6C0D-4483-A1CD-3B9452BE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669-499E-4521-B82F-50649B0F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89F-939B-4D66-BF30-2D70C302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A5E-2D93-465F-ABD6-2804F33C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76A-485C-47F4-B7F1-C63879A0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D8C-969C-4249-BC85-A4605BF5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CEC4-D1D9-4FCE-AD81-DA4121F4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4884-EFF1-4B75-9473-5DC151F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683A-0412-417D-B52E-D331BF96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B9A5-E018-4723-A979-1CBCB46705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image/1006/orangesun_friedman_big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4 billion kg of matter to energy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ter conversion = 1/140 of original m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 converts 560 billion kg of H to He (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) every sec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of Sun: 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 5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/sec = 3.6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 = 114 billion yea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D:\working copy\GRAPHIC0\Astronomy\Solar0.gif"/>
          <p:cNvPicPr/>
          <p:nvPr/>
        </p:nvPicPr>
        <p:blipFill>
          <a:blip r:embed="rId1"/>
          <a:stretch/>
        </p:blipFill>
        <p:spPr>
          <a:xfrm>
            <a:off x="1371600" y="228600"/>
            <a:ext cx="640080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 We Can S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phere: The Visibl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transparent tha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ee a couple of hundred kilometers de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n cooler atmosp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we know what stars are made 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but very h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 so hot is a myst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http://www.uwgb.edu/dutchs/GRAPHIC0/Astronomy/Solar1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8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atures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b Dark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an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ul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ges: hot clouds in the Chro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a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min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fac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rcRect l="0" t="3122" r="0" b="4810"/>
          <a:stretch/>
        </p:blipFill>
        <p:spPr>
          <a:xfrm>
            <a:off x="457200" y="18288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http://www.tc.cornell.edu/~slantz/Students/Clark/sun.gif"/>
          <p:cNvPicPr/>
          <p:nvPr/>
        </p:nvPicPr>
        <p:blipFill>
          <a:blip r:embed="rId1"/>
          <a:stretch/>
        </p:blipFill>
        <p:spPr>
          <a:xfrm>
            <a:off x="1371600" y="1447920"/>
            <a:ext cx="6324480" cy="504972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gran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http://www.thaispaceweather.com/IHY/Sun/images/pho06.jpg"/>
          <p:cNvPicPr/>
          <p:nvPr/>
        </p:nvPicPr>
        <p:blipFill>
          <a:blip r:embed="rId1"/>
          <a:stretch/>
        </p:blipFill>
        <p:spPr>
          <a:xfrm>
            <a:off x="2209680" y="144792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96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2286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 and Facula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www.solarphysics.kva.se/gallery/images/2003/29Jun2003_4305.1886-1888_color.jpg"/>
          <p:cNvPicPr/>
          <p:nvPr/>
        </p:nvPicPr>
        <p:blipFill>
          <a:blip r:embed="rId1"/>
          <a:stretch/>
        </p:blipFill>
        <p:spPr>
          <a:xfrm>
            <a:off x="2514600" y="228600"/>
            <a:ext cx="6400800" cy="64612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nspots, Faculae, Limb Darke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www.damianpeach.com/images/solar/2004_05_31_1111vis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094000"/>
          </a:xfrm>
          <a:prstGeom prst="rect">
            <a:avLst/>
          </a:prstGeom>
          <a:ln w="0">
            <a:noFill/>
          </a:ln>
        </p:spPr>
      </p:pic>
      <p:sp>
        <p:nvSpPr>
          <p:cNvPr id="102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is an ordinary middle-sized s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un creates energy by nuclear fusion in its co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isible surface of the Sun is called the photosp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thin cool layer, the chromosphere, allows us to determine what the sun is made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thin but very hot outer layer is called the cor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ction in the sun is revealed by gran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tures on the sun include sunspots, prominences, spicules and facula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urbances on the sun affect electrical and electronic equipment on Ea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Spi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stereo.gsfc.nasa.gov/img/stereoimages/preview/Spicules080307.jpg"/>
          <p:cNvPicPr/>
          <p:nvPr/>
        </p:nvPicPr>
        <p:blipFill>
          <a:blip r:embed="rId1"/>
          <a:stretch/>
        </p:blipFill>
        <p:spPr>
          <a:xfrm>
            <a:off x="533520" y="1447920"/>
            <a:ext cx="8069040" cy="5105160"/>
          </a:xfrm>
          <a:prstGeom prst="rect">
            <a:avLst/>
          </a:prstGeom>
          <a:ln w="0">
            <a:noFill/>
          </a:ln>
        </p:spPr>
      </p:pic>
      <p:sp>
        <p:nvSpPr>
          <p:cNvPr id="10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Promin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04880" y="1295280"/>
            <a:ext cx="7734240" cy="522000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Coro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18960" y="1447920"/>
            <a:ext cx="8506080" cy="4873680"/>
          </a:xfrm>
          <a:prstGeom prst="rect">
            <a:avLst/>
          </a:prstGeom>
          <a:ln w="0">
            <a:noFill/>
          </a:ln>
        </p:spPr>
      </p:pic>
      <p:sp>
        <p:nvSpPr>
          <p:cNvPr id="11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See Explanation.  Clicking on the picture will download&#10; the highest resolution version availabl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52280" y="0"/>
            <a:ext cx="881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4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2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See Explanation.  Clicking on the picture will download&#10; the highest resolution version available."/>
          <p:cNvPicPr/>
          <p:nvPr/>
        </p:nvPicPr>
        <p:blipFill>
          <a:blip r:embed="rId1"/>
          <a:stretch/>
        </p:blipFill>
        <p:spPr>
          <a:xfrm>
            <a:off x="360360" y="0"/>
            <a:ext cx="8326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: 150 million km (93 million miles) = 8.3 light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meter: 1.4 million km (870,000 miles) = 109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 = 330,000 x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lk density = 1.4 gm/c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face temperature = 5800 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tation: 25 days at equator, 34 at 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olar Interi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al Gas La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sure x Volume is proportional to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sure = weight of overlying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ior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295280"/>
          <a:ext cx="8229600" cy="5181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Rad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 (A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sity (gm/c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M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13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3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,0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37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70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 bill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e: 0-20% of radius. Energy produced by nuclear 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ative Zone: 20-70% of radius: Energy travels as therm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chocline: Boundary of Radiative Zone: Exterior slips over inter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ctive Zone: Outer 30% of Sun: Energy moves by conv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re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: 90 billion megatons/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output = 6 microwatts/kg – less than a cand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outputs 1.2 W/kg – 200,000 times gre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volume: Core of Sun =  0.9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 Human body = 1200 W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ing to duplicate sun’s energy output not practical on Earth; We try to use other fusion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 takes 10,000 – 100,000 years to reach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H = 4 x 1.00794 = 4.031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= 4.0026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ce = 0.029158 = 0.7% = 1/14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ed to energy via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over being freaked out by Einstein, this is middle school m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ar Ener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k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 = m/sec = 300,000,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joules (one Watt = 1 J/se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’s energy output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mass is that per secon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 = E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= 3.8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(300,000,00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 billion kg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3"/>
          <p:cNvSpPr/>
          <p:nvPr/>
        </p:nvSpPr>
        <p:spPr>
          <a:xfrm>
            <a:off x="0" y="6248520"/>
            <a:ext cx="9144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8:38:07Z</dcterms:created>
  <dc:creator>default prof</dc:creator>
  <dc:description/>
  <dc:language>en-US</dc:language>
  <cp:lastModifiedBy>Legion</cp:lastModifiedBy>
  <dcterms:modified xsi:type="dcterms:W3CDTF">2017-01-26T10:28:27Z</dcterms:modified>
  <cp:revision>36</cp:revision>
  <dc:subject/>
  <dc:title>Life Cycles of Stars</dc:title>
</cp:coreProperties>
</file>