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4C01B-BC10-4EC2-9465-C9AB5066DA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R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Constellations of our Galaxy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stellations of our Galax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stellation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the constellations appear to change positions in the night sky as Earth travels around our Sun throughout the year? YE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e the constellations themselves moving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ell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constellations appear to change positions in the night sky as Earth travels around our Sun throughout the year? Y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the constellations themselves moving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Constellation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Do the constellations appear to change positions in the night sky as Earth travels around our Sun throughout the year? YE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Are the constellations themselves moving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stellation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the constellations appear to change positions in the night sky as Earth travels around our Sun throughout the year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e the constellations themselves moving? NO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causes this apparent change in positions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ell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constellations appear to change positions in the night sky as Earth travels around our Sun throughout the year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the constellations themselves moving? 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uses this apparent change in position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Constellation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Do the constellations appear to change positions in the night sky as Earth travels around our Sun throughout the year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Are the constellations themselves moving? NO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hat causes this apparent change in positions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stellation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the constellations appear to change positions in the night sky as Earth travels around our Sun throughout the year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e the constellations themselves moving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causes this apparent change in positions? As Earth orbits the Sun, our perspective change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all stars appear in different positions at different times of the year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ell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constellations appear to change positions in the night sky as Earth travels around our Sun throughout the year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the constellations themselves moving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uses this apparent change in positions? As Earth orbits the Sun, our perspective cha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all stars appear in different positions at different times of the year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Constellation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Do the constellations appear to change positions in the night sky as Earth travels around our Sun throughout the year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Are the constellations themselves moving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hat causes this apparent change in positions? As Earth orbits the Sun, our perspective change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Do all stars appear in different positions at different times of the year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stellation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the constellations appear to change positions in the night sky as Earth travels around our Sun throughout the year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e the constellations themselves moving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causes this apparent change in positions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all stars appear in different positions at different times of the year? All except Polari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y is Polaris the only star that appears “fixed”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ell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constellations appear to change positions in the night sky as Earth travels around our Sun throughout the year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the constellations themselves moving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uses this apparent change in position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all stars appear in different positions at different times of the year? All except Polar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is Polaris the only star that appears “fixed”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Constellation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Do the constellations appear to change positions in the night sky as Earth travels around our Sun throughout the year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Are the constellations themselves moving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hat causes this apparent change in positions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Do all stars appear in different positions at different times of the year? All except Polari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hy is Polaris the only star that appears “fixed”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stellation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the constellations appear to change positions in the night sky as Earth travels around our Sun throughout the year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e the constellations themselves moving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causes this apparent change in positions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all stars appear in different positions at different times of the year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y is Polaris the only star that appears “fixed”? Earth’s axis points to Polari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ell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constellations appear to change positions in the night sky as Earth travels around our Sun throughout the year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the constellations themselves moving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uses this apparent change in position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all stars appear in different positions at different times of the yea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is Polaris the only star that appears “fixed”? Earth’s axis points to Polar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Constellation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Do the constellations appear to change positions in the night sky as Earth travels around our Sun throughout the year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Are the constellations themselves moving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hat causes this apparent change in positions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Do all stars appear in different positions at different times of the year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hy is Polaris the only star that appears “fixed”? Earth’s axis points to Polari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rn under the sign of…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Born under the sign of…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 under the sign of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eek: Scorpio (Oct 23 and 21 Nov 21)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giant scorpion sent forth by Gaia to slay ORION when he threatened to slay all the beasts of the earth.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stellation is “paired” with Orion, which leaves the sky when Scorpio appears.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k: Scorpio (Oct 23 and 21 Nov 21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giant scorpion sent forth by Gaia to slay ORION when he threatened to slay all the beasts of the ear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ellation is “paired” with Orion, which leaves the sky when Scorpio appe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rion the Hunter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rion the Hun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kota: The Hand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akota: The H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ign your own constel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sign your own constellatio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stellation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ell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Constellation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stellation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hanging at the same (annual) timescale that we are observing the changing zodiac? Earth’s revolving.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the constellations appear to change positions in the night sky as Earth travels around our Sun throughout the year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ell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hanging at the same (annual) timescale that we are observing the changing zodiac? Earth’s revolv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constellations appear to change positions in the night sky as Earth travels around our Sun throughout the year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Constellation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hat is changing at the same (annual) timescale that we are observing the changing zodiac? Earth’s revolving.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Do the constellations appear to change positions in the night sky as Earth travels around our Sun throughout the year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F033AC-6C7F-4A0D-8A67-7B7B1C66A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E8289A-AEE6-45F4-B3E3-99B127ACD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3A2764-0319-4EB5-914B-87FD28434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0C4038-8200-44E8-B6B7-FE843F528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CD2D1-93F8-4856-BA54-A1F7894B0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74A0C-7B80-4FE3-8546-486F3AAF0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30B8A-ED6E-4D9C-92F0-630DC6460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E8E37-2105-4703-8809-3DD42FF4B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3F972-E222-4FC2-A00F-EE931C20D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5AC1C-1F27-4F3C-81C6-DE58D415C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5EF30-05A3-420E-8552-56351B0FF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024BA0-D1D6-4D90-80E1-326324039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D5CA1-3040-4172-A03F-F6A556FDD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C2A7D-BA0E-4625-ADDE-BBEFD86B2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2949F-78A3-4CD4-B64E-26F95E974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B21E5-2E04-44C8-BD18-05C42438E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F0B1E-FBA3-4BB7-8059-9A42E34B3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6B18DA-3F8B-4518-A287-67A8209DA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084465-F22A-48B6-A6EC-2FF353AD3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0A4B23-0A8F-4B37-B088-11E33D816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D067E-A840-4F80-A465-87C60947A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7C0770-3B31-457B-963E-EBC96E551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67C433-BC50-45BD-8869-C82FF5481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82D1BA-3398-4B11-BACE-6082A2740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9E377-1B2B-40AA-BA0D-9D1FAB48D51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AE1BA-0A8C-475B-9B8D-9FFE184AB0E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en.wikipedia.org/wiki/File:Orionurania.jpg" TargetMode="External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STARS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Constellations of our Galax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514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nstella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at is changing at the same (annual) timescale that we are observing the changing zodiac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o the constellations appear to change positions in the night sky as Earth travels around our Sun throughout the year? </a:t>
            </a: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Y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re the constellations themselves moving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Місце для нижнього колонтитула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nstella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8088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at is changing at the same (annual) timescale that we are observing the changing zodiac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o the constellations appear to change positions in the night sky as Earth travels around our Sun throughout the year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re the constellations themselves moving? </a:t>
            </a: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N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at causes this apparent change in positions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Місце для нижнього колонтитула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nstella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8088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at is changing at the same (annual) timescale that we are observing the changing zodiac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o the constellations appear to change positions in the night sky as Earth travels around our Sun throughout the year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re the constellations themselves moving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at causes this apparent change in positions? </a:t>
            </a: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As Earth orbits the Sun, our perspective chang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o all stars appear in different positions at different times of the year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Місце для нижнього колонтитула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nstella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8088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at is changing at the same (annual) timescale that we are observing the changing zodiac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o the constellations appear to change positions in the night sky as Earth travels around our Sun throughout the year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re the constellations themselves moving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at causes this apparent change in positions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o all stars appear in different positions at different times of the year? </a:t>
            </a: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All except Polari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y is Polaris the only star that appears “fixed”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Місце для нижнього колонтитула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nstella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80880" y="1447920"/>
            <a:ext cx="83059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at is changing at the same (annual) timescale that we are observing the changing zodiac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o the constellations appear to change positions in the night sky as Earth travels around our Sun throughout the year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re the constellations themselves moving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at causes this apparent change in positions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o all stars appear in different positions at different times of the year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y is Polaris the only star that appears “fixed”? </a:t>
            </a: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Earth’s axis points to Polari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Місце для нижнього колонтитула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3" descr="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61722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23888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orn under the sign of…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4" name="Picture 5" descr="Earth, Sun, and constellation Leo in alignment."/>
          <p:cNvPicPr/>
          <p:nvPr/>
        </p:nvPicPr>
        <p:blipFill>
          <a:blip r:embed="rId1"/>
          <a:stretch/>
        </p:blipFill>
        <p:spPr>
          <a:xfrm>
            <a:off x="0" y="2230560"/>
            <a:ext cx="9144000" cy="234144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Greek: Scorpio (</a:t>
            </a:r>
            <a:r>
              <a:rPr b="0" lang="en-US" sz="4400" spc="-1" strike="noStrike">
                <a:solidFill>
                  <a:srgbClr val="e5e5ff"/>
                </a:solidFill>
                <a:latin typeface="Garamond"/>
              </a:rPr>
              <a:t>Oct 23 and 21 Nov 21)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87656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 giant scorpion sent forth by Gaia to slay ORION when he threatened to slay all the beasts of the earth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nstellation is “paired” with Orion, which leaves the sky when Scorpio appear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8" name="Picture 5" descr="This is the &lt;a href=&quot;/the_universe/Constellations/summer/scorpio.html&quot;&gt;Greek constellation Scorpius&lt;/a&gt;, the scorpion. It contains a bright star, &lt;a href=&quot;/the_universe/antares.html&quot;&gt;Antares&lt;/a&gt;, that is part of the scorpion's tail.  To the ancient Greeks, Scorpius was related to the death of the hunter &lt;a href=&quot;/mythology/orion.html&quot;&gt;Orion&lt;/a&gt;.&lt;p&gt;&lt;small&gt;&lt;em&gt;&lt;/em&gt;&lt;/small&gt;&lt;/p&gt;"/>
          <p:cNvPicPr/>
          <p:nvPr/>
        </p:nvPicPr>
        <p:blipFill>
          <a:blip r:embed="rId1"/>
          <a:stretch/>
        </p:blipFill>
        <p:spPr>
          <a:xfrm>
            <a:off x="762120" y="2362320"/>
            <a:ext cx="3809880" cy="285732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Orion the Hunter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114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2" name="Picture 5" descr="210px-Orionurania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04920" y="1295280"/>
            <a:ext cx="3824280" cy="54817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File:Orion-guide dark.svg"/>
          <p:cNvPicPr/>
          <p:nvPr/>
        </p:nvPicPr>
        <p:blipFill>
          <a:blip r:embed="rId4"/>
          <a:stretch/>
        </p:blipFill>
        <p:spPr>
          <a:xfrm>
            <a:off x="4572000" y="1447920"/>
            <a:ext cx="4572000" cy="5257800"/>
          </a:xfrm>
          <a:prstGeom prst="rect">
            <a:avLst/>
          </a:prstGeom>
          <a:ln w="0">
            <a:noFill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Lakota: The Hand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191120" y="1447920"/>
            <a:ext cx="49528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7" name="Picture 5" descr="orion_hand_big"/>
          <p:cNvPicPr/>
          <p:nvPr/>
        </p:nvPicPr>
        <p:blipFill>
          <a:blip r:embed="rId1"/>
          <a:stretch/>
        </p:blipFill>
        <p:spPr>
          <a:xfrm>
            <a:off x="380880" y="1600200"/>
            <a:ext cx="3524400" cy="4952880"/>
          </a:xfrm>
          <a:prstGeom prst="rect">
            <a:avLst/>
          </a:prstGeom>
          <a:ln w="0">
            <a:noFill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esign your own constell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nstella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8088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at is changing at the same (annual) timescale that we are observing the changing zodiac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Місце для нижнього колонтитула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nstella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8088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at is changing at the same (annual) timescale that we are observing the changing zodiac? </a:t>
            </a: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Earth’s revolving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o the constellations appear to change positions in the night sky as Earth travels around our Sun throughout the year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Місце для нижнього колонтитула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0T17:03:08Z</dcterms:created>
  <dc:creator>QuarkNet</dc:creator>
  <dc:description/>
  <dc:language>en-US</dc:language>
  <cp:lastModifiedBy>Legion</cp:lastModifiedBy>
  <dcterms:modified xsi:type="dcterms:W3CDTF">2017-01-26T10:23:26Z</dcterms:modified>
  <cp:revision>6</cp:revision>
  <dc:subject/>
  <dc:title>STARS</dc:title>
</cp:coreProperties>
</file>