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870C-AE74-4721-BCF5-4FE9DA3C0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5806-E095-4960-8431-25604366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AE305-F32B-40D6-8A1C-0CAA42FD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EF4A-25CB-4D36-B54A-D6472D3D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23AA-E658-4BC2-80B3-A7F4B742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5387-290E-4888-A368-CB6A45BF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18F8-22B0-4E24-B118-E974FAEC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3424-75D0-4EC0-BFDE-315A9B6C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5E95-B66F-421A-8449-207572FE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F640-B377-4AB8-8D46-995DF9C6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074C-6C55-4811-8302-9865C587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AC9D-0149-4D9D-9D2C-C4566825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5AC8-92D2-418C-A0C7-649DB9AC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B04A-038D-460E-B4AE-3AF8269E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9B73-7134-4481-B0B7-73D9EB3A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052A-28C0-4CD2-B388-46E479A0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B43C-4747-40DE-830C-F2F020F1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AE1F-7A45-4BA1-8ED1-548C54DB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CE8D-1514-4D46-BA50-5C920AB1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DFC0-B82F-43BD-81DF-D2EF3756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64F5-9330-4F01-9E94-D5F91718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FAC3-7841-4D9D-82F8-D4408840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0586F-66B3-4688-B75A-C80FA865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AF589-3BF2-4DC7-9C89-796B14B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CBF4-80DF-40D8-A023-49B84CC5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828C-C85C-4086-9242-7DFF3D0A63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6D54-631E-43D1-A0F5-1650015B13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7-01-26T10:23:26Z</dcterms:modified>
  <cp:revision>6</cp:revision>
  <dc:subject/>
  <dc:title>STARS</dc:title>
</cp:coreProperties>
</file>