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A548-6195-49CD-B55A-1D9EAF5F1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nstellations of our Galaxy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ellations of our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NO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NO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is Polaris the only star that appears “fixed”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Polaris the only star that appears “fixed”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y is Polaris the only star that appears “fixed”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rn under the sign of…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Born under the sign of…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under the sign of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k: Scorpio (Oct 23 and 21 Nov 21)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giant scorpion sent forth by Gaia to slay ORION when he threatened to slay all the beasts of the earth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 is “paired” with Orion, which leaves the sky when Scorpio appears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: Scorpio (Oct 23 and 21 Nov 2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iant scorpion sent forth by Gaia to slay ORION when he threatened to slay all the beasts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 is “paired” with Orion, which leaves the sky when Scorpio app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ion the Hunt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the Hu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kota: The Han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kota: The H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your own conste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ign your own constell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6186A-914F-42B0-92F9-50DCE58EB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B6F1F-24CF-4AD3-98B8-F8D21301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FAF53-9411-47F4-ABF9-50A959560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4780D-11D3-4E7F-A83D-BC9D8149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75DD-919D-48AF-AF87-4D942659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D878-628A-436E-9899-6FAA131B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81B7-B05A-4DC8-ABE1-0B83A8F3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5D77-7A7A-4CBA-8745-0A97BACC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CD69-4F4F-49DB-AD90-AE34CFB2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8ABA-1746-4B12-B610-459DE84C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BDF7-F56B-4BD1-AF43-D7DBEFEA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DDDBA-01EA-4E92-8467-14EBAEFC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89A0-6AC7-4234-BC2F-4B698B07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E30C-995F-4944-BB5E-8B83EBC4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1089-5896-4384-AA5D-1A221D63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5533-3A13-4D63-A1C3-18B07CDE1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A5D4-0DE8-452F-9574-8B3295C5E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75049-AB8C-4896-87AC-5788EC0C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E9ED0-B13F-4EA6-A560-28A83F43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6622B-8A9C-4A61-8140-33BEE44C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1BB35-51FC-4DD0-8431-2003F395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B303C-80E0-4977-90F2-663674F1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2A018-C561-4B3B-AE96-D223142B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3D8AA-4E1A-457B-A682-DFE296DB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AA0A-476B-4B4C-8345-1FD553962D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D8A2-A75F-4AF8-958E-0525EEE1C6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n.wikipedia.org/wiki/File:Orionurania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TAR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onstellations of our Galax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Y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s Earth orbits the Sun, our perspective chang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ll except Polar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y is Polaris the only star that appears “fixed”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0880" y="14479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y is Polaris the only star that appears “fixed”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Earth’s axis points to Polar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orn under the sign of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Picture 5" descr="Earth, Sun, and constellation Leo in alignment."/>
          <p:cNvPicPr/>
          <p:nvPr/>
        </p:nvPicPr>
        <p:blipFill>
          <a:blip r:embed="rId1"/>
          <a:stretch/>
        </p:blipFill>
        <p:spPr>
          <a:xfrm>
            <a:off x="0" y="2230560"/>
            <a:ext cx="9144000" cy="23414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eek: Scorpio (</a:t>
            </a: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Oct 23 and 21 Nov 21)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8765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giant scorpion sent forth by Gaia to slay ORION when he threatened to slay all the beasts of the eart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tellation is “paired” with Orion, which leaves the sky when Scorpio appea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5" descr="This is the &lt;a href=&quot;/the_universe/Constellations/summer/scorpio.html&quot;&gt;Greek constellation Scorpius&lt;/a&gt;, the scorpion. It contains a bright star, &lt;a href=&quot;/the_universe/antares.html&quot;&gt;Antares&lt;/a&gt;, that is part of the scorpion's tail.  To the ancient Greeks, Scorpius was related to the death of the hunter &lt;a href=&quot;/mythology/orion.html&quot;&gt;Orion&lt;/a&gt;.&lt;p&gt;&lt;small&gt;&lt;em&gt;&lt;/em&gt;&lt;/small&gt;&lt;/p&gt;"/>
          <p:cNvPicPr/>
          <p:nvPr/>
        </p:nvPicPr>
        <p:blipFill>
          <a:blip r:embed="rId1"/>
          <a:stretch/>
        </p:blipFill>
        <p:spPr>
          <a:xfrm>
            <a:off x="762120" y="236232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ion the Hunt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5" descr="210px-Orionurani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295280"/>
            <a:ext cx="3824280" cy="5481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File:Orion-guide dark.svg"/>
          <p:cNvPicPr/>
          <p:nvPr/>
        </p:nvPicPr>
        <p:blipFill>
          <a:blip r:embed="rId4"/>
          <a:stretch/>
        </p:blipFill>
        <p:spPr>
          <a:xfrm>
            <a:off x="4572000" y="1447920"/>
            <a:ext cx="4572000" cy="52578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kota: The Han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91120" y="1447920"/>
            <a:ext cx="4952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5" descr="orion_hand_big"/>
          <p:cNvPicPr/>
          <p:nvPr/>
        </p:nvPicPr>
        <p:blipFill>
          <a:blip r:embed="rId1"/>
          <a:stretch/>
        </p:blipFill>
        <p:spPr>
          <a:xfrm>
            <a:off x="380880" y="1600200"/>
            <a:ext cx="3524400" cy="49528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ign your own constell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Earth’s revolv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7:03:08Z</dcterms:created>
  <dc:creator>QuarkNet</dc:creator>
  <dc:description/>
  <dc:language>en-US</dc:language>
  <cp:lastModifiedBy>Legion</cp:lastModifiedBy>
  <dcterms:modified xsi:type="dcterms:W3CDTF">2017-01-26T10:23:26Z</dcterms:modified>
  <cp:revision>6</cp:revision>
  <dc:subject/>
  <dc:title>STARS</dc:title>
</cp:coreProperties>
</file>