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DD0EE-E464-46B8-9539-12982720B9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AR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Constellations of our Galaxy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nstellations of our Galax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stellation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changing at the same (annual) timescale that we are observing the changing zodiac?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o the constellations appear to change positions in the night sky as Earth travels around our Sun throughout the year? YE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re the constellations themselves moving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ell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changing at the same (annual) timescale that we are observing the changing zodiac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the constellations appear to change positions in the night sky as Earth travels around our Sun throughout the year? Y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the constellations themselves moving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Constellation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What is changing at the same (annual) timescale that we are observing the changing zodiac?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Do the constellations appear to change positions in the night sky as Earth travels around our Sun throughout the year? YE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Are the constellations themselves moving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stellation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changing at the same (annual) timescale that we are observing the changing zodiac?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o the constellations appear to change positions in the night sky as Earth travels around our Sun throughout the year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re the constellations themselves moving? NO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causes this apparent change in positions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ell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changing at the same (annual) timescale that we are observing the changing zodiac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the constellations appear to change positions in the night sky as Earth travels around our Sun throughout the year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the constellations themselves moving? 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auses this apparent change in position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Constellation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What is changing at the same (annual) timescale that we are observing the changing zodiac?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Do the constellations appear to change positions in the night sky as Earth travels around our Sun throughout the year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Are the constellations themselves moving? NO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What causes this apparent change in positions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stellation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changing at the same (annual) timescale that we are observing the changing zodiac?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o the constellations appear to change positions in the night sky as Earth travels around our Sun throughout the year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re the constellations themselves moving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causes this apparent change in positions? As Earth orbits the Sun, our perspective change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o all stars appear in different positions at different times of the year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ell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changing at the same (annual) timescale that we are observing the changing zodiac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the constellations appear to change positions in the night sky as Earth travels around our Sun throughout the year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the constellations themselves moving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auses this apparent change in positions? As Earth orbits the Sun, our perspective chan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all stars appear in different positions at different times of the year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Constellation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What is changing at the same (annual) timescale that we are observing the changing zodiac?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Do the constellations appear to change positions in the night sky as Earth travels around our Sun throughout the year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Are the constellations themselves moving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What causes this apparent change in positions? As Earth orbits the Sun, our perspective change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Do all stars appear in different positions at different times of the year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stellation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changing at the same (annual) timescale that we are observing the changing zodiac?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o the constellations appear to change positions in the night sky as Earth travels around our Sun throughout the year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re the constellations themselves moving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causes this apparent change in positions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o all stars appear in different positions at different times of the year? All except Polari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y is Polaris the only star that appears “fixed”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ell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changing at the same (annual) timescale that we are observing the changing zodiac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the constellations appear to change positions in the night sky as Earth travels around our Sun throughout the year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the constellations themselves moving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auses this apparent change in position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all stars appear in different positions at different times of the year? All except Polar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is Polaris the only star that appears “fixed”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Constellation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What is changing at the same (annual) timescale that we are observing the changing zodiac?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Do the constellations appear to change positions in the night sky as Earth travels around our Sun throughout the year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Are the constellations themselves moving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What causes this apparent change in positions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Do all stars appear in different positions at different times of the year? All except Polari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Why is Polaris the only star that appears “fixed”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stellation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changing at the same (annual) timescale that we are observing the changing zodiac?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o the constellations appear to change positions in the night sky as Earth travels around our Sun throughout the year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re the constellations themselves moving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causes this apparent change in positions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o all stars appear in different positions at different times of the year?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y is Polaris the only star that appears “fixed”? Earth’s axis points to Polari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ell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changing at the same (annual) timescale that we are observing the changing zodiac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the constellations appear to change positions in the night sky as Earth travels around our Sun throughout the year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the constellations themselves moving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auses this apparent change in position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all stars appear in different positions at different times of the yea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is Polaris the only star that appears “fixed”? Earth’s axis points to Polar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Constellation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What is changing at the same (annual) timescale that we are observing the changing zodiac?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Do the constellations appear to change positions in the night sky as Earth travels around our Sun throughout the year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Are the constellations themselves moving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What causes this apparent change in positions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Do all stars appear in different positions at different times of the year?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Why is Polaris the only star that appears “fixed”? Earth’s axis points to Polari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orn under the sign of…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Born under the sign of…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rn under the sign of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reek: Scorpio (Oct 23 and 21 Nov 21)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giant scorpion sent forth by Gaia to slay ORION when he threatened to slay all the beasts of the earth.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stellation is “paired” with Orion, which leaves the sky when Scorpio appears.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ek: Scorpio (Oct 23 and 21 Nov 21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giant scorpion sent forth by Gaia to slay ORION when he threatened to slay all the beasts of the ear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ellation is “paired” with Orion, which leaves the sky when Scorpio appea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rion the Hunter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rion the Hun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akota: The Hand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akota: The H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ign your own constel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sign your own constellation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stellation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changing at the same (annual) timescale that we are observing the changing zodiac?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ell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changing at the same (annual) timescale that we are observing the changing zodiac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Constellation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What is changing at the same (annual) timescale that we are observing the changing zodiac?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stellation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changing at the same (annual) timescale that we are observing the changing zodiac? Earth’s revolving.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o the constellations appear to change positions in the night sky as Earth travels around our Sun throughout the year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ell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changing at the same (annual) timescale that we are observing the changing zodiac? Earth’s revolv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the constellations appear to change positions in the night sky as Earth travels around our Sun throughout the year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Constellation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What is changing at the same (annual) timescale that we are observing the changing zodiac? Earth’s revolving.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Do the constellations appear to change positions in the night sky as Earth travels around our Sun throughout the year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320E07-FED5-44C1-81BD-A5C018185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B17A1D-D1FA-406C-8D8B-DCD2ADF29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895F20-8565-46AA-9FA9-50E197C90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61BB75-4573-49E5-B9C6-B7232FB87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F921D-0A3F-4862-A6FE-4D5D3978C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FAD28-BD23-4B2A-B090-68F9EEC72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6D85A-A910-4BF4-9A38-9EDD4091D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0E1D0-2F4C-4E0F-8249-509B303CE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6D625-4CE6-40A0-B596-65ED6D7C7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2BA24-5F50-4A14-BCD0-631B14AA8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AC4E3-7AF9-41F4-9C1B-33892651C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E8634D-92AE-4CA1-B65C-3A408E6D6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4132C-408F-416B-B285-0F7FA0855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9C881-7398-4720-80A8-B72F6D16F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60BE9-82CB-43A2-B8BA-50EDC71C0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E0016-E94D-4CEB-A11E-1000A25EE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56E26-7696-4D95-9F6E-0998A0249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ACF199-CD11-4D8D-B1F8-5FBB9B74F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3E1D84-176E-410D-ADD7-B40DC7E51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4C739B-5EF1-4FB7-B214-9473B3CF9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F3616F-6B94-4DF2-A44B-9795CEB71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5FDF60-F83C-43A4-89BB-44D27D984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548ABE-38CC-4F6D-BCF3-30D0A2721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47C88F-6184-4584-9F0A-8243257E0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EB664-39B3-4A3B-80D9-409DC3C588F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31ECE-17E6-45A2-9CCC-61D31D33FAA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://en.wikipedia.org/wiki/File:Orionurania.jpg" TargetMode="External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STARS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Constellations of our Galax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124080" y="625140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nstellatio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14479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hat is changing at the same (annual) timescale that we are observing the changing zodiac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o the constellations appear to change positions in the night sky as Earth travels around our Sun throughout the year? </a:t>
            </a:r>
            <a:r>
              <a:rPr b="0" lang="en-US" sz="2800" spc="-1" strike="noStrike">
                <a:solidFill>
                  <a:srgbClr val="ffff00"/>
                </a:solidFill>
                <a:latin typeface="Garamond"/>
              </a:rPr>
              <a:t>Y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re the constellations themselves moving?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0" name="Місце для нижнього колонтитула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nstellatio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80880" y="14479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hat is changing at the same (annual) timescale that we are observing the changing zodiac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o the constellations appear to change positions in the night sky as Earth travels around our Sun throughout the year?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re the constellations themselves moving? </a:t>
            </a:r>
            <a:r>
              <a:rPr b="0" lang="en-US" sz="2800" spc="-1" strike="noStrike">
                <a:solidFill>
                  <a:srgbClr val="ffff00"/>
                </a:solidFill>
                <a:latin typeface="Garamond"/>
              </a:rPr>
              <a:t>NO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hat causes this apparent change in positions?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3" name="Місце для нижнього колонтитула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nstellatio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80880" y="14479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hat is changing at the same (annual) timescale that we are observing the changing zodiac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o the constellations appear to change positions in the night sky as Earth travels around our Sun throughout the year?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re the constellations themselves moving?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hat causes this apparent change in positions? </a:t>
            </a:r>
            <a:r>
              <a:rPr b="0" lang="en-US" sz="2800" spc="-1" strike="noStrike">
                <a:solidFill>
                  <a:srgbClr val="ffff00"/>
                </a:solidFill>
                <a:latin typeface="Garamond"/>
              </a:rPr>
              <a:t>As Earth orbits the Sun, our perspective chang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o all stars appear in different positions at different times of the year?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6" name="Місце для нижнього колонтитула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nstellatio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80880" y="14479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hat is changing at the same (annual) timescale that we are observing the changing zodiac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o the constellations appear to change positions in the night sky as Earth travels around our Sun throughout the year?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re the constellations themselves moving?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hat causes this apparent change in positions?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o all stars appear in different positions at different times of the year? </a:t>
            </a:r>
            <a:r>
              <a:rPr b="0" lang="en-US" sz="2800" spc="-1" strike="noStrike">
                <a:solidFill>
                  <a:srgbClr val="ffff00"/>
                </a:solidFill>
                <a:latin typeface="Garamond"/>
              </a:rPr>
              <a:t>All except Polari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hy is Polaris the only star that appears “fixed”?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Місце для нижнього колонтитула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nstellatio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80880" y="1447920"/>
            <a:ext cx="83059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hat is changing at the same (annual) timescale that we are observing the changing zodiac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o the constellations appear to change positions in the night sky as Earth travels around our Sun throughout the year?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re the constellations themselves moving?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hat causes this apparent change in positions?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o all stars appear in different positions at different times of the year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hy is Polaris the only star that appears “fixed”? </a:t>
            </a:r>
            <a:r>
              <a:rPr b="0" lang="en-US" sz="2800" spc="-1" strike="noStrike">
                <a:solidFill>
                  <a:srgbClr val="ffff00"/>
                </a:solidFill>
                <a:latin typeface="Garamond"/>
              </a:rPr>
              <a:t>Earth’s axis points to Polari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2" name="Місце для нижнього колонтитула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5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3" descr=""/>
          <p:cNvPicPr/>
          <p:nvPr/>
        </p:nvPicPr>
        <p:blipFill>
          <a:blip r:embed="rId1"/>
          <a:stretch/>
        </p:blipFill>
        <p:spPr>
          <a:xfrm>
            <a:off x="0" y="685800"/>
            <a:ext cx="9144000" cy="61722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7238880"/>
          </a:xfrm>
          <a:prstGeom prst="rect">
            <a:avLst/>
          </a:prstGeom>
          <a:ln w="0">
            <a:noFill/>
          </a:ln>
        </p:spPr>
      </p:pic>
      <p:sp>
        <p:nvSpPr>
          <p:cNvPr id="112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orn under the sign of…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4" name="Picture 5" descr="Earth, Sun, and constellation Leo in alignment."/>
          <p:cNvPicPr/>
          <p:nvPr/>
        </p:nvPicPr>
        <p:blipFill>
          <a:blip r:embed="rId1"/>
          <a:stretch/>
        </p:blipFill>
        <p:spPr>
          <a:xfrm>
            <a:off x="0" y="2230560"/>
            <a:ext cx="9144000" cy="2341440"/>
          </a:xfrm>
          <a:prstGeom prst="rect">
            <a:avLst/>
          </a:prstGeom>
          <a:ln w="0">
            <a:noFill/>
          </a:ln>
        </p:spPr>
      </p:pic>
      <p:sp>
        <p:nvSpPr>
          <p:cNvPr id="115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Greek: Scorpio (</a:t>
            </a:r>
            <a:r>
              <a:rPr b="0" lang="en-US" sz="4400" spc="-1" strike="noStrike">
                <a:solidFill>
                  <a:srgbClr val="e5e5ff"/>
                </a:solidFill>
                <a:latin typeface="Garamond"/>
              </a:rPr>
              <a:t>Oct 23 and 21 Nov 21)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876560" y="160020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 giant scorpion sent forth by Gaia to slay ORION when he threatened to slay all the beasts of the earth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onstellation is “paired” with Orion, which leaves the sky when Scorpio appear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8" name="Picture 5" descr="This is the &lt;a href=&quot;/the_universe/Constellations/summer/scorpio.html&quot;&gt;Greek constellation Scorpius&lt;/a&gt;, the scorpion. It contains a bright star, &lt;a href=&quot;/the_universe/antares.html&quot;&gt;Antares&lt;/a&gt;, that is part of the scorpion's tail.  To the ancient Greeks, Scorpius was related to the death of the hunter &lt;a href=&quot;/mythology/orion.html&quot;&gt;Orion&lt;/a&gt;.&lt;p&gt;&lt;small&gt;&lt;em&gt;&lt;/em&gt;&lt;/small&gt;&lt;/p&gt;"/>
          <p:cNvPicPr/>
          <p:nvPr/>
        </p:nvPicPr>
        <p:blipFill>
          <a:blip r:embed="rId1"/>
          <a:stretch/>
        </p:blipFill>
        <p:spPr>
          <a:xfrm>
            <a:off x="762120" y="2362320"/>
            <a:ext cx="3809880" cy="2857320"/>
          </a:xfrm>
          <a:prstGeom prst="rect">
            <a:avLst/>
          </a:prstGeom>
          <a:ln w="0">
            <a:noFill/>
          </a:ln>
        </p:spPr>
      </p:pic>
      <p:sp>
        <p:nvSpPr>
          <p:cNvPr id="119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Orion the Hunter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114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2" name="Picture 5" descr="210px-Orionurania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04920" y="1295280"/>
            <a:ext cx="3824280" cy="54817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7" descr="File:Orion-guide dark.svg"/>
          <p:cNvPicPr/>
          <p:nvPr/>
        </p:nvPicPr>
        <p:blipFill>
          <a:blip r:embed="rId4"/>
          <a:stretch/>
        </p:blipFill>
        <p:spPr>
          <a:xfrm>
            <a:off x="4572000" y="1447920"/>
            <a:ext cx="4572000" cy="5257800"/>
          </a:xfrm>
          <a:prstGeom prst="rect">
            <a:avLst/>
          </a:prstGeom>
          <a:ln w="0">
            <a:noFill/>
          </a:ln>
        </p:spPr>
      </p:pic>
      <p:sp>
        <p:nvSpPr>
          <p:cNvPr id="124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Lakota: The Hand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191120" y="1447920"/>
            <a:ext cx="49528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7" name="Picture 5" descr="orion_hand_big"/>
          <p:cNvPicPr/>
          <p:nvPr/>
        </p:nvPicPr>
        <p:blipFill>
          <a:blip r:embed="rId1"/>
          <a:stretch/>
        </p:blipFill>
        <p:spPr>
          <a:xfrm>
            <a:off x="380880" y="1600200"/>
            <a:ext cx="3524400" cy="4952880"/>
          </a:xfrm>
          <a:prstGeom prst="rect">
            <a:avLst/>
          </a:prstGeom>
          <a:ln w="0">
            <a:noFill/>
          </a:ln>
        </p:spPr>
      </p:pic>
      <p:sp>
        <p:nvSpPr>
          <p:cNvPr id="128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Design your own constella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nstellatio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80880" y="14479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hat is changing at the same (annual) timescale that we are observing the changing zodiac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4" name="Місце для нижнього колонтитула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nstellatio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80880" y="14479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hat is changing at the same (annual) timescale that we are observing the changing zodiac? </a:t>
            </a:r>
            <a:r>
              <a:rPr b="0" lang="en-US" sz="2800" spc="-1" strike="noStrike">
                <a:solidFill>
                  <a:srgbClr val="ffff00"/>
                </a:solidFill>
                <a:latin typeface="Garamond"/>
              </a:rPr>
              <a:t>Earth’s revolving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o the constellations appear to change positions in the night sky as Earth travels around our Sun throughout the year?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Місце для нижнього колонтитула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0T17:03:08Z</dcterms:created>
  <dc:creator>QuarkNet</dc:creator>
  <dc:description/>
  <dc:language>en-US</dc:language>
  <cp:lastModifiedBy>Legion</cp:lastModifiedBy>
  <dcterms:modified xsi:type="dcterms:W3CDTF">2017-01-26T10:23:26Z</dcterms:modified>
  <cp:revision>6</cp:revision>
  <dc:subject/>
  <dc:title>STARS</dc:title>
</cp:coreProperties>
</file>