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AFBD-D451-4A41-A723-8E1969FCE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425F2-C14A-4F6D-BC40-CA1C4AD8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80893-68BD-4627-BBCF-28FAAB1B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C884-16B5-462D-84E3-D9E3CBE2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79B52-9C0C-4360-9B78-6F68BBB7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887C-F440-4CED-B709-8178412A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C385-5D76-48F9-B982-9241525C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1E94-3270-44D5-8E63-01B96A2E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98C0-7C29-4552-B466-730D6016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AAAB-44D4-4C5F-873B-796276C6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BF09-E902-4C80-8344-760DBF71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DB2F-966A-4CE5-A7AB-357CDECA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FB83-6E5B-49C8-8099-37C11D69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43B7-3FA0-4185-B1C4-AFFFFAC2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F2C9-D99A-40D5-820F-6DC7B58E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628D-D776-410D-9400-07DBF141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0480-BE81-4C95-9765-43945464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B595-8ED3-4784-9CEB-7E880EED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7F77E-02C1-486C-ABCF-67E4D316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543BC-0420-407C-BD49-773B958C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31895-486D-40C4-8812-D5F43274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9212E-C156-49CC-A263-8B8C20C0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7D1F2-8BB9-4937-B1AE-EC9CC583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C45CA-0D8A-4614-AE94-ECB5D841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AD654-72D9-41B8-8E6E-36A41AC7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0ACB-525D-4AD0-849C-56DD39435C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6CDC-2411-431E-8E4F-1C7099B6A6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7-01-26T10:23:26Z</dcterms:modified>
  <cp:revision>6</cp:revision>
  <dc:subject/>
  <dc:title>STARS</dc:title>
</cp:coreProperties>
</file>