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1.jpeg" ContentType="image/jpeg"/>
  <Override PartName="/ppt/media/image16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28.png" ContentType="image/png"/>
  <Override PartName="/ppt/media/image5.png" ContentType="image/pn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FA6C-7240-43EF-B6A1-3D4E8011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, Time and Eins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bsolute space, but we measure space only relative to other objects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for Sir Isaac New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exists an absolute time, but we measure relative time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-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definition of ti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famous 1905 Einstein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ack, lightening struck both train cars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John, lightening struck car B first and then car A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ultaneity is relative - things occurring at the same time at one place may occur at different times in another pla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how do we measure thing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ends out a signal to mark the ends of the train that he’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e point of view of someone on the ground, the signal takes longer(shorter) to reach the right(left) side of the 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simultaneity -&gt; relativity of distance! A moving train appears to be short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signals to talk about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measure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clock that measures time by how long it takes light to bounce back and fort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ity of distance -&gt; relativity of ti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=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way we can measure time and distance is by sending sign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and distanc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st signal travels at the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an travel faster than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objects appear smaller and slower in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effect is really small for everyday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sult of the theory of special relativity: E=mc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protons traveling 99.99995% speed of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m 1000 times thin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clocks that run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the other definition of space (all the stuff up in the sky and in the univers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nstein’s General Rela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ready know that space and time are intertw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distortion of space and time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n orbiting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eroid pulled into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my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ly from New Y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th year graduate student at the University of Chicago, working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uating in a few months with a measurement of the mass of the top quark (ask me what that means if you don’t know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ask questions if something isn’t clea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light is bent by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4160" y="693720"/>
            <a:ext cx="4552920" cy="34146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2960" y="434196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bject moving awa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h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e is expanding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view from the Hubble Space Telescope. Each blob is a galaxy with 100,000,000,000 star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re all moving away from us, and away from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g Bang: The Universe was really tiny at its birth 1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are rel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things look shorter and 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-time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is bent by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shift and blueshift of light is used to detect relative motion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ent universe is expa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want to learn more about the universe, Einstein or smashing protons and anti-protons together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visit Fermilab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ts of fun science demos at the lab’s Lederman Science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e prai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the lab’s bi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e for ask-a-scient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ago (~40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space and tim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ted to our work at Fermi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fully related to things you’re learning in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and astronomy, but also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ally interesting questions about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things happen? In spac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o things happen? In tim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Einste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… he was Einste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ily the greatest physicist and scientist in modern history. One of the great men of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5: Clerk in Patent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older ag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ool b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Einstein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, many discoveries. Easily could have won 3-4 Nobel priz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a really smart ma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talk today about his two theories of relativity (Special Relativity and 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=mc2 (speci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holes (general relativ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(a student’s perspective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iece of paper is 8 inch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1.5 miles from the school to the s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ve to get up at 7 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s is 20 minutes l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distance (such as 1.5 miles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mean by a time (such as 7 am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and time for Aristo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prime mov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known, priviledged being in THE state of perpetual, absolute 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by (x, y, z) coordinate system with respect to the prime m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and clearly 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 is measured by the prime mover’s clo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istotle (384-322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 for Galil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uch things as “absolute res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ws of nature and physics are identical for anybody moving with a constant speed along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ileo Galilei (1564-16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6E9-CCE5-4482-97A1-02709AE4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90A1-5216-4FC3-980F-BE30E1A0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A30-01D1-4D8E-AB26-8725A671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52C-F9BA-409E-A617-BF3ED6F38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2CD-FE50-4E92-81CE-F3C9A8005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48B8-F888-49F4-9161-EAFED025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F5F9-183F-468D-BA17-1C040BF5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E1AB-308E-427C-95D2-36639081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3C4-8B40-46CC-B763-DF326511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6773-79A2-468A-9E8B-BB70E132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5087-15B3-428E-AF44-CC4261D6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6A9D-2B2F-4019-81B5-46D5E714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6EBC-89D2-4F79-AC7D-F7683BB776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b70017"/>
                </a:solidFill>
                <a:latin typeface="Georgia"/>
              </a:rPr>
              <a:t>Space, Time and Einste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solute Space, in its own nature, without regard to any thing external, remains always similar and immovable. Relative Space is some moveable dimension or measure of the absolute spaces; which our senses determine, by its position to bodies; and which is vulgarly taken for immovable space ... And so instead of absolute places and motions, we use relative on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bsolute space, but we measure space only relative to other objects in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1752840" cy="1667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"/>
          <p:cNvPicPr/>
          <p:nvPr/>
        </p:nvPicPr>
        <p:blipFill>
          <a:blip r:embed="rId3"/>
          <a:stretch/>
        </p:blipFill>
        <p:spPr>
          <a:xfrm>
            <a:off x="7162920" y="914400"/>
            <a:ext cx="152280" cy="4572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 flipH="1">
            <a:off x="7086240" y="2666880"/>
            <a:ext cx="152280" cy="76212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ime for Sir Isaac Newt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olute, True, and Mathematical Time … flows equably without regard to any thing external … Relative, Apparent, and Common Time is some sensible and external (whether accurate or unequable) measure of Duration by the means of motion, which is commonly used instead of True time; such as an Hour, a Day, a Month, a Year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MS PGothic"/>
              </a:rPr>
              <a:t>There exists an absolute time, but we measure relative ti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075640" y="63244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saac Newton (1643-17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5638680" y="3479760"/>
            <a:ext cx="28828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3" name="Object 14"/>
              <p:cNvSpPr txBox="1"/>
              <p:nvPr/>
            </p:nvSpPr>
            <p:spPr>
              <a:xfrm>
                <a:off x="6095880" y="1731960"/>
                <a:ext cx="19814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∭"/>
                        <m:supHide m:val="1"/>
                      </m:naryPr>
                      <m:sub>
                        <m:r>
                          <m:t xml:space="preserve">z</m:t>
                        </m:r>
                      </m:sub>
                      <m:sup/>
                      <m:e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iu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-360" y="1142640"/>
            <a:ext cx="5181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Change 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the definition of time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“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It might appear possible to overcome all the difficulties attending the definition of ‘time’ by substituting ‘the position of the small hand of my watch’ for ‘time’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By “ ‘That train arrives here at 7 o’clock,’ I mean something like this: ‘The pointing of the small hand of my watch to 7 and the arrival of the train are simultaneous events’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  <a:ea typeface="PMingLiU"/>
              </a:rPr>
              <a:t>- famous 1905 Einstein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5334120" y="1143000"/>
            <a:ext cx="3784320" cy="49910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wha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Simultaneity_Simplified"/>
          <p:cNvPicPr/>
          <p:nvPr/>
        </p:nvPicPr>
        <p:blipFill>
          <a:blip r:embed="rId1"/>
          <a:srcRect l="3680" t="39142" r="43918" b="0"/>
          <a:stretch/>
        </p:blipFill>
        <p:spPr>
          <a:xfrm>
            <a:off x="152280" y="1216080"/>
            <a:ext cx="5410440" cy="3889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5851440" y="1295280"/>
            <a:ext cx="314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ack, lightening struck both train cars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John, lightening struck car B first and then car A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0" y="571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multaneity is relative - things occurring at the same time at one place may occur at different times in another pla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o how do we measure thing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851440" y="1295280"/>
            <a:ext cx="314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John sends out a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signal</a:t>
            </a: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 to mark the ends of the train that he’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From the point of view of someone on the ground, the signal takes longer(shorter) to reach the right(left) side of the t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simultaneity -&gt; relativity of distance! A moving train appears to be short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Simultaneity_LengthContraction_Simplified"/>
          <p:cNvPicPr/>
          <p:nvPr/>
        </p:nvPicPr>
        <p:blipFill>
          <a:blip r:embed="rId1"/>
          <a:srcRect l="940" t="35579" r="38907" b="9571"/>
          <a:stretch/>
        </p:blipFill>
        <p:spPr>
          <a:xfrm>
            <a:off x="380880" y="1371600"/>
            <a:ext cx="4876920" cy="28195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7"/>
          <p:cNvSpPr/>
          <p:nvPr/>
        </p:nvSpPr>
        <p:spPr>
          <a:xfrm>
            <a:off x="466560" y="4724280"/>
            <a:ext cx="480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Need signals to talk about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c00"/>
                </a:solidFill>
                <a:latin typeface="Georgia"/>
              </a:rPr>
              <a:t>and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How do we measure ti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0" y="4282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Imagine a clock that measures time by how long it takes light to bounce back and forth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ativity of distance -&gt; relativity of tim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TimeDialtion_Simplified"/>
          <p:cNvPicPr/>
          <p:nvPr/>
        </p:nvPicPr>
        <p:blipFill>
          <a:blip r:embed="rId1"/>
          <a:srcRect l="0" t="25201" r="0" b="30330"/>
          <a:stretch/>
        </p:blipFill>
        <p:spPr>
          <a:xfrm>
            <a:off x="152280" y="1316160"/>
            <a:ext cx="8382240" cy="2646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200400" y="19969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c=speed of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Putting it all toget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-360" y="9140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only way we can measure time and distance is by sending sig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and distance are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fastest signal travels at the speed of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Nothing can travel faster than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1"/>
          <a:stretch/>
        </p:blipFill>
        <p:spPr>
          <a:xfrm>
            <a:off x="6121440" y="4419720"/>
            <a:ext cx="3022560" cy="22604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9"/>
          <p:cNvSpPr/>
          <p:nvPr/>
        </p:nvSpPr>
        <p:spPr>
          <a:xfrm>
            <a:off x="0" y="3733920"/>
            <a:ext cx="60958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objects appear smaller and slower i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ut the effect is really small for everyday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A result of the theory of special relativity: E=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Georgi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"/>
          <p:cNvPicPr/>
          <p:nvPr/>
        </p:nvPicPr>
        <p:blipFill>
          <a:blip r:embed="rId1"/>
          <a:srcRect l="278" t="-5412" r="0" b="-1796"/>
          <a:stretch/>
        </p:blipFill>
        <p:spPr>
          <a:xfrm>
            <a:off x="-152280" y="-380880"/>
            <a:ext cx="9448560" cy="69498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0" y="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aff00"/>
                </a:solidFill>
                <a:latin typeface="Georgia"/>
              </a:rPr>
              <a:t>Fermi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48320" y="464832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6"/>
          <p:cNvSpPr/>
          <p:nvPr/>
        </p:nvSpPr>
        <p:spPr>
          <a:xfrm flipH="1" flipV="1">
            <a:off x="4647960" y="5714640"/>
            <a:ext cx="1600200" cy="15228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295800" y="1981080"/>
            <a:ext cx="257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Anti-protons traveling 99.99995% speed of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8"/>
          <p:cNvSpPr/>
          <p:nvPr/>
        </p:nvSpPr>
        <p:spPr>
          <a:xfrm flipH="1">
            <a:off x="3123720" y="2514600"/>
            <a:ext cx="22860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7696080" y="2286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4 m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7238880" y="457200"/>
            <a:ext cx="1067040" cy="914400"/>
          </a:xfrm>
          <a:custGeom>
            <a:avLst/>
            <a:gdLst/>
            <a:ahLst/>
            <a:rect l="l" t="t" r="r" b="b"/>
            <a:pathLst>
              <a:path w="432" h="480">
                <a:moveTo>
                  <a:pt x="0" y="0"/>
                </a:moveTo>
                <a:cubicBezTo>
                  <a:pt x="132" y="104"/>
                  <a:pt x="264" y="208"/>
                  <a:pt x="336" y="288"/>
                </a:cubicBezTo>
                <a:cubicBezTo>
                  <a:pt x="408" y="368"/>
                  <a:pt x="416" y="448"/>
                  <a:pt x="432" y="480"/>
                </a:cubicBezTo>
              </a:path>
            </a:pathLst>
          </a:custGeom>
          <a:noFill/>
          <a:ln w="31680">
            <a:solidFill>
              <a:srgbClr val="fa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 flipH="1">
            <a:off x="8305560" y="1066680"/>
            <a:ext cx="228600" cy="3049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 flipH="1" flipV="1">
            <a:off x="7848720" y="1295280"/>
            <a:ext cx="457200" cy="76320"/>
          </a:xfrm>
          <a:prstGeom prst="line">
            <a:avLst/>
          </a:prstGeom>
          <a:ln w="31680">
            <a:solidFill>
              <a:srgbClr val="fa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-76320" y="447984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he prot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Seem 1000 times thi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Have clocks that run 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Georgia"/>
              </a:rPr>
              <a:t>times s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What about the other definition of space (all the stuff up in the sky and in the univers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instein’s General Rela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0" t="23811" r="0" b="0"/>
          <a:stretch/>
        </p:blipFill>
        <p:spPr>
          <a:xfrm>
            <a:off x="457200" y="3124080"/>
            <a:ext cx="800100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e already know that space and time are intertw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vity is a distortion of space and time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457200" y="26668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Moon orbiting 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472428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steroid pulled into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"/>
          <p:cNvSpPr/>
          <p:nvPr/>
        </p:nvSpPr>
        <p:spPr>
          <a:xfrm>
            <a:off x="6477120" y="3048120"/>
            <a:ext cx="457200" cy="121896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H="1">
            <a:off x="1066680" y="3048120"/>
            <a:ext cx="533520" cy="838080"/>
          </a:xfrm>
          <a:prstGeom prst="line">
            <a:avLst/>
          </a:prstGeom>
          <a:ln w="414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jahred on shift at cdf"/>
          <p:cNvPicPr/>
          <p:nvPr/>
        </p:nvPicPr>
        <p:blipFill>
          <a:blip r:embed="rId1"/>
          <a:srcRect l="0" t="21272" r="0" b="0"/>
          <a:stretch/>
        </p:blipFill>
        <p:spPr>
          <a:xfrm>
            <a:off x="4572000" y="1905120"/>
            <a:ext cx="4572000" cy="27003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About myse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5257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Originally from New Y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5th year graduate student at the University of Chicago, working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Graduating in a few months with a measurement of the mass of the top quark (ask me what that means if you don’t know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461280" y="5068800"/>
            <a:ext cx="268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Georgia"/>
              </a:rPr>
              <a:t>PLEASE ask questions if something isn’t clea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Even light is bent by gravit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228600" y="3048120"/>
            <a:ext cx="54864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5931000" y="1219320"/>
            <a:ext cx="2832120" cy="1917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57" name=""/>
          <p:cNvGraphicFramePr/>
          <p:nvPr/>
        </p:nvGraphicFramePr>
        <p:xfrm>
          <a:off x="533520" y="1295280"/>
          <a:ext cx="5105160" cy="1189080"/>
        </p:xfrm>
        <a:graphic>
          <a:graphicData uri="http://schemas.openxmlformats.org/drawingml/2006/table">
            <a:tbl>
              <a:tblPr/>
              <a:tblGrid>
                <a:gridCol w="51051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The position of a star observed during an eclipse confirmed Einstein’s theo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914400"/>
          <a:ext cx="3124080" cy="4260960"/>
        </p:xfrm>
        <a:graphic>
          <a:graphicData uri="http://schemas.openxmlformats.org/drawingml/2006/table">
            <a:tbl>
              <a:tblPr/>
              <a:tblGrid>
                <a:gridCol w="3124080"/>
              </a:tblGrid>
              <a:tr h="46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Dying stars can become black holes - gravity to an extreme! At some point, even light cannot escap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</a:rPr>
                        <a:t>So named as “black holes” because you cannot see them … but you can see stuff around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1" descr=""/>
          <p:cNvPicPr/>
          <p:nvPr/>
        </p:nvPicPr>
        <p:blipFill>
          <a:blip r:embed="rId1"/>
          <a:stretch/>
        </p:blipFill>
        <p:spPr>
          <a:xfrm>
            <a:off x="3124080" y="1960560"/>
            <a:ext cx="6019920" cy="48974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Black hole evid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0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6153120" cy="453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7010280" y="1676520"/>
          <a:ext cx="2057400" cy="26510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265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Georgia"/>
                          <a:ea typeface="PMingLiU"/>
                        </a:rPr>
                        <a:t>Hubble telescope observing a disk of dust orbiting around a black hole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434340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4876920" cy="357660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4452840" y="6400800"/>
            <a:ext cx="469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stro.ucla.edu/%7Ewright/doppler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80880" y="5122800"/>
            <a:ext cx="5334120" cy="17352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3"/>
          <p:cNvSpPr/>
          <p:nvPr/>
        </p:nvSpPr>
        <p:spPr>
          <a:xfrm>
            <a:off x="6189840" y="273384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c00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Relative motion in the Univer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6276600" y="213372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c00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9"/>
          <p:cNvSpPr/>
          <p:nvPr/>
        </p:nvSpPr>
        <p:spPr>
          <a:xfrm flipH="1">
            <a:off x="5333760" y="2514600"/>
            <a:ext cx="685800" cy="0"/>
          </a:xfrm>
          <a:prstGeom prst="line">
            <a:avLst/>
          </a:prstGeom>
          <a:ln w="38160">
            <a:solidFill>
              <a:srgbClr val="ff0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0"/>
          <p:cNvSpPr/>
          <p:nvPr/>
        </p:nvSpPr>
        <p:spPr>
          <a:xfrm>
            <a:off x="6189840" y="4029120"/>
            <a:ext cx="27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Georgia"/>
              </a:rPr>
              <a:t>(Object moving aw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6276600" y="3429000"/>
            <a:ext cx="22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eorgia"/>
              </a:rPr>
              <a:t>Red sh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"/>
          <p:cNvSpPr/>
          <p:nvPr/>
        </p:nvSpPr>
        <p:spPr>
          <a:xfrm flipH="1">
            <a:off x="5333760" y="3809880"/>
            <a:ext cx="6858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The Universe is expand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Image2"/>
          <p:cNvPicPr/>
          <p:nvPr/>
        </p:nvPicPr>
        <p:blipFill>
          <a:blip r:embed="rId1"/>
          <a:stretch/>
        </p:blipFill>
        <p:spPr>
          <a:xfrm>
            <a:off x="152280" y="1143000"/>
            <a:ext cx="4011840" cy="40114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1"/>
          <p:cNvSpPr/>
          <p:nvPr/>
        </p:nvSpPr>
        <p:spPr>
          <a:xfrm>
            <a:off x="6019920" y="1371600"/>
            <a:ext cx="29494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 small view from the Hubble Space Telescope. Each blob is a galaxy with 100,000,000,000 st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stars are all moving away from us, and away from one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479520" y="6469200"/>
            <a:ext cx="424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52280" y="5867280"/>
            <a:ext cx="883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The Big Bang: The Universe was really tiny at its birth 13.5 billion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umma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 and time are 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oving things look shorter and 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-time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ight is bent by ma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dshift and blueshift of light is used to detect relative motion in the un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present universe is exp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f you want to learn more about the universe, Einstein or smashing protons and anti-protons together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0" y="914040"/>
            <a:ext cx="46483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visit Fermi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Lots of fun science demos at the lab’s Lederman Science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alk the prai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e the lab’s b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me for ask-a-scient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Image1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31874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5" descr=""/>
          <p:cNvPicPr/>
          <p:nvPr/>
        </p:nvPicPr>
        <p:blipFill>
          <a:blip r:embed="rId2"/>
          <a:stretch/>
        </p:blipFill>
        <p:spPr>
          <a:xfrm>
            <a:off x="426708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Fermila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-152280" y="987480"/>
            <a:ext cx="9448560" cy="58705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8"/>
          <p:cNvSpPr/>
          <p:nvPr/>
        </p:nvSpPr>
        <p:spPr>
          <a:xfrm>
            <a:off x="3912120" y="1219320"/>
            <a:ext cx="29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f00"/>
                </a:solidFill>
                <a:latin typeface="Georgia"/>
              </a:rPr>
              <a:t>Chicago (~40 mi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0"/>
          <p:cNvSpPr/>
          <p:nvPr/>
        </p:nvSpPr>
        <p:spPr>
          <a:xfrm flipV="1">
            <a:off x="6781680" y="1066680"/>
            <a:ext cx="152640" cy="914400"/>
          </a:xfrm>
          <a:prstGeom prst="line">
            <a:avLst/>
          </a:prstGeom>
          <a:ln w="19080">
            <a:solidFill>
              <a:srgbClr val="fa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space and time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Related to our work at Fermi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Hopefully related to things you’re learning in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Physics and astronomy, but also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ome really interesting question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re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spac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en do things happen? </a:t>
            </a:r>
            <a:r>
              <a:rPr b="0" lang="en-US" sz="2800" spc="-1" strike="noStrike">
                <a:solidFill>
                  <a:srgbClr val="333399"/>
                </a:solidFill>
                <a:latin typeface="Georgia"/>
                <a:ea typeface="MS PGothic"/>
              </a:rPr>
              <a:t>In tim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y Einstein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ecause … he was Einste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Easily the greatest physicist and scientist in modern history. One of the great men of the 20th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Image1"/>
          <p:cNvPicPr/>
          <p:nvPr/>
        </p:nvPicPr>
        <p:blipFill>
          <a:blip r:embed="rId1"/>
          <a:stretch/>
        </p:blipFill>
        <p:spPr>
          <a:xfrm>
            <a:off x="7178760" y="4022640"/>
            <a:ext cx="1744560" cy="2438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2"/>
          <p:cNvPicPr/>
          <p:nvPr/>
        </p:nvPicPr>
        <p:blipFill>
          <a:blip r:embed="rId2"/>
          <a:stretch/>
        </p:blipFill>
        <p:spPr>
          <a:xfrm>
            <a:off x="3886200" y="4038480"/>
            <a:ext cx="2517840" cy="2819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Image3"/>
          <p:cNvPicPr/>
          <p:nvPr/>
        </p:nvPicPr>
        <p:blipFill>
          <a:blip r:embed="rId3"/>
          <a:stretch/>
        </p:blipFill>
        <p:spPr>
          <a:xfrm>
            <a:off x="0" y="4316400"/>
            <a:ext cx="2743200" cy="2541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032640" y="3641760"/>
            <a:ext cx="363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1905: Clerk in Patent Of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7318800" y="6450120"/>
            <a:ext cx="18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At older 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16200" y="3962520"/>
            <a:ext cx="15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Georgia"/>
              </a:rPr>
              <a:t>School</a:t>
            </a:r>
            <a:r>
              <a:rPr b="1" lang="en-US" sz="2000" spc="-1" strike="noStrike">
                <a:solidFill>
                  <a:srgbClr val="333399"/>
                </a:solidFill>
                <a:latin typeface="Georgia"/>
                <a:ea typeface="PMingLiU"/>
              </a:rPr>
              <a:t> b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b70017"/>
                </a:solidFill>
                <a:latin typeface="Georgia"/>
              </a:rPr>
              <a:t>What did Einstein d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0" y="1371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, many discoveries. Easily could have won 3-4 Nobel p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He was a really smart m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I will talk today about his two theories of </a:t>
            </a:r>
            <a:r>
              <a:rPr b="0" lang="en-US" sz="3200" spc="-1" strike="noStrike">
                <a:solidFill>
                  <a:srgbClr val="333399"/>
                </a:solidFill>
                <a:latin typeface="Georgia"/>
              </a:rPr>
              <a:t>relativity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(Special Relativity and General Relativ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E=mc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  <a:ea typeface="MS PGothic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(speci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Black holes (general relativ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(a student’s perspective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0" y="18288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is piece of paper is 8 inch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t is 1.5 miles from the school to the 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I have to get up at 7 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he bus is 20 minutes 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u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distance (such as 1.5 mile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What do we mean by a time (such as 7 am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clock"/>
          <p:cNvPicPr/>
          <p:nvPr/>
        </p:nvPicPr>
        <p:blipFill>
          <a:blip r:embed="rId1"/>
          <a:stretch/>
        </p:blipFill>
        <p:spPr>
          <a:xfrm>
            <a:off x="5334120" y="3657600"/>
            <a:ext cx="162072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ruler"/>
          <p:cNvPicPr/>
          <p:nvPr/>
        </p:nvPicPr>
        <p:blipFill>
          <a:blip r:embed="rId2"/>
          <a:stretch/>
        </p:blipFill>
        <p:spPr>
          <a:xfrm>
            <a:off x="7620120" y="2057400"/>
            <a:ext cx="1296720" cy="175248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and time for Aristo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-360" y="914400"/>
            <a:ext cx="6095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“prime mov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An unknown, priviledged being in THE state of perpetual, absolute 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Defined by (x, y, z) coordinate system with respect to the prime m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Unique and clear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  <a:ea typeface="MS PGothic"/>
              </a:rPr>
              <a:t>Time is measured by the prime mover’s c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aristotle"/>
          <p:cNvPicPr/>
          <p:nvPr/>
        </p:nvPicPr>
        <p:blipFill>
          <a:blip r:embed="rId1"/>
          <a:stretch/>
        </p:blipFill>
        <p:spPr>
          <a:xfrm>
            <a:off x="6078600" y="1447920"/>
            <a:ext cx="2989080" cy="3886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5867280" y="541008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Aristotle (384-322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70017"/>
                </a:solidFill>
                <a:latin typeface="Georgia"/>
              </a:rPr>
              <a:t>Space for Galile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11430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No such things as “absolute res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laws of nature and physics are identical for anybody moving with a constant speed along a straigh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"/>
          <p:cNvPicPr/>
          <p:nvPr/>
        </p:nvPicPr>
        <p:blipFill>
          <a:blip r:embed="rId1"/>
          <a:srcRect l="0" t="0" r="0" b="-10375"/>
          <a:stretch/>
        </p:blipFill>
        <p:spPr>
          <a:xfrm>
            <a:off x="5626080" y="1295280"/>
            <a:ext cx="3517920" cy="472464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091480" y="5791320"/>
            <a:ext cx="39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eorgia"/>
              </a:rPr>
              <a:t>Galileo Galilei (1564-16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16:35:09Z</dcterms:created>
  <dc:creator>Office 2004 Test Drive User</dc:creator>
  <dc:description/>
  <dc:language>en-US</dc:language>
  <cp:lastModifiedBy>Legion</cp:lastModifiedBy>
  <cp:lastPrinted>2007-05-31T15:07:17Z</cp:lastPrinted>
  <dcterms:modified xsi:type="dcterms:W3CDTF">2017-01-26T10:22:54Z</dcterms:modified>
  <cp:revision>62</cp:revision>
  <dc:subject/>
  <dc:title>Space, Time and Einstein</dc:title>
</cp:coreProperties>
</file>