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5BB6-E359-4444-BF3F-869035C2D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68B-A420-47FD-B423-C0C2EF24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0F0-E49F-4137-8CEA-65781E3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425-8218-4C1D-AB1A-AEF68DA5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240-A024-4420-B6AE-9B0696B7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84C-D26B-4B86-8194-5E337DF1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DC6-AA0D-4FAD-A25D-0A0C9A89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EA6-779D-43A6-9FF0-83ECA07E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67C-27D3-4C72-B06F-23443AC0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410-7D00-4C0B-B176-85707752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C78-5880-4F69-B8AD-B51B24CE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41D-A558-4ED7-BDB8-3F3B2A0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4CF-0405-44D9-8D32-D5667B74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529D-C5EA-4548-BDAD-3A28ED7EC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0017"/>
                </a:solidFill>
                <a:latin typeface="Georgia"/>
              </a:rPr>
              <a:t>Space, Time and Einste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278" t="-5412" r="0" b="-1796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ahred on shift at cdf"/>
          <p:cNvPicPr/>
          <p:nvPr/>
        </p:nvPicPr>
        <p:blipFill>
          <a:blip r:embed="rId1"/>
          <a:srcRect l="0" t="21272" r="0" b="0"/>
          <a:stretch/>
        </p:blipFill>
        <p:spPr>
          <a:xfrm>
            <a:off x="4572000" y="1905120"/>
            <a:ext cx="457200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About my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iginally from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5th year graduate student at the University of Chicago, working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duating in a few months with a measurement of the mass of the top quark (ask me what that means if you don’t kno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61280" y="5068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LEASE ask questions if something isn’t cl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57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7-01-26T10:22:54Z</dcterms:modified>
  <cp:revision>62</cp:revision>
  <dc:subject/>
  <dc:title>Space, Time and Einstein</dc:title>
</cp:coreProperties>
</file>