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B9A-2C0C-4236-8C41-E8DD8DCD7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an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ays in which a mammal gains and loses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 the kidneys are the main organs for regulating the water content in a mam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ADH in the regulation of water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% of our bodies ar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in liquid from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t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  Water + Carbon  + energ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Water + Carbon  +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se water throug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(kidne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eces (easily expell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 of our bodies a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s constant due to our kidney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ittle water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pe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s are controlled by anti-diuretic hormone (ADH) released from the pituitary gland (attached to br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 (a hormone) controls volume of water reabsorbed and returned to bloodstream by kidn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not reabsorbed passes to bladder as urine to be expe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C3A-655E-4DD3-B412-CE5FF216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50C-C19D-4428-8511-E467DC4C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D98-75BB-4703-BA2D-71623CA5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8F4-F8A1-4189-89E3-36D8A9DB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8E5C5-7823-477A-ADCF-F33C89F3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8BE20-3D01-4C21-9565-4713C125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306FF-16C2-40BE-86DD-03B2861A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C5180-3D9A-41F0-9D5E-79A3A93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4C796-4935-45E9-9D66-B34511D3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6A6E8-F4B0-4E6C-A748-0F3EB30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B6903-BF6F-4D57-92BA-6BB7350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296-A5F9-4851-92FF-14CA57B3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94640-CB5E-4D0A-9C36-81E7689E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B04F-411A-4241-ABE4-7C2F7F7A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8D504-A90E-450A-A426-0B43507A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5093E-FE94-432C-8AD1-A046C0B5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7F199-13A4-4778-9B15-2A400C0A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B61-1205-4697-8047-5AC52B07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466-3193-460E-ADAB-7969F1DC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F08-E064-48A6-AE03-CE81277D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8E3-544F-406B-95B2-7790FDC3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48F-711A-424F-89DC-7A6A70E9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59A-98DD-44E2-A868-00B6EE40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73E-E054-4EA0-8210-E8994762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BAFB-73F0-475A-A36A-3ACB3A923A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E44A-8FF2-4DF6-A8FD-2CD728479EC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ffffff"/>
                </a:solidFill>
                <a:latin typeface="Tahoma"/>
              </a:rPr>
              <a:t>Animal survival</a:t>
            </a:r>
            <a:endParaRPr b="0" lang="en-US" sz="10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Water and waste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0" spc="-1" strike="noStrike">
                <a:solidFill>
                  <a:srgbClr val="ffffff"/>
                </a:solidFill>
                <a:latin typeface="Tahoma"/>
              </a:rPr>
              <a:t>Aims of today…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be 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dentify ways in which a mammal gains and loses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te that the kidneys are the main organs for regulating the water content in a mam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xplain the role of ADH in the regulation of water bal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70 % of our bodies are wate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e gain liquid from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40388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ff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itsel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od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emical reaction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905120"/>
          <a:ext cx="4038480" cy="4114800"/>
        </p:xfrm>
        <a:graphic>
          <a:graphicData uri="http://schemas.openxmlformats.org/drawingml/2006/table">
            <a:tbl>
              <a:tblPr/>
              <a:tblGrid>
                <a:gridCol w="2228760"/>
                <a:gridCol w="1809720"/>
              </a:tblGrid>
              <a:tr h="100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% wa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Let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ot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hee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rnflak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ucose + oxygen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+ Carbon  + energy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diox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ffffff"/>
                </a:solidFill>
                <a:latin typeface="Tahoma"/>
              </a:rPr>
              <a:t>We lose water through…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Sweat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Breat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Urine (kidneys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ahoma"/>
              </a:rPr>
              <a:t>Faeces (easily expelled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Water bal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70% of our bodies ar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tays constant due to our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dney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ots of water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ts of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rinking little water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ttle pe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D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idneys are controlled by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nti-diuretic hormon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DH) released from the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ituitary gland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(attached to brai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H (a hormone) controls volume of water reabsorbed and returned to bloodstream by kidn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ater not reabsorbed passes to bladder as urine to be expe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9" name="AutoShape 6"/>
          <p:cNvCxnSpPr>
            <a:stCxn id="106" idx="0"/>
            <a:endCxn id="107" idx="1"/>
          </p:cNvCxnSpPr>
          <p:nvPr/>
        </p:nvCxnSpPr>
        <p:spPr>
          <a:xfrm flipH="1" flipV="1" rot="5400000">
            <a:off x="3854160" y="1415520"/>
            <a:ext cx="2342520" cy="92304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0" name="Text Box 7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1" name="AutoShape 8"/>
          <p:cNvCxnSpPr>
            <a:stCxn id="106" idx="0"/>
            <a:endCxn id="108" idx="3"/>
          </p:cNvCxnSpPr>
          <p:nvPr/>
        </p:nvCxnSpPr>
        <p:spPr>
          <a:xfrm flipV="1" rot="16200000">
            <a:off x="2787480" y="1270800"/>
            <a:ext cx="2265840" cy="12880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Text Box 9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4" name="AutoShape 11"/>
          <p:cNvCxnSpPr>
            <a:stCxn id="108" idx="1"/>
            <a:endCxn id="113" idx="0"/>
          </p:cNvCxnSpPr>
          <p:nvPr/>
        </p:nvCxnSpPr>
        <p:spPr>
          <a:xfrm flipV="1" rot="10800000">
            <a:off x="646920" y="782280"/>
            <a:ext cx="724680" cy="19612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Text Box 12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6" name="AutoShape 13"/>
          <p:cNvCxnSpPr>
            <a:stCxn id="113" idx="2"/>
            <a:endCxn id="115" idx="1"/>
          </p:cNvCxnSpPr>
          <p:nvPr/>
        </p:nvCxnSpPr>
        <p:spPr>
          <a:xfrm flipH="1" rot="16200000">
            <a:off x="167400" y="4151520"/>
            <a:ext cx="1989720" cy="10296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7" name="AutoShape 14"/>
          <p:cNvCxnSpPr>
            <a:stCxn id="115" idx="3"/>
            <a:endCxn id="106" idx="2"/>
          </p:cNvCxnSpPr>
          <p:nvPr/>
        </p:nvCxnSpPr>
        <p:spPr>
          <a:xfrm flipV="1">
            <a:off x="3034800" y="3698640"/>
            <a:ext cx="1529640" cy="196272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Text Box 15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0" name="AutoShape 17"/>
          <p:cNvCxnSpPr>
            <a:stCxn id="107" idx="3"/>
            <a:endCxn id="118" idx="0"/>
          </p:cNvCxnSpPr>
          <p:nvPr/>
        </p:nvCxnSpPr>
        <p:spPr>
          <a:xfrm>
            <a:off x="7467480" y="705960"/>
            <a:ext cx="1013760" cy="218988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18" idx="2"/>
            <a:endCxn id="119" idx="3"/>
          </p:cNvCxnSpPr>
          <p:nvPr/>
        </p:nvCxnSpPr>
        <p:spPr>
          <a:xfrm rot="5400000">
            <a:off x="6969960" y="4073040"/>
            <a:ext cx="1762920" cy="125820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AutoShape 19"/>
          <p:cNvCxnSpPr>
            <a:stCxn id="119" idx="1"/>
            <a:endCxn id="106" idx="2"/>
          </p:cNvCxnSpPr>
          <p:nvPr/>
        </p:nvCxnSpPr>
        <p:spPr>
          <a:xfrm rot="10800000">
            <a:off x="4563360" y="3698280"/>
            <a:ext cx="1303920" cy="1884960"/>
          </a:xfrm>
          <a:prstGeom prst="curved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3" name="Text Box 20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24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6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7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8:17:50Z</dcterms:created>
  <dc:creator>test</dc:creator>
  <dc:description/>
  <dc:language>en-US</dc:language>
  <cp:lastModifiedBy>RomaK</cp:lastModifiedBy>
  <dcterms:modified xsi:type="dcterms:W3CDTF">2015-09-02T05:53:34Z</dcterms:modified>
  <cp:revision>7</cp:revision>
  <dc:subject/>
  <dc:title>Animal survival</dc:title>
</cp:coreProperties>
</file>