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19B3-12C7-4371-93BA-641F6332A8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153-EA4B-43B7-9443-5BF2FA2A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053-FC4B-43F0-9965-B0882478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91C-80B2-4CCD-A143-09A926A5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6EA-AD35-470C-BDCE-E6202405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D76-4612-42CA-8611-CBBBD9CE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3A4-51CD-42C9-90B9-2EDA2705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F659-75CA-4FA3-9861-6EE6AB8E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785-73DB-4A09-81CB-544DEE8D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A1B-B11A-43B0-9034-8009F3F2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7F2-9E70-431E-B415-16B035AD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EB7-6E8B-465F-AD8F-940E764F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6C1-61E8-4079-B9FD-498C6575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00A6-2D25-44A1-B1C0-EF2C5FF73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7-01-26T10:22:12Z</dcterms:modified>
  <cp:revision>146</cp:revision>
  <dc:subject/>
  <dc:title>Introduction to Astronomy</dc:title>
</cp:coreProperties>
</file>