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41.jpeg" ContentType="image/jpeg"/>
  <Override PartName="/ppt/media/image38.jpeg" ContentType="image/jpeg"/>
  <Override PartName="/ppt/media/image34.png" ContentType="image/png"/>
  <Override PartName="/ppt/media/image40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3EC4-EFEA-480F-B773-B8EB9BC9C8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F67-852B-4791-8871-7BC776D8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D12-C2A6-412F-B8D4-F92A7D9E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20B-82BF-4560-ADAD-B6B21075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533-4A62-42E2-B410-CBDBC9A6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C57-A5B8-4FB5-9DAA-2DDD0FE0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2AA-DA92-4481-A2D6-B7294933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1D9-19D3-448B-B379-188C3E76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0D6-E980-4368-82D6-4DC5CC6B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C27-3D90-403D-950F-30D63076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051-BE56-4E39-9F7F-CA8ACB9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2FC-F914-4BE1-9D0B-1F6D5BC6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16F-B0AD-4CEF-8F79-E86679B3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FF87-A715-494A-8FDE-BB110F6A96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2EDB-34A6-4B0C-AF09-BFACD32BA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aether.lbl.gov/www/projects/cobe/cmb_fluctuations_big.jpg"/>
          <p:cNvPicPr/>
          <p:nvPr/>
        </p:nvPicPr>
        <p:blipFill>
          <a:blip r:embed="rId1"/>
          <a:stretch/>
        </p:blipFill>
        <p:spPr>
          <a:xfrm>
            <a:off x="5715000" y="4137120"/>
            <a:ext cx="327672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cv.nrao.edu/course/astr534/images/VLA.jpg"/>
          <p:cNvPicPr/>
          <p:nvPr/>
        </p:nvPicPr>
        <p:blipFill>
          <a:blip r:embed="rId2"/>
          <a:stretch/>
        </p:blipFill>
        <p:spPr>
          <a:xfrm>
            <a:off x="246240" y="4108320"/>
            <a:ext cx="29541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oneminuteastronomer.com/wp-content/uploads/2008/06/Grote-Reber-Radio-Telescope.jpg"/>
          <p:cNvPicPr/>
          <p:nvPr/>
        </p:nvPicPr>
        <p:blipFill>
          <a:blip r:embed="rId3"/>
          <a:stretch/>
        </p:blipFill>
        <p:spPr>
          <a:xfrm>
            <a:off x="7086600" y="136440"/>
            <a:ext cx="1990800" cy="247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nasa.gov/images/content/230240main_Pulsar1_sm.jpg"/>
          <p:cNvPicPr/>
          <p:nvPr/>
        </p:nvPicPr>
        <p:blipFill>
          <a:blip r:embed="rId4"/>
          <a:stretch/>
        </p:blipFill>
        <p:spPr>
          <a:xfrm>
            <a:off x="130320" y="76320"/>
            <a:ext cx="19508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335268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amazing-space.stsci.edu/resources/explorations/groundup/lesson/bios/reber/graphics/bio_reber.jpg"/>
          <p:cNvPicPr/>
          <p:nvPr/>
        </p:nvPicPr>
        <p:blipFill>
          <a:blip r:embed="rId1"/>
          <a:stretch/>
        </p:blipFill>
        <p:spPr>
          <a:xfrm>
            <a:off x="6324480" y="1219320"/>
            <a:ext cx="2362320" cy="3016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409800" y="423540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www.oneminuteastronomer.com/wp-content/uploads/2008/06/Grote-Reber-Radio-Telescope.jpg"/>
          <p:cNvPicPr/>
          <p:nvPr/>
        </p:nvPicPr>
        <p:blipFill>
          <a:blip r:embed="rId2"/>
          <a:stretch/>
        </p:blipFill>
        <p:spPr>
          <a:xfrm>
            <a:off x="3660840" y="3429000"/>
            <a:ext cx="257184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ile:Reber Plaque.JPG"/>
          <p:cNvPicPr/>
          <p:nvPr/>
        </p:nvPicPr>
        <p:blipFill>
          <a:blip r:embed="rId3"/>
          <a:stretch/>
        </p:blipFill>
        <p:spPr>
          <a:xfrm>
            <a:off x="150840" y="1219320"/>
            <a:ext cx="6478560" cy="5322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2640"/>
            <a:ext cx="4419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pload.wikimedia.org/wikipedia/en/a/af/Arecibo_Observatory.jpg"/>
          <p:cNvPicPr/>
          <p:nvPr/>
        </p:nvPicPr>
        <p:blipFill>
          <a:blip r:embed="rId1"/>
          <a:stretch/>
        </p:blipFill>
        <p:spPr>
          <a:xfrm>
            <a:off x="5373720" y="114300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on.br/glossario/alfabeto/v/imagens/vla3_grande.jpg"/>
          <p:cNvPicPr/>
          <p:nvPr/>
        </p:nvPicPr>
        <p:blipFill>
          <a:blip r:embed="rId2"/>
          <a:stretch/>
        </p:blipFill>
        <p:spPr>
          <a:xfrm>
            <a:off x="5257800" y="4098960"/>
            <a:ext cx="3660840" cy="27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427280" y="15778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602160" y="5904000"/>
            <a:ext cx="16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406440" y="2209680"/>
            <a:ext cx="3882960" cy="361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oscowtopnews.com/image/article/1/1/6/2116.jpeg"/>
          <p:cNvPicPr/>
          <p:nvPr/>
        </p:nvPicPr>
        <p:blipFill>
          <a:blip r:embed="rId2"/>
          <a:stretch/>
        </p:blipFill>
        <p:spPr>
          <a:xfrm>
            <a:off x="4876920" y="2209680"/>
            <a:ext cx="3654360" cy="365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766080" y="60148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3880" y="601488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upload.wikimedia.org/wikipedia/commons/thumb/6/62/Magellan_deploy.jpg/256px-Magellan_deploy.jpg"/>
          <p:cNvPicPr/>
          <p:nvPr/>
        </p:nvPicPr>
        <p:blipFill>
          <a:blip r:embed="rId3"/>
          <a:stretch/>
        </p:blipFill>
        <p:spPr>
          <a:xfrm>
            <a:off x="3817800" y="1523880"/>
            <a:ext cx="2886120" cy="28749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mpifr-bonn.mpg.de/public/pr/m31co.23.2.jpg"/>
          <p:cNvPicPr/>
          <p:nvPr/>
        </p:nvPicPr>
        <p:blipFill>
          <a:blip r:embed="rId1"/>
          <a:stretch/>
        </p:blipFill>
        <p:spPr>
          <a:xfrm>
            <a:off x="3429000" y="1268280"/>
            <a:ext cx="2894040" cy="328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mpifr-bonn.mpg.de/public/pr/m31.opt.jpg"/>
          <p:cNvPicPr/>
          <p:nvPr/>
        </p:nvPicPr>
        <p:blipFill>
          <a:blip r:embed="rId2"/>
          <a:stretch/>
        </p:blipFill>
        <p:spPr>
          <a:xfrm>
            <a:off x="457200" y="1298520"/>
            <a:ext cx="266688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609480" y="45561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ttp://www.mpifr-bonn.mpg.de/public/pr/picoveleta_medium.jpg"/>
          <p:cNvPicPr/>
          <p:nvPr/>
        </p:nvPicPr>
        <p:blipFill>
          <a:blip r:embed="rId3"/>
          <a:stretch/>
        </p:blipFill>
        <p:spPr>
          <a:xfrm>
            <a:off x="5897520" y="108756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www.mpifr-bonn.mpg.de/public/pr/m31_co_vers2.jpg"/>
          <p:cNvPicPr/>
          <p:nvPr/>
        </p:nvPicPr>
        <p:blipFill>
          <a:blip r:embed="rId4"/>
          <a:stretch/>
        </p:blipFill>
        <p:spPr>
          <a:xfrm>
            <a:off x="6559560" y="1152360"/>
            <a:ext cx="2462040" cy="525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867720" y="647712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4960" y="2743200"/>
            <a:ext cx="1733760" cy="24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57320" y="1195560"/>
            <a:ext cx="466272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971720" y="3581280"/>
            <a:ext cx="38275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971800" cy="189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31291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http://www.nasa.gov/images/content/230240main_Pulsar1_sm.jpg"/>
          <p:cNvPicPr/>
          <p:nvPr/>
        </p:nvPicPr>
        <p:blipFill>
          <a:blip r:embed="rId1"/>
          <a:stretch/>
        </p:blipFill>
        <p:spPr>
          <a:xfrm>
            <a:off x="4290840" y="1109520"/>
            <a:ext cx="2695680" cy="21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outreach.atnf.csiro.au/education/everyone/pulsars/jocelyn.jpg"/>
          <p:cNvPicPr/>
          <p:nvPr/>
        </p:nvPicPr>
        <p:blipFill>
          <a:blip r:embed="rId2"/>
          <a:stretch/>
        </p:blipFill>
        <p:spPr>
          <a:xfrm>
            <a:off x="6372360" y="2971800"/>
            <a:ext cx="2624040" cy="23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v.nrao.edu/course/astr534/images/PSRs_discovery.jpg"/>
          <p:cNvPicPr/>
          <p:nvPr/>
        </p:nvPicPr>
        <p:blipFill>
          <a:blip r:embed="rId3"/>
          <a:stretch/>
        </p:blipFill>
        <p:spPr>
          <a:xfrm>
            <a:off x="106200" y="2590920"/>
            <a:ext cx="5380200" cy="26035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http://www.uu.nl/faculty/science/EN/research/researchinstitutes/aiu/research/PublishingImages/casa_jet_si_radio.jpg"/>
          <p:cNvPicPr/>
          <p:nvPr/>
        </p:nvPicPr>
        <p:blipFill>
          <a:blip r:embed="rId1"/>
          <a:stretch/>
        </p:blipFill>
        <p:spPr>
          <a:xfrm>
            <a:off x="115920" y="1263600"/>
            <a:ext cx="43178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astro.psu.edu/users/niel/astro1/slideshows/class29/010-TYCHO_RADIO_SUPERNOVA.jpg"/>
          <p:cNvPicPr/>
          <p:nvPr/>
        </p:nvPicPr>
        <p:blipFill>
          <a:blip r:embed="rId2"/>
          <a:stretch/>
        </p:blipFill>
        <p:spPr>
          <a:xfrm>
            <a:off x="4465800" y="1263600"/>
            <a:ext cx="46782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607320" y="43322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www.nrao.edu/pr/2004/filaments/center.JPG"/>
          <p:cNvPicPr/>
          <p:nvPr/>
        </p:nvPicPr>
        <p:blipFill>
          <a:blip r:embed="rId1"/>
          <a:stretch/>
        </p:blipFill>
        <p:spPr>
          <a:xfrm>
            <a:off x="228600" y="1049400"/>
            <a:ext cx="8229600" cy="41828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4" descr=""/>
          <p:cNvPicPr/>
          <p:nvPr/>
        </p:nvPicPr>
        <p:blipFill>
          <a:blip r:embed="rId2"/>
          <a:stretch/>
        </p:blipFill>
        <p:spPr>
          <a:xfrm>
            <a:off x="8504280" y="901800"/>
            <a:ext cx="401760" cy="44751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chandra.harvard.edu/photo/2002/gcenter/gcenter_xray_ir_r.jpg"/>
          <p:cNvPicPr/>
          <p:nvPr/>
        </p:nvPicPr>
        <p:blipFill>
          <a:blip r:embed="rId1"/>
          <a:stretch/>
        </p:blipFill>
        <p:spPr>
          <a:xfrm>
            <a:off x="-304920" y="1292400"/>
            <a:ext cx="9536400" cy="36986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physics.udel.edu/~watson/phys208/formulas/maxwell.gif"/>
          <p:cNvPicPr/>
          <p:nvPr/>
        </p:nvPicPr>
        <p:blipFill>
          <a:blip r:embed="rId1"/>
          <a:stretch/>
        </p:blipFill>
        <p:spPr>
          <a:xfrm>
            <a:off x="5867280" y="1874880"/>
            <a:ext cx="2743200" cy="184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nrc-cnrc.gc.ca/obj/inms-ienm/images/research_images/optical_comb/COMBFIG1.gif"/>
          <p:cNvPicPr/>
          <p:nvPr/>
        </p:nvPicPr>
        <p:blipFill>
          <a:blip r:embed="rId2"/>
          <a:stretch/>
        </p:blipFill>
        <p:spPr>
          <a:xfrm>
            <a:off x="1295280" y="2971800"/>
            <a:ext cx="3838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89440" y="2666880"/>
            <a:ext cx="3048120" cy="105732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"/>
          <p:cNvCxnSpPr>
            <a:stCxn id="60" idx="1"/>
          </p:cNvCxnSpPr>
          <p:nvPr/>
        </p:nvCxnSpPr>
        <p:spPr>
          <a:xfrm flipH="1">
            <a:off x="3885480" y="3195720"/>
            <a:ext cx="1803960" cy="1072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gtn.sonoma.edu/images/cenA.jpg"/>
          <p:cNvPicPr/>
          <p:nvPr/>
        </p:nvPicPr>
        <p:blipFill>
          <a:blip r:embed="rId1"/>
          <a:stretch/>
        </p:blipFill>
        <p:spPr>
          <a:xfrm>
            <a:off x="15228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43000" y="536904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outreach.atnf.csiro.au/images/astronomical/images/pks2356-61.gif"/>
          <p:cNvPicPr/>
          <p:nvPr/>
        </p:nvPicPr>
        <p:blipFill>
          <a:blip r:embed="rId2"/>
          <a:stretch/>
        </p:blipFill>
        <p:spPr>
          <a:xfrm>
            <a:off x="4724280" y="1295280"/>
            <a:ext cx="407988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876920" y="548640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www.starstryder.com/wp-content/uploads/2007/05/wmap_skymap.jpg"/>
          <p:cNvPicPr/>
          <p:nvPr/>
        </p:nvPicPr>
        <p:blipFill>
          <a:blip r:embed="rId1"/>
          <a:stretch/>
        </p:blipFill>
        <p:spPr>
          <a:xfrm>
            <a:off x="152280" y="3994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ww.nps.gov/history/history/online_books/butowsky5/images/astro4k2.jpg"/>
          <p:cNvPicPr/>
          <p:nvPr/>
        </p:nvPicPr>
        <p:blipFill>
          <a:blip r:embed="rId2"/>
          <a:stretch/>
        </p:blipFill>
        <p:spPr>
          <a:xfrm>
            <a:off x="5486400" y="1371600"/>
            <a:ext cx="36291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5943600" y="4495680"/>
            <a:ext cx="3048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univers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13.7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movie-poster.ws/movies/wallpaper/scifi/et/et2.jpg"/>
          <p:cNvPicPr/>
          <p:nvPr/>
        </p:nvPicPr>
        <p:blipFill>
          <a:blip r:embed="rId1"/>
          <a:stretch/>
        </p:blipFill>
        <p:spPr>
          <a:xfrm>
            <a:off x="4114800" y="33526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197240" y="4878360"/>
            <a:ext cx="933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provides a valuable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information about the univer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33720" y="2495520"/>
            <a:ext cx="69213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4400" y="1407960"/>
            <a:ext cx="728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leng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80" y="38862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: Curi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t3.gstatic.com/images?q=tbn:ANd9GcQI3pr7GpijWjjRD1K-rTKEas52vPCEtN07b581KXLcS2Nn8Os8zA"/>
          <p:cNvPicPr/>
          <p:nvPr/>
        </p:nvPicPr>
        <p:blipFill>
          <a:blip r:embed="rId1"/>
          <a:stretch/>
        </p:blipFill>
        <p:spPr>
          <a:xfrm>
            <a:off x="6858000" y="1143000"/>
            <a:ext cx="100332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25760" cy="19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404040" y="3933720"/>
            <a:ext cx="2286000" cy="182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95880" y="1071720"/>
            <a:ext cx="1716120" cy="1539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9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52388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2584440"/>
            <a:ext cx="2666880" cy="1231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upload.wikimedia.org/wikipedia/commons/4/4c/Karl_Jansky.jpg"/>
          <p:cNvPicPr/>
          <p:nvPr/>
        </p:nvPicPr>
        <p:blipFill>
          <a:blip r:embed="rId1"/>
          <a:stretch/>
        </p:blipFill>
        <p:spPr>
          <a:xfrm>
            <a:off x="6897600" y="914400"/>
            <a:ext cx="196524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rao.edu/whatisra/images/jansky1.gif"/>
          <p:cNvPicPr/>
          <p:nvPr/>
        </p:nvPicPr>
        <p:blipFill>
          <a:blip r:embed="rId2"/>
          <a:stretch/>
        </p:blipFill>
        <p:spPr>
          <a:xfrm>
            <a:off x="4818240" y="3657600"/>
            <a:ext cx="4157640" cy="307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967080" y="3394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ile:Janksy Karl radio telescope.jpg"/>
          <p:cNvPicPr/>
          <p:nvPr/>
        </p:nvPicPr>
        <p:blipFill>
          <a:blip r:embed="rId3"/>
          <a:stretch/>
        </p:blipFill>
        <p:spPr>
          <a:xfrm>
            <a:off x="1447920" y="1447920"/>
            <a:ext cx="593244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techbuddha.files.wordpress.com/2009/09/nobody_knows_you.jpg"/>
          <p:cNvPicPr/>
          <p:nvPr/>
        </p:nvPicPr>
        <p:blipFill>
          <a:blip r:embed="rId1"/>
          <a:stretch/>
        </p:blipFill>
        <p:spPr>
          <a:xfrm>
            <a:off x="5130720" y="25146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33:51Z</dcterms:created>
  <dc:creator>Jeremy P. Carlo</dc:creator>
  <dc:description/>
  <dc:language>en-US</dc:language>
  <cp:lastModifiedBy>Legion</cp:lastModifiedBy>
  <dcterms:modified xsi:type="dcterms:W3CDTF">2017-01-26T10:20:22Z</dcterms:modified>
  <cp:revision>36</cp:revision>
  <dc:subject/>
  <dc:title>Radio Astronomy: Listening to the Sky</dc:title>
</cp:coreProperties>
</file>