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42.png" ContentType="image/png"/>
  <Override PartName="/ppt/media/image21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9.jpeg" ContentType="image/jpeg"/>
  <Override PartName="/ppt/media/image5.png" ContentType="image/png"/>
  <Override PartName="/ppt/media/image35.png" ContentType="image/png"/>
  <Override PartName="/ppt/media/image43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41.jpeg" ContentType="image/jpeg"/>
  <Override PartName="/ppt/media/image38.jpeg" ContentType="image/jpeg"/>
  <Override PartName="/ppt/media/image34.png" ContentType="image/png"/>
  <Override PartName="/ppt/media/image40.jpeg" ContentType="image/jpeg"/>
  <Override PartName="/ppt/media/image13.png" ContentType="image/png"/>
  <Override PartName="/ppt/media/image33.png" ContentType="image/png"/>
  <Override PartName="/ppt/media/image39.jpeg" ContentType="image/jpeg"/>
  <Override PartName="/ppt/media/image8.png" ContentType="image/png"/>
  <Override PartName="/ppt/media/image44.jpeg" ContentType="image/jpeg"/>
  <Override PartName="/ppt/media/image45.png" ContentType="image/png"/>
  <Override PartName="/ppt/media/image46.jpeg" ContentType="image/jpeg"/>
  <Override PartName="/ppt/media/image31.png" ContentType="image/png"/>
  <Override PartName="/ppt/media/image47.jpeg" ContentType="image/jpeg"/>
  <Override PartName="/ppt/media/image48.jpeg" ContentType="image/jpeg"/>
  <Override PartName="/ppt/media/image20.jpeg" ContentType="image/jpeg"/>
  <Override PartName="/ppt/media/image7.png" ContentType="image/png"/>
  <Override PartName="/ppt/media/image22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36.png" ContentType="image/png"/>
  <Override PartName="/ppt/media/image4.jpeg" ContentType="image/jpeg"/>
  <Override PartName="/ppt/media/image32.png" ContentType="image/png"/>
  <Override PartName="/ppt/media/image25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0DF5-B1F7-4665-9AFD-807E9A399F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Astronom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ening to the Sk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remy P. Carl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2ZL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nfrew County Amateur Radio Clu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uary 17,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Astronom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ing to the 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remy P. Carl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2ZL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frew County Amateur Radio Cl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17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(Re)birth of radio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te Reber, W9GF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t a 9m parabolic dis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his backyard in 19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ucted firs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-sky radi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vey, 194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his wor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me a post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boom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te Reber (1911-200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(Re)birth of radio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te Reber, W9GF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a 9m parabolic dis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his backyard in 19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ed firs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-sky radi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ey, 19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his wor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e a post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boo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te Reber (1911-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ter adv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d wavelength r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amp; integration with studies at other wavelengths: visible, IR, x-ray, gam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r dishes = more sensi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ometry = better angular re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al nature of radio waves: they probe both sedate, slow processes, and some of the most energetic phenomena in the univers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adv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wavelength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integration with studies at other wavelengths: visible, IR, x-ray, gam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r dishes = more sensi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erometry = better angular 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al nature of radio waves: they probe both sedate, slow processes, and some of the most energetic phenomena in the univers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Astronomy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observatories spanning the gl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-area dishes for high sensi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emely high resolution via interfer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rdination between observatories for continuous observ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rdination of observatories at different wavelength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cing of solar activity crucial to “space weather” forecasting for the health of satellites &amp; electronic equipmen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cibo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r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Large Array (VLA), New Mexi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Astronomy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observatories spanning the gl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-area dishes for high sensi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ly high resolution via interfer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ination between observatories for continuous observ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ination of observatories at different waveleng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ing of solar activity crucial to “space weather” forecasting for the health of satellites &amp; electronic equipm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cib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r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Large Array (VLA), New Mex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Planets with RAD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: surface obscured by permanent clou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ar map by Magellan satell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ble light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ping Planets with RA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: surface obscured by permanent clou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ar map by Magellan satell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ble light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Cold Gas in Galax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ce out star formation in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ce out dynamics of gas clou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31 visible light image             M31 in radio at CO reson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5 G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ppler m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ping Cold Gas in Galax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 out star formation in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 out dynamics of gas clou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31 visible light image             M31 in radio at CO reso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5 G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ppler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the Stellar Life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ping the Stellar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sars: Timekeepers of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on sta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etical idea fro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wicky (1930’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celyn Bell Burnell &amp; Antony Hewish, 196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bel Prize (Hewish), 19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sars: Timekeepers of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 sta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tical idea fro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wicky (1930’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celyn Bell Burnell &amp; Antony Hewish, 196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el Prize (Hewish), 19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ernova Remn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emission from shock front: expanding material striking interstellar med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is the best tool for detecting new SN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seiopeia A Supernova Remnant                           Tycho’s Supernova Rem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nova Rem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emission from shock front: expanding material striking interstellar me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is the best tool for detecting new SN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seiopeia A Supernova Remnant                           Tycho’s Supernova Rem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lactic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visible wavelengths this region is obscured by dus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gr A = galactic center (supermassive black ho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bined VLA / Green Bank Telescope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visible wavelengths this region is obscured by du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r A = galactic center (supermassive black ho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d VLA / Green Bank Telescop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lactic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wavelength overl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= radio, green = infrared, blue = x-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wavelength over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= radio, green = infrared, blue = 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y: Maxwell (1860s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as special case of 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magnetic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y: Maxwell (1860s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as special case of 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Galaxies: Supermassive Black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aurus A (NGC 5128), overlay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and visible im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KS 2536-61.  Radio (red), optical (blu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Galaxies: Supermassive Black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aurus A (NGC 5128), overlay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and visible 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KS 2536-61.  Radio (red), optical (blu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MB:  Echo of the Big Ba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y prediction of Big Bang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ak ~ 200 G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zias &amp; Wilson, 196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76 Nobel Pr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BE (1989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6 Nobel Prize, Smoot &amp; Ma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MAP (2001), Planck (200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ze scale and inten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se fluctuations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ingent limits on cosmological mod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niverse = 13.7 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MB:  Echo of the Big Ba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rediction of Big Bang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k ~ 200 G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zias &amp; Wilson, 196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76 Nobel Pr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BE (1989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6 Nobel Prize, Smoot &amp; M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MAP (2001), Planck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ze scale and int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se fluctuations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ingent limits on cosmological mod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iverse = 13.7 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TI: The Search for Intelligent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osed ~ 1960: use radio/microwave frequencies to listen for signals from extraterrestrial civilizations, or send signals for them to receiv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ry’s still ou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I: The Search for Intelligent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~ 1960: use radio/microwave frequencies to listen for signals from extraterrestrial civilizations, or send signals for them to receiv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ry’s still ou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provides a valuable and unique source of information about the univers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ar mapping of moon &amp; 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ing solar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cing cold gas clouds &amp; star forming 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ing “through” dust &amp; gas to distant obj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angular resolution through interfer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cting expired stars &amp; stellar remn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cision cosmology via the CMB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provides a valuable and unique source of information about the univer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ar mapping of moon &amp; pla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sola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ing cold gas clouds &amp; star forming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ing “through” dust &amp; gas to distant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angular resolution through interfer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cting expired stars &amp; stellar rem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ision cosmology via the CM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zed b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length 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cy 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amp; constant speed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w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magnetic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zed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constant speed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ravio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: late 1700’s/early 1800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s: Roentgen – cathode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: Curies et al. – radio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: experiments start with Hertz (1880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mission/reception of radio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Marconi, Tesla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using radio waves for astronom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magnetic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rared: late 1700’s/early 1800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-rays: Roentgen – cathode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ma: Curies et al. – radio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: experiments start with Hertz (1880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ssion/reception of radio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Marconi, Tesla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using radio waves for astronom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ion of Radio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terrestrial) currents in 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ssed E, B, field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reson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-energy electronic tran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tational/vibrational mo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(e.g. hyperfine) inte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nchrotron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of charged p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B fields, high energies!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, other types of EM radi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that have been Doppler shifte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Radio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errestrial) currents in w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ed E, B, field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reson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-energy electronic tran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tational/vibrational m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(e.g. hyperfine) inte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tron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 of charged p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B fields, high energies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, other types of EM radi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that have been Doppler shift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 Radiation in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some EM radiation ge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ough the earth’s atm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ow” for visible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ome IR als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window in radi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tty much everything else requires satelli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 little can be done with high-altitude balloo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 Radiation in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some EM radiation ge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ugh the earth’s atmosp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” for visible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ome IR als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window in radi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tty much everything else requires satelli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little can be done with high-altitude ballo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 Radiation in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 until ~1900 only visible ligh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ronomy was don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there’s so much more to “see!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 Radiation in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 until ~1900 only visible ligh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omy was do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re’s so much more to “see!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rth of Radio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astronomical radio ob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l Jansky, 1932-1933 (Bell Lab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stigate sources of radio no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erable phased array at 20.5 M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ts due to thunderst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signal that repea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da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ot exactly… 23h 56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identified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ctic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upermassive black hole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l Jansky, 1905-19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rth of Radio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astronomical radio 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rl Jansky, 1932-1933 (Bell Lab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gate sources of radio n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rable phased array at 20.5 M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due to thunderst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signal that repea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da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t exactly… 23h 56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dentified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upermassive black hole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rl Jansky, 1905-19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rth of Radio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l Labs was satisfied with Jansky’s identification of QRN sources… no more studies need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rth of Radio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l Labs was satisfied with Jansky’s identification of QRN sources… no more studies need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D0B2-5A41-446E-97DB-3F0A419BB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9F18-5CAA-4A70-8C48-CEFCF955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9FA2-1E99-4216-B11F-FF565D151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D6C6-C533-49EE-BE17-715C286BA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8936-E227-4E58-A2D7-B34AECDC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AC79-555E-4249-B929-37CFF1D8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D87B-5550-4A25-AFFD-BB91B962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D2CA-C620-490B-803E-4AB28BD4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5BD0-2DEF-4846-8DBE-01F6A9D1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9038-C5BC-4C35-BCE2-EAB02DD0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17F5-109F-48CE-8D35-0DAC7836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1CF4-01DF-4CB2-B235-15C84224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FAD6-4E11-44BE-90AD-6667E50080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C8C2-E447-45F4-98FF-D1F1AAB442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Radio Astronomy</a:t>
            </a:r>
            <a:br>
              <a:rPr sz="60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Listening to the Sk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58128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http://aether.lbl.gov/www/projects/cobe/cmb_fluctuations_big.jpg"/>
          <p:cNvPicPr/>
          <p:nvPr/>
        </p:nvPicPr>
        <p:blipFill>
          <a:blip r:embed="rId1"/>
          <a:stretch/>
        </p:blipFill>
        <p:spPr>
          <a:xfrm>
            <a:off x="5715000" y="4137120"/>
            <a:ext cx="3276720" cy="1909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www.cv.nrao.edu/course/astr534/images/VLA.jpg"/>
          <p:cNvPicPr/>
          <p:nvPr/>
        </p:nvPicPr>
        <p:blipFill>
          <a:blip r:embed="rId2"/>
          <a:stretch/>
        </p:blipFill>
        <p:spPr>
          <a:xfrm>
            <a:off x="246240" y="4108320"/>
            <a:ext cx="2954160" cy="1967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ttp://www.oneminuteastronomer.com/wp-content/uploads/2008/06/Grote-Reber-Radio-Telescope.jpg"/>
          <p:cNvPicPr/>
          <p:nvPr/>
        </p:nvPicPr>
        <p:blipFill>
          <a:blip r:embed="rId3"/>
          <a:stretch/>
        </p:blipFill>
        <p:spPr>
          <a:xfrm>
            <a:off x="7086600" y="136440"/>
            <a:ext cx="1990800" cy="2478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http://www.nasa.gov/images/content/230240main_Pulsar1_sm.jpg"/>
          <p:cNvPicPr/>
          <p:nvPr/>
        </p:nvPicPr>
        <p:blipFill>
          <a:blip r:embed="rId4"/>
          <a:stretch/>
        </p:blipFill>
        <p:spPr>
          <a:xfrm>
            <a:off x="130320" y="76320"/>
            <a:ext cx="1950840" cy="2438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5"/>
          <a:stretch/>
        </p:blipFill>
        <p:spPr>
          <a:xfrm>
            <a:off x="2819520" y="2057400"/>
            <a:ext cx="3352680" cy="150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(Re)birth of radio astr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te Reber, W9GF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t a 9m parabolic dish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his backyard in 193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ducted firs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-sky radi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vey, 194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ter his work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me a post-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r boom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http://amazing-space.stsci.edu/resources/explorations/groundup/lesson/bios/reber/graphics/bio_reber.jpg"/>
          <p:cNvPicPr/>
          <p:nvPr/>
        </p:nvPicPr>
        <p:blipFill>
          <a:blip r:embed="rId1"/>
          <a:stretch/>
        </p:blipFill>
        <p:spPr>
          <a:xfrm>
            <a:off x="6324480" y="1219320"/>
            <a:ext cx="2362320" cy="30160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6409800" y="4235400"/>
            <a:ext cx="198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rote Reber (1911-200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http://www.oneminuteastronomer.com/wp-content/uploads/2008/06/Grote-Reber-Radio-Telescope.jpg"/>
          <p:cNvPicPr/>
          <p:nvPr/>
        </p:nvPicPr>
        <p:blipFill>
          <a:blip r:embed="rId2"/>
          <a:stretch/>
        </p:blipFill>
        <p:spPr>
          <a:xfrm>
            <a:off x="3660840" y="3429000"/>
            <a:ext cx="2571840" cy="3200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File:Reber Plaque.JPG"/>
          <p:cNvPicPr/>
          <p:nvPr/>
        </p:nvPicPr>
        <p:blipFill>
          <a:blip r:embed="rId3"/>
          <a:stretch/>
        </p:blipFill>
        <p:spPr>
          <a:xfrm>
            <a:off x="150840" y="1219320"/>
            <a:ext cx="6478560" cy="53226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ter adva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d wavelength r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amp; integration with studies at other wavelengths: visible, IR, x-ray, gam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r dishes = more sensi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ferometry = better angular re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al nature of radio waves: they probe both sedate, slow processes, and some of the most energetic phenomena in the univers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o Astronomy To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1920" y="1142640"/>
            <a:ext cx="4419720" cy="55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ny observatories spanning the glob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arge-area dishes for high sensitiv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tremely high resolution via interferometr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ordination between observatories for continuous observatio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ordination of observatories at different wavelengths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racing of solar activity crucial to “space weather” forecasting for the health of satellites &amp; electronic equipment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http://upload.wikimedia.org/wikipedia/en/a/af/Arecibo_Observatory.jpg"/>
          <p:cNvPicPr/>
          <p:nvPr/>
        </p:nvPicPr>
        <p:blipFill>
          <a:blip r:embed="rId1"/>
          <a:stretch/>
        </p:blipFill>
        <p:spPr>
          <a:xfrm>
            <a:off x="5373720" y="1143000"/>
            <a:ext cx="3429000" cy="2716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http://www.on.br/glossario/alfabeto/v/imagens/vla3_grande.jpg"/>
          <p:cNvPicPr/>
          <p:nvPr/>
        </p:nvPicPr>
        <p:blipFill>
          <a:blip r:embed="rId2"/>
          <a:stretch/>
        </p:blipFill>
        <p:spPr>
          <a:xfrm>
            <a:off x="5257800" y="4098960"/>
            <a:ext cx="3660840" cy="27464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4427280" y="1577880"/>
            <a:ext cx="93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recib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u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3602160" y="5904000"/>
            <a:ext cx="160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Very Large Array (VLA), New Mex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Planets with RAD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nus: surface obscured by permanent clou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406440" y="2209680"/>
            <a:ext cx="3882960" cy="3613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http://www.moscowtopnews.com/image/article/1/1/6/2116.jpeg"/>
          <p:cNvPicPr/>
          <p:nvPr/>
        </p:nvPicPr>
        <p:blipFill>
          <a:blip r:embed="rId2"/>
          <a:stretch/>
        </p:blipFill>
        <p:spPr>
          <a:xfrm>
            <a:off x="4876920" y="2209680"/>
            <a:ext cx="3654360" cy="365472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"/>
          <p:cNvSpPr/>
          <p:nvPr/>
        </p:nvSpPr>
        <p:spPr>
          <a:xfrm>
            <a:off x="766080" y="6014880"/>
            <a:ext cx="31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dar map by Magellan satel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5573880" y="6014880"/>
            <a:ext cx="202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sible light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http://upload.wikimedia.org/wikipedia/commons/thumb/6/62/Magellan_deploy.jpg/256px-Magellan_deploy.jpg"/>
          <p:cNvPicPr/>
          <p:nvPr/>
        </p:nvPicPr>
        <p:blipFill>
          <a:blip r:embed="rId3"/>
          <a:stretch/>
        </p:blipFill>
        <p:spPr>
          <a:xfrm>
            <a:off x="3817800" y="1523880"/>
            <a:ext cx="2886120" cy="287496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Cold Gas in Galax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533412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e out star formation in galax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e out dynamics of gas clou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http://www.mpifr-bonn.mpg.de/public/pr/m31co.23.2.jpg"/>
          <p:cNvPicPr/>
          <p:nvPr/>
        </p:nvPicPr>
        <p:blipFill>
          <a:blip r:embed="rId1"/>
          <a:stretch/>
        </p:blipFill>
        <p:spPr>
          <a:xfrm>
            <a:off x="3429000" y="1268280"/>
            <a:ext cx="2894040" cy="3287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http://www.mpifr-bonn.mpg.de/public/pr/m31.opt.jpg"/>
          <p:cNvPicPr/>
          <p:nvPr/>
        </p:nvPicPr>
        <p:blipFill>
          <a:blip r:embed="rId2"/>
          <a:stretch/>
        </p:blipFill>
        <p:spPr>
          <a:xfrm>
            <a:off x="457200" y="1298520"/>
            <a:ext cx="2666880" cy="32576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3"/>
          <p:cNvSpPr/>
          <p:nvPr/>
        </p:nvSpPr>
        <p:spPr>
          <a:xfrm>
            <a:off x="609480" y="455616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31 visible light image             M31 in radio at CO reso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15 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http://www.mpifr-bonn.mpg.de/public/pr/picoveleta_medium.jpg"/>
          <p:cNvPicPr/>
          <p:nvPr/>
        </p:nvPicPr>
        <p:blipFill>
          <a:blip r:embed="rId3"/>
          <a:stretch/>
        </p:blipFill>
        <p:spPr>
          <a:xfrm>
            <a:off x="5897520" y="1087560"/>
            <a:ext cx="3124080" cy="2344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http://www.mpifr-bonn.mpg.de/public/pr/m31_co_vers2.jpg"/>
          <p:cNvPicPr/>
          <p:nvPr/>
        </p:nvPicPr>
        <p:blipFill>
          <a:blip r:embed="rId4"/>
          <a:stretch/>
        </p:blipFill>
        <p:spPr>
          <a:xfrm>
            <a:off x="6559560" y="1152360"/>
            <a:ext cx="2462040" cy="5254920"/>
          </a:xfrm>
          <a:prstGeom prst="rect">
            <a:avLst/>
          </a:prstGeom>
          <a:ln w="0">
            <a:noFill/>
          </a:ln>
        </p:spPr>
      </p:pic>
      <p:sp>
        <p:nvSpPr>
          <p:cNvPr id="130" name="TextBox 5"/>
          <p:cNvSpPr/>
          <p:nvPr/>
        </p:nvSpPr>
        <p:spPr>
          <a:xfrm>
            <a:off x="6867720" y="6477120"/>
            <a:ext cx="144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ppler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the Stellar Life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64960" y="2743200"/>
            <a:ext cx="1733760" cy="2486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1957320" y="1195560"/>
            <a:ext cx="4662720" cy="2361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3"/>
          <a:stretch/>
        </p:blipFill>
        <p:spPr>
          <a:xfrm>
            <a:off x="1971720" y="3581280"/>
            <a:ext cx="3827520" cy="2786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4"/>
          <a:stretch/>
        </p:blipFill>
        <p:spPr>
          <a:xfrm>
            <a:off x="5715000" y="2971800"/>
            <a:ext cx="2971800" cy="1892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5"/>
          <a:stretch/>
        </p:blipFill>
        <p:spPr>
          <a:xfrm>
            <a:off x="5715000" y="5105520"/>
            <a:ext cx="3129120" cy="150156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ulsars: Timekeepers of the Univer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560" y="12949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utron star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oretical idea from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Zwicky (1930’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bservation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ocelyn Bell Burnell &amp; Antony Hewish, 1967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bel Prize (Hewish), 197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8" descr="http://www.nasa.gov/images/content/230240main_Pulsar1_sm.jpg"/>
          <p:cNvPicPr/>
          <p:nvPr/>
        </p:nvPicPr>
        <p:blipFill>
          <a:blip r:embed="rId1"/>
          <a:stretch/>
        </p:blipFill>
        <p:spPr>
          <a:xfrm>
            <a:off x="4290840" y="1109520"/>
            <a:ext cx="2695680" cy="2163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http://outreach.atnf.csiro.au/education/everyone/pulsars/jocelyn.jpg"/>
          <p:cNvPicPr/>
          <p:nvPr/>
        </p:nvPicPr>
        <p:blipFill>
          <a:blip r:embed="rId2"/>
          <a:stretch/>
        </p:blipFill>
        <p:spPr>
          <a:xfrm>
            <a:off x="6372360" y="2971800"/>
            <a:ext cx="2624040" cy="2371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http://www.cv.nrao.edu/course/astr534/images/PSRs_discovery.jpg"/>
          <p:cNvPicPr/>
          <p:nvPr/>
        </p:nvPicPr>
        <p:blipFill>
          <a:blip r:embed="rId3"/>
          <a:stretch/>
        </p:blipFill>
        <p:spPr>
          <a:xfrm>
            <a:off x="106200" y="2590920"/>
            <a:ext cx="5380200" cy="260352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pernova Remna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49525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 emission from shock front: expanding material striking interstellar med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 is the best tool for detecting new SNR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4" descr="http://www.uu.nl/faculty/science/EN/research/researchinstitutes/aiu/research/PublishingImages/casa_jet_si_radio.jpg"/>
          <p:cNvPicPr/>
          <p:nvPr/>
        </p:nvPicPr>
        <p:blipFill>
          <a:blip r:embed="rId1"/>
          <a:stretch/>
        </p:blipFill>
        <p:spPr>
          <a:xfrm>
            <a:off x="115920" y="1263600"/>
            <a:ext cx="4317840" cy="3068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http://www.astro.psu.edu/users/niel/astro1/slideshows/class29/010-TYCHO_RADIO_SUPERNOVA.jpg"/>
          <p:cNvPicPr/>
          <p:nvPr/>
        </p:nvPicPr>
        <p:blipFill>
          <a:blip r:embed="rId2"/>
          <a:stretch/>
        </p:blipFill>
        <p:spPr>
          <a:xfrm>
            <a:off x="4465800" y="1263600"/>
            <a:ext cx="4678200" cy="3068640"/>
          </a:xfrm>
          <a:prstGeom prst="rect">
            <a:avLst/>
          </a:prstGeom>
          <a:ln w="0">
            <a:noFill/>
          </a:ln>
        </p:spPr>
      </p:pic>
      <p:sp>
        <p:nvSpPr>
          <p:cNvPr id="149" name="TextBox 3"/>
          <p:cNvSpPr/>
          <p:nvPr/>
        </p:nvSpPr>
        <p:spPr>
          <a:xfrm>
            <a:off x="607320" y="4332240"/>
            <a:ext cx="76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sseiopeia A Supernova Remnant                           Tycho’s Supernova Remn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Galactic Ce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5960" y="525780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visible wavelengths this region is obscured by dust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gr A = galactic center (supermassive black ho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3"/>
          <p:cNvSpPr/>
          <p:nvPr/>
        </p:nvSpPr>
        <p:spPr>
          <a:xfrm>
            <a:off x="613800" y="433224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http://www.nrao.edu/pr/2004/filaments/center.JPG"/>
          <p:cNvPicPr/>
          <p:nvPr/>
        </p:nvPicPr>
        <p:blipFill>
          <a:blip r:embed="rId1"/>
          <a:stretch/>
        </p:blipFill>
        <p:spPr>
          <a:xfrm>
            <a:off x="228600" y="1049400"/>
            <a:ext cx="8229600" cy="4182840"/>
          </a:xfrm>
          <a:prstGeom prst="rect">
            <a:avLst/>
          </a:prstGeom>
          <a:ln w="0">
            <a:noFill/>
          </a:ln>
        </p:spPr>
      </p:pic>
      <p:pic>
        <p:nvPicPr>
          <p:cNvPr id="155" name="TextBox 4" descr=""/>
          <p:cNvPicPr/>
          <p:nvPr/>
        </p:nvPicPr>
        <p:blipFill>
          <a:blip r:embed="rId2"/>
          <a:stretch/>
        </p:blipFill>
        <p:spPr>
          <a:xfrm>
            <a:off x="8504280" y="901800"/>
            <a:ext cx="401760" cy="447516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Galactic Ce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5960" y="525780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wavelength overl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 = radio, green = infrared, blue = x-r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613800" y="433224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http://chandra.harvard.edu/photo/2002/gcenter/gcenter_xray_ir_r.jpg"/>
          <p:cNvPicPr/>
          <p:nvPr/>
        </p:nvPicPr>
        <p:blipFill>
          <a:blip r:embed="rId1"/>
          <a:stretch/>
        </p:blipFill>
        <p:spPr>
          <a:xfrm>
            <a:off x="-304920" y="1292400"/>
            <a:ext cx="9536400" cy="369864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lectromagnetic spectr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ory: Maxwell (1860s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ght as special case of 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www.physics.udel.edu/~watson/phys208/formulas/maxwell.gif"/>
          <p:cNvPicPr/>
          <p:nvPr/>
        </p:nvPicPr>
        <p:blipFill>
          <a:blip r:embed="rId1"/>
          <a:stretch/>
        </p:blipFill>
        <p:spPr>
          <a:xfrm>
            <a:off x="5867280" y="1874880"/>
            <a:ext cx="2743200" cy="1849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http://www.nrc-cnrc.gc.ca/obj/inms-ienm/images/research_images/optical_comb/COMBFIG1.gif"/>
          <p:cNvPicPr/>
          <p:nvPr/>
        </p:nvPicPr>
        <p:blipFill>
          <a:blip r:embed="rId2"/>
          <a:stretch/>
        </p:blipFill>
        <p:spPr>
          <a:xfrm>
            <a:off x="1295280" y="2971800"/>
            <a:ext cx="3838680" cy="3429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5689440" y="2666880"/>
            <a:ext cx="3048120" cy="1057320"/>
          </a:xfrm>
          <a:prstGeom prst="rect">
            <a:avLst/>
          </a:prstGeom>
          <a:noFill/>
          <a:ln w="316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Straight Arrow Connector 5"/>
          <p:cNvCxnSpPr>
            <a:stCxn id="60" idx="1"/>
          </p:cNvCxnSpPr>
          <p:nvPr/>
        </p:nvCxnSpPr>
        <p:spPr>
          <a:xfrm flipH="1">
            <a:off x="3885480" y="3195720"/>
            <a:ext cx="1803960" cy="1072080"/>
          </a:xfrm>
          <a:prstGeom prst="straightConnector1">
            <a:avLst/>
          </a:prstGeom>
          <a:ln w="316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62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o Galaxies: Supermassive Black Ho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613800" y="433224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http://gtn.sonoma.edu/images/cenA.jpg"/>
          <p:cNvPicPr/>
          <p:nvPr/>
        </p:nvPicPr>
        <p:blipFill>
          <a:blip r:embed="rId1"/>
          <a:stretch/>
        </p:blipFill>
        <p:spPr>
          <a:xfrm>
            <a:off x="152280" y="1295280"/>
            <a:ext cx="4114800" cy="40737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243000" y="5369040"/>
            <a:ext cx="346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entaurus A (NGC 5128), overlay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dio and visible 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http://outreach.atnf.csiro.au/images/astronomical/images/pks2356-61.gif"/>
          <p:cNvPicPr/>
          <p:nvPr/>
        </p:nvPicPr>
        <p:blipFill>
          <a:blip r:embed="rId2"/>
          <a:stretch/>
        </p:blipFill>
        <p:spPr>
          <a:xfrm>
            <a:off x="4724280" y="1295280"/>
            <a:ext cx="4079880" cy="4073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5"/>
          <p:cNvSpPr/>
          <p:nvPr/>
        </p:nvSpPr>
        <p:spPr>
          <a:xfrm>
            <a:off x="4876920" y="5486400"/>
            <a:ext cx="39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KS 2536-61.  Radio (red), optical (blu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MB:  Echo of the Big Ba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6840" y="1066680"/>
            <a:ext cx="79246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Key prediction of Big Bang Theo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ak ~ 200 GH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nzias &amp; Wilson, 1964</a:t>
            </a:r>
            <a:br>
              <a:rPr sz="26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976 Nobel Pri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BE (1989) </a:t>
            </a:r>
            <a:br>
              <a:rPr sz="26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06 Nobel Prize, Smoot &amp; Ma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MAP (2001), Planck (2009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http://www.starstryder.com/wp-content/uploads/2007/05/wmap_skymap.jpg"/>
          <p:cNvPicPr/>
          <p:nvPr/>
        </p:nvPicPr>
        <p:blipFill>
          <a:blip r:embed="rId1"/>
          <a:stretch/>
        </p:blipFill>
        <p:spPr>
          <a:xfrm>
            <a:off x="152280" y="3994200"/>
            <a:ext cx="5791320" cy="2895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http://www.nps.gov/history/history/online_books/butowsky5/images/astro4k2.jpg"/>
          <p:cNvPicPr/>
          <p:nvPr/>
        </p:nvPicPr>
        <p:blipFill>
          <a:blip r:embed="rId2"/>
          <a:stretch/>
        </p:blipFill>
        <p:spPr>
          <a:xfrm>
            <a:off x="5486400" y="1371600"/>
            <a:ext cx="3629160" cy="28796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3"/>
          <p:cNvSpPr/>
          <p:nvPr/>
        </p:nvSpPr>
        <p:spPr>
          <a:xfrm>
            <a:off x="5943600" y="4495680"/>
            <a:ext cx="304812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ize scale and int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these fluctuations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ingent limits on cosmological mod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</a:rPr>
              <a:t>universe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= 13.7 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TI: The Search for Intelligent Lif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osed ~ 1960: use radio/microwave frequencies to listen for signals from extraterrestrial civilizations, or send signals for them to receiv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ry’s still out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http://movie-poster.ws/movies/wallpaper/scifi/et/et2.jpg"/>
          <p:cNvPicPr/>
          <p:nvPr/>
        </p:nvPicPr>
        <p:blipFill>
          <a:blip r:embed="rId1"/>
          <a:stretch/>
        </p:blipFill>
        <p:spPr>
          <a:xfrm>
            <a:off x="4114800" y="335268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178" name="TextBox 3"/>
          <p:cNvSpPr/>
          <p:nvPr/>
        </p:nvSpPr>
        <p:spPr>
          <a:xfrm>
            <a:off x="4197240" y="4878360"/>
            <a:ext cx="9334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800" spc="-1" strike="noStrike">
                <a:solidFill>
                  <a:srgbClr val="ffc000"/>
                </a:solidFill>
                <a:latin typeface="Calibri"/>
              </a:rPr>
              <a:t>?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28240" y="1371240"/>
            <a:ext cx="84582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 provides a valuable an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uniqu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ource of information about the univer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ar mapping of moon &amp; plan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llowing solar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cing cold gas clouds &amp; star forming reg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eing “through” dust &amp; gas to distant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angular resolution through interferome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ing expired stars &amp; stellar remn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cision cosmology via the CMB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lectromagnetic spectr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133720" y="2495520"/>
            <a:ext cx="6921360" cy="320040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14400" y="1407960"/>
            <a:ext cx="7280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racterized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velength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equency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ergy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&amp;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tant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ed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100080" y="3886200"/>
            <a:ext cx="1752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n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cro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r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ltravio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-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mma 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lectromagnetic spectr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rared: late 1700’s/early 1800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-rays: Roentgen – cathode r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mma: Curies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t al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radio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: experiments start with Hertz (1880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mission/reception of radio wa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 Marconi, Tesla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bout using radio waves for astronom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http://t3.gstatic.com/images?q=tbn:ANd9GcQI3pr7GpijWjjRD1K-rTKEas52vPCEtN07b581KXLcS2Nn8Os8zA"/>
          <p:cNvPicPr/>
          <p:nvPr/>
        </p:nvPicPr>
        <p:blipFill>
          <a:blip r:embed="rId1"/>
          <a:stretch/>
        </p:blipFill>
        <p:spPr>
          <a:xfrm>
            <a:off x="6858000" y="1143000"/>
            <a:ext cx="1003320" cy="157176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duction of Radio Wa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terrestrial) currents in w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ossed E, B, fields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ic reson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w-energy electronic transi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tational/vibrational mo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gnetic (e.g. hyperfine) intera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chrotron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eleration of charged partic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ong B fields, high energies!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, other types of EM radia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that have been Doppler shifted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6553080" y="1981080"/>
            <a:ext cx="2525760" cy="1911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6404040" y="3933720"/>
            <a:ext cx="2286000" cy="1822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3"/>
          <a:stretch/>
        </p:blipFill>
        <p:spPr>
          <a:xfrm>
            <a:off x="5195880" y="1071720"/>
            <a:ext cx="1716120" cy="153972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 Radiation in Astr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5960" y="1523880"/>
            <a:ext cx="87627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ly some EM radiation ge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ough the earth’s atmosphe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ndow” for visible ligh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some IR als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other window in radio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tty much everything else requires satellit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 little can be done with high-altitude ballo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4160880" y="1447920"/>
            <a:ext cx="4754520" cy="34290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 Radiation in Astr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51920" y="1523880"/>
            <a:ext cx="76201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p until ~1900 only visible ligh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tronomy was don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ut there’s so much more to “see!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4160880" y="1447920"/>
            <a:ext cx="4754520" cy="3429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762120" y="2584440"/>
            <a:ext cx="2666880" cy="123192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Birth of Radio Astr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51920" y="990360"/>
            <a:ext cx="85345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st astronomical radio obser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rl Jansky, 1932-1933 (Bell Lab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stigate sources of radio no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eerable phased array at 20.5 MH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ts due to thunderst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nd signal that repea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ry da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not exactly… 23h 56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w identified with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lactic cen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supermassive black hole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http://upload.wikimedia.org/wikipedia/commons/4/4c/Karl_Jansky.jpg"/>
          <p:cNvPicPr/>
          <p:nvPr/>
        </p:nvPicPr>
        <p:blipFill>
          <a:blip r:embed="rId1"/>
          <a:stretch/>
        </p:blipFill>
        <p:spPr>
          <a:xfrm>
            <a:off x="6897600" y="914400"/>
            <a:ext cx="1965240" cy="2457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http://www.nrao.edu/whatisra/images/jansky1.gif"/>
          <p:cNvPicPr/>
          <p:nvPr/>
        </p:nvPicPr>
        <p:blipFill>
          <a:blip r:embed="rId2"/>
          <a:stretch/>
        </p:blipFill>
        <p:spPr>
          <a:xfrm>
            <a:off x="4818240" y="3657600"/>
            <a:ext cx="4157640" cy="307008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6967080" y="339408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arl Jansky, 1905-19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File:Janksy Karl radio telescope.jpg"/>
          <p:cNvPicPr/>
          <p:nvPr/>
        </p:nvPicPr>
        <p:blipFill>
          <a:blip r:embed="rId3"/>
          <a:stretch/>
        </p:blipFill>
        <p:spPr>
          <a:xfrm>
            <a:off x="1447920" y="1447920"/>
            <a:ext cx="5932440" cy="316224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Birth of Radio Astr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1371240"/>
            <a:ext cx="52578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ll Labs was satisfied with Jansky’s identification of QRN sources… no more studies needed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techbuddha.files.wordpress.com/2009/09/nobody_knows_you.jpg"/>
          <p:cNvPicPr/>
          <p:nvPr/>
        </p:nvPicPr>
        <p:blipFill>
          <a:blip r:embed="rId1"/>
          <a:stretch/>
        </p:blipFill>
        <p:spPr>
          <a:xfrm>
            <a:off x="5130720" y="2514600"/>
            <a:ext cx="3753000" cy="37530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8T22:33:51Z</dcterms:created>
  <dc:creator>Jeremy P. Carlo</dc:creator>
  <dc:description/>
  <dc:language>en-US</dc:language>
  <cp:lastModifiedBy>Legion</cp:lastModifiedBy>
  <dcterms:modified xsi:type="dcterms:W3CDTF">2017-01-26T10:20:22Z</dcterms:modified>
  <cp:revision>36</cp:revision>
  <dc:subject/>
  <dc:title>Radio Astronomy: Listening to the Sky</dc:title>
</cp:coreProperties>
</file>