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nets of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ip Through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earth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cr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s is similar to Earth’s soil in many 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large volcanoes (dorm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ice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ice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thin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winds often create dust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falls well below 0 degrees C all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ar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mai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cold at the cloud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30,000 degree C at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Red Sp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rricane-like storm (as much as 20,000 years 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high atmospheric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he liquid metallic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magne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ar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ed by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icy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t least seven major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mai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olent atmospheric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larg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density of all the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named after the speedy messenger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st planet to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88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59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-covered surface with steep clif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no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427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17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satur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220 degree C at the cloud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atmospheric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is 11,000 kilometers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s on its axis at a 90 degre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s laying on its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s of methane ice surroun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uranu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22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 of water and liquid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y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rings surround Nept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dust particles formed from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neptun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named after the Roman god of the und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n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dense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to be made primarily of methane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atmosphere (only on the sunny 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 ice evaporated to for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named after the Roman god of the und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pluto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eb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Sc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s of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ve Planet 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P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Motions - The Inn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named after the speedy messenger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ercury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same size a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, cloudy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48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pressure = 91 times more than Earth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ha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p canyons and tall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224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243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becomes trapped beneath the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little or no water on Venus’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venu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365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24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axis of the Earth is tilted, this creates distinct “seasons” throughout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 depends on the location, altitude and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 pull of the moon creates tide changes (rise and fall of the ocean lev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y veg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1D7-1910-4926-A94D-B48D9152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927-02AA-4E38-ADF4-97F7B499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3766-B804-462E-BC65-721E0362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BE51-F0CC-430D-8F11-D44BD4C5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3CC4-94D9-4FEA-AE38-38C93326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19D6-005A-4A8A-8E24-D07E69D5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9679-0116-4A40-A9D3-A375C274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770E-F3D6-48BA-88ED-19AC6A04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6E15-E7FC-484C-B929-D518CC05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846F-929B-463C-8CB9-27418283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4621-89C6-4DB8-9528-A3979F23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A4B-71AB-4729-8739-6042CA68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CC67-C393-444E-9BA9-C34A6841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694B-A9EA-464B-BE86-5FF7512E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0DAD-072E-419C-B725-79701F4B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EE23-AB80-4456-8304-3E579ED8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6D48-7319-47D1-8A01-1B716EB4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7DE7-7420-4304-8775-6E5472DA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17B5-2D7B-45DB-8897-C46F84F8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AF4-E162-43DC-AC98-359A355D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8C8-7D70-443B-9509-A8F15E72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0AF-4B4F-4019-9541-F1695344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5D53-560D-4002-85EC-5779F2CA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4D9-24D6-4E50-9152-3B3675F1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CDA7-A9A9-4C01-BF0D-D26F3C88C7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209C-CD10-43C0-8052-BD07862E4A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ds.jpl.nasa.gov/planets/welcome/mercury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Planets of the Sola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Trip Through the Solar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513080" y="594360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earth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600720" cy="3600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c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rge cra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ils is similar to Earth’s soil in many w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 large volcanoes (dorma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rthern ice c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zen wa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uthern ice c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zen carbon dioxi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thin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winds often create dust st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e falls well below 0 degrees C all the 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437480" y="586728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ar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619800" cy="3619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rgest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mai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y cold at the cloud 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30,000 degree C at the c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mmon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at Red Spo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urricane-like storm (as much as 20,000 years ol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high atmospheric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iant magnetic 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eated by the liquid metallic lay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lled magnetosphe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589760" y="586728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ar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ed by 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of icy partic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s at least seven major r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mai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iolent atmospheric st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co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s a large magnetic 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est density of all the plane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cury - named after the speedy messenger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sest planet to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88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59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ater-covered surface with steep cliff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most no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427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17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361160" y="594360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saturn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57760" cy="39621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220 degree C at the cloud 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eme atmospheric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tmosphere is 11,000 kilometers thi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es on its axis at a 90 degree ang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pears laying on its s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ngs of methane ice surround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37840" y="5943600"/>
            <a:ext cx="64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uranu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igh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22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cean of water and liquid 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cky c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ve rings surround Neptu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of dust particles formed from meteori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360800" y="5867280"/>
            <a:ext cx="66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neptune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3457440" cy="34578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uto - named after the Roman god of the underworl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n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allest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ast dense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ems to be made primarily of methane 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n atmosphere (only on the sunny sid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 ice evaporated to form th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uto - named after the Roman god of the underworl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361160" y="5867280"/>
            <a:ext cx="62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pluto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3953160" cy="29541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her Websi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85440" y="23623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net Scap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84720" y="312408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ews of the Solar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682200" y="38098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active Planet Tou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684720" y="449568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netary Path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681840" y="5181480"/>
            <a:ext cx="45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bital Motions - The Inner Plane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cury - named after the speedy messenger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Rectangle 3">
            <a:hlinkClick r:id="rId1"/>
          </p:cNvPr>
          <p:cNvSpPr/>
          <p:nvPr/>
        </p:nvSpPr>
        <p:spPr>
          <a:xfrm>
            <a:off x="1208160" y="5867280"/>
            <a:ext cx="66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ercury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016000" cy="3781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out the same size as Ear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ck, cloudy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lfuric ac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48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pressure = 91 times more than Earth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has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ep canyons and tall mou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a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st 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224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243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enhouse eff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t becomes trapped beneath the clou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ults in little or no water on Venus’ surf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361880" y="586728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venu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838080" y="1981080"/>
            <a:ext cx="4114800" cy="3962520"/>
            <a:chOff x="838080" y="1981080"/>
            <a:chExt cx="4114800" cy="3962520"/>
          </a:xfrm>
        </p:grpSpPr>
        <p:pic>
          <p:nvPicPr>
            <p:cNvPr id="117" name="Picture 5" descr=""/>
            <p:cNvPicPr/>
            <p:nvPr/>
          </p:nvPicPr>
          <p:blipFill>
            <a:blip r:embed="rId1"/>
            <a:stretch/>
          </p:blipFill>
          <p:spPr>
            <a:xfrm>
              <a:off x="1066680" y="1981080"/>
              <a:ext cx="351468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6"/>
            <p:cNvSpPr/>
            <p:nvPr/>
          </p:nvSpPr>
          <p:spPr>
            <a:xfrm>
              <a:off x="838080" y="5486400"/>
              <a:ext cx="41148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365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24 hou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ause the axis of the Earth is tilted, this creates distinct “seasons” throughout the y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 depends on the location, altitude and sea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avitation pull of the moon creates tide changes (rise and fall of the ocean level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u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e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vy vege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2T15:27:46Z</dcterms:created>
  <dc:creator>PISD</dc:creator>
  <dc:description/>
  <dc:language>en-US</dc:language>
  <cp:lastModifiedBy>Legion</cp:lastModifiedBy>
  <dcterms:modified xsi:type="dcterms:W3CDTF">2017-01-26T10:19:04Z</dcterms:modified>
  <cp:revision>20</cp:revision>
  <dc:subject/>
  <dc:title>The Planets of the Solar System</dc:title>
</cp:coreProperties>
</file>