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net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ip Through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earth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s is similar to Earth’s soil in many 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rge volcanoes (dorm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ice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zen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winds often create dust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falls well below 0 degrees C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named after the Roman god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30,000 degree C at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Red 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rricane-like storm (as much as 20,000 years 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high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the liquid metallic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magne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named after the king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ar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ed by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icy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t least seven major 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mai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olent atmospheric st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larg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density of all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st planet to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88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59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-covered surface with steep clif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no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27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17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named after the Roman g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satur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 C at the cloud t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atmospheric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is 11,000 kilometers th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s on its axis at a 90 degree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laying on its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of methane ice surroun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named after the father of Saturn in Roman my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ura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gh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low as -22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 of water and liquid 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y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rings surround 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dust particles formed from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amed after the Roman god of the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neptun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th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dens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be made primarily of methane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atmosphere (only on the sunn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ice evaporated to for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named after the Roman god of the und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pluto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eb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Sc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s of 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ve Planet T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P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Motions - The Inn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named after the speedy messenger of the Roman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mercury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same size a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, cloudy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gh as 480 degrees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pressure = 91 times more than Earth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ha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p canyons and tall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224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3 Earth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becomes trapped beneath the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little or no water on Venus’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named after the Roman goddess of beauty and l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pds.jpl.nasa.gov/planets/welcome/venu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planet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around the sun = 36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 on its axis = 24 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range depends on the location, altitude and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y veg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06D-DFF3-43FF-B7A3-07680D36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CE66-479D-4444-94E6-5E5DD4CA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E79-0B48-469A-953B-3F9DE943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1CC-5ECB-4EE1-977E-509DAE41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95D9-F858-468F-96B2-5A8AEC70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167B-223E-4945-8F72-8A8153F3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1ABF-FFA0-476E-95CA-6D6E7AC7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A85B-5D29-440B-9447-7581DA19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CEF7-34AD-4E0A-B07F-DDF37613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28F9-D199-487E-A8CD-048118C9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65CC-E2D5-47E1-BEE8-7B58B698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43F-D70D-45AC-9C0E-86EEF15B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DC03-6908-4F99-83CE-46EC3476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738E-78F1-47DE-B4CF-EF59BD5A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A422-425E-4DE8-88A4-544D016F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AB18-3F7C-40AD-AD35-DC722891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B318-9751-4DD8-851B-7763FA28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6CB-5114-4266-926A-E8395C77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B7A-B4C3-4E5C-BD96-A66E1CE1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693-83E1-4DB4-9F5C-4856F7E8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D23-CA9F-48F7-921A-437E0A09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2E9-8666-48D1-9EBB-6A466CC1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7FE-CB0E-4906-A797-92294576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214-9D62-4006-944B-E160EED5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5465-8A93-4522-9E06-DA9751AD7A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D280-92BF-4E6A-A1AC-72E5AD492A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ds.jpl.nasa.gov/planets/welcome/mercury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Planets of the Sola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Trip Through the Solar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13080" y="594360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earth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rge 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ils is similar to Earth’s soil in many 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large volcanoes (dorma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r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wa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uthern ice c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zen carbon diox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thin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winds often create dust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e falls well below 0 degrees C all the 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ars - named after the Roman god of wa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43748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619800" cy="3619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rg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cold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30,000 degree C at the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mm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at Red Spo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urricane-like storm (as much as 20,000 years ol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high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iant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eated by the liquid metallic lay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lled magnetosphe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Jupiter - named after the king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589760" y="5867280"/>
            <a:ext cx="625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ar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ed by 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icy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at least seven major r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de of main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olent atmospheric stor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co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s a large magnetic fie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st density of all the plan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osest planet to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88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59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rater-covered surface with steep cliff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most no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27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17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aturn - named after the Roman go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361160" y="59436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saturn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857760" cy="39621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 C at the cloud to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eme atmospheric press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mosphere is 11,000 kilometers thi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es on its axis at a 90 degree 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pears laying on its s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ngs of methane ice surround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ranus - named after the father of Saturn in Roman mytholog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7840" y="5943600"/>
            <a:ext cx="64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ura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gh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ydrog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low as -22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cean of water and liquid metha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cky co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ve rings surround Neptu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de of dust particles formed from meteori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Neptune - named after the Roman god of the se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360800" y="586728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neptune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nth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mallest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st dense pl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ems to be made primarily of methane 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 atmosphere (only on the sunny sid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ane ice evaporated to for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luto - named after the Roman god of the underworl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361160" y="5867280"/>
            <a:ext cx="62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pluto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3953160" cy="29541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ther Websi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5440" y="23623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 Scap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84720" y="312408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ews of the Solar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82200" y="38098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active Planet Tou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4720" y="44956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anetary Path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681840" y="518148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bital Motions - The Inner Plane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ercury - named after the speedy messenger of the Roman god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Rectangle 3">
            <a:hlinkClick r:id="rId1"/>
          </p:cNvPr>
          <p:cNvSpPr/>
          <p:nvPr/>
        </p:nvSpPr>
        <p:spPr>
          <a:xfrm>
            <a:off x="1208160" y="5867280"/>
            <a:ext cx="66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mercury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048120" y="1981080"/>
            <a:ext cx="2016000" cy="3781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out the same size as Ear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ck, cloudy atmosp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lfuric ac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high as 480 degrees 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pressure = 91 times more than Earth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has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canyons and tall 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ra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st 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224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3 Earth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eenhouse eff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t becomes trapped beneath the clou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ults in little or no water on Venus’ su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nus - named after the Roman goddess of beauty and lov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361880" y="5867280"/>
            <a:ext cx="63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pds.jpl.nasa.gov/planets/welcome/venus.ht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838080" y="1981080"/>
            <a:ext cx="4114800" cy="3962520"/>
            <a:chOff x="838080" y="1981080"/>
            <a:chExt cx="4114800" cy="3962520"/>
          </a:xfrm>
        </p:grpSpPr>
        <p:pic>
          <p:nvPicPr>
            <p:cNvPr id="117" name="Picture 5" descr=""/>
            <p:cNvPicPr/>
            <p:nvPr/>
          </p:nvPicPr>
          <p:blipFill>
            <a:blip r:embed="rId1"/>
            <a:stretch/>
          </p:blipFill>
          <p:spPr>
            <a:xfrm>
              <a:off x="1066680" y="1981080"/>
              <a:ext cx="351468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6"/>
            <p:cNvSpPr/>
            <p:nvPr/>
          </p:nvSpPr>
          <p:spPr>
            <a:xfrm>
              <a:off x="838080" y="5486400"/>
              <a:ext cx="41148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planet from the su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olution around the sun = 365 day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tation on its axis = 24 hou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cause the axis of the Earth is tilted, this creates distinct “seasons” throughout the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arth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 range depends on the location, altitude and sea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ravitation pull of the moon creates tide changes (rise and fall of the ocean leve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 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l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e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eavy vege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2T15:27:46Z</dcterms:created>
  <dc:creator>PISD</dc:creator>
  <dc:description/>
  <dc:language>en-US</dc:language>
  <cp:lastModifiedBy>Legion</cp:lastModifiedBy>
  <dcterms:modified xsi:type="dcterms:W3CDTF">2017-01-26T10:19:04Z</dcterms:modified>
  <cp:revision>20</cp:revision>
  <dc:subject/>
  <dc:title>The Planets of the Solar System</dc:title>
</cp:coreProperties>
</file>