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nets of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ip Through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earth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cr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s is similar to Earth’s soil in many 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large volcanoes (dorm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ice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ze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ice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zen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thin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winds often create dust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falls well below 0 degrees C all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ar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mai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cold at the cloud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30,000 degree C at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Red Sp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rricane-like storm (as much as 20,000 years 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high atmospheric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he liquid metallic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magne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ar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ed by 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icy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t least seven major 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mai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olent atmospheric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larg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st density of all the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named after the speedy messenger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st planet to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88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59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-covered surface with steep clif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no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427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17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satur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220 degree C at the cloud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atmospheric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is 11,000 kilometers th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s on its axis at a 90 degre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s laying on its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s of methane ice surroun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uranu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22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 of water and liquid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y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rings surround Nept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dust particles formed from meteo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neptun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named after the Roman god of the under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n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dense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to be made primarily of methane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atmosphere (only on the sunny 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 ice evaporated to for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named after the Roman god of the under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pluto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eb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Sc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s of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ve Planet 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P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Motions - The Inn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named after the speedy messenger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ercury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same size a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, cloudy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48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pressure = 91 times more than Earth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ha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p canyons and tall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224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243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becomes trapped beneath the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little or no water on Venus’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venu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365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24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axis of the Earth is tilted, this creates distinct “seasons” throughout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 depends on the location, altitude and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 pull of the moon creates tide changes (rise and fall of the ocean lev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y veg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71E4-D8E5-4927-AE3F-15C19DD6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DC86-22C4-43F5-AD28-2D0299F9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0806-350B-470B-AA36-3358E334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0E69-AB94-49C4-B051-BBE4ED9F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A5F4-A5E6-4D43-9F02-9F226D5C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7257-056C-4D6A-BCC7-6E676D7E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1DFB-02E8-490A-92B5-A3513D3C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CAEE-AD72-41CA-84BA-B17872FF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A60E-4ECB-4C7B-887A-D6BC5F68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5A28-2BAA-440B-B2BB-482BD7E6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A9AC-5B43-4E61-8FC2-12286CB8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F72-0260-411A-B6BA-B012A07D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199D-ABD4-466F-8D7B-B98653A4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FE1E-49FF-458D-8FC8-2F0B7565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260C-5D2B-4F20-A8F7-45BB0093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6273-AF86-4FAD-9FED-4AD851AE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72FB-D7F8-469F-8479-8E22C236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B0F0-97A0-4513-8B7E-AF882595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3B9-B0FC-47B9-BC43-638ED2BE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AB5C-25B8-4AAE-A874-97441971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0DEC-860C-48D9-AD78-3CCC94AA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278-53A9-45E8-AC3F-9E365C47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E95-853F-4263-82B1-09C36247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F4D-0DDC-474C-8FD4-77E36C3E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F43E-7E14-4B5B-809C-2AB03F34D8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4BB7-72C1-409A-A37A-0196B556429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ds.jpl.nasa.gov/planets/welcome/mercury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Planets of the Sola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Trip Through the Solar Syst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513080" y="594360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earth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600720" cy="3600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c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rge cra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ils is similar to Earth’s soil in many w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 large volcanoes (dorma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rthern ice c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zen wa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uthern ice c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zen carbon dioxi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thin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 winds often create dust st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e falls well below 0 degrees C all the 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437480" y="586728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ar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619800" cy="3619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rgest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of mai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y cold at the cloud 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30,000 degree C at the c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mmon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eat Red Spo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urricane-like storm (as much as 20,000 years ol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high atmospheric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iant magnetic fie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eated by the liquid metallic lay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lled magnetosphe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589760" y="586728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ar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ed by r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de of icy partic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s at least seven major r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of mai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iolent atmospheric st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co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s a large magnetic fie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est density of all the plane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rcury - named after the speedy messenger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sest planet to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88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59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ater-covered surface with steep cliff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most no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427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17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361160" y="594360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saturn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857760" cy="39621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220 degree C at the cloud 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eme atmospheric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tmosphere is 11,000 kilometers thi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es on its axis at a 90 degree ang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pears laying on its s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ngs of methane ice surround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437840" y="5943600"/>
            <a:ext cx="64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uranu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igh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22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cean of water and liquid 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cky c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ve rings surround Neptu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de of dust particles formed from meteori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360800" y="5867280"/>
            <a:ext cx="66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neptune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3457440" cy="34578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uto - named after the Roman god of the underworl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n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mallest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ast dense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ems to be made primarily of methane 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n atmosphere (only on the sunny sid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 ice evaporated to form th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uto - named after the Roman god of the underworl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361160" y="5867280"/>
            <a:ext cx="62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pluto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3953160" cy="29541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ther Websi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685440" y="23623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net Scap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84720" y="312408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ews of the Solar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682200" y="38098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active Planet Tou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684720" y="449568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netary Path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681840" y="5181480"/>
            <a:ext cx="45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bital Motions - The Inner Plane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rcury - named after the speedy messenger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Rectangle 3">
            <a:hlinkClick r:id="rId1"/>
          </p:cNvPr>
          <p:cNvSpPr/>
          <p:nvPr/>
        </p:nvSpPr>
        <p:spPr>
          <a:xfrm>
            <a:off x="1208160" y="5867280"/>
            <a:ext cx="66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ercury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016000" cy="3781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out the same size as Ear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ck, cloudy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lfuric aci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48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pressure = 91 times more than Earth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has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ep canyons and tall mount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a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st 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224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243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eenhouse eff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at becomes trapped beneath the clou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ults in little or no water on Venus’ surf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361880" y="5867280"/>
            <a:ext cx="63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venu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838080" y="1981080"/>
            <a:ext cx="4114800" cy="3962520"/>
            <a:chOff x="838080" y="1981080"/>
            <a:chExt cx="4114800" cy="3962520"/>
          </a:xfrm>
        </p:grpSpPr>
        <p:pic>
          <p:nvPicPr>
            <p:cNvPr id="117" name="Picture 5" descr=""/>
            <p:cNvPicPr/>
            <p:nvPr/>
          </p:nvPicPr>
          <p:blipFill>
            <a:blip r:embed="rId1"/>
            <a:stretch/>
          </p:blipFill>
          <p:spPr>
            <a:xfrm>
              <a:off x="1066680" y="1981080"/>
              <a:ext cx="351468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6"/>
            <p:cNvSpPr/>
            <p:nvPr/>
          </p:nvSpPr>
          <p:spPr>
            <a:xfrm>
              <a:off x="838080" y="5486400"/>
              <a:ext cx="41148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365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24 hou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cause the axis of the Earth is tilted, this creates distinct “seasons” throughout the y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 depends on the location, altitude and sea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avitation pull of the moon creates tide changes (rise and fall of the ocean level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unt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e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avy vege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2T15:27:46Z</dcterms:created>
  <dc:creator>PISD</dc:creator>
  <dc:description/>
  <dc:language>en-US</dc:language>
  <cp:lastModifiedBy>Legion</cp:lastModifiedBy>
  <dcterms:modified xsi:type="dcterms:W3CDTF">2017-01-26T10:19:04Z</dcterms:modified>
  <cp:revision>20</cp:revision>
  <dc:subject/>
  <dc:title>The Planets of the Solar System</dc:title>
</cp:coreProperties>
</file>