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nets of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ip Through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earth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cr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s is similar to Earth’s soil in many 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large volcanoes (dorm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ice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ice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thin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winds often create dust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falls well below 0 degrees C all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ar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mai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cold at the cloud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30,000 degree C at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Red Sp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rricane-like storm (as much as 20,000 years 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high atmospheric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he liquid metallic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magne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ar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ed by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icy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t least seven major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mai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olent atmospheric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larg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density of all the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named after the speedy messenger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st planet to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88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59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-covered surface with steep clif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no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427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17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satur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220 degree C at the cloud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atmospheric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is 11,000 kilometers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s on its axis at a 90 degre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s laying on its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s of methane ice surroun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uranu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22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 of water and liquid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y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rings surround Nept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dust particles formed from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neptun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named after the Roman god of the und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n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dense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to be made primarily of methane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atmosphere (only on the sunny 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 ice evaporated to for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named after the Roman god of the und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pluto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eb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Sc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s of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ve Planet 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P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Motions - The Inn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named after the speedy messenger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ercury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same size a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, cloudy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48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pressure = 91 times more than Earth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ha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p canyons and tall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224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243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becomes trapped beneath the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little or no water on Venus’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venu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365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24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axis of the Earth is tilted, this creates distinct “seasons” throughout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 depends on the location, altitude and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 pull of the moon creates tide changes (rise and fall of the ocean lev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y veg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EDD-2482-44FA-AF6D-A9BA151D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908-ADA3-40C6-9154-0981AB2E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2433-BC54-42E2-9FDF-36FBA460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EC7-419F-4728-A843-344F7DE0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BBBB-E382-4C37-B95F-9E5610B8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0365-A0DD-40AC-BFD0-387BFC8A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2F6D-6513-4CEB-8D72-9A5A5392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59DD-F49E-418D-8443-A481FADC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2BE1-A8DC-40DB-848B-AFC95F6A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7D63-5BF8-477B-BBD4-FC278692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7580-0C39-46D4-BF85-C639C2C2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DA3-8A14-4B2D-89B1-1213FA87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80C5-8D96-431B-B117-4479858F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45CE-0ED9-4F91-AA64-C0DA7054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C78E-E877-45C3-9D56-B334EB6F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69F0-4AA6-432D-A2F1-7993A2A4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27D3-F656-4919-BE6C-AD4941DE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92C-FB6A-434A-BF9F-E64CC7E9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435-ED0A-4372-882B-4C08411A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7CCA-F3D6-4D11-8AF7-AB1FCF6C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7C27-82FD-4939-89D2-03DE7822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F25-37ED-446E-B006-9CEC0424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81B6-DD4C-413D-B1FB-91B9E19D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B14-4BD3-4BA0-AF0C-BB2FBB73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2279-D081-4F81-A895-2127AC6B34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5434-782A-477A-B1CB-A661727E77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ds.jpl.nasa.gov/planets/welcome/mercury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Planets of the Sola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Trip Through the Solar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513080" y="594360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earth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600720" cy="3600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c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rge cra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ils is similar to Earth’s soil in many w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 large volcanoes (dorma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rthern ice c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zen wa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uthern ice c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zen carbon dioxi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thin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winds often create dust st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e falls well below 0 degrees C all the 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437480" y="586728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ar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619800" cy="3619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rgest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mai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y cold at the cloud 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30,000 degree C at the c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mmon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at Red Spo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urricane-like storm (as much as 20,000 years ol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high atmospheric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iant magnetic 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eated by the liquid metallic lay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lled magnetosphe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589760" y="586728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ar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ed by 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of icy partic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s at least seven major r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mai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iolent atmospheric st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co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s a large magnetic 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est density of all the plane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cury - named after the speedy messenger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sest planet to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88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59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ater-covered surface with steep cliff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most no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427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17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361160" y="594360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saturn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57760" cy="39621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220 degree C at the cloud 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eme atmospheric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tmosphere is 11,000 kilometers thi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es on its axis at a 90 degree ang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pears laying on its s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ngs of methane ice surround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37840" y="5943600"/>
            <a:ext cx="64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uranu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igh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22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cean of water and liquid 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cky c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ve rings surround Neptu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of dust particles formed from meteori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360800" y="5867280"/>
            <a:ext cx="66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neptune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3457440" cy="34578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uto - named after the Roman god of the underworl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n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allest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ast dense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ems to be made primarily of methane 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n atmosphere (only on the sunny sid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 ice evaporated to form th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uto - named after the Roman god of the underworl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361160" y="5867280"/>
            <a:ext cx="62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pluto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3953160" cy="29541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her Websi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85440" y="23623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net Scap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84720" y="312408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ews of the Solar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682200" y="38098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active Planet Tou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684720" y="449568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netary Path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681840" y="5181480"/>
            <a:ext cx="45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bital Motions - The Inner Plane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cury - named after the speedy messenger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Rectangle 3">
            <a:hlinkClick r:id="rId1"/>
          </p:cNvPr>
          <p:cNvSpPr/>
          <p:nvPr/>
        </p:nvSpPr>
        <p:spPr>
          <a:xfrm>
            <a:off x="1208160" y="5867280"/>
            <a:ext cx="66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ercury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016000" cy="3781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out the same size as Ear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ck, cloudy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lfuric ac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48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pressure = 91 times more than Earth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has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ep canyons and tall mou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a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st 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224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243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enhouse eff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t becomes trapped beneath the clou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ults in little or no water on Venus’ surf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361880" y="586728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venu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838080" y="1981080"/>
            <a:ext cx="4114800" cy="3962520"/>
            <a:chOff x="838080" y="1981080"/>
            <a:chExt cx="4114800" cy="3962520"/>
          </a:xfrm>
        </p:grpSpPr>
        <p:pic>
          <p:nvPicPr>
            <p:cNvPr id="117" name="Picture 5" descr=""/>
            <p:cNvPicPr/>
            <p:nvPr/>
          </p:nvPicPr>
          <p:blipFill>
            <a:blip r:embed="rId1"/>
            <a:stretch/>
          </p:blipFill>
          <p:spPr>
            <a:xfrm>
              <a:off x="1066680" y="1981080"/>
              <a:ext cx="351468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6"/>
            <p:cNvSpPr/>
            <p:nvPr/>
          </p:nvSpPr>
          <p:spPr>
            <a:xfrm>
              <a:off x="838080" y="5486400"/>
              <a:ext cx="41148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365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24 hou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ause the axis of the Earth is tilted, this creates distinct “seasons” throughout the y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 depends on the location, altitude and sea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avitation pull of the moon creates tide changes (rise and fall of the ocean level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u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e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vy vege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2T15:27:46Z</dcterms:created>
  <dc:creator>PISD</dc:creator>
  <dc:description/>
  <dc:language>en-US</dc:language>
  <cp:lastModifiedBy>Legion</cp:lastModifiedBy>
  <dcterms:modified xsi:type="dcterms:W3CDTF">2017-01-26T10:19:04Z</dcterms:modified>
  <cp:revision>20</cp:revision>
  <dc:subject/>
  <dc:title>The Planets of the Solar System</dc:title>
</cp:coreProperties>
</file>