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711F-9622-4F40-9397-B7E336A97079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 word comes from Greek ,which means wander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e heavenly bodies ,which revolve around the Sun in  elliptical orb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lier it was considered there were 9 planets in Solar system but lately  one planet  called Pluto was de-classified from being a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lanets fall in 2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: Mercury , Venus, Mars and Earth are called inner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Planets: These are Jupiter , Saturn, Uranus, 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 word comes from Greek ,which means wander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e heavenly bodies ,which revolve around the Sun in  elliptical orb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lier it was considered there were 9 planets in Solar system but lately  one planet  called Pluto was de-classified from being a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lanets fall in 2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: Mercury , Venus, Mars and Earth are called inner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Planets: These are Jupiter , Saturn, Uranus, 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Inner &amp; Outer Planets ,there is a ring of small bodies , which are made of rock &amp; metal, these are called Asteroids. They also keep moving around the Sun .This ring is also called Asteroids Be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Inner &amp; Outer Planets ,there is a ring of small bodies , which are made of rock &amp; metal, these are called Asteroids. They also keep moving around the Sun .This ring is also called Asteroids Be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messenger of the Roman g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closest planet 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variations in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400 degree C) &amp; night (-180 degree C) time temper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messenger of the Roman g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closest planet 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variations in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400 degree C) &amp; night (-180 degree C) time temper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the smallest, and its orbit is the most not fully circ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oes not have any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with naked e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88 Earth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seasons on it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the smallest, and its orbit is the most not fully circ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oes not have any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with naked e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88 Earth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seasons on it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surrounded by thick cloud cover ,that is why it is called “Veiled Plane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is brightest &amp; hottest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Roman goddess of love &amp; beaut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surrounded by thick cloud cover ,that is why it is called “Veiled Plane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is brightest &amp; hottest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Roman goddess of love &amp; beaut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22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reaches its maximum brightness shortly before sunrise or shortly after sunset, so it is also known as the Morning Star or Even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also known as “Sister “ or “Twin” planet to earth because of its similar size &amp; mass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22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reaches its maximum brightness shortly before sunrise or shortly after sunset, so it is also known as the Morning Star or Even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also known as “Sister “ or “Twin” planet to earth because of its similar size &amp; mass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known as watery planet, because 70% of its surface is covered by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about 1/3rd of sunlight it receives .The earth’s atmosphere scatters the light &amp; creates a blue effectn,so it is also called Blue Plane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planet having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known as watery planet, because 70% of its surface is covered by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about 1/3rd of sunlight it receives .The earth’s atmosphere scatters the light &amp; creates a blue effectn,so it is also called Blue Plane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planet having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36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otates about its own axis, thus creating day &amp; night. It takes 24 hours to do th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volves around sun, due to its tilt ,seasons are cre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gravity, the layer of gases remain attached to it (which is known as atmosphere), it prevents too much heat or UV rays from Sun reaching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is the only satellite of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36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otates about its own axis, thus creating day &amp; night. It takes 24 hours to do th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volves around sun, due to its tilt ,seasons are cre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gravity, the layer of gases remain attached to it (which is known as atmosphere), it prevents too much heat or UV rays from Sun reaching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is the only satellite of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Planet but the only satellite of the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Planet but the only satellite of the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diameter of only  1/4th of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looks bigger to us as it is very close to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has no atmosphere ,so there is huge difference between day &amp; night temperature. (127 degree C in Day to -173 degree C in Nigh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diameter of only  1/4th of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looks bigger to us as it is very close to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has no atmosphere ,so there is huge difference between day &amp; night temperature. (127 degree C in Day to -173 degree C in Nigh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re is no atmosphere, there is no weather, no rain, no wind or clou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everything else in Solar System, Moon also does not have its own light . It shines due to Sun’s ligh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n it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’s gravity is 1/6th of Earth, so your weight would be 1/6th of your weight on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re is no atmosphere, there is no weather, no rain, no wind or clou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everything else in Solar System, Moon also does not have its own light . It shines due to Sun’s ligh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n it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’s gravity is 1/6th of Earth, so your weight would be 1/6th of your weight on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the only celestial body other than Earth on which humans have set foo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l Armstrong became the first person to walk on the Moon as the commander of the American mission Apollo 11by first setting foot on the Moon  on 21 July 196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the only celestial body other than Earth on which humans have set foo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l Armstrong became the first person to walk on the Moon as the commander of the American mission Apollo 11by first setting foot on the Moon  on 21 July 196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of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ften described as the "Red Planet", as the iron oxide prevalent on its surface gives it a reddish appea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of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ften described as the "Red Planet", as the iron oxide prevalent on its surface gives it a reddish appea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has approximately half the diameter of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has two satell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vity of Mars is half of the earth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mosphere of Mars consists of about 95% carbon dioxide, 3% nitrogen,1.6% argon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ontains some  oxygen and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also has the largest dust storms in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has approximately half the diameter of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has two satell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vity of Mars is half of the earth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mosphere of Mars consists of about 95% carbon dioxide, 3% nitrogen,1.6% argon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ontains some  oxygen and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also has the largest dust storms in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Jupiter (ruler of Roman go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 is the largest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within the 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great Red Spot ,it is rotating storm system inside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Jupiter (ruler of Roman go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 is the largest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within the 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great Red Spot ,it is rotating storm system inside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Better Understan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of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o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For Better Understanding </a:t>
            </a:r>
            <a:br>
              <a:rPr sz="1200"/>
            </a:b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of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Check o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on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rotates faster than any other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mpletes one rotation in 10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has a faint ring system, these rings appear to b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lso a windy planet as the fast rotation causes high wi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16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rotates faster than any other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mpletes one rotation in 10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has a faint ring system, these rings appear to b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lso a windy planet as the fast rotation causes high wi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16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–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 is the sixth planet from the Sun and the second largest planet in the Solar System, after Jupi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classified as a gas giant 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most beautiful planet in solar system because of its spectacular r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–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 is the sixth planet from the Sun and the second largest planet in the Solar System, after Jupi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classified as a gas giant 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most beautiful planet in solar system because of its spectacular r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-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rings are made up of ice &amp; ice covered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2 known satellite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by naked ey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95 times heavier than 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Saturn 10,759 Earth days (or about 29½ years), to finish one revolution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-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rings are made up of ice &amp; ice covered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2 known satellite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by naked ey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95 times heavier than 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Saturn 10,759 Earth days (or about 29½ years), to finish one revolution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appears to lie on its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planet which  rotates on its axis from east to w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appears to lie on its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planet which  rotates on its axis from east to w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t least ten thin uniform black rings ,which ar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7 known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very cold planet ,it receives 370 times less sunlight than Earth as it is far away from sun as compared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core is very roc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t least ten thin uniform black rings ,which ar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7 known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very cold planet ,it receives 370 times less sunlight than Earth as it is far away from sun as compared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core is very roc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distant gas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ea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windy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distant gas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ea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windy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’t be seen with naked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8 known 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t is very far from Sun,it completes an orbit on average every 164.79 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verage distance between Neptune and the Sun is 4.50 billion k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was the first planet found by mathematical predi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’t be seen with naked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8 known 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t is very far from Sun,it completes an orbit on average every 164.79 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verage distance between Neptune and the Sun is 4.50 billion k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was the first planet found by mathematical predi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, its planets and all the objects moving around them collectively are called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entirely dependent on Sun &amp; the only one which is self- luminous  i.e which has its own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 of the planets reflect the light received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, its planets and all the objects moving around them collectively are called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entirely dependent on Sun &amp; the only one which is self- luminous  i.e which has its own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 of the planets reflect the light received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mitted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ub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 VIII th , Govt Public School ,Gurga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s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mitted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ub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 VIII th , Govt Public School ,Gurga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s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‘s the heaviest among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ball of hot ,burning g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nearest star to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from the Sun takes appx. 8 minutes to reach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‘s the heaviest among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ball of hot ,burning g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nearest star to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from the Sun takes appx. 8 minutes to reach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ource of all energy for life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three quarters of the Sun's mass consists of hydrogen, while the rest is mostly hel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Sun’s surface ,there are dark patches known as sunspots. These are patches of gas that looks dark since they are cooler than their 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ource of all energy for life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three quarters of the Sun's mass consists of hydrogen, while the rest is mostly hel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Sun’s surface ,there are dark patches known as sunspots. These are patches of gas that looks dark since they are cooler than their 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68CB-D9CB-4F3F-AA17-2C3C3B01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2325-EAFB-42A8-900E-91CD55B0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8F0A-34B5-455E-8467-DE52DF88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DB72-0298-479A-827D-555DCBBD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A1FD-4F3A-4273-B373-E20C2866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1A4C-EDC2-49F2-8B18-7C8882F3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FF2E-9C9D-449B-BC26-F8A4DDFA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87E8-D3DB-4FCC-9894-69D6DA78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0D7F-39AC-46BD-8DF1-FD81DAED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E96E-CD09-4FE3-A60D-DE60A026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902B-4E02-461C-8DEF-A4118A63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9C6D-BBEB-43B7-B9C9-891FF6CD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25B2-A79A-4838-8687-A3B93C2E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1C68-1555-4B59-A762-3D290386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EF8F-0354-4F23-BE06-174AFEC0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0A0A-E861-4414-8A95-FC02E104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3680-328C-47EB-841E-1BE3AEC5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7D91-E7D7-40A2-B9B5-63DD255B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2915-28A2-4AFD-AA59-E5DD901B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866C-BFE6-4495-A59D-221902FC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421D-8A6A-454B-BCD1-E0E6C8FB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516C-FEEB-48BD-ACCA-4FD2339C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C547-F355-41E7-9CB6-3220FD3C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0578-225B-4D10-BD8B-0A2547AF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38E8-BC32-4B87-AD9E-149EDD2FA854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BD9D-86CF-4A64-BA11-ADEB9BCF2614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9495-918D-490E-A87B-48726E914F23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0B73-2474-4F29-A7C7-1BF739A8BE3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lang="en-US" sz="11500" spc="-1" strike="noStrike">
                <a:solidFill>
                  <a:srgbClr val="ff0000"/>
                </a:solidFill>
                <a:latin typeface="Calibri"/>
              </a:rPr>
              <a:t>Free</a:t>
            </a: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1500"/>
            </a:br>
            <a:r>
              <a:rPr b="1" i="1" lang="en-US" sz="11500" spc="-1" strike="noStrike">
                <a:solidFill>
                  <a:srgbClr val="0070c0"/>
                </a:solidFill>
                <a:latin typeface="Calibri"/>
              </a:rPr>
              <a:t>Science Videos</a:t>
            </a:r>
            <a:br>
              <a:rPr sz="11500"/>
            </a:b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Plan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lanet  word comes from Greek ,which means wandering sta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lanets are heavenly bodies ,which revolve around the Sun in  elliptical orbi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arlier it was considered there were 9 planets in Solar system but lately  one planet  called Pluto was de-classified from being a plan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l planets fall in 2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ner Planet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Mercury , Venus, Mars and Earth are called inner plane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Outer Planets: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se are Jupiter , Saturn, Uranus, Neptu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Object 4" descr=""/>
          <p:cNvPicPr/>
          <p:nvPr/>
        </p:nvPicPr>
        <p:blipFill>
          <a:blip r:embed="rId1"/>
          <a:stretch/>
        </p:blipFill>
        <p:spPr>
          <a:xfrm>
            <a:off x="7524720" y="6021360"/>
            <a:ext cx="13716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ween Inner &amp; Outer Planets ,there is a ring of small bodies , which are made of rock &amp; metal, these are 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teroi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They also keep moving around the Sun .This ring is also 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teroids Be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s://encrypted-tbn2.google.com/images?q=tbn:ANd9GcQItvSu7227CuvqlftuUPgoXVXZmgOwx_EPiWE4OzBQMuWzEH4ZXQ"/>
          <p:cNvPicPr/>
          <p:nvPr/>
        </p:nvPicPr>
        <p:blipFill>
          <a:blip r:embed="rId1"/>
          <a:stretch/>
        </p:blipFill>
        <p:spPr>
          <a:xfrm>
            <a:off x="-108000" y="-12600"/>
            <a:ext cx="9252000" cy="3384360"/>
          </a:xfrm>
          <a:prstGeom prst="rect">
            <a:avLst/>
          </a:prstGeom>
          <a:ln w="0">
            <a:noFill/>
          </a:ln>
        </p:spPr>
      </p:pic>
      <p:sp>
        <p:nvSpPr>
          <p:cNvPr id="12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rcu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Mercury –The Innermost 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named after messenger of the Roman g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closest planet to the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variations in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400 degree C) &amp; night (-180 degree C) time tempera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2286000" cy="226692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also the smallest, and its orbit is the most not fully circu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does not have any satell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water or at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 be seen with naked ey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 orbits the Sun once in about 88 Earth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There are no seasons on its su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Mercury –The Innermost 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en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Venus –The Veiled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us is surrounded by thick cloud cover ,that is why it is called “Veiled Planet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 is brightest &amp; hottest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named after Roman goddess of love &amp; beauty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765000" y="2060640"/>
            <a:ext cx="2819520" cy="3024000"/>
          </a:xfrm>
          <a:prstGeom prst="rect">
            <a:avLst/>
          </a:prstGeom>
          <a:ln w="0">
            <a:noFill/>
          </a:ln>
        </p:spPr>
      </p:pic>
      <p:sp>
        <p:nvSpPr>
          <p:cNvPr id="13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 orbits the Sun once in about 225 Earth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Venus reaches its maximum brightness shortly before sunrise or shortly after sunset, so it is also known as the Morning Star or Evening S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us is also known as “Sister “ or “Twin” planet to earth because of its similar size &amp; mass to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Venus –The Veiled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Earth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–The </a:t>
            </a: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Blue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356000" y="1600200"/>
            <a:ext cx="433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is also known as watery planet, because 70% of its surface is covered by wa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reflects about 1/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sunlight it receives .The earth’s atmosphere scatters the light &amp; creates a blue effectn,so it is also called Blue Planet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ly planet having life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A planetary disk of white cloud formations, brown and green land masses, and dark blue oceans against a black background. The Arabian peninsula, Africa and Madagascar lie in the upper half of the disk, while Antarctica is at the bottom."/>
          <p:cNvPicPr/>
          <p:nvPr/>
        </p:nvPicPr>
        <p:blipFill>
          <a:blip r:embed="rId1"/>
          <a:stretch/>
        </p:blipFill>
        <p:spPr>
          <a:xfrm>
            <a:off x="468360" y="2060640"/>
            <a:ext cx="2930400" cy="2932200"/>
          </a:xfrm>
          <a:prstGeom prst="rect">
            <a:avLst/>
          </a:prstGeom>
          <a:ln w="0">
            <a:noFill/>
          </a:ln>
        </p:spPr>
      </p:pic>
      <p:sp>
        <p:nvSpPr>
          <p:cNvPr id="14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C:\Users\Sumitomo\Desktop\MMG\Teaching Kids.png"/>
          <p:cNvPicPr/>
          <p:nvPr/>
        </p:nvPicPr>
        <p:blipFill>
          <a:blip r:embed="rId1"/>
          <a:stretch/>
        </p:blipFill>
        <p:spPr>
          <a:xfrm>
            <a:off x="0" y="2114640"/>
            <a:ext cx="9144000" cy="4843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2556000" y="392040"/>
            <a:ext cx="40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ww.makemegenius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It orbits the Sun once in about 365 Earth day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rotates about its own axis, thus creating day &amp; night. It takes 24 hours to do th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revolves around sun, due to its tilt ,seasons are creat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e to gravity, the layer of gases remain attached to it (which is known as atmosphere), it prevents too much heat or UV rays from Sun reaching ear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on is the only satellite of the Ear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Earth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Blue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on</a:t>
            </a:r>
            <a:br>
              <a:rPr sz="4000"/>
            </a:b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Not a Planet but the only satellite of the Ear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356000" y="1600200"/>
            <a:ext cx="4608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’s diameter of only  1/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the Ear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It looks bigger to us as it is very close to 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moon has no atmosphere ,so there is huge difference between day &amp; night temperature. (127 degree C in Day to -173 degree C in Nigh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155520" y="2060640"/>
            <a:ext cx="3845160" cy="2881080"/>
          </a:xfrm>
          <a:prstGeom prst="rect">
            <a:avLst/>
          </a:prstGeom>
          <a:ln w="0">
            <a:noFill/>
          </a:ln>
        </p:spPr>
      </p:pic>
      <p:sp>
        <p:nvSpPr>
          <p:cNvPr id="1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re is no atmosphere, there is no weather, no rain, no wind or clou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ke everything else in Solar System, Moon also does not have its own light . It shines due to Sun’s light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water on its surf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on’s gravity is 1/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Earth, so your weight would be 1/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your weight on the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The Moon is the only celestial body other than Earth on which humans have set foo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Neil Armstrong became the first person to walk on the Moon as the commander of the American mission Apollo 11by first setting foot on the Moon  on 21 July 1969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2887560" cy="3097080"/>
          </a:xfrm>
          <a:prstGeom prst="rect">
            <a:avLst/>
          </a:prstGeom>
          <a:ln w="0">
            <a:noFill/>
          </a:ln>
        </p:spPr>
      </p:pic>
      <p:sp>
        <p:nvSpPr>
          <p:cNvPr id="1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ars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Red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356000" y="1600200"/>
            <a:ext cx="4608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named after the Roman god of w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often described as the "Red Planet", as the iron oxide prevalent on its surface gives it a reddish appea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The planet Mars"/>
          <p:cNvPicPr/>
          <p:nvPr/>
        </p:nvPicPr>
        <p:blipFill>
          <a:blip r:embed="rId1"/>
          <a:stretch/>
        </p:blipFill>
        <p:spPr>
          <a:xfrm>
            <a:off x="684360" y="2133720"/>
            <a:ext cx="2739960" cy="2739960"/>
          </a:xfrm>
          <a:prstGeom prst="rect">
            <a:avLst/>
          </a:prstGeom>
          <a:ln w="0">
            <a:noFill/>
          </a:ln>
        </p:spPr>
      </p:pic>
      <p:sp>
        <p:nvSpPr>
          <p:cNvPr id="16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Mars has approximately half the diameter of Ear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 has two satelli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gravity of Mars is half of the earth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The atmosphere of Mars consists of about 95% carbon dioxide, 3% nitrogen,1.6% argon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and contains some  oxygen and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Mars also has the largest</a:t>
            </a:r>
            <a:r>
              <a:rPr b="0" lang="en-IN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dust storms in the Solar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ars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Red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upit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Jupiter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Giant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356000" y="1600200"/>
            <a:ext cx="4608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named after the Roman god Jupiter (ruler of Roman go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Jupiter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is the largest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planet within the Solar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a great Red Spot ,it is rotating storm system inside the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Jupiter by Cassini-Huygens.jpg"/>
          <p:cNvPicPr/>
          <p:nvPr/>
        </p:nvPicPr>
        <p:blipFill>
          <a:blip r:embed="rId1"/>
          <a:stretch/>
        </p:blipFill>
        <p:spPr>
          <a:xfrm>
            <a:off x="755640" y="1916280"/>
            <a:ext cx="2849400" cy="2751120"/>
          </a:xfrm>
          <a:prstGeom prst="rect">
            <a:avLst/>
          </a:prstGeom>
          <a:ln w="0">
            <a:noFill/>
          </a:ln>
        </p:spPr>
      </p:pic>
      <p:sp>
        <p:nvSpPr>
          <p:cNvPr id="17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Better Understand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    of </a:t>
            </a: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Solar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2332080"/>
            <a:ext cx="911556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eck 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 Solar Syst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piter rotates faster than any other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ompletes one rotation in 10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Jupiter has a faint ring system, these rings appear to be made of du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lso a windy planet as the fast rotation causes high wi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16 plane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Jupiter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Giant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tur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aturn –The Jewel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000" spc="-1" strike="noStrike">
                <a:solidFill>
                  <a:srgbClr val="000000"/>
                </a:solidFill>
                <a:latin typeface="Calibri"/>
              </a:rPr>
              <a:t>Saturn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 is the sixth planet from the Sun and the second largest planet in the Solar System, after Jupit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It is named after the Roman god Satur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Saturn is classified as a </a:t>
            </a:r>
            <a:r>
              <a:rPr b="0" lang="en-IN" sz="3000" spc="-1" strike="noStrike" u="sng">
                <a:solidFill>
                  <a:srgbClr val="000000"/>
                </a:solidFill>
                <a:uFillTx/>
                <a:latin typeface="Calibri"/>
              </a:rPr>
              <a:t>gas giant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 plan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544680" y="1916280"/>
            <a:ext cx="3132000" cy="30970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3"/>
          <p:cNvSpPr/>
          <p:nvPr/>
        </p:nvSpPr>
        <p:spPr>
          <a:xfrm>
            <a:off x="903600" y="6381720"/>
            <a:ext cx="73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the most beautiful planet in solar system because of its spectacular ring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aturn-The Jewel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turn rings are made up of ice &amp; ice covered parti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22 known satellite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 be seen by naked ey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turn is 95 times heavier than ear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takes Saturn 10,759 Earth days (or about 29½ years), to finish one revolution around the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ran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Uranus –A planet on its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Uranus appears to lie on its s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named after the Roman god of the s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nly planet which  rotates on its axis from east to w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4"/>
          <p:cNvSpPr/>
          <p:nvPr/>
        </p:nvSpPr>
        <p:spPr>
          <a:xfrm rot="1976400">
            <a:off x="7215120" y="60840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S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" descr="http://upload.wikimedia.org/wikipedia/commons/thumb/e/e4/Uranusandrings.jpg/220px-Uranusandrings.jpg"/>
          <p:cNvPicPr/>
          <p:nvPr/>
        </p:nvPicPr>
        <p:blipFill>
          <a:blip r:embed="rId1"/>
          <a:stretch/>
        </p:blipFill>
        <p:spPr>
          <a:xfrm>
            <a:off x="324000" y="1773360"/>
            <a:ext cx="3311280" cy="3168360"/>
          </a:xfrm>
          <a:prstGeom prst="rect">
            <a:avLst/>
          </a:prstGeom>
          <a:ln w="0">
            <a:noFill/>
          </a:ln>
        </p:spPr>
      </p:pic>
      <p:sp>
        <p:nvSpPr>
          <p:cNvPr id="19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at least ten thin uniform black rings ,which are made of du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27 known satell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very cold planet ,it receives 370 times less sunlight than Earth as it is far away from sun as compared to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core is very roc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Uranus –A planet on its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4"/>
          <p:cNvSpPr/>
          <p:nvPr/>
        </p:nvSpPr>
        <p:spPr>
          <a:xfrm rot="1976400">
            <a:off x="7394040" y="84456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S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eptune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Neptune –The Last Gian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ost distant gas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named after the Roman god of the sea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windy pla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2" descr="Neptune from Voyager 2"/>
          <p:cNvPicPr/>
          <p:nvPr/>
        </p:nvPicPr>
        <p:blipFill>
          <a:blip r:embed="rId1"/>
          <a:stretch/>
        </p:blipFill>
        <p:spPr>
          <a:xfrm>
            <a:off x="826920" y="2060640"/>
            <a:ext cx="2799000" cy="2752560"/>
          </a:xfrm>
          <a:prstGeom prst="rect">
            <a:avLst/>
          </a:prstGeom>
          <a:ln w="0">
            <a:noFill/>
          </a:ln>
        </p:spPr>
      </p:pic>
      <p:sp>
        <p:nvSpPr>
          <p:cNvPr id="20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’t be seen with naked ey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8 known satell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As it is very far from Sun,it completes an orbit on average every 164.79 y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The average distance between Neptune and the Sun is 4.50 billion k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Neptune was the first planet found by mathematical pre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Neptune –The Last Gian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Solar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n, its planets and all the objects moving around them collectively are called Solar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olar System is entirely dependent on Sun &amp; the only one which is self- luminous  i.e which has its own l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t of the planets reflect the light received from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ed 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ub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VIII th , Govt Public School ,Gurga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anks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o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27082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lang="en-US" sz="9600" spc="-1" strike="noStrike">
                <a:solidFill>
                  <a:srgbClr val="ff0000"/>
                </a:solidFill>
                <a:latin typeface="Calibri"/>
              </a:rPr>
              <a:t>Free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9600"/>
            </a:br>
            <a:r>
              <a:rPr b="1" i="1" lang="en-US" sz="9600" spc="-1" strike="noStrike">
                <a:solidFill>
                  <a:srgbClr val="0070c0"/>
                </a:solidFill>
                <a:latin typeface="Calibri"/>
              </a:rPr>
              <a:t>Science Videos</a:t>
            </a:r>
            <a:br>
              <a:rPr sz="9600"/>
            </a:b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4569840" y="5516640"/>
            <a:ext cx="266184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0440" y="7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olar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60440" y="1268280"/>
            <a:ext cx="8215200" cy="5326200"/>
          </a:xfrm>
          <a:prstGeom prst="rect">
            <a:avLst/>
          </a:prstGeom>
          <a:ln w="0">
            <a:noFill/>
          </a:ln>
        </p:spPr>
      </p:pic>
      <p:sp>
        <p:nvSpPr>
          <p:cNvPr id="1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un  –Star of the Solar Sys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‘s the heaviest among solar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ball of hot ,burning g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nearest star to the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ght from the Sun takes appx. 8 minutes to reach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The Sun by the Atmospheric Imaging Assembly of NASA's Solar Dynamics Observatory - 20100819.jpg"/>
          <p:cNvPicPr/>
          <p:nvPr/>
        </p:nvPicPr>
        <p:blipFill>
          <a:blip r:embed="rId1"/>
          <a:stretch/>
        </p:blipFill>
        <p:spPr>
          <a:xfrm>
            <a:off x="539640" y="2133720"/>
            <a:ext cx="2762280" cy="2638440"/>
          </a:xfrm>
          <a:prstGeom prst="rect">
            <a:avLst/>
          </a:prstGeom>
          <a:ln w="0">
            <a:noFill/>
          </a:ln>
        </p:spPr>
      </p:pic>
      <p:sp>
        <p:nvSpPr>
          <p:cNvPr id="1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source of all energy for life on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About three quarters of the Sun's mass consists of hydrogen, while the rest is mostly hel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the Sun’s surface ,there are dark patches known as sunspots. These are patches of gas that looks dark since they are cooler than their surround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un  –Star of the Solar Sys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13:56:04Z</dcterms:created>
  <dc:creator>Sumitomo</dc:creator>
  <dc:description/>
  <dc:language>en-US</dc:language>
  <cp:lastModifiedBy>Legion</cp:lastModifiedBy>
  <dcterms:modified xsi:type="dcterms:W3CDTF">2017-01-26T10:17:38Z</dcterms:modified>
  <cp:revision>26</cp:revision>
  <dc:subject/>
  <dc:title>Saturn</dc:title>
</cp:coreProperties>
</file>