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CFA-A219-4983-AE01-D60B7F90EC24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9C2-6C1E-4D92-A252-90E9CB19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525-AC8E-44C8-ACBC-9CEE861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BE3-82BC-4A8B-B54C-C4471150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08C-EBFA-4867-93E3-39D1277A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AA75-747E-49D7-9F3C-D0A5E093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CEC2-A290-487B-8FD7-3C851A0F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0764-6006-4E2C-B5E8-0661798A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0579-602D-4EA2-957B-9811B841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A4B4-6584-4CCD-AEB3-4BE8D5C0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FF08-322B-4AB1-820F-6188E088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07D8-B62A-4E01-BE13-B55AB9A5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647-2131-4C21-BDD5-1EF8A59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4B62-CC8D-4F96-97BD-A9B0D70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1319-48A9-46E4-B444-92F7C4D5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F092-4D10-41AA-A541-BAD37B1B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FAA2-D259-4DD0-A94D-1B1259D0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75D5-96E0-4E32-8EF3-A5021277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051-8CC4-43F1-A87E-1E7F95F2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663-D7F7-43C8-9767-D8C863DC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FCB-E3D8-45A8-B19A-D08D32F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1AB-5E4D-4414-B4F8-D3E7B16D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B16-EBEB-4E3E-9EB9-4AB24C51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8A9-3D46-4189-B55A-11AFAF3B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BC4-DBE1-49A2-8B34-E1E90C6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7E07-932A-4A00-A09E-8BFB544C72F2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F352-2689-4041-BC13-79505D5DC6E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BDE5-9A9D-4368-BAE8-7E20BB93A18D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BFBE-1DC8-4916-A835-994C237D0E9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11500"/>
            </a:b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 Plane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ercury , Venus, Mars and Earth are called inner plan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uter Planet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Jupiter , Saturn, Uranus, Nept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y also keep moving around the Sun .This ring is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 B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encrypted-tbn2.google.com/images?q=tbn:ANd9GcQItvSu7227CuvqlftuUPgoXVXZmgOwx_EPiWE4OzBQMuWzEH4ZXQ"/>
          <p:cNvPicPr/>
          <p:nvPr/>
        </p:nvPicPr>
        <p:blipFill>
          <a:blip r:embed="rId1"/>
          <a:stretch/>
        </p:blipFill>
        <p:spPr>
          <a:xfrm>
            <a:off x="-108000" y="-12600"/>
            <a:ext cx="925200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28600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5000" y="2060640"/>
            <a:ext cx="2819520" cy="30240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lects about 1/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unlight it receives .The earth’s atmosphere scatters the light &amp; creates a blue effectn,so it is also called Blue Planet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A planetary disk of white cloud formations, brown and green land masses, and dark blue oceans against a black background. The Arabian peninsula, Africa and Madagascar lie in the upper half of the disk, while Antarctica is at the bottom."/>
          <p:cNvPicPr/>
          <p:nvPr/>
        </p:nvPicPr>
        <p:blipFill>
          <a:blip r:embed="rId1"/>
          <a:stretch/>
        </p:blipFill>
        <p:spPr>
          <a:xfrm>
            <a:off x="468360" y="2060640"/>
            <a:ext cx="2930400" cy="2932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Sumitomo\Desktop\MMG\Teaching Kids.png"/>
          <p:cNvPicPr/>
          <p:nvPr/>
        </p:nvPicPr>
        <p:blipFill>
          <a:blip r:embed="rId1"/>
          <a:stretch/>
        </p:blipFill>
        <p:spPr>
          <a:xfrm>
            <a:off x="0" y="2114640"/>
            <a:ext cx="9144000" cy="484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556000" y="3920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ww.makemegeniu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40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ot a Planet but the only satellite of the Ear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diameter of only  1/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55520" y="2060640"/>
            <a:ext cx="3845160" cy="28810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n’s gravity is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arth, so your weight would be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your weight on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887560" cy="3097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of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The planet Mars"/>
          <p:cNvPicPr/>
          <p:nvPr/>
        </p:nvPicPr>
        <p:blipFill>
          <a:blip r:embed="rId1"/>
          <a:stretch/>
        </p:blipFill>
        <p:spPr>
          <a:xfrm>
            <a:off x="684360" y="213372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also has the largest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dust storms in the Sola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Jupiter (ruler of Roman g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is the largest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Jupiter by Cassini-Huygens.jpg"/>
          <p:cNvPicPr/>
          <p:nvPr/>
        </p:nvPicPr>
        <p:blipFill>
          <a:blip r:embed="rId1"/>
          <a:stretch/>
        </p:blipFill>
        <p:spPr>
          <a:xfrm>
            <a:off x="755640" y="1916280"/>
            <a:ext cx="2849400" cy="27511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etter Understand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of 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2332080"/>
            <a:ext cx="911556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 –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Saturn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is the sixth planet from the Sun and the second largest planet in the Solar System, after Jupi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Saturn is classified as a 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gas giant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pla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31320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903600" y="6381720"/>
            <a:ext cx="73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-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 rot="1976400">
            <a:off x="7215120" y="608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http://upload.wikimedia.org/wikipedia/commons/thumb/e/e4/Uranusandrings.jpg/220px-Uranusandrings.jpg"/>
          <p:cNvPicPr/>
          <p:nvPr/>
        </p:nvPicPr>
        <p:blipFill>
          <a:blip r:embed="rId1"/>
          <a:stretch/>
        </p:blipFill>
        <p:spPr>
          <a:xfrm>
            <a:off x="324000" y="1773360"/>
            <a:ext cx="3311280" cy="31683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 rot="1976400">
            <a:off x="7394040" y="84456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Neptune from Voyager 2"/>
          <p:cNvPicPr/>
          <p:nvPr/>
        </p:nvPicPr>
        <p:blipFill>
          <a:blip r:embed="rId1"/>
          <a:stretch/>
        </p:blipFill>
        <p:spPr>
          <a:xfrm>
            <a:off x="826920" y="2060640"/>
            <a:ext cx="2799000" cy="27525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69840" y="5516640"/>
            <a:ext cx="266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821520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The Sun by the Atmospheric Imaging Assembly of NASA's Solar Dynamics Observatory - 20100819.jpg"/>
          <p:cNvPicPr/>
          <p:nvPr/>
        </p:nvPicPr>
        <p:blipFill>
          <a:blip r:embed="rId1"/>
          <a:stretch/>
        </p:blipFill>
        <p:spPr>
          <a:xfrm>
            <a:off x="539640" y="2133720"/>
            <a:ext cx="276228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6:04Z</dcterms:created>
  <dc:creator>Sumitomo</dc:creator>
  <dc:description/>
  <dc:language>en-US</dc:language>
  <cp:lastModifiedBy>Legion</cp:lastModifiedBy>
  <dcterms:modified xsi:type="dcterms:W3CDTF">2017-01-26T10:17:38Z</dcterms:modified>
  <cp:revision>26</cp:revision>
  <dc:subject/>
  <dc:title>Saturn</dc:title>
</cp:coreProperties>
</file>