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DFA1-1D78-443C-BC24-7FAB8FC589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DISTANCES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ic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DISTANCES IN ASTRONOM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ometric metho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(in vacuum):     c = 300,000 k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cy of the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: Michelson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ley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al or object can travel faster than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he ultimate speed limit!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of light is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s of physics are the same to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is a relative conce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: moving rulers appear to be 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: moving clocks appear to run 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of mass and energy:    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Theory of Relativity (S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sic Princi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of mass and energy:    E = mc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Theory of Relativity (S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ial relativistic effects are important when the SPEED of an object is CLOSE TO THE SPEED OF LIGHT:    v ≈ 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ultaneity and time are relative, not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flash before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on Jones sees A and B flash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multaneity and time are relative, not absolu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he length of a moving objec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shorter than the “true” length (measured when the object is at res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Di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ing clock runs slower than its counterpart at 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onary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C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 time on a moving clock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Dil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moving clock runs slower than its counterpart at 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ionary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ing C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rage Attendant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er’s Per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:  The driver and garage attendant do not agree on the question of whether the two doors were closed simultaneous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ought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gth Contraction and an Apparent Paradox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 in the laboratory witnesses time dila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Uranium atoms “witness” length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of fast-moving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itably placed Geiger 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of Uraniu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cientist in the laboratory witnesses time dilatio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le the Uranium atoms “witness” length contra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Real Laboratory Experiment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Theory of Relativity (GT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iple of Equiva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bjects experience the same motion in a 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, irrespective of their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Galileo's experiment at the leaning tower of Pisa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field   &lt;===&gt;   Accelerated reference fr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can be thought of as a distortion of space-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heory of Relativity (GT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nciple of Equival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and Prope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: degree [º], arcminute ['], arcsecond ["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[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rcseconds] = 206265 (L/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θ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size;   L = linear (or “true”) size;   D =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 parallax (p), Astronomical Unit [AU], parsec [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[in parsec] = 1/p [in arcsecond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1 pc  =  206265 AU  =  3.26 light y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ax can only be used on nearby stars (D &lt; 100 p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tmospheric blurring (seeing);  Hipparcos satelli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 Space Telescop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and Prope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: degree [º], arcminute ['], arcsecond ["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[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rcseconds] = 206265 (L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θ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ize;   L = linear (or “true”) size;   D = dis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ble Consequences of G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helion precession of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bend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ble Consequences of GT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lens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imag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distor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Red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Extreme case: ligh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d” in a black hol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lensing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Red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stars within a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 motion [arcsec/s]  =  change of angular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-of-sight motion [km/s] - measured via Doppler sh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on of stars within a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and Fl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square law:     f  =  L / (4πD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  f = flux [erg/s/cm2];   L = luminosity [erg/s]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distance [c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itude scale: brightnesses of astronomical 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uminosity and Flu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:     f  =  L / (4πD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  f = flux [erg/s/cm2];   L = luminosity [erg/s]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 and Ru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: Cepheids and RR Lyra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tandard candles: brightest red giants, HII region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ary nebulae, supernovae, globular cluster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Tully-Fisher relation:  rotation of disks of spir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n-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for elliptical galaxi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ndard Candles and Rul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[Dn-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σ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shift as Distance Indic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bble's law:       v = H0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H0 = Hubble constant [km/s/Mpc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shift used to measure recession veloc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≈ c (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 / 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Δλ/λ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al change in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dshift as Distance Indic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's law:       v = H0 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H0 = Hubble constant [km/s/Mpc]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≈ c (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 / λ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l-GR" sz="1200" spc="-1" strike="noStrike">
                <a:solidFill>
                  <a:srgbClr val="ffffff"/>
                </a:solidFill>
                <a:latin typeface="Times New Roman"/>
              </a:rPr>
              <a:t>Δλ/λ =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actional change in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ical Distance 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tronomical Distance Lad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0E7-5DCD-4E52-8B99-C025F535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5F7-9B34-467B-8AB7-1D922138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2868-BBEA-44D0-8550-3F481270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11C-C832-4460-A95D-AC91AFD5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3117-6B6F-4382-A6E4-2168A31D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B41C-9146-4BAD-838E-7DBFB813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1CC2-9D0C-4925-8B1E-FBB90787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2037-BE83-4423-8964-83C913EE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B109-6C94-43CF-8113-F3592B6A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DC82-26CB-4282-AE36-9A1825D2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02CE-1A6F-4A42-8B03-A9AC454C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1E5-A2CA-4101-AC1C-C7A9312D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5AA1-35DA-454D-843B-DC2450C7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8D67-AB4B-44BA-B53C-741A3A7D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7151-C30B-4043-BEEC-4C8D9069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6A35-0DF4-4CCE-9433-3D7CF865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0F2F-82F7-4FDD-BBDA-E525CA6C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C883-7008-4463-8D9D-48C58B3E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DBB-8A7E-4B63-BE74-30B0D97A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640-A754-4B2B-BB1E-F093C814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219-B1EF-4A88-BEBB-42A56790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E98-5E88-4C32-9F06-AA86587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67EC-2EFA-418B-B645-957BFBB9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D34-5799-4EE2-A128-FFEB7692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44A3-1D8A-421A-8043-42AA1EC68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CAAD-A17F-4CE8-8023-AEB55F371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DISTANCES IN ASTRONOM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 Princi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Geometric meth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cand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Standard ru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the last two methods relate quantities that are independent of distance to quantities that depend on distanc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ed of light (in vacuum):     c = 300,000 km/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ancy of the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light: Michelson &amp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ley 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signal or object can travel faster than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The ultimate speed limit!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C:\WINDOWS\Desktop\ay2-f04\Week 3\litespd.gif"/>
          <p:cNvPicPr/>
          <p:nvPr/>
        </p:nvPicPr>
        <p:blipFill>
          <a:blip r:embed="rId1"/>
          <a:stretch/>
        </p:blipFill>
        <p:spPr>
          <a:xfrm>
            <a:off x="7335720" y="44956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WINDOWS\Desktop\ay2-f04\Week 3\mmexp.gif"/>
          <p:cNvPicPr/>
          <p:nvPr/>
        </p:nvPicPr>
        <p:blipFill>
          <a:blip r:embed="rId2"/>
          <a:stretch/>
        </p:blipFill>
        <p:spPr>
          <a:xfrm>
            <a:off x="4572000" y="2057400"/>
            <a:ext cx="3753000" cy="2220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Basic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peed of light is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ws of physics are the same to all obser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Observable Consequ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taneity is a relative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ngth contraction: moving rulers appear to be sh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 dilation: moving clocks appear to run s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mass (inertia) of an object increases as its        speed increases (impossible to accelerate it up to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valence of mass and energy:    E = m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pecial Theory of Relativity (S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1447920" y="1981080"/>
            <a:ext cx="6400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pecial relativistic effects are important when the SPEED of an object is CLOSE TO THE SPEED OF LIGHT:    v 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≈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multaneity and time are relative, not absolut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80880" y="6095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flash befor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6" descr="C:\Documents and Settings\Conference Room Lpt\Desktop\ay2_ppt\jones01.jpg"/>
          <p:cNvPicPr/>
          <p:nvPr/>
        </p:nvPicPr>
        <p:blipFill>
          <a:blip r:embed="rId1"/>
          <a:stretch/>
        </p:blipFill>
        <p:spPr>
          <a:xfrm>
            <a:off x="3657600" y="120348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Conference Room Lpt\Desktop\ay2_ppt\jones03.jpg"/>
          <p:cNvPicPr/>
          <p:nvPr/>
        </p:nvPicPr>
        <p:blipFill>
          <a:blip r:embed="rId2"/>
          <a:srcRect l="24895" t="5294" r="3561" b="10601"/>
          <a:stretch/>
        </p:blipFill>
        <p:spPr>
          <a:xfrm>
            <a:off x="3886200" y="3538440"/>
            <a:ext cx="1571760" cy="24782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380880" y="2514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ion Jones sees A and B flash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838080" y="1600200"/>
            <a:ext cx="7467840" cy="459720"/>
            <a:chOff x="838080" y="1600200"/>
            <a:chExt cx="7467840" cy="459720"/>
          </a:xfrm>
        </p:grpSpPr>
        <p:sp>
          <p:nvSpPr>
            <p:cNvPr id="151" name="Text Box 9"/>
            <p:cNvSpPr/>
            <p:nvPr/>
          </p:nvSpPr>
          <p:spPr>
            <a:xfrm>
              <a:off x="838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Text Box 11"/>
            <p:cNvSpPr/>
            <p:nvPr/>
          </p:nvSpPr>
          <p:spPr>
            <a:xfrm>
              <a:off x="7696080" y="1600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Group 13"/>
          <p:cNvGrpSpPr/>
          <p:nvPr/>
        </p:nvGrpSpPr>
        <p:grpSpPr>
          <a:xfrm>
            <a:off x="838080" y="4267080"/>
            <a:ext cx="7467840" cy="459720"/>
            <a:chOff x="838080" y="4267080"/>
            <a:chExt cx="7467840" cy="459720"/>
          </a:xfrm>
        </p:grpSpPr>
        <p:sp>
          <p:nvSpPr>
            <p:cNvPr id="154" name="Text Box 14"/>
            <p:cNvSpPr/>
            <p:nvPr/>
          </p:nvSpPr>
          <p:spPr>
            <a:xfrm>
              <a:off x="838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7696080" y="4267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he length of a moving object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9528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pparent (i.e., measured) length of a moving object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r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the “true” length (measured when the object is at r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13" descr="C:\Documents and Settings\Conference Room Lpt\Desktop\ay2_ppt\fish.jpg"/>
          <p:cNvPicPr/>
          <p:nvPr/>
        </p:nvPicPr>
        <p:blipFill>
          <a:blip r:embed="rId1"/>
          <a:stretch/>
        </p:blipFill>
        <p:spPr>
          <a:xfrm>
            <a:off x="403848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0" name="Line 15"/>
          <p:cNvSpPr/>
          <p:nvPr/>
        </p:nvSpPr>
        <p:spPr>
          <a:xfrm flipV="1">
            <a:off x="411480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16" descr="C:\Documents and Settings\Conference Room Lpt\Desktop\ay2_ppt\fish.jpg"/>
          <p:cNvPicPr/>
          <p:nvPr/>
        </p:nvPicPr>
        <p:blipFill>
          <a:blip r:embed="rId2"/>
          <a:stretch/>
        </p:blipFill>
        <p:spPr>
          <a:xfrm>
            <a:off x="2057400" y="1600200"/>
            <a:ext cx="3200400" cy="1879560"/>
          </a:xfrm>
          <a:prstGeom prst="rect">
            <a:avLst/>
          </a:prstGeom>
          <a:ln w="0">
            <a:noFill/>
          </a:ln>
        </p:spPr>
      </p:pic>
      <p:sp>
        <p:nvSpPr>
          <p:cNvPr id="162" name="Line 17"/>
          <p:cNvSpPr/>
          <p:nvPr/>
        </p:nvSpPr>
        <p:spPr>
          <a:xfrm flipV="1">
            <a:off x="5105520" y="3809880"/>
            <a:ext cx="0" cy="1067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468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easuring time on a moving clock:</a:t>
            </a:r>
            <a:br>
              <a:rPr sz="3200"/>
            </a:b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Time Dilation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57200" y="5867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ving clock run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lo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an its counterpart at 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1752480" y="152352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2057400" y="152388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8" descr="C:\Program Files\Microsoft Office\Clipart\standard\stddir3\NA01652_.wmf"/>
          <p:cNvPicPr/>
          <p:nvPr/>
        </p:nvPicPr>
        <p:blipFill>
          <a:blip r:embed="rId1"/>
          <a:stretch/>
        </p:blipFill>
        <p:spPr>
          <a:xfrm>
            <a:off x="1522440" y="4038480"/>
            <a:ext cx="739800" cy="743040"/>
          </a:xfrm>
          <a:prstGeom prst="rect">
            <a:avLst/>
          </a:prstGeom>
          <a:ln w="0">
            <a:noFill/>
          </a:ln>
        </p:spPr>
      </p:pic>
      <p:sp>
        <p:nvSpPr>
          <p:cNvPr id="169" name="Line 9"/>
          <p:cNvSpPr/>
          <p:nvPr/>
        </p:nvSpPr>
        <p:spPr>
          <a:xfrm>
            <a:off x="1600200" y="1371600"/>
            <a:ext cx="533520" cy="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11360" y="4876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tionary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181480" y="4876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ing Clo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4419720" y="1371600"/>
            <a:ext cx="739800" cy="3409920"/>
            <a:chOff x="4419720" y="1371600"/>
            <a:chExt cx="739800" cy="3409920"/>
          </a:xfrm>
        </p:grpSpPr>
        <p:pic>
          <p:nvPicPr>
            <p:cNvPr id="173" name="Picture 12" descr="C:\Program Files\Microsoft Office\Clipart\standard\stddir3\NA01652_.wmf"/>
            <p:cNvPicPr/>
            <p:nvPr/>
          </p:nvPicPr>
          <p:blipFill>
            <a:blip r:embed="rId2"/>
            <a:stretch/>
          </p:blipFill>
          <p:spPr>
            <a:xfrm>
              <a:off x="4419720" y="403848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13"/>
            <p:cNvSpPr/>
            <p:nvPr/>
          </p:nvSpPr>
          <p:spPr>
            <a:xfrm>
              <a:off x="4521240" y="137160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Group 17"/>
          <p:cNvGrpSpPr/>
          <p:nvPr/>
        </p:nvGrpSpPr>
        <p:grpSpPr>
          <a:xfrm>
            <a:off x="5994360" y="1365120"/>
            <a:ext cx="739800" cy="3409920"/>
            <a:chOff x="5994360" y="1365120"/>
            <a:chExt cx="739800" cy="3409920"/>
          </a:xfrm>
        </p:grpSpPr>
        <p:pic>
          <p:nvPicPr>
            <p:cNvPr id="176" name="Picture 18" descr="C:\Program Files\Microsoft Office\Clipart\standard\stddir3\NA01652_.wmf"/>
            <p:cNvPicPr/>
            <p:nvPr/>
          </p:nvPicPr>
          <p:blipFill>
            <a:blip r:embed="rId3"/>
            <a:stretch/>
          </p:blipFill>
          <p:spPr>
            <a:xfrm>
              <a:off x="599436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9"/>
            <p:cNvSpPr/>
            <p:nvPr/>
          </p:nvSpPr>
          <p:spPr>
            <a:xfrm>
              <a:off x="609588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Group 20"/>
          <p:cNvGrpSpPr/>
          <p:nvPr/>
        </p:nvGrpSpPr>
        <p:grpSpPr>
          <a:xfrm>
            <a:off x="7566120" y="1365120"/>
            <a:ext cx="739800" cy="3409920"/>
            <a:chOff x="7566120" y="1365120"/>
            <a:chExt cx="739800" cy="3409920"/>
          </a:xfrm>
        </p:grpSpPr>
        <p:pic>
          <p:nvPicPr>
            <p:cNvPr id="179" name="Picture 21" descr="C:\Program Files\Microsoft Office\Clipart\standard\stddir3\NA01652_.wmf"/>
            <p:cNvPicPr/>
            <p:nvPr/>
          </p:nvPicPr>
          <p:blipFill>
            <a:blip r:embed="rId4"/>
            <a:stretch/>
          </p:blipFill>
          <p:spPr>
            <a:xfrm>
              <a:off x="7566120" y="4032000"/>
              <a:ext cx="7398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22"/>
            <p:cNvSpPr/>
            <p:nvPr/>
          </p:nvSpPr>
          <p:spPr>
            <a:xfrm>
              <a:off x="7667640" y="1365120"/>
              <a:ext cx="533520" cy="0"/>
            </a:xfrm>
            <a:prstGeom prst="line">
              <a:avLst/>
            </a:prstGeom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Line 23"/>
          <p:cNvSpPr/>
          <p:nvPr/>
        </p:nvSpPr>
        <p:spPr>
          <a:xfrm flipV="1">
            <a:off x="4876920" y="1523520"/>
            <a:ext cx="144756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400800" y="1523880"/>
            <a:ext cx="1447920" cy="251460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3"/>
          <p:cNvGrpSpPr/>
          <p:nvPr/>
        </p:nvGrpSpPr>
        <p:grpSpPr>
          <a:xfrm>
            <a:off x="5334120" y="2451240"/>
            <a:ext cx="3047760" cy="1627200"/>
            <a:chOff x="5334120" y="2451240"/>
            <a:chExt cx="3047760" cy="1627200"/>
          </a:xfrm>
        </p:grpSpPr>
        <p:pic>
          <p:nvPicPr>
            <p:cNvPr id="185" name="Picture 3" descr="C:\WINDOWS\Desktop\ay2-f04\Week 3\Delorean_Seitlich.jpg"/>
            <p:cNvPicPr/>
            <p:nvPr/>
          </p:nvPicPr>
          <p:blipFill>
            <a:blip r:embed="rId1"/>
            <a:srcRect l="0" t="22505" r="0" b="18757"/>
            <a:stretch/>
          </p:blipFill>
          <p:spPr>
            <a:xfrm>
              <a:off x="5334120" y="2971800"/>
              <a:ext cx="30477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Text Box 16"/>
            <p:cNvSpPr/>
            <p:nvPr/>
          </p:nvSpPr>
          <p:spPr>
            <a:xfrm>
              <a:off x="5689440" y="245124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Group 20"/>
          <p:cNvGrpSpPr/>
          <p:nvPr/>
        </p:nvGrpSpPr>
        <p:grpSpPr>
          <a:xfrm>
            <a:off x="1600200" y="2286000"/>
            <a:ext cx="1752480" cy="1591560"/>
            <a:chOff x="1600200" y="2286000"/>
            <a:chExt cx="1752480" cy="1591560"/>
          </a:xfrm>
        </p:grpSpPr>
        <p:pic>
          <p:nvPicPr>
            <p:cNvPr id="188" name="Picture 21" descr="C:\WINDOWS\Desktop\ay2-f04\Week 3\Delorean_Seitlich.jpg"/>
            <p:cNvPicPr/>
            <p:nvPr/>
          </p:nvPicPr>
          <p:blipFill>
            <a:blip r:embed="rId2"/>
            <a:srcRect l="0" t="22505" r="0" b="18757"/>
            <a:stretch/>
          </p:blipFill>
          <p:spPr>
            <a:xfrm>
              <a:off x="1695240" y="22860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22"/>
            <p:cNvSpPr/>
            <p:nvPr/>
          </p:nvSpPr>
          <p:spPr>
            <a:xfrm>
              <a:off x="1600200" y="34178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Group 19"/>
          <p:cNvGrpSpPr/>
          <p:nvPr/>
        </p:nvGrpSpPr>
        <p:grpSpPr>
          <a:xfrm>
            <a:off x="4648320" y="2728800"/>
            <a:ext cx="1752480" cy="1591560"/>
            <a:chOff x="4648320" y="2728800"/>
            <a:chExt cx="1752480" cy="1591560"/>
          </a:xfrm>
        </p:grpSpPr>
        <p:pic>
          <p:nvPicPr>
            <p:cNvPr id="191" name="Picture 8" descr="C:\WINDOWS\Desktop\ay2-f04\Week 3\Delorean_Seitlich.jpg"/>
            <p:cNvPicPr/>
            <p:nvPr/>
          </p:nvPicPr>
          <p:blipFill>
            <a:blip r:embed="rId3"/>
            <a:srcRect l="0" t="22505" r="0" b="18757"/>
            <a:stretch/>
          </p:blipFill>
          <p:spPr>
            <a:xfrm>
              <a:off x="4743360" y="2728800"/>
              <a:ext cx="150516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8"/>
            <p:cNvSpPr/>
            <p:nvPr/>
          </p:nvSpPr>
          <p:spPr>
            <a:xfrm>
              <a:off x="4648320" y="386064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C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Garage Attendant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9"/>
          <p:cNvSpPr/>
          <p:nvPr/>
        </p:nvSpPr>
        <p:spPr>
          <a:xfrm>
            <a:off x="1790640" y="210816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1790640" y="31622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3124080" y="336564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3124080" y="2298600"/>
            <a:ext cx="0" cy="228600"/>
          </a:xfrm>
          <a:prstGeom prst="line">
            <a:avLst/>
          </a:prstGeom>
          <a:ln w="31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Group 15"/>
          <p:cNvGrpSpPr/>
          <p:nvPr/>
        </p:nvGrpSpPr>
        <p:grpSpPr>
          <a:xfrm>
            <a:off x="1790640" y="2209680"/>
            <a:ext cx="1333440" cy="1270080"/>
            <a:chOff x="1790640" y="2209680"/>
            <a:chExt cx="1333440" cy="1270080"/>
          </a:xfrm>
        </p:grpSpPr>
        <p:sp>
          <p:nvSpPr>
            <p:cNvPr id="201" name="Line 13"/>
            <p:cNvSpPr/>
            <p:nvPr/>
          </p:nvSpPr>
          <p:spPr>
            <a:xfrm>
              <a:off x="3124080" y="2425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1790640" y="2209680"/>
              <a:ext cx="0" cy="105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WINDOWS\Desktop\ay2-f04\Week 3\Delorean_Seitlich.jpg"/>
          <p:cNvPicPr/>
          <p:nvPr/>
        </p:nvPicPr>
        <p:blipFill>
          <a:blip r:embed="rId1"/>
          <a:srcRect l="0" t="22505" r="0" b="18757"/>
          <a:stretch/>
        </p:blipFill>
        <p:spPr>
          <a:xfrm>
            <a:off x="5334120" y="2971800"/>
            <a:ext cx="3047760" cy="1106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2"/>
          <p:cNvSpPr/>
          <p:nvPr/>
        </p:nvSpPr>
        <p:spPr>
          <a:xfrm>
            <a:off x="380880" y="534996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river and garage attendant d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ree on the question of whether the two doors were closed simultane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1219320" y="2133720"/>
            <a:ext cx="716256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"/>
          <p:cNvSpPr/>
          <p:nvPr/>
        </p:nvSpPr>
        <p:spPr>
          <a:xfrm>
            <a:off x="1219320" y="3200400"/>
            <a:ext cx="7086600" cy="1066680"/>
          </a:xfrm>
          <a:prstGeom prst="line">
            <a:avLst/>
          </a:prstGeom>
          <a:ln w="316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Group 30"/>
          <p:cNvGrpSpPr/>
          <p:nvPr/>
        </p:nvGrpSpPr>
        <p:grpSpPr>
          <a:xfrm>
            <a:off x="1219320" y="2108160"/>
            <a:ext cx="2438280" cy="1818720"/>
            <a:chOff x="1219320" y="2108160"/>
            <a:chExt cx="2438280" cy="1818720"/>
          </a:xfrm>
        </p:grpSpPr>
        <p:sp>
          <p:nvSpPr>
            <p:cNvPr id="209" name="Text Box 4"/>
            <p:cNvSpPr/>
            <p:nvPr/>
          </p:nvSpPr>
          <p:spPr>
            <a:xfrm>
              <a:off x="1219320" y="346716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Stationary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790640" y="21081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790640" y="31622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3124080" y="336564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124080" y="22986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667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Thought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Length Contraction and an Apparent Parado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river’s Perspectiv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5" name="Group 31"/>
          <p:cNvGrpSpPr/>
          <p:nvPr/>
        </p:nvGrpSpPr>
        <p:grpSpPr>
          <a:xfrm>
            <a:off x="3086280" y="2400480"/>
            <a:ext cx="2133360" cy="1729440"/>
            <a:chOff x="3086280" y="2400480"/>
            <a:chExt cx="2133360" cy="1729440"/>
          </a:xfrm>
        </p:grpSpPr>
        <p:sp>
          <p:nvSpPr>
            <p:cNvPr id="216" name="Text Box 10"/>
            <p:cNvSpPr/>
            <p:nvPr/>
          </p:nvSpPr>
          <p:spPr>
            <a:xfrm>
              <a:off x="3086280" y="36702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3886200" y="2400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3886200" y="34797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4483080" y="35686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9"/>
            <p:cNvSpPr/>
            <p:nvPr/>
          </p:nvSpPr>
          <p:spPr>
            <a:xfrm>
              <a:off x="4483080" y="25020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711680" y="2654280"/>
            <a:ext cx="2133360" cy="1729440"/>
            <a:chOff x="4711680" y="2654280"/>
            <a:chExt cx="2133360" cy="1729440"/>
          </a:xfrm>
        </p:grpSpPr>
        <p:sp>
          <p:nvSpPr>
            <p:cNvPr id="222" name="Text Box 33"/>
            <p:cNvSpPr/>
            <p:nvPr/>
          </p:nvSpPr>
          <p:spPr>
            <a:xfrm>
              <a:off x="4711680" y="3924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5511600" y="26542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5511600" y="373356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108480" y="3822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6108480" y="27558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Group 38"/>
          <p:cNvGrpSpPr/>
          <p:nvPr/>
        </p:nvGrpSpPr>
        <p:grpSpPr>
          <a:xfrm>
            <a:off x="6794640" y="2959200"/>
            <a:ext cx="2133360" cy="1729440"/>
            <a:chOff x="6794640" y="2959200"/>
            <a:chExt cx="2133360" cy="1729440"/>
          </a:xfrm>
        </p:grpSpPr>
        <p:sp>
          <p:nvSpPr>
            <p:cNvPr id="228" name="Text Box 39"/>
            <p:cNvSpPr/>
            <p:nvPr/>
          </p:nvSpPr>
          <p:spPr>
            <a:xfrm>
              <a:off x="6794640" y="42289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oving Gar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7594560" y="29592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7594560" y="403848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42"/>
            <p:cNvSpPr/>
            <p:nvPr/>
          </p:nvSpPr>
          <p:spPr>
            <a:xfrm>
              <a:off x="8191440" y="412740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43"/>
            <p:cNvSpPr/>
            <p:nvPr/>
          </p:nvSpPr>
          <p:spPr>
            <a:xfrm>
              <a:off x="8191440" y="3060720"/>
              <a:ext cx="0" cy="2286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3" name="Line 21"/>
          <p:cNvSpPr/>
          <p:nvPr/>
        </p:nvSpPr>
        <p:spPr>
          <a:xfrm>
            <a:off x="5511960" y="278136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8191440" y="3187800"/>
            <a:ext cx="0" cy="105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80880" y="5691240"/>
            <a:ext cx="83822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scientist in the laboratory witnesse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time dilatio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le the Uranium atoms “witness”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ength contr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 Real Laboratory Experiment:</a:t>
            </a:r>
            <a:br>
              <a:rPr sz="3200"/>
            </a:b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Direct Verification of Time Dilation and Length Contraction as Predicted by the Special Theory of Relativit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3" descr="C:\Documents and Settings\Conference Room Lpt\Desktop\ay2_ppt\uranium.gif"/>
          <p:cNvPicPr/>
          <p:nvPr/>
        </p:nvPicPr>
        <p:blipFill>
          <a:blip r:embed="rId1"/>
          <a:srcRect l="0" t="15212" r="0" b="611"/>
          <a:stretch/>
        </p:blipFill>
        <p:spPr>
          <a:xfrm>
            <a:off x="5105520" y="1611360"/>
            <a:ext cx="2939760" cy="3252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4" descr="C:\Documents and Settings\Conference Room Lpt\Desktop\ay2_ppt\uranium.gif"/>
          <p:cNvPicPr/>
          <p:nvPr/>
        </p:nvPicPr>
        <p:blipFill>
          <a:blip r:embed="rId2"/>
          <a:srcRect l="34007" t="15212" r="20004" b="59776"/>
          <a:stretch/>
        </p:blipFill>
        <p:spPr>
          <a:xfrm>
            <a:off x="380880" y="2133720"/>
            <a:ext cx="2667240" cy="19429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7"/>
          <p:cNvSpPr/>
          <p:nvPr/>
        </p:nvSpPr>
        <p:spPr>
          <a:xfrm>
            <a:off x="380880" y="403848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eam of fast-moving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9"/>
          <p:cNvSpPr/>
          <p:nvPr/>
        </p:nvSpPr>
        <p:spPr>
          <a:xfrm rot="5400000">
            <a:off x="7255800" y="2915640"/>
            <a:ext cx="2590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uitably placed Geiger count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40"/>
          <p:cNvSpPr/>
          <p:nvPr/>
        </p:nvSpPr>
        <p:spPr>
          <a:xfrm>
            <a:off x="8153280" y="1600200"/>
            <a:ext cx="0" cy="3276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1"/>
          <p:cNvSpPr/>
          <p:nvPr/>
        </p:nvSpPr>
        <p:spPr>
          <a:xfrm>
            <a:off x="5041800" y="4838760"/>
            <a:ext cx="3048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fission of Uranium ato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43"/>
          <p:cNvSpPr/>
          <p:nvPr/>
        </p:nvSpPr>
        <p:spPr>
          <a:xfrm>
            <a:off x="3124080" y="3124080"/>
            <a:ext cx="19051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l Theory of Relativity (GTR)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Principle of Equiva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bjects experience the same motion in a g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, irrespective of their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Galileo's experiment at the leaning tower of Pisa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ational field   &lt;===&gt;   Accelerated reference fr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vity can be thought of as a distortion of space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arallax and Proper Mo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gular size: degree [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arcminute ['], arcsecond ["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[in arcseconds] = 206265 (L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angular size;   L = linear (or “true”) size;   D = dist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initions: parallax (p), Astronomical Unit [AU], parsec [pc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 [in parsec] = 1/p [in arcsecond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re:   1 pc  =  206265 AU  =  3.26 light y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llax can only be used on nearby stars (D &lt; 100 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Atmospheric blurring (seeing);  Hipparcos satelli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 Space Telescop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WINDOWS\Desktop\ay2-f04\Week 3\equiv1.gif"/>
          <p:cNvPicPr/>
          <p:nvPr/>
        </p:nvPicPr>
        <p:blipFill>
          <a:blip r:embed="rId1"/>
          <a:stretch/>
        </p:blipFill>
        <p:spPr>
          <a:xfrm>
            <a:off x="378000" y="380880"/>
            <a:ext cx="41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WINDOWS\Desktop\ay2-f04\Week 3\equiv2.gif"/>
          <p:cNvPicPr/>
          <p:nvPr/>
        </p:nvPicPr>
        <p:blipFill>
          <a:blip r:embed="rId2"/>
          <a:stretch/>
        </p:blipFill>
        <p:spPr>
          <a:xfrm>
            <a:off x="4572000" y="380880"/>
            <a:ext cx="4411800" cy="205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C:\WINDOWS\Desktop\ay2-f04\Week 3\equivalence_principle_elevator_photon.gif"/>
          <p:cNvPicPr/>
          <p:nvPr/>
        </p:nvPicPr>
        <p:blipFill>
          <a:blip r:embed="rId3"/>
          <a:stretch/>
        </p:blipFill>
        <p:spPr>
          <a:xfrm>
            <a:off x="2019240" y="2514600"/>
            <a:ext cx="5105520" cy="396396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bservable Consequences of GT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4647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helion precession of Mercu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bend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ar eclipse experi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4" descr="C:\WINDOWS\Desktop\ay2-f04\Week 3\MercPrecess.gif"/>
          <p:cNvPicPr/>
          <p:nvPr/>
        </p:nvPicPr>
        <p:blipFill>
          <a:blip r:embed="rId1"/>
          <a:srcRect l="0" t="7412" r="0" b="11849"/>
          <a:stretch/>
        </p:blipFill>
        <p:spPr>
          <a:xfrm>
            <a:off x="4876920" y="789120"/>
            <a:ext cx="4038480" cy="2447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C:\WINDOWS\Desktop\ay2-f04\Week 3\LightBend1.gif"/>
          <p:cNvPicPr/>
          <p:nvPr/>
        </p:nvPicPr>
        <p:blipFill>
          <a:blip r:embed="rId2"/>
          <a:stretch/>
        </p:blipFill>
        <p:spPr>
          <a:xfrm>
            <a:off x="22860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WINDOWS\Desktop\ay2-f04\Week 3\LightBend2.gif"/>
          <p:cNvPicPr/>
          <p:nvPr/>
        </p:nvPicPr>
        <p:blipFill>
          <a:blip r:embed="rId3"/>
          <a:stretch/>
        </p:blipFill>
        <p:spPr>
          <a:xfrm>
            <a:off x="4572000" y="342900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lens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imag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distor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C:\WINDOWS\Desktop\ay2-f04\Week 3\Gravity_lense.jpg"/>
          <p:cNvPicPr/>
          <p:nvPr/>
        </p:nvPicPr>
        <p:blipFill>
          <a:blip r:embed="rId1"/>
          <a:stretch/>
        </p:blipFill>
        <p:spPr>
          <a:xfrm>
            <a:off x="4876920" y="22860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685800" y="274320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avitational Redsh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Extreme case: light 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pped” in a black hol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6" descr="C:\WINDOWS\Desktop\ay2-f04\Week 3\gravitational-redshift.jpg"/>
          <p:cNvPicPr/>
          <p:nvPr/>
        </p:nvPicPr>
        <p:blipFill>
          <a:blip r:embed="rId2"/>
          <a:stretch/>
        </p:blipFill>
        <p:spPr>
          <a:xfrm>
            <a:off x="838080" y="4343400"/>
            <a:ext cx="3886200" cy="213372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447920" y="19810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General relativistic effects are important in a STRONG GRAVITATIONAL FIE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WINDOWS\Desktop\ay2-f04\Week 3\ParaDist.gif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otion of stars within a clust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motion [arcsec/s]  =  change of angular 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-of-sight motion [km/s] - measured via Doppler shi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ison of average stellar proper motion in cluster with average line-of-sight speed yields distance to cl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WINDOWS\Desktop\ay2-f04\Week 3\ProperMotion.gif"/>
          <p:cNvPicPr/>
          <p:nvPr/>
        </p:nvPicPr>
        <p:blipFill>
          <a:blip r:embed="rId1"/>
          <a:stretch/>
        </p:blipFill>
        <p:spPr>
          <a:xfrm>
            <a:off x="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WINDOWS\Desktop\ay2-f04\Week 3\RadialVel.gif"/>
          <p:cNvPicPr/>
          <p:nvPr/>
        </p:nvPicPr>
        <p:blipFill>
          <a:blip r:embed="rId2"/>
          <a:stretch/>
        </p:blipFill>
        <p:spPr>
          <a:xfrm>
            <a:off x="4572000" y="17146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Luminosity and Flux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e square law:     f  =  L / (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:   f = flux [erg/s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;   L = luminosity [erg/s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= distance [cm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itude scale: brightnesses of astronomical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andard Candles and Ruler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Variable stars: Cepheids and RR Lyrae st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iod-luminosity relation; measure P &amp; infer L; measure f &amp; infer 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Other standard candles: brightest red giants, HII region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lanetary nebulae, supernovae, globular cluster luminos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Luminosity is seen to be correlated with the typical speed of internal motion of stars and g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Tully-Fisher relation:  rotation of disks of spir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Faber-Jackson relation:  random stellar motion in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alaxies: Size correlated with typical speed of (random) stellar mo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[D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on for elliptical galaxies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Redshift as Distance Indicato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ansion of the Unive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bble's law:       v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= Hubble constant [km/s/Mpc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pler shift used to measure recession velo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λ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fractional change in waveleng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stronomical Distance Ladde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3" descr="C:\WINDOWS\Desktop\ay2-f04\Week 3\distanceladder.jpg"/>
          <p:cNvPicPr/>
          <p:nvPr/>
        </p:nvPicPr>
        <p:blipFill>
          <a:blip r:embed="rId1"/>
          <a:stretch/>
        </p:blipFill>
        <p:spPr>
          <a:xfrm>
            <a:off x="1143000" y="1143000"/>
            <a:ext cx="7188120" cy="5391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21:40:05Z</dcterms:created>
  <dc:creator>Default</dc:creator>
  <dc:description/>
  <dc:language>en-US</dc:language>
  <cp:lastModifiedBy>Legion</cp:lastModifiedBy>
  <dcterms:modified xsi:type="dcterms:W3CDTF">2017-01-26T10:17:03Z</dcterms:modified>
  <cp:revision>13</cp:revision>
  <dc:subject/>
  <dc:title>MEASURING DISTANCES IN ASTRONOMY</dc:title>
</cp:coreProperties>
</file>