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6.png" ContentType="image/png"/>
  <Override PartName="/ppt/media/image18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2916-A6AC-4D1A-A3EF-832D996B0D3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DISTANCES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 Princi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ic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rul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the last two methods relate quantities that are independent of distance to quantities that depend on distanc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 DISTANCES IN ASTRONOM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ic Principl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ometric metho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ndard cand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ndard rul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the last two methods relate quantities that are independent of distance to quantities that depend on distance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Theory of Relativity (ST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light (in vacuum):     c = 300,000 k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cy of the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ight: Michelson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ley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ignal or object can travel faster than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The ultimate speed limit!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 Theory of Relativity (ST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ed of light (in vacuum):     c = 300,000 km/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stancy of the sp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light: Michelson &amp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ley experi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signal or object can travel faster than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The ultimate speed limit!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 Princi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ed of light is the same to all obser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s of physics are the same to all obser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ble Consequ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ultaneity is a relative conce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: moving rulers appear to be sh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dilation: moving clocks appear to run s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pparent mass (inertia) of an object increases as its        speed increases (impossible to accelerate it up to 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ivalence of mass and energy:    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Theory of Relativity (ST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ic Princi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peed of light is the same to all obser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aws of physics are the same to all obser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ble Consequ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multaneity is a relative concep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: moving rulers appear to be sh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dilation: moving clocks appear to run s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pparent mass (inertia) of an object increases as its        speed increases (impossible to accelerate it up to 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quivalence of mass and energy:    E = mc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 Theory of Relativity (ST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relativistic effects are important when the SPEED of an object is CLOSE TO THE SPEED OF LIGHT:    v ≈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 relativistic effects are important when the SPEED of an object is CLOSE TO THE SPEED OF LIGHT:    v ≈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ultaneity and time are relative, not ab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on Jones sees A flash before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on Jones sees A and B flash simultaneous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multaneity and time are relative, not absol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ion Jones sees A flash before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ion Jones sees A and B flash simultaneous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the length of a moving objec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pparent (i.e., measured) length of a moving object is shorter than the “true” length (measured when the object is at re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 the length of a moving objec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pparent (i.e., measured) length of a moving object is shorter than the “true” length (measured when the object is at res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time on a moving clock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Di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ving clock runs slower than its counterpart at 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onary Cl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Cl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 time on a moving clock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Di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moving clock runs slower than its counterpart at r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ionary C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ing C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age Attendant’s Persp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arage Attendant’s Perspe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  The driver and garage attendant do not agree on the question of whether the two doors were closed simultaneous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river’s Persp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:  The driver and garage attendant do not agree on the question of whether the two doors were closed simultaneous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river’s Perspe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st in the laboratory witnesses time dila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Uranium atoms “witness” length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al Laboratory Experimen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 Verification of Time Dilation and Length Contraction as Predicted by the Special Theory of 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of fast-moving Uranium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itably placed Geiger 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of Uranium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cientist in the laboratory witnesses time dilatio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le the Uranium atoms “witness” length contr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eal Laboratory Experimen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rect Verification of Time Dilation and Length Contraction as Predicted by the Special Theory of Relati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of fast-moving Uranium ato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itably placed Geiger cou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ar fission of Uranium ato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Theory of Relativity (GT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nciple of Equival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bjects experience the same motion in a gi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field, irrespective of their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Galileo's experiment at the leaning tower of Pisa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field   &lt;===&gt;   Accelerated reference fr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can be thought of as a distortion of space-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Theory of Relativity (GT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inciple of Equival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objects experience the same motion in a giv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field, irrespective of their ma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Galileo's experiment at the leaning tower of Pisa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field   &lt;===&gt;   Accelerated reference fra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can be thought of as a distortion of space-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ax and Prope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ular size: degree [º], arcminute ['], arcsecond ["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[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rcseconds] = 206265 (L/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 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ular size;   L = linear (or “true”) size;   D =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: parallax (p), Astronomical Unit [AU], parsec [pc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[in parsec] = 1/p [in arcsecond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  1 pc  =  206265 AU  =  3.26 light y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ax can only be used on nearby stars (D &lt; 100 p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tmospheric blurring (seeing);  Hipparcos satellit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bble Space Telescop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llax and Proper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ize: degree [º], arcminute ['], arcsecond ["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θ [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rcseconds] = 206265 (L/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  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θ =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ize;   L = linear (or “true”) size;   D = dist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: parallax (p), Astronomical Unit [AU], parsec [pc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 [in parsec] = 1/p [in arcsecond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  1 pc  =  206265 AU  =  3.26 light y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llax can only be used on nearby stars (D &lt; 100 p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Atmospheric blurring (seeing);  Hipparcos satellite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bble Space Telescope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ble Consequences of GT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helion precession of 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bend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ble Consequences of GT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helion precession of Mercu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bending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eclipse experi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lens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imag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distor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Redshi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Extreme case: ligh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pped” in a black hol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lensing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e images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distor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Red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Extreme case: light 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pped” in a black hole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relativistic effects are important in a STRONG GRAVITATIONAL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relativistic effects are important in a STRONG GRAVITATIONAL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stars within a c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 motion [arcsec/s]  =  change of angular 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-of-sight motion [km/s] - measured via Doppler shi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ison of average stellar proper motion in cluster with average line-of-sight speed yields distance to c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tion of stars within a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er motion [arcsec/s]  =  change of angular 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e-of-sight motion [km/s] - measured via Doppler 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arison of average stellar proper motion in cluster with average line-of-sight speed yields distance to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and Fl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se square law:     f  =  L / (4πD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  f = flux [erg/s/cm2];   L = luminosity [erg/s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distance [cm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itude scale: brightnesses of astronomical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uminosity and Flu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rse square law:     f  =  L / (4πD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  f = flux [erg/s/cm2];   L = luminosity [erg/s]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 = distance [cm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gnitude scale: brightnesses of astronomical sour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 and Rul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: Cepheids and RR Lyra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-luminosity relation; measure P &amp; infer L; measure f &amp; infer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standard candles: brightest red giants, HII region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ary nebulae, supernovae, globular cluster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: Luminosity is seen to be correlated with the typical speed of internal motion of stars and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Tully-Fisher relation:  rotation of disks of spiral galaxi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Faber-Jackson relation:  random stellar motion in elliptical galaxi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: Size correlated with typical speed of (random) stella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Dn-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on for elliptical galaxi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ndard Candles and Rul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able stars: Cepheids and RR Lyrae st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od-luminosity relation; measure P &amp; infer L; measure f &amp; infer 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standard candles: brightest red giants, HII region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etary nebulae, supernovae, globular cluster lumino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axies: Luminosity is seen to be correlated with the typical speed of internal motion of stars and g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Tully-Fisher relation:  rotation of disks of spiral galaxie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Faber-Jackson relation:  random stellar motion in elliptical galaxie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axies: Size correlated with typical speed of (random) stellar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Dn-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σ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tion for elliptical galaxie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shift as Distance Indic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bble's law:       v = H0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H0 = Hubble constant [km/s/Mpc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shift used to measure recession veloci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≈ c (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λ / 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λ/λ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ctional change in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dshift as Distance Indic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ansion of the Univer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bble's law:       v = H0 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H0 = Hubble constant [km/s/Mpc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ppler shift used to measure recession velocit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≈ c (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Δλ / λ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Δλ/λ =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actional change in wave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omical Distance Lad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tronomical Distance Lad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6653-EA1D-4570-A959-11A0A0AB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0BF9-EB7D-4533-B8AC-B14E70D4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C374-228C-4D52-A0FC-EF24318C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3C14-9C0E-454F-92BE-946C1C3F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636A-1300-4B1C-A693-8406FFBC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9EF3-7D5A-4E00-9DB8-2A2F46B9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0F18-DD42-43D4-A15C-360D5CF6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47AF-087A-474E-8AAE-E49AEE79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917A-CFA3-4480-BCDC-032F81D1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97C0-70FD-4363-A39C-CAB9A770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A0CA-55D7-44DF-A7AF-13D15F38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71EC-1A1B-4016-855D-4FF8BE9C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2710-9C31-4741-9B88-2FCC3139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FF85-AFA4-4422-9FB0-A64C1ED9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E33B-355B-4343-9122-091B022F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FCE5-FF38-4BEA-B77E-38A05DE2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9841-EE1F-416C-AD80-295C763A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DD54-A401-47FA-97FE-C3C9BB3E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DD22-941D-4F97-A50E-B2C2BCB3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C3DA-2544-4FF3-A4AD-72E4562C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2E6A-8F00-4F20-98F0-36D78431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351A-D6CC-4E91-AAC8-D337957F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C025-40E4-4501-974B-B39EABBE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E0E0-B495-4B45-8C35-8EE3DB09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A659-31D7-487A-8E3E-C88263285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F74E-5376-4F2A-A28E-E489216065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EASURING DISTANCES IN ASTRONOMY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ic Princip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Geometric meth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tandard cand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tandard rul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the last two methods relate quantities that are independent of distance to quantities that depend on distance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pecial Theory of Relativity (STR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ed of light (in vacuum):     c = 300,000 k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ancy of the sp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light: Michelson &amp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ley 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signal or object can travel faster than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The ultimate speed limit!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C:\WINDOWS\Desktop\ay2-f04\Week 3\litespd.gif"/>
          <p:cNvPicPr/>
          <p:nvPr/>
        </p:nvPicPr>
        <p:blipFill>
          <a:blip r:embed="rId1"/>
          <a:stretch/>
        </p:blipFill>
        <p:spPr>
          <a:xfrm>
            <a:off x="7335720" y="4495680"/>
            <a:ext cx="1481400" cy="1981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C:\WINDOWS\Desktop\ay2-f04\Week 3\mmexp.gif"/>
          <p:cNvPicPr/>
          <p:nvPr/>
        </p:nvPicPr>
        <p:blipFill>
          <a:blip r:embed="rId2"/>
          <a:stretch/>
        </p:blipFill>
        <p:spPr>
          <a:xfrm>
            <a:off x="4572000" y="2057400"/>
            <a:ext cx="3753000" cy="22208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Basic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peed of light is the same to all obser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ws of physics are the same to all obser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Observable Consequ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taneity is a relative con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gth contraction: moving rulers appear to be sh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 dilation: moving clocks appear to run s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pparent mass (inertia) of an object increases as its        speed increases (impossible to accelerate it up to 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uivalence of mass and energy:    E = m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pecial Theory of Relativity (STR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1447920" y="1981080"/>
            <a:ext cx="640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Special relativistic effects are important when the SPEED of an object is CLOSE TO THE SPEED OF LIGHT:    v 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≈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imultaneity and time are relative, not absolut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80880" y="60958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ion Jones sees A flash before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6" descr="C:\Documents and Settings\Conference Room Lpt\Desktop\ay2_ppt\jones01.jpg"/>
          <p:cNvPicPr/>
          <p:nvPr/>
        </p:nvPicPr>
        <p:blipFill>
          <a:blip r:embed="rId1"/>
          <a:stretch/>
        </p:blipFill>
        <p:spPr>
          <a:xfrm>
            <a:off x="3657600" y="1203480"/>
            <a:ext cx="1981080" cy="1311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C:\Documents and Settings\Conference Room Lpt\Desktop\ay2_ppt\jones03.jpg"/>
          <p:cNvPicPr/>
          <p:nvPr/>
        </p:nvPicPr>
        <p:blipFill>
          <a:blip r:embed="rId2"/>
          <a:srcRect l="24895" t="5294" r="3561" b="10601"/>
          <a:stretch/>
        </p:blipFill>
        <p:spPr>
          <a:xfrm>
            <a:off x="3886200" y="3538440"/>
            <a:ext cx="1571760" cy="24782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380880" y="25146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ion Jones sees A and B flash simultane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12"/>
          <p:cNvGrpSpPr/>
          <p:nvPr/>
        </p:nvGrpSpPr>
        <p:grpSpPr>
          <a:xfrm>
            <a:off x="838080" y="1600200"/>
            <a:ext cx="7467840" cy="459720"/>
            <a:chOff x="838080" y="1600200"/>
            <a:chExt cx="7467840" cy="459720"/>
          </a:xfrm>
        </p:grpSpPr>
        <p:sp>
          <p:nvSpPr>
            <p:cNvPr id="151" name="Text Box 9"/>
            <p:cNvSpPr/>
            <p:nvPr/>
          </p:nvSpPr>
          <p:spPr>
            <a:xfrm>
              <a:off x="838080" y="1600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7696080" y="1600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Group 13"/>
          <p:cNvGrpSpPr/>
          <p:nvPr/>
        </p:nvGrpSpPr>
        <p:grpSpPr>
          <a:xfrm>
            <a:off x="838080" y="4267080"/>
            <a:ext cx="7467840" cy="459720"/>
            <a:chOff x="838080" y="4267080"/>
            <a:chExt cx="7467840" cy="459720"/>
          </a:xfrm>
        </p:grpSpPr>
        <p:sp>
          <p:nvSpPr>
            <p:cNvPr id="154" name="Text Box 14"/>
            <p:cNvSpPr/>
            <p:nvPr/>
          </p:nvSpPr>
          <p:spPr>
            <a:xfrm>
              <a:off x="838080" y="4267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Text Box 15"/>
            <p:cNvSpPr/>
            <p:nvPr/>
          </p:nvSpPr>
          <p:spPr>
            <a:xfrm>
              <a:off x="7696080" y="4267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3468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easuring the length of a moving object:</a:t>
            </a:r>
            <a:br>
              <a:rPr sz="3200"/>
            </a:b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Length Contractio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295280" y="5181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pparent (i.e., measured) length of a moving object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hor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n the “true” length (measured when the object is at re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13" descr="C:\Documents and Settings\Conference Room Lpt\Desktop\ay2_ppt\fish.jpg"/>
          <p:cNvPicPr/>
          <p:nvPr/>
        </p:nvPicPr>
        <p:blipFill>
          <a:blip r:embed="rId1"/>
          <a:stretch/>
        </p:blipFill>
        <p:spPr>
          <a:xfrm>
            <a:off x="4038480" y="1600200"/>
            <a:ext cx="3200400" cy="1879560"/>
          </a:xfrm>
          <a:prstGeom prst="rect">
            <a:avLst/>
          </a:prstGeom>
          <a:ln w="0">
            <a:noFill/>
          </a:ln>
        </p:spPr>
      </p:pic>
      <p:sp>
        <p:nvSpPr>
          <p:cNvPr id="160" name="Line 15"/>
          <p:cNvSpPr/>
          <p:nvPr/>
        </p:nvSpPr>
        <p:spPr>
          <a:xfrm flipV="1">
            <a:off x="4114800" y="3809880"/>
            <a:ext cx="0" cy="1067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16" descr="C:\Documents and Settings\Conference Room Lpt\Desktop\ay2_ppt\fish.jpg"/>
          <p:cNvPicPr/>
          <p:nvPr/>
        </p:nvPicPr>
        <p:blipFill>
          <a:blip r:embed="rId2"/>
          <a:stretch/>
        </p:blipFill>
        <p:spPr>
          <a:xfrm>
            <a:off x="2057400" y="1600200"/>
            <a:ext cx="3200400" cy="1879560"/>
          </a:xfrm>
          <a:prstGeom prst="rect">
            <a:avLst/>
          </a:prstGeom>
          <a:ln w="0">
            <a:noFill/>
          </a:ln>
        </p:spPr>
      </p:pic>
      <p:sp>
        <p:nvSpPr>
          <p:cNvPr id="162" name="Line 17"/>
          <p:cNvSpPr/>
          <p:nvPr/>
        </p:nvSpPr>
        <p:spPr>
          <a:xfrm flipV="1">
            <a:off x="5105520" y="3809880"/>
            <a:ext cx="0" cy="1067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3468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easuring time on a moving clock:</a:t>
            </a:r>
            <a:br>
              <a:rPr sz="3200"/>
            </a:b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Time Dilatio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457200" y="58672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oving clock run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lo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n its counterpart at r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 flipV="1">
            <a:off x="1752480" y="1523520"/>
            <a:ext cx="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2057400" y="1523880"/>
            <a:ext cx="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8" descr="C:\Program Files\Microsoft Office\Clipart\standard\stddir3\NA01652_.wmf"/>
          <p:cNvPicPr/>
          <p:nvPr/>
        </p:nvPicPr>
        <p:blipFill>
          <a:blip r:embed="rId1"/>
          <a:stretch/>
        </p:blipFill>
        <p:spPr>
          <a:xfrm>
            <a:off x="1522440" y="4038480"/>
            <a:ext cx="739800" cy="743040"/>
          </a:xfrm>
          <a:prstGeom prst="rect">
            <a:avLst/>
          </a:prstGeom>
          <a:ln w="0">
            <a:noFill/>
          </a:ln>
        </p:spPr>
      </p:pic>
      <p:sp>
        <p:nvSpPr>
          <p:cNvPr id="169" name="Line 9"/>
          <p:cNvSpPr/>
          <p:nvPr/>
        </p:nvSpPr>
        <p:spPr>
          <a:xfrm>
            <a:off x="1600200" y="1371600"/>
            <a:ext cx="5335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711360" y="48769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tionary Cl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5181480" y="4876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ing Cl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Group 16"/>
          <p:cNvGrpSpPr/>
          <p:nvPr/>
        </p:nvGrpSpPr>
        <p:grpSpPr>
          <a:xfrm>
            <a:off x="4419720" y="1371600"/>
            <a:ext cx="739800" cy="3409920"/>
            <a:chOff x="4419720" y="1371600"/>
            <a:chExt cx="739800" cy="3409920"/>
          </a:xfrm>
        </p:grpSpPr>
        <p:pic>
          <p:nvPicPr>
            <p:cNvPr id="173" name="Picture 12" descr="C:\Program Files\Microsoft Office\Clipart\standard\stddir3\NA01652_.wmf"/>
            <p:cNvPicPr/>
            <p:nvPr/>
          </p:nvPicPr>
          <p:blipFill>
            <a:blip r:embed="rId2"/>
            <a:stretch/>
          </p:blipFill>
          <p:spPr>
            <a:xfrm>
              <a:off x="4419720" y="403848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13"/>
            <p:cNvSpPr/>
            <p:nvPr/>
          </p:nvSpPr>
          <p:spPr>
            <a:xfrm>
              <a:off x="4521240" y="1371600"/>
              <a:ext cx="533520" cy="0"/>
            </a:xfrm>
            <a:prstGeom prst="line">
              <a:avLst/>
            </a:prstGeom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Group 17"/>
          <p:cNvGrpSpPr/>
          <p:nvPr/>
        </p:nvGrpSpPr>
        <p:grpSpPr>
          <a:xfrm>
            <a:off x="5994360" y="1365120"/>
            <a:ext cx="739800" cy="3409920"/>
            <a:chOff x="5994360" y="1365120"/>
            <a:chExt cx="739800" cy="3409920"/>
          </a:xfrm>
        </p:grpSpPr>
        <p:pic>
          <p:nvPicPr>
            <p:cNvPr id="176" name="Picture 18" descr="C:\Program Files\Microsoft Office\Clipart\standard\stddir3\NA01652_.wmf"/>
            <p:cNvPicPr/>
            <p:nvPr/>
          </p:nvPicPr>
          <p:blipFill>
            <a:blip r:embed="rId3"/>
            <a:stretch/>
          </p:blipFill>
          <p:spPr>
            <a:xfrm>
              <a:off x="5994360" y="403200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19"/>
            <p:cNvSpPr/>
            <p:nvPr/>
          </p:nvSpPr>
          <p:spPr>
            <a:xfrm>
              <a:off x="6095880" y="1365120"/>
              <a:ext cx="533520" cy="0"/>
            </a:xfrm>
            <a:prstGeom prst="line">
              <a:avLst/>
            </a:prstGeom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Group 20"/>
          <p:cNvGrpSpPr/>
          <p:nvPr/>
        </p:nvGrpSpPr>
        <p:grpSpPr>
          <a:xfrm>
            <a:off x="7566120" y="1365120"/>
            <a:ext cx="739800" cy="3409920"/>
            <a:chOff x="7566120" y="1365120"/>
            <a:chExt cx="739800" cy="3409920"/>
          </a:xfrm>
        </p:grpSpPr>
        <p:pic>
          <p:nvPicPr>
            <p:cNvPr id="179" name="Picture 21" descr="C:\Program Files\Microsoft Office\Clipart\standard\stddir3\NA01652_.wmf"/>
            <p:cNvPicPr/>
            <p:nvPr/>
          </p:nvPicPr>
          <p:blipFill>
            <a:blip r:embed="rId4"/>
            <a:stretch/>
          </p:blipFill>
          <p:spPr>
            <a:xfrm>
              <a:off x="7566120" y="403200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Line 22"/>
            <p:cNvSpPr/>
            <p:nvPr/>
          </p:nvSpPr>
          <p:spPr>
            <a:xfrm>
              <a:off x="7667640" y="1365120"/>
              <a:ext cx="533520" cy="0"/>
            </a:xfrm>
            <a:prstGeom prst="line">
              <a:avLst/>
            </a:prstGeom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Line 23"/>
          <p:cNvSpPr/>
          <p:nvPr/>
        </p:nvSpPr>
        <p:spPr>
          <a:xfrm flipV="1">
            <a:off x="4876920" y="1523520"/>
            <a:ext cx="144756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24"/>
          <p:cNvSpPr/>
          <p:nvPr/>
        </p:nvSpPr>
        <p:spPr>
          <a:xfrm>
            <a:off x="6400800" y="1523880"/>
            <a:ext cx="144792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3"/>
          <p:cNvGrpSpPr/>
          <p:nvPr/>
        </p:nvGrpSpPr>
        <p:grpSpPr>
          <a:xfrm>
            <a:off x="5334120" y="2451240"/>
            <a:ext cx="3047760" cy="1627200"/>
            <a:chOff x="5334120" y="2451240"/>
            <a:chExt cx="3047760" cy="1627200"/>
          </a:xfrm>
        </p:grpSpPr>
        <p:pic>
          <p:nvPicPr>
            <p:cNvPr id="185" name="Picture 3" descr="C:\WINDOWS\Desktop\ay2-f04\Week 3\Delorean_Seitlich.jpg"/>
            <p:cNvPicPr/>
            <p:nvPr/>
          </p:nvPicPr>
          <p:blipFill>
            <a:blip r:embed="rId1"/>
            <a:srcRect l="0" t="22505" r="0" b="18757"/>
            <a:stretch/>
          </p:blipFill>
          <p:spPr>
            <a:xfrm>
              <a:off x="5334120" y="2971800"/>
              <a:ext cx="304776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16"/>
            <p:cNvSpPr/>
            <p:nvPr/>
          </p:nvSpPr>
          <p:spPr>
            <a:xfrm>
              <a:off x="5689440" y="245124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tationary C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Group 20"/>
          <p:cNvGrpSpPr/>
          <p:nvPr/>
        </p:nvGrpSpPr>
        <p:grpSpPr>
          <a:xfrm>
            <a:off x="1600200" y="2286000"/>
            <a:ext cx="1752480" cy="1591560"/>
            <a:chOff x="1600200" y="2286000"/>
            <a:chExt cx="1752480" cy="1591560"/>
          </a:xfrm>
        </p:grpSpPr>
        <p:pic>
          <p:nvPicPr>
            <p:cNvPr id="188" name="Picture 21" descr="C:\WINDOWS\Desktop\ay2-f04\Week 3\Delorean_Seitlich.jpg"/>
            <p:cNvPicPr/>
            <p:nvPr/>
          </p:nvPicPr>
          <p:blipFill>
            <a:blip r:embed="rId2"/>
            <a:srcRect l="0" t="22505" r="0" b="18757"/>
            <a:stretch/>
          </p:blipFill>
          <p:spPr>
            <a:xfrm>
              <a:off x="1695240" y="2286000"/>
              <a:ext cx="150516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22"/>
            <p:cNvSpPr/>
            <p:nvPr/>
          </p:nvSpPr>
          <p:spPr>
            <a:xfrm>
              <a:off x="1600200" y="341784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C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Group 19"/>
          <p:cNvGrpSpPr/>
          <p:nvPr/>
        </p:nvGrpSpPr>
        <p:grpSpPr>
          <a:xfrm>
            <a:off x="4648320" y="2728800"/>
            <a:ext cx="1752480" cy="1591560"/>
            <a:chOff x="4648320" y="2728800"/>
            <a:chExt cx="1752480" cy="1591560"/>
          </a:xfrm>
        </p:grpSpPr>
        <p:pic>
          <p:nvPicPr>
            <p:cNvPr id="191" name="Picture 8" descr="C:\WINDOWS\Desktop\ay2-f04\Week 3\Delorean_Seitlich.jpg"/>
            <p:cNvPicPr/>
            <p:nvPr/>
          </p:nvPicPr>
          <p:blipFill>
            <a:blip r:embed="rId3"/>
            <a:srcRect l="0" t="22505" r="0" b="18757"/>
            <a:stretch/>
          </p:blipFill>
          <p:spPr>
            <a:xfrm>
              <a:off x="4743360" y="2728800"/>
              <a:ext cx="150516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8"/>
            <p:cNvSpPr/>
            <p:nvPr/>
          </p:nvSpPr>
          <p:spPr>
            <a:xfrm>
              <a:off x="4648320" y="386064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C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Thought Experiment:</a:t>
            </a:r>
            <a:br>
              <a:rPr sz="3200"/>
            </a:b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Length Contraction and an Apparent Paradox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Garage Attendant’s Perspective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1219320" y="2133720"/>
            <a:ext cx="716256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1219320" y="3200400"/>
            <a:ext cx="708660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1790640" y="210816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1790640" y="316224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3124080" y="336564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12"/>
          <p:cNvSpPr/>
          <p:nvPr/>
        </p:nvSpPr>
        <p:spPr>
          <a:xfrm>
            <a:off x="3124080" y="229860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Group 15"/>
          <p:cNvGrpSpPr/>
          <p:nvPr/>
        </p:nvGrpSpPr>
        <p:grpSpPr>
          <a:xfrm>
            <a:off x="1790640" y="2209680"/>
            <a:ext cx="1333440" cy="1270080"/>
            <a:chOff x="1790640" y="2209680"/>
            <a:chExt cx="1333440" cy="1270080"/>
          </a:xfrm>
        </p:grpSpPr>
        <p:sp>
          <p:nvSpPr>
            <p:cNvPr id="201" name="Line 13"/>
            <p:cNvSpPr/>
            <p:nvPr/>
          </p:nvSpPr>
          <p:spPr>
            <a:xfrm>
              <a:off x="3124080" y="2425680"/>
              <a:ext cx="0" cy="1054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Line 14"/>
            <p:cNvSpPr/>
            <p:nvPr/>
          </p:nvSpPr>
          <p:spPr>
            <a:xfrm>
              <a:off x="1790640" y="2209680"/>
              <a:ext cx="0" cy="1054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evt="end">
                                        <p:tn val="109"/>
                                      </p:cond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WINDOWS\Desktop\ay2-f04\Week 3\Delorean_Seitlich.jpg"/>
          <p:cNvPicPr/>
          <p:nvPr/>
        </p:nvPicPr>
        <p:blipFill>
          <a:blip r:embed="rId1"/>
          <a:srcRect l="0" t="22505" r="0" b="18757"/>
          <a:stretch/>
        </p:blipFill>
        <p:spPr>
          <a:xfrm>
            <a:off x="5334120" y="2971800"/>
            <a:ext cx="3047760" cy="1106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2"/>
          <p:cNvSpPr/>
          <p:nvPr/>
        </p:nvSpPr>
        <p:spPr>
          <a:xfrm>
            <a:off x="380880" y="534996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driver and garage attendant d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ree on the question of whether the two doors were closed simultane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13"/>
          <p:cNvSpPr/>
          <p:nvPr/>
        </p:nvSpPr>
        <p:spPr>
          <a:xfrm>
            <a:off x="1219320" y="2133720"/>
            <a:ext cx="716256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14"/>
          <p:cNvSpPr/>
          <p:nvPr/>
        </p:nvSpPr>
        <p:spPr>
          <a:xfrm>
            <a:off x="1219320" y="3200400"/>
            <a:ext cx="708660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Group 30"/>
          <p:cNvGrpSpPr/>
          <p:nvPr/>
        </p:nvGrpSpPr>
        <p:grpSpPr>
          <a:xfrm>
            <a:off x="1219320" y="2108160"/>
            <a:ext cx="2438280" cy="1818720"/>
            <a:chOff x="1219320" y="2108160"/>
            <a:chExt cx="2438280" cy="1818720"/>
          </a:xfrm>
        </p:grpSpPr>
        <p:sp>
          <p:nvSpPr>
            <p:cNvPr id="209" name="Text Box 4"/>
            <p:cNvSpPr/>
            <p:nvPr/>
          </p:nvSpPr>
          <p:spPr>
            <a:xfrm>
              <a:off x="1219320" y="346716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tationary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Line 15"/>
            <p:cNvSpPr/>
            <p:nvPr/>
          </p:nvSpPr>
          <p:spPr>
            <a:xfrm>
              <a:off x="1790640" y="210816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>
              <a:off x="1790640" y="316224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17"/>
            <p:cNvSpPr/>
            <p:nvPr/>
          </p:nvSpPr>
          <p:spPr>
            <a:xfrm>
              <a:off x="3124080" y="336564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Line 18"/>
            <p:cNvSpPr/>
            <p:nvPr/>
          </p:nvSpPr>
          <p:spPr>
            <a:xfrm>
              <a:off x="3124080" y="22986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667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Thought Experiment:</a:t>
            </a:r>
            <a:br>
              <a:rPr sz="3200"/>
            </a:b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Length Contraction and an Apparent Paradox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Driver’s Perspective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15" name="Group 31"/>
          <p:cNvGrpSpPr/>
          <p:nvPr/>
        </p:nvGrpSpPr>
        <p:grpSpPr>
          <a:xfrm>
            <a:off x="3086280" y="2400480"/>
            <a:ext cx="2133360" cy="1729440"/>
            <a:chOff x="3086280" y="2400480"/>
            <a:chExt cx="2133360" cy="1729440"/>
          </a:xfrm>
        </p:grpSpPr>
        <p:sp>
          <p:nvSpPr>
            <p:cNvPr id="216" name="Text Box 10"/>
            <p:cNvSpPr/>
            <p:nvPr/>
          </p:nvSpPr>
          <p:spPr>
            <a:xfrm>
              <a:off x="3086280" y="36702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26"/>
            <p:cNvSpPr/>
            <p:nvPr/>
          </p:nvSpPr>
          <p:spPr>
            <a:xfrm>
              <a:off x="3886200" y="24004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27"/>
            <p:cNvSpPr/>
            <p:nvPr/>
          </p:nvSpPr>
          <p:spPr>
            <a:xfrm>
              <a:off x="3886200" y="347976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28"/>
            <p:cNvSpPr/>
            <p:nvPr/>
          </p:nvSpPr>
          <p:spPr>
            <a:xfrm>
              <a:off x="4483080" y="35686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29"/>
            <p:cNvSpPr/>
            <p:nvPr/>
          </p:nvSpPr>
          <p:spPr>
            <a:xfrm>
              <a:off x="4483080" y="25020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Group 32"/>
          <p:cNvGrpSpPr/>
          <p:nvPr/>
        </p:nvGrpSpPr>
        <p:grpSpPr>
          <a:xfrm>
            <a:off x="4711680" y="2654280"/>
            <a:ext cx="2133360" cy="1729440"/>
            <a:chOff x="4711680" y="2654280"/>
            <a:chExt cx="2133360" cy="1729440"/>
          </a:xfrm>
        </p:grpSpPr>
        <p:sp>
          <p:nvSpPr>
            <p:cNvPr id="222" name="Text Box 33"/>
            <p:cNvSpPr/>
            <p:nvPr/>
          </p:nvSpPr>
          <p:spPr>
            <a:xfrm>
              <a:off x="4711680" y="39240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Line 34"/>
            <p:cNvSpPr/>
            <p:nvPr/>
          </p:nvSpPr>
          <p:spPr>
            <a:xfrm>
              <a:off x="5511600" y="26542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Line 35"/>
            <p:cNvSpPr/>
            <p:nvPr/>
          </p:nvSpPr>
          <p:spPr>
            <a:xfrm>
              <a:off x="5511600" y="373356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Line 36"/>
            <p:cNvSpPr/>
            <p:nvPr/>
          </p:nvSpPr>
          <p:spPr>
            <a:xfrm>
              <a:off x="6108480" y="38224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Line 37"/>
            <p:cNvSpPr/>
            <p:nvPr/>
          </p:nvSpPr>
          <p:spPr>
            <a:xfrm>
              <a:off x="6108480" y="27558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Group 38"/>
          <p:cNvGrpSpPr/>
          <p:nvPr/>
        </p:nvGrpSpPr>
        <p:grpSpPr>
          <a:xfrm>
            <a:off x="6794640" y="2959200"/>
            <a:ext cx="2133360" cy="1729440"/>
            <a:chOff x="6794640" y="2959200"/>
            <a:chExt cx="2133360" cy="1729440"/>
          </a:xfrm>
        </p:grpSpPr>
        <p:sp>
          <p:nvSpPr>
            <p:cNvPr id="228" name="Text Box 39"/>
            <p:cNvSpPr/>
            <p:nvPr/>
          </p:nvSpPr>
          <p:spPr>
            <a:xfrm>
              <a:off x="6794640" y="42289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Line 40"/>
            <p:cNvSpPr/>
            <p:nvPr/>
          </p:nvSpPr>
          <p:spPr>
            <a:xfrm>
              <a:off x="7594560" y="29592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41"/>
            <p:cNvSpPr/>
            <p:nvPr/>
          </p:nvSpPr>
          <p:spPr>
            <a:xfrm>
              <a:off x="7594560" y="40384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42"/>
            <p:cNvSpPr/>
            <p:nvPr/>
          </p:nvSpPr>
          <p:spPr>
            <a:xfrm>
              <a:off x="8191440" y="41274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43"/>
            <p:cNvSpPr/>
            <p:nvPr/>
          </p:nvSpPr>
          <p:spPr>
            <a:xfrm>
              <a:off x="8191440" y="306072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3" name="Line 21"/>
          <p:cNvSpPr/>
          <p:nvPr/>
        </p:nvSpPr>
        <p:spPr>
          <a:xfrm>
            <a:off x="5511960" y="2781360"/>
            <a:ext cx="0" cy="1054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8191440" y="3187800"/>
            <a:ext cx="0" cy="1054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evt="end">
                                        <p:tn val="133"/>
                                      </p:cond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5"/>
                                      </p:cond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3"/>
          <p:cNvSpPr/>
          <p:nvPr/>
        </p:nvSpPr>
        <p:spPr>
          <a:xfrm>
            <a:off x="380880" y="5691240"/>
            <a:ext cx="83822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scientist in the laboratory witnesses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time dilation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hile the Uranium atoms “witness”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length cont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Real Laboratory Experiment:</a:t>
            </a:r>
            <a:br>
              <a:rPr sz="3200"/>
            </a:b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Direct Verification of Time Dilation and Length Contraction as Predicted by the Special Theory of Relativit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8" name="Picture 33" descr="C:\Documents and Settings\Conference Room Lpt\Desktop\ay2_ppt\uranium.gif"/>
          <p:cNvPicPr/>
          <p:nvPr/>
        </p:nvPicPr>
        <p:blipFill>
          <a:blip r:embed="rId1"/>
          <a:srcRect l="0" t="15212" r="0" b="611"/>
          <a:stretch/>
        </p:blipFill>
        <p:spPr>
          <a:xfrm>
            <a:off x="5105520" y="1611360"/>
            <a:ext cx="2939760" cy="3252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4" descr="C:\Documents and Settings\Conference Room Lpt\Desktop\ay2_ppt\uranium.gif"/>
          <p:cNvPicPr/>
          <p:nvPr/>
        </p:nvPicPr>
        <p:blipFill>
          <a:blip r:embed="rId2"/>
          <a:srcRect l="34007" t="15212" r="20004" b="59776"/>
          <a:stretch/>
        </p:blipFill>
        <p:spPr>
          <a:xfrm>
            <a:off x="380880" y="2133720"/>
            <a:ext cx="2667240" cy="194292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7"/>
          <p:cNvSpPr/>
          <p:nvPr/>
        </p:nvSpPr>
        <p:spPr>
          <a:xfrm>
            <a:off x="380880" y="4038480"/>
            <a:ext cx="25909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eam of fast-moving Uranium ato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39"/>
          <p:cNvSpPr/>
          <p:nvPr/>
        </p:nvSpPr>
        <p:spPr>
          <a:xfrm rot="5400000">
            <a:off x="7255800" y="2915640"/>
            <a:ext cx="25909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uitably placed Geiger coun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40"/>
          <p:cNvSpPr/>
          <p:nvPr/>
        </p:nvSpPr>
        <p:spPr>
          <a:xfrm>
            <a:off x="8153280" y="1600200"/>
            <a:ext cx="0" cy="3276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41"/>
          <p:cNvSpPr/>
          <p:nvPr/>
        </p:nvSpPr>
        <p:spPr>
          <a:xfrm>
            <a:off x="5041800" y="4838760"/>
            <a:ext cx="30481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uclear fission of Uranium ato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43"/>
          <p:cNvSpPr/>
          <p:nvPr/>
        </p:nvSpPr>
        <p:spPr>
          <a:xfrm>
            <a:off x="3124080" y="3124080"/>
            <a:ext cx="1905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General Theory of Relativity (GTR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Principle of Equival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bjects experience the same motion in a gi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ational field, irrespective of their m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Galileo's experiment at the leaning tower of Pisa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ational field   &lt;===&gt;   Accelerated reference 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y can be thought of as a distortion of space-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arallax and Proper Motion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gular size: degree [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, arcminute ['], arcsecond ["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[in arcseconds] = 206265 (L/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: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angular size;   L = linear (or “true”) size;   D = di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initions: parallax (p), Astronomical Unit [AU], parsec [pc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 [in parsec] = 1/p [in arcsecond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:   1 pc  =  206265 AU  =  3.26 light y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allax can only be used on nearby stars (D &lt; 100 p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Atmospheric blurring (seeing);  Hipparcos satellit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ubble Space Telescope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C:\WINDOWS\Desktop\ay2-f04\Week 3\equiv1.gif"/>
          <p:cNvPicPr/>
          <p:nvPr/>
        </p:nvPicPr>
        <p:blipFill>
          <a:blip r:embed="rId1"/>
          <a:stretch/>
        </p:blipFill>
        <p:spPr>
          <a:xfrm>
            <a:off x="378000" y="380880"/>
            <a:ext cx="41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C:\WINDOWS\Desktop\ay2-f04\Week 3\equiv2.gif"/>
          <p:cNvPicPr/>
          <p:nvPr/>
        </p:nvPicPr>
        <p:blipFill>
          <a:blip r:embed="rId2"/>
          <a:stretch/>
        </p:blipFill>
        <p:spPr>
          <a:xfrm>
            <a:off x="4572000" y="380880"/>
            <a:ext cx="4411800" cy="2057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C:\WINDOWS\Desktop\ay2-f04\Week 3\equivalence_principle_elevator_photon.gif"/>
          <p:cNvPicPr/>
          <p:nvPr/>
        </p:nvPicPr>
        <p:blipFill>
          <a:blip r:embed="rId3"/>
          <a:stretch/>
        </p:blipFill>
        <p:spPr>
          <a:xfrm>
            <a:off x="2019240" y="2514600"/>
            <a:ext cx="5105520" cy="396396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bservable Consequences of GT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647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helion precession of Mercu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ght bend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ar eclipse experi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Picture 4" descr="C:\WINDOWS\Desktop\ay2-f04\Week 3\MercPrecess.gif"/>
          <p:cNvPicPr/>
          <p:nvPr/>
        </p:nvPicPr>
        <p:blipFill>
          <a:blip r:embed="rId1"/>
          <a:srcRect l="0" t="7412" r="0" b="11849"/>
          <a:stretch/>
        </p:blipFill>
        <p:spPr>
          <a:xfrm>
            <a:off x="4876920" y="789120"/>
            <a:ext cx="4038480" cy="2447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C:\WINDOWS\Desktop\ay2-f04\Week 3\LightBend1.gif"/>
          <p:cNvPicPr/>
          <p:nvPr/>
        </p:nvPicPr>
        <p:blipFill>
          <a:blip r:embed="rId2"/>
          <a:stretch/>
        </p:blipFill>
        <p:spPr>
          <a:xfrm>
            <a:off x="228600" y="34290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C:\WINDOWS\Desktop\ay2-f04\Week 3\LightBend2.gif"/>
          <p:cNvPicPr/>
          <p:nvPr/>
        </p:nvPicPr>
        <p:blipFill>
          <a:blip r:embed="rId3"/>
          <a:stretch/>
        </p:blipFill>
        <p:spPr>
          <a:xfrm>
            <a:off x="4572000" y="342900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avitational lens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ple imag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ge distor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4" descr="C:\WINDOWS\Desktop\ay2-f04\Week 3\Gravity_lense.jpg"/>
          <p:cNvPicPr/>
          <p:nvPr/>
        </p:nvPicPr>
        <p:blipFill>
          <a:blip r:embed="rId1"/>
          <a:stretch/>
        </p:blipFill>
        <p:spPr>
          <a:xfrm>
            <a:off x="4876920" y="22860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685800" y="2743200"/>
            <a:ext cx="396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avitational Redshi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Extreme case: light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pped” in a black hole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6" descr="C:\WINDOWS\Desktop\ay2-f04\Week 3\gravitational-redshift.jpg"/>
          <p:cNvPicPr/>
          <p:nvPr/>
        </p:nvPicPr>
        <p:blipFill>
          <a:blip r:embed="rId2"/>
          <a:stretch/>
        </p:blipFill>
        <p:spPr>
          <a:xfrm>
            <a:off x="838080" y="4343400"/>
            <a:ext cx="3886200" cy="213372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447920" y="198108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General relativistic effects are important in a STRONG GRAVITATIONAL FIE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WINDOWS\Desktop\ay2-f04\Week 3\ParaDist.gif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otion of stars within a cluste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er motion [arcsec/s]  =  change of angular 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e-of-sight motion [km/s] - measured via Doppler shi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arison of average stellar proper motion in cluster with average line-of-sight speed yields distance to cl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WINDOWS\Desktop\ay2-f04\Week 3\ProperMotion.gif"/>
          <p:cNvPicPr/>
          <p:nvPr/>
        </p:nvPicPr>
        <p:blipFill>
          <a:blip r:embed="rId1"/>
          <a:stretch/>
        </p:blipFill>
        <p:spPr>
          <a:xfrm>
            <a:off x="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WINDOWS\Desktop\ay2-f04\Week 3\RadialVel.gif"/>
          <p:cNvPicPr/>
          <p:nvPr/>
        </p:nvPicPr>
        <p:blipFill>
          <a:blip r:embed="rId2"/>
          <a:stretch/>
        </p:blipFill>
        <p:spPr>
          <a:xfrm>
            <a:off x="4572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Luminosity and Flux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se square law:     f  =  L / (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:   f = flux [erg/s/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;   L = luminosity [erg/s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= distance [cm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itude scale: brightnesses of astronomical 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tandard Candles and Ruler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Variable stars: Cepheids and RR Lyrae sta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eriod-luminosity relation; measure P &amp; infer L; measure f &amp; infer 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Other standard candles: brightest red giants, HII regions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lanetary nebulae, supernovae, globular cluster luminos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alaxies: Luminosity is seen to be correlated with the typical speed of internal motion of stars and g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[Tully-Fisher relation:  rotation of disks of spiral galaxies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[Faber-Jackson relation:  random stellar motion in elliptical galaxies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alaxies: Size correlated with typical speed of (random) stellar mo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[D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σ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elation for elliptical galaxies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Redshift as Distance Indicato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ansion of the Unive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bble's law:       v =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: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Hubble constant [km/s/Mpc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ppler shift used to measure recession veloc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λ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λ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fractional change in waveleng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stronomical Distance Ladde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3" name="Picture 3" descr="C:\WINDOWS\Desktop\ay2-f04\Week 3\distanceladder.jpg"/>
          <p:cNvPicPr/>
          <p:nvPr/>
        </p:nvPicPr>
        <p:blipFill>
          <a:blip r:embed="rId1"/>
          <a:stretch/>
        </p:blipFill>
        <p:spPr>
          <a:xfrm>
            <a:off x="1143000" y="1143000"/>
            <a:ext cx="7188120" cy="5391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21:40:05Z</dcterms:created>
  <dc:creator>Default</dc:creator>
  <dc:description/>
  <dc:language>en-US</dc:language>
  <cp:lastModifiedBy>Legion</cp:lastModifiedBy>
  <dcterms:modified xsi:type="dcterms:W3CDTF">2017-01-26T10:17:03Z</dcterms:modified>
  <cp:revision>13</cp:revision>
  <dc:subject/>
  <dc:title>MEASURING DISTANCES IN ASTRONOMY</dc:title>
</cp:coreProperties>
</file>