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2E71-DC00-49EB-A701-8C41DF68A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41D-B170-4D34-93C2-31A7E767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493-8257-4913-ACC7-7FB44543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D377-5D01-43A2-A524-957892F1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D27-344A-43F5-B113-D0CD7E40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A15-7D70-496E-B12C-0A10886F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533A-C0E5-43F5-B1A5-D40172FE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194-64BE-432B-B1CD-B1702A60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E76-A54F-49DE-82CB-6DAA8C26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E79-FA99-4D8C-9CCA-9E4F5F02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AB9-A1D6-45F1-81C9-67C53750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D55D-8A8F-4523-9188-57774290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5D1-2730-467E-922F-1294B653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D0BF-99EF-429D-8680-019F686DF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7-01-26T10:16:30Z</dcterms:modified>
  <cp:revision>134</cp:revision>
  <dc:subject/>
  <dc:title>PowerPoint Presentation</dc:title>
</cp:coreProperties>
</file>