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9BFA-60B9-4211-8904-7CEAD6F45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7A0-4DC7-4F62-A5CF-9BE4892A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132-D02D-44C4-84D9-72B38C9C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D1ED-C364-4843-9EAD-9A21EDAA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021-F30A-4CA8-968D-BC080B6D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D0B-3D36-466C-A21E-71A3501D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708-F30F-46D8-BEDD-9C4951F6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A6E4-89DF-4445-8D82-7A5CF0B1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351-6186-4E39-AE28-51C7DEB8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171-4520-4165-957B-6FDBACF6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0CD-D972-44DB-8602-3C49EB2B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8A1-D26D-435E-938A-140BAB1B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9AB-6D61-4F29-95E2-87C8DC8B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B055-011F-48AB-95F1-C68035D55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7-01-26T10:16:30Z</dcterms:modified>
  <cp:revision>134</cp:revision>
  <dc:subject/>
  <dc:title>PowerPoint Presentation</dc:title>
</cp:coreProperties>
</file>