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E3FC-6DF8-481B-B483-B1683252EA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5FF-1036-4351-A0AE-DEFC01BE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01A-0F34-48BE-9FE4-297189F7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F96-B6DF-4A74-ADA2-5D672281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4BC-5798-4402-AF40-78343965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615-C2FC-48DA-AD0D-F8AAD39C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680-849A-427D-A463-43D9DBEA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BDB-E52C-4D67-BDFA-A21ABC7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C5B-596F-4263-A320-FC884A25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BDB-68D4-46F1-BC49-F4850057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E3D-5694-4504-A38A-1B6A63EE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446-A6BC-43F3-BA9A-CB188F3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B69-A993-47D3-8CBD-E4301C3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8B64-775B-4CE9-81A8-5A0A9FF1A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Sc100/spring04/sun_streaming_plasma.mpe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PSc100/spring04/prominences.mpe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file:///../PSc100/spring04/sun_1week_CMEs.mpeg" TargetMode="External"/><Relationship Id="rId4" Type="http://schemas.openxmlformats.org/officeDocument/2006/relationships/hyperlink" Target="file:///../PSc100/spring04/sun_1week_CMEs.mpeg" TargetMode="External"/><Relationship Id="rId5" Type="http://schemas.openxmlformats.org/officeDocument/2006/relationships/hyperlink" Target="file:///../PSc100/spring04/sun_flare_closeup.mpeg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PSc100/spring04/1999_solar_eclipse2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PSc100/spring04/sun_activeregions_5days.mpe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a"/>
          <p:cNvPicPr/>
          <p:nvPr/>
        </p:nvPicPr>
        <p:blipFill>
          <a:blip r:embed="rId1"/>
          <a:stretch/>
        </p:blipFill>
        <p:spPr>
          <a:xfrm>
            <a:off x="1371600" y="81000"/>
            <a:ext cx="6710400" cy="6700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5909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ener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29718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visual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2480" y="5334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al temperature = 15 million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337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X = 0.73,  Y = 0.25,  Z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524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 abund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75248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e: ~ 4.52 G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52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ctral type G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ffective (surface) temperature = 5770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752480" y="358128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bolometric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bol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00400" y="15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Fields in Sun Spo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a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3665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4479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gnetic fields on the photosphere can be measured through the Zeem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00200" y="5883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s are related to magnetic activity on th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un Spot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0b"/>
          <p:cNvPicPr/>
          <p:nvPr/>
        </p:nvPicPr>
        <p:blipFill>
          <a:blip r:embed="rId1"/>
          <a:stretch/>
        </p:blipFill>
        <p:spPr>
          <a:xfrm>
            <a:off x="1523880" y="1046160"/>
            <a:ext cx="6340680" cy="3906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124080" y="50133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ed to magnetic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95280" y="5546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gnetic field in sun spots is about 1000 times strong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066680" y="63849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 sun spots, magnetic field lines emerge out of the phot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11480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agnetic Nor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876920" y="1523880"/>
            <a:ext cx="380880" cy="6858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952880" y="1523880"/>
            <a:ext cx="2286000" cy="13716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391520" y="4191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agnetic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H="1" flipV="1">
            <a:off x="5410080" y="2514600"/>
            <a:ext cx="1981440" cy="19051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7391520" y="3276360"/>
            <a:ext cx="304560" cy="10666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6"/>
          <p:cNvPicPr/>
          <p:nvPr/>
        </p:nvPicPr>
        <p:blipFill>
          <a:blip r:embed="rId1"/>
          <a:stretch/>
        </p:blipFill>
        <p:spPr>
          <a:xfrm>
            <a:off x="1981080" y="717480"/>
            <a:ext cx="5639040" cy="5607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/>
          <p:cNvSpPr/>
          <p:nvPr/>
        </p:nvSpPr>
        <p:spPr>
          <a:xfrm rot="20930400">
            <a:off x="3886200" y="4952520"/>
            <a:ext cx="439560" cy="416160"/>
          </a:xfrm>
          <a:custGeom>
            <a:avLst/>
            <a:gdLst>
              <a:gd name="textAreaLeft" fmla="*/ 76680 w 439560"/>
              <a:gd name="textAreaRight" fmla="*/ 318600 w 439560"/>
              <a:gd name="textAreaTop" fmla="*/ 55800 h 416160"/>
              <a:gd name="textAreaBottom" fmla="*/ 36036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 rot="20088000">
            <a:off x="5334120" y="4952520"/>
            <a:ext cx="668160" cy="408240"/>
          </a:xfrm>
          <a:custGeom>
            <a:avLst/>
            <a:gdLst>
              <a:gd name="textAreaLeft" fmla="*/ 116640 w 668160"/>
              <a:gd name="textAreaRight" fmla="*/ 484560 w 66816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9278400">
            <a:off x="5105160" y="2133720"/>
            <a:ext cx="523800" cy="411120"/>
          </a:xfrm>
          <a:custGeom>
            <a:avLst/>
            <a:gdLst>
              <a:gd name="textAreaLeft" fmla="*/ 91440 w 523800"/>
              <a:gd name="textAreaRight" fmla="*/ 379800 w 52380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0551000">
            <a:off x="2663640" y="1971360"/>
            <a:ext cx="360360" cy="419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514600" y="30463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d80c"/>
                </a:solidFill>
                <a:latin typeface="Arial"/>
              </a:rPr>
              <a:t>Magnet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3123720" y="2436480"/>
            <a:ext cx="506520" cy="56196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3886200" y="2513160"/>
            <a:ext cx="1301760" cy="49032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3809880" y="3503520"/>
            <a:ext cx="28908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886200" y="3503520"/>
            <a:ext cx="173520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ss ejection from the sun often follow magnetic field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3a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7432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-yea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905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al of magnetic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76360" y="3809520"/>
            <a:ext cx="53316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886200" y="3809520"/>
            <a:ext cx="838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5181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11 years, North/South order of leading/trailing sun spots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3623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&gt; Total solar cycle = 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Magne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7"/>
          <p:cNvPicPr/>
          <p:nvPr/>
        </p:nvPicPr>
        <p:blipFill>
          <a:blip r:embed="rId1"/>
          <a:stretch/>
        </p:blipFill>
        <p:spPr>
          <a:xfrm>
            <a:off x="5934240" y="76320"/>
            <a:ext cx="2904840" cy="6781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91440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1 yea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 magnetic field pattern becomes so complex that the field structur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-arran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1440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magnetic field structure is similar to the original one, bu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14400" y="5137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11-year cy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r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reversed magnetic-field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4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2459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1905120" y="396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Butterfl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981080" y="4572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 cyc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rts ou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spots 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09680" y="54864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olve to low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wards the equator) throughout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Maunder Min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19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2637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600200" y="12351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n spot number also fluctuates on much longer time s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410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ical data indicate a very quiet phase of the sun, ~ 1650 – 1700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1371600" y="4267080"/>
            <a:ext cx="10666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min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oped_prominences_uv"/>
          <p:cNvPicPr/>
          <p:nvPr/>
        </p:nvPicPr>
        <p:blipFill>
          <a:blip r:embed="rId2"/>
          <a:stretch/>
        </p:blipFill>
        <p:spPr>
          <a:xfrm>
            <a:off x="1600200" y="838080"/>
            <a:ext cx="6370560" cy="4778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ruptive_prominence_uv"/>
          <p:cNvPicPr/>
          <p:nvPr/>
        </p:nvPicPr>
        <p:blipFill>
          <a:blip r:embed="rId1"/>
          <a:stretch/>
        </p:blipFill>
        <p:spPr>
          <a:xfrm>
            <a:off x="4114800" y="763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rominence_uv1"/>
          <p:cNvPicPr/>
          <p:nvPr/>
        </p:nvPicPr>
        <p:blipFill>
          <a:blip r:embed="rId2"/>
          <a:stretch/>
        </p:blipFill>
        <p:spPr>
          <a:xfrm>
            <a:off x="411480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808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 flipV="1">
            <a:off x="3276720" y="914400"/>
            <a:ext cx="3809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248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3733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eme events, ca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ronal mass ejections (CMEs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lar flare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an significantly influence Earth’s magnetic field structure and caus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ern lights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rominence_coronaltransient"/>
          <p:cNvPicPr/>
          <p:nvPr/>
        </p:nvPicPr>
        <p:blipFill>
          <a:blip r:embed="rId1"/>
          <a:stretch/>
        </p:blipFill>
        <p:spPr>
          <a:xfrm>
            <a:off x="365760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minence_uv2"/>
          <p:cNvPicPr/>
          <p:nvPr/>
        </p:nvPicPr>
        <p:blipFill>
          <a:blip r:embed="rId2"/>
          <a:stretch/>
        </p:blipFill>
        <p:spPr>
          <a:xfrm>
            <a:off x="4191120" y="152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2280" y="114300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590920" y="914400"/>
            <a:ext cx="289548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438280" y="2590920"/>
            <a:ext cx="3505320" cy="2743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0880" y="396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Interio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"/>
          <p:cNvPicPr/>
          <p:nvPr/>
        </p:nvPicPr>
        <p:blipFill>
          <a:blip r:embed="rId1"/>
          <a:stretch/>
        </p:blipFill>
        <p:spPr>
          <a:xfrm>
            <a:off x="380988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572000" y="609588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505320" y="617220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emp, density and pressure decr. out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430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generation via nuclear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43000" y="312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143000" y="1676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066680" y="1371240"/>
            <a:ext cx="0" cy="3429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 rot="16200000">
            <a:off x="-944280" y="2711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low 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733920" y="4800600"/>
            <a:ext cx="83808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3352680" y="3352320"/>
            <a:ext cx="114300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3276720" y="2057040"/>
            <a:ext cx="76176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4479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3352680" y="12952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seedssun081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seedssun082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seedssun083"/>
          <p:cNvPicPr/>
          <p:nvPr/>
        </p:nvPicPr>
        <p:blipFill>
          <a:blip r:embed="rId3"/>
          <a:stretch/>
        </p:blipFill>
        <p:spPr>
          <a:xfrm>
            <a:off x="6019920" y="249552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9907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olar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eedssun084"/>
          <p:cNvPicPr/>
          <p:nvPr/>
        </p:nvPicPr>
        <p:blipFill>
          <a:blip r:embed="rId4"/>
          <a:stretch/>
        </p:blipFill>
        <p:spPr>
          <a:xfrm>
            <a:off x="6019920" y="4789440"/>
            <a:ext cx="2895480" cy="206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343400" y="478800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und waves produced by a solar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715000" y="12952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 rot="16200000">
            <a:off x="4534920" y="209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seedssun085"/>
          <p:cNvPicPr/>
          <p:nvPr/>
        </p:nvPicPr>
        <p:blipFill>
          <a:blip r:embed="rId5"/>
          <a:stretch/>
        </p:blipFill>
        <p:spPr>
          <a:xfrm>
            <a:off x="380880" y="36496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304920" y="6172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Chro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04"/>
          <p:cNvPicPr/>
          <p:nvPr/>
        </p:nvPicPr>
        <p:blipFill>
          <a:blip r:embed="rId1"/>
          <a:stretch/>
        </p:blipFill>
        <p:spPr>
          <a:xfrm>
            <a:off x="5029200" y="1243080"/>
            <a:ext cx="3886200" cy="3862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4952880" y="131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omospheric structures visible in H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91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on of sun’s atmosphere just above the pho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03"/>
          <p:cNvPicPr/>
          <p:nvPr/>
        </p:nvPicPr>
        <p:blipFill>
          <a:blip r:embed="rId2"/>
          <a:stretch/>
        </p:blipFill>
        <p:spPr>
          <a:xfrm>
            <a:off x="152280" y="2276640"/>
            <a:ext cx="4648320" cy="3187440"/>
          </a:xfrm>
          <a:prstGeom prst="rect">
            <a:avLst/>
          </a:prstGeom>
          <a:ln w="0">
            <a:noFill/>
          </a:ln>
        </p:spPr>
      </p:pic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09480" y="56386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: 4400 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25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: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→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00600" y="5365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romospher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05"/>
          <p:cNvPicPr/>
          <p:nvPr/>
        </p:nvPicPr>
        <p:blipFill>
          <a:blip r:embed="rId1"/>
          <a:stretch/>
        </p:blipFill>
        <p:spPr>
          <a:xfrm>
            <a:off x="1295280" y="1295280"/>
            <a:ext cx="454356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6400800" y="23623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icules = filaments of hot gas, visible in H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0720" y="6172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s extend up to ~ 10,0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Transition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562720" y="1752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~ 2300 – 26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3808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 from moderate to high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03"/>
          <p:cNvPicPr/>
          <p:nvPr/>
        </p:nvPicPr>
        <p:blipFill>
          <a:blip r:embed="rId1"/>
          <a:stretch/>
        </p:blipFill>
        <p:spPr>
          <a:xfrm>
            <a:off x="304920" y="1881360"/>
            <a:ext cx="5257800" cy="3605040"/>
          </a:xfrm>
          <a:prstGeom prst="rect">
            <a:avLst/>
          </a:prstGeom>
          <a:ln w="0">
            <a:noFill/>
          </a:ln>
        </p:spPr>
      </p:pic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914400" y="3200400"/>
            <a:ext cx="4495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638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~ 25,000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50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486400" y="4070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e selective heights in (UV) emission lines of ionized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09480" y="5562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2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0880" y="6172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II 977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9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343400" y="5638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VI 103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3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457200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 X 625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1,4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01b"/>
          <p:cNvPicPr/>
          <p:nvPr/>
        </p:nvPicPr>
        <p:blipFill>
          <a:blip r:embed="rId1"/>
          <a:stretch/>
        </p:blipFill>
        <p:spPr>
          <a:xfrm>
            <a:off x="1523880" y="762120"/>
            <a:ext cx="5867640" cy="5427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1337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olar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143000" y="6400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ot (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≥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K), low-density (n ≤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6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vs. Quiescent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active_corona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quiescent_corona"/>
          <p:cNvPicPr/>
          <p:nvPr/>
        </p:nvPicPr>
        <p:blipFill>
          <a:blip r:embed="rId2"/>
          <a:stretch/>
        </p:blipFill>
        <p:spPr>
          <a:xfrm>
            <a:off x="4648320" y="331308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0"/>
          <p:cNvSpPr/>
          <p:nvPr/>
        </p:nvSpPr>
        <p:spPr>
          <a:xfrm>
            <a:off x="4572000" y="3276720"/>
            <a:ext cx="2286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6002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7524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198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onal H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seedssun086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92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647712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 images of the sun reveal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onal ho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 flipH="1">
            <a:off x="2361960" y="2895480"/>
            <a:ext cx="4267080" cy="1828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477120" y="3809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arise at the foot points of open field lines and are the origin of th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lar wi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76520" y="102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te of main energ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2952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"/>
          <p:cNvSpPr/>
          <p:nvPr/>
        </p:nvSpPr>
        <p:spPr>
          <a:xfrm flipV="1">
            <a:off x="12952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 rot="16200000">
            <a:off x="344160" y="331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9436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666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352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724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410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4197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81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362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67652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1295280" y="2436840"/>
            <a:ext cx="5249880" cy="3456000"/>
          </a:xfrm>
          <a:custGeom>
            <a:avLst/>
            <a:gdLst/>
            <a:ahLst/>
            <a:rect l="l" t="t" r="r" b="b"/>
            <a:pathLst>
              <a:path w="3307" h="2177">
                <a:moveTo>
                  <a:pt x="0" y="2161"/>
                </a:moveTo>
                <a:cubicBezTo>
                  <a:pt x="22" y="2120"/>
                  <a:pt x="97" y="2010"/>
                  <a:pt x="131" y="1912"/>
                </a:cubicBezTo>
                <a:cubicBezTo>
                  <a:pt x="165" y="1814"/>
                  <a:pt x="185" y="1705"/>
                  <a:pt x="210" y="1574"/>
                </a:cubicBezTo>
                <a:cubicBezTo>
                  <a:pt x="234" y="1443"/>
                  <a:pt x="262" y="1275"/>
                  <a:pt x="277" y="1126"/>
                </a:cubicBezTo>
                <a:cubicBezTo>
                  <a:pt x="292" y="977"/>
                  <a:pt x="286" y="843"/>
                  <a:pt x="300" y="678"/>
                </a:cubicBezTo>
                <a:cubicBezTo>
                  <a:pt x="315" y="513"/>
                  <a:pt x="328" y="243"/>
                  <a:pt x="366" y="138"/>
                </a:cubicBezTo>
                <a:cubicBezTo>
                  <a:pt x="404" y="33"/>
                  <a:pt x="483" y="0"/>
                  <a:pt x="529" y="49"/>
                </a:cubicBezTo>
                <a:cubicBezTo>
                  <a:pt x="576" y="98"/>
                  <a:pt x="591" y="221"/>
                  <a:pt x="647" y="433"/>
                </a:cubicBezTo>
                <a:cubicBezTo>
                  <a:pt x="703" y="645"/>
                  <a:pt x="783" y="1067"/>
                  <a:pt x="871" y="1318"/>
                </a:cubicBezTo>
                <a:cubicBezTo>
                  <a:pt x="959" y="1569"/>
                  <a:pt x="1073" y="1807"/>
                  <a:pt x="1174" y="1939"/>
                </a:cubicBezTo>
                <a:cubicBezTo>
                  <a:pt x="1274" y="2071"/>
                  <a:pt x="1351" y="2076"/>
                  <a:pt x="1470" y="2113"/>
                </a:cubicBezTo>
                <a:cubicBezTo>
                  <a:pt x="1589" y="2150"/>
                  <a:pt x="1692" y="2150"/>
                  <a:pt x="1890" y="2159"/>
                </a:cubicBezTo>
                <a:cubicBezTo>
                  <a:pt x="2088" y="2168"/>
                  <a:pt x="2422" y="2165"/>
                  <a:pt x="2658" y="2168"/>
                </a:cubicBezTo>
                <a:cubicBezTo>
                  <a:pt x="2894" y="2171"/>
                  <a:pt x="3172" y="2175"/>
                  <a:pt x="3307" y="2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71800" y="102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ss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7524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 flipV="1">
            <a:off x="17524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 rot="16200000">
            <a:off x="-531720" y="327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4008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124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495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181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867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8769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1148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505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8195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05740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0920" y="586728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75248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752480" y="5181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752480" y="3505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33360" y="5334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233360" y="358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1219320" y="2971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233360" y="3276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33360" y="3870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9320" y="4191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233360" y="4572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233360" y="49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1752480" y="3187800"/>
            <a:ext cx="5867640" cy="1473120"/>
          </a:xfrm>
          <a:custGeom>
            <a:avLst/>
            <a:gdLst/>
            <a:ahLst/>
            <a:rect l="l" t="t" r="r" b="b"/>
            <a:pathLst>
              <a:path w="3696" h="928">
                <a:moveTo>
                  <a:pt x="0" y="920"/>
                </a:moveTo>
                <a:cubicBezTo>
                  <a:pt x="32" y="924"/>
                  <a:pt x="64" y="928"/>
                  <a:pt x="96" y="920"/>
                </a:cubicBezTo>
                <a:cubicBezTo>
                  <a:pt x="128" y="912"/>
                  <a:pt x="160" y="904"/>
                  <a:pt x="192" y="872"/>
                </a:cubicBezTo>
                <a:cubicBezTo>
                  <a:pt x="224" y="840"/>
                  <a:pt x="248" y="824"/>
                  <a:pt x="288" y="728"/>
                </a:cubicBezTo>
                <a:cubicBezTo>
                  <a:pt x="328" y="632"/>
                  <a:pt x="368" y="392"/>
                  <a:pt x="432" y="296"/>
                </a:cubicBezTo>
                <a:cubicBezTo>
                  <a:pt x="496" y="200"/>
                  <a:pt x="544" y="184"/>
                  <a:pt x="672" y="152"/>
                </a:cubicBezTo>
                <a:cubicBezTo>
                  <a:pt x="800" y="120"/>
                  <a:pt x="1032" y="112"/>
                  <a:pt x="1200" y="104"/>
                </a:cubicBezTo>
                <a:cubicBezTo>
                  <a:pt x="1368" y="96"/>
                  <a:pt x="1464" y="104"/>
                  <a:pt x="1680" y="104"/>
                </a:cubicBezTo>
                <a:cubicBezTo>
                  <a:pt x="1896" y="104"/>
                  <a:pt x="2312" y="112"/>
                  <a:pt x="2496" y="104"/>
                </a:cubicBezTo>
                <a:cubicBezTo>
                  <a:pt x="2680" y="96"/>
                  <a:pt x="2720" y="72"/>
                  <a:pt x="2784" y="56"/>
                </a:cubicBezTo>
                <a:cubicBezTo>
                  <a:pt x="2848" y="40"/>
                  <a:pt x="2792" y="16"/>
                  <a:pt x="2880" y="8"/>
                </a:cubicBezTo>
                <a:cubicBezTo>
                  <a:pt x="2968" y="0"/>
                  <a:pt x="3176" y="8"/>
                  <a:pt x="3312" y="8"/>
                </a:cubicBezTo>
                <a:cubicBezTo>
                  <a:pt x="3448" y="8"/>
                  <a:pt x="3640" y="8"/>
                  <a:pt x="3696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05720" y="2743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1752480" y="3657600"/>
            <a:ext cx="5791320" cy="1308240"/>
          </a:xfrm>
          <a:custGeom>
            <a:avLst/>
            <a:gdLst/>
            <a:ahLst/>
            <a:rect l="l" t="t" r="r" b="b"/>
            <a:pathLst>
              <a:path w="3648" h="824">
                <a:moveTo>
                  <a:pt x="0" y="0"/>
                </a:moveTo>
                <a:cubicBezTo>
                  <a:pt x="44" y="0"/>
                  <a:pt x="88" y="0"/>
                  <a:pt x="144" y="48"/>
                </a:cubicBezTo>
                <a:cubicBezTo>
                  <a:pt x="200" y="96"/>
                  <a:pt x="272" y="200"/>
                  <a:pt x="336" y="288"/>
                </a:cubicBezTo>
                <a:cubicBezTo>
                  <a:pt x="400" y="376"/>
                  <a:pt x="456" y="512"/>
                  <a:pt x="528" y="576"/>
                </a:cubicBezTo>
                <a:cubicBezTo>
                  <a:pt x="600" y="640"/>
                  <a:pt x="648" y="648"/>
                  <a:pt x="768" y="672"/>
                </a:cubicBezTo>
                <a:cubicBezTo>
                  <a:pt x="888" y="696"/>
                  <a:pt x="1040" y="712"/>
                  <a:pt x="1248" y="720"/>
                </a:cubicBezTo>
                <a:cubicBezTo>
                  <a:pt x="1456" y="728"/>
                  <a:pt x="1800" y="720"/>
                  <a:pt x="2016" y="720"/>
                </a:cubicBezTo>
                <a:cubicBezTo>
                  <a:pt x="2232" y="720"/>
                  <a:pt x="2424" y="712"/>
                  <a:pt x="2544" y="720"/>
                </a:cubicBezTo>
                <a:cubicBezTo>
                  <a:pt x="2664" y="728"/>
                  <a:pt x="2696" y="752"/>
                  <a:pt x="2736" y="768"/>
                </a:cubicBezTo>
                <a:cubicBezTo>
                  <a:pt x="2776" y="784"/>
                  <a:pt x="2728" y="808"/>
                  <a:pt x="2784" y="816"/>
                </a:cubicBezTo>
                <a:cubicBezTo>
                  <a:pt x="2840" y="824"/>
                  <a:pt x="2928" y="816"/>
                  <a:pt x="3072" y="816"/>
                </a:cubicBezTo>
                <a:cubicBezTo>
                  <a:pt x="3216" y="816"/>
                  <a:pt x="3432" y="816"/>
                  <a:pt x="3648" y="81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0199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1752480" y="4788000"/>
            <a:ext cx="5943600" cy="1087200"/>
          </a:xfrm>
          <a:custGeom>
            <a:avLst/>
            <a:gdLst/>
            <a:ahLst/>
            <a:rect l="l" t="t" r="r" b="b"/>
            <a:pathLst>
              <a:path w="3744" h="685">
                <a:moveTo>
                  <a:pt x="0" y="680"/>
                </a:moveTo>
                <a:cubicBezTo>
                  <a:pt x="52" y="675"/>
                  <a:pt x="201" y="666"/>
                  <a:pt x="313" y="650"/>
                </a:cubicBezTo>
                <a:cubicBezTo>
                  <a:pt x="425" y="634"/>
                  <a:pt x="569" y="613"/>
                  <a:pt x="670" y="586"/>
                </a:cubicBezTo>
                <a:cubicBezTo>
                  <a:pt x="771" y="559"/>
                  <a:pt x="850" y="535"/>
                  <a:pt x="917" y="486"/>
                </a:cubicBezTo>
                <a:cubicBezTo>
                  <a:pt x="984" y="437"/>
                  <a:pt x="1029" y="364"/>
                  <a:pt x="1072" y="294"/>
                </a:cubicBezTo>
                <a:cubicBezTo>
                  <a:pt x="1115" y="224"/>
                  <a:pt x="1141" y="105"/>
                  <a:pt x="1173" y="65"/>
                </a:cubicBezTo>
                <a:cubicBezTo>
                  <a:pt x="1205" y="25"/>
                  <a:pt x="1226" y="0"/>
                  <a:pt x="1264" y="56"/>
                </a:cubicBezTo>
                <a:cubicBezTo>
                  <a:pt x="1302" y="112"/>
                  <a:pt x="1352" y="318"/>
                  <a:pt x="1401" y="403"/>
                </a:cubicBezTo>
                <a:cubicBezTo>
                  <a:pt x="1450" y="488"/>
                  <a:pt x="1493" y="527"/>
                  <a:pt x="1557" y="568"/>
                </a:cubicBezTo>
                <a:cubicBezTo>
                  <a:pt x="1621" y="609"/>
                  <a:pt x="1693" y="631"/>
                  <a:pt x="1785" y="650"/>
                </a:cubicBezTo>
                <a:cubicBezTo>
                  <a:pt x="1877" y="669"/>
                  <a:pt x="1994" y="675"/>
                  <a:pt x="2112" y="680"/>
                </a:cubicBezTo>
                <a:cubicBezTo>
                  <a:pt x="2230" y="685"/>
                  <a:pt x="2368" y="680"/>
                  <a:pt x="2496" y="680"/>
                </a:cubicBezTo>
                <a:cubicBezTo>
                  <a:pt x="2624" y="680"/>
                  <a:pt x="2672" y="680"/>
                  <a:pt x="2880" y="680"/>
                </a:cubicBezTo>
                <a:cubicBezTo>
                  <a:pt x="3088" y="680"/>
                  <a:pt x="3416" y="680"/>
                  <a:pt x="3744" y="68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019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e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2438280" y="1219320"/>
            <a:ext cx="6705720" cy="4595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y visible during solar ec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522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arent surface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886200" y="1600200"/>
            <a:ext cx="0" cy="4952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 rot="16200000">
            <a:off x="2782440" y="4989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724280" y="5486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62520" y="6172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lar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934320" y="571500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1520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. incr. i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2057400" y="1905120"/>
            <a:ext cx="205740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057400" y="2743200"/>
            <a:ext cx="2286000" cy="1295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981080" y="4952880"/>
            <a:ext cx="129564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2a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86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52388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he visible consequence of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09"/>
          <p:cNvPicPr/>
          <p:nvPr/>
        </p:nvPicPr>
        <p:blipFill>
          <a:blip r:embed="rId1"/>
          <a:stretch/>
        </p:blipFill>
        <p:spPr>
          <a:xfrm>
            <a:off x="152280" y="1371600"/>
            <a:ext cx="89154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048120" y="228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un Spo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6a"/>
          <p:cNvPicPr/>
          <p:nvPr/>
        </p:nvPicPr>
        <p:blipFill>
          <a:blip r:embed="rId1"/>
          <a:stretch/>
        </p:blipFill>
        <p:spPr>
          <a:xfrm>
            <a:off x="457200" y="7621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6b"/>
          <p:cNvPicPr/>
          <p:nvPr/>
        </p:nvPicPr>
        <p:blipFill>
          <a:blip r:embed="rId2"/>
          <a:stretch/>
        </p:blipFill>
        <p:spPr>
          <a:xfrm>
            <a:off x="4800600" y="762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23880" y="-76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n Spo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765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436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ltravio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80880" y="5699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ler reg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the photosphere (T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≈ 4000 K)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8098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H="1">
            <a:off x="2514240" y="1371600"/>
            <a:ext cx="2133720" cy="533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962520" y="1371600"/>
            <a:ext cx="914400" cy="17524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181480" y="1371600"/>
            <a:ext cx="914400" cy="8380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410080" y="1371600"/>
            <a:ext cx="2133720" cy="1676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un_softxrays"/>
          <p:cNvPicPr/>
          <p:nvPr/>
        </p:nvPicPr>
        <p:blipFill>
          <a:blip r:embed="rId1"/>
          <a:stretch/>
        </p:blipFill>
        <p:spPr>
          <a:xfrm>
            <a:off x="1295280" y="609480"/>
            <a:ext cx="6604200" cy="4953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057400" y="6033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lar Activity, seen in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1:45:08Z</dcterms:created>
  <dc:creator>Markus Boettcher</dc:creator>
  <dc:description/>
  <dc:language>en-US</dc:language>
  <cp:lastModifiedBy>Legion</cp:lastModifiedBy>
  <dcterms:modified xsi:type="dcterms:W3CDTF">2017-01-26T10:16:00Z</dcterms:modified>
  <cp:revision>195</cp:revision>
  <dc:subject/>
  <dc:title>Slide 1</dc:title>
</cp:coreProperties>
</file>