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3462-6A85-4931-9FE1-7983AFF81A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, Covalent, and Metallic bo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, Covalent, and Metallic bo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lecule is the basic unit of a molecular comp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lecule is the basic unit of a molecular comp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see how molecules form by sharing electrons in this fig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see how molecules form by sharing electrons in this fig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sodium ion and the negative chloride ion are strongly attracted to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ttraction, which holds the ions close together, is a type of chemical bond called an ionic b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sodium ion and the negative chloride ion are strongly attracted to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ttraction, which holds the ions close together, is a type of chemical bond called an ionic b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ound sodium chloride, or table salt, is form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a pure substance containing two or more elements that are chemically bon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ound sodium chloride, or table salt, is form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a pure substance containing two or more elements that are chemically bon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ains and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elements lose or gain more than one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 magnesium, Mg, in Group 2 has two electrons in its outer energy leve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 can lose these two electrons and achieve a completed 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ains and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elements lose or gain more than one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 magnesium, Mg, in Group 2 has two electrons in its outer energy leve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 can lose these two electrons and achieve a completed 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ains and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toms, such as oxygen, need to gain two electrons to achieve st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electrons released by one magnesium atom could be gained by a single atom of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is happens, magnesium oxide (MgO) is fo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ains and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toms, such as oxygen, need to gain two electrons to achieve st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electrons released by one magnesium atom could be gained by a single atom of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is happens, magnesium oxide (MgO) is fo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alent Bonds—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toms are unlikely to lose or gain electrons because the number of electrons in their outer levels makes this difficul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native is sharing electr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alent Bonds—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toms are unlikely to lose or gain electrons because the number of electrons in their outer levels makes this difficul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native is sharing electr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mical bond that forms between nonmetal atoms when they share electrons is called a covalent bo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image to view mov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mical bond that forms between nonmetal atoms when they share electrons is called a covalent bo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image to view mov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electrons are attracted to the nuclei of both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ove back and forth between the outer energy levels of each atom in the covalent b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each atom has a stable outer energy level some of the t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electrons are attracted to the nuclei of both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ove back and forth between the outer energy levels of each atom in the covalent b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each atom has a stable outer energy level some of the t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tral particle is formed when atoms share electrons is called a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tral particle is formed when atoms share electrons is called a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63E7-EA29-4052-880B-A5A2C070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651E-153E-4F0E-8E00-AA4EFFC8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FFC6-113D-4410-BABD-DB680476F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F51A-9F68-464E-A003-989F852ED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C118-08CB-4DDA-A524-E92F1864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0CD9-7DA0-47F7-BDF3-99480F7B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9575-B38B-4073-BC25-927B9F77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4198-A9DC-497B-81A4-AFCD27CA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E9DD-AC20-4C0F-8771-60F1008A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4E61-C261-4D0A-9552-37746F75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6D26-4833-4E01-9211-2EBE34A0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5AD1-2ADF-432D-9132-562F4228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BE93-4D97-414C-850A-2177CA387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onic, Covalent, and Metallic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533520" y="13716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olecule is the basic unit of a molecular compou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im38"/>
          <p:cNvPicPr/>
          <p:nvPr/>
        </p:nvPicPr>
        <p:blipFill>
          <a:blip r:embed="rId1"/>
          <a:stretch/>
        </p:blipFill>
        <p:spPr>
          <a:xfrm>
            <a:off x="2057400" y="2638440"/>
            <a:ext cx="50292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33520" y="13716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see how molecules form by sharing electrons in this fig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im38"/>
          <p:cNvPicPr/>
          <p:nvPr/>
        </p:nvPicPr>
        <p:blipFill>
          <a:blip r:embed="rId1"/>
          <a:stretch/>
        </p:blipFill>
        <p:spPr>
          <a:xfrm>
            <a:off x="2057400" y="2638440"/>
            <a:ext cx="50292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69960" y="685800"/>
            <a:ext cx="341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Bond 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666800"/>
            <a:ext cx="72388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ositive sodium ion and the negative chloride ion are strongly attracted to each o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3520" y="3470400"/>
            <a:ext cx="7848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attraction, which holds the ions close together, is a type of chemical bond called an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ionic b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569960" y="685800"/>
            <a:ext cx="341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Bond 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533520" y="1219320"/>
            <a:ext cx="7238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ound sodium chloride, or table salt, is fo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33520" y="2133720"/>
            <a:ext cx="7848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compou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ure substance containing two or more elements that are chemically bond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im30"/>
          <p:cNvPicPr/>
          <p:nvPr/>
        </p:nvPicPr>
        <p:blipFill>
          <a:blip r:embed="rId1"/>
          <a:stretch/>
        </p:blipFill>
        <p:spPr>
          <a:xfrm>
            <a:off x="714240" y="4084560"/>
            <a:ext cx="771552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569960" y="685800"/>
            <a:ext cx="474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ore Gains and Lo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533520" y="1262160"/>
            <a:ext cx="37335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elements lose or gain more than one elect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533520" y="2666880"/>
            <a:ext cx="365760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lement magnesium, Mg, in Group 2 has two electrons in its outer energy level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im31"/>
          <p:cNvPicPr/>
          <p:nvPr/>
        </p:nvPicPr>
        <p:blipFill>
          <a:blip r:embed="rId1"/>
          <a:stretch/>
        </p:blipFill>
        <p:spPr>
          <a:xfrm>
            <a:off x="4419720" y="1371600"/>
            <a:ext cx="4190760" cy="3492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533520" y="49752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esium can lose these two electrons and achieve a completed energy lev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569960" y="685800"/>
            <a:ext cx="474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ore Gains and Lo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533520" y="147960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atoms, such as oxygen, need to gain two electrons to achieve stabil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520" y="264780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wo electrons released by one magnesium atom could be gained by a single atom of oxy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33520" y="42642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is happens, magnesium oxide (MgO) is form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568880" y="685800"/>
            <a:ext cx="55299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valent Bonds—Sha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533520" y="1806480"/>
            <a:ext cx="76197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atoms are unlikely to lose or gain electrons because the number of electrons in their outer levels makes this difficul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533520" y="3749760"/>
            <a:ext cx="7696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ternative is sharing electr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33520" y="1317600"/>
            <a:ext cx="8153280" cy="20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emical bond that forms between nonmetal atoms when they share electrons is called a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covale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b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S0306AA.avi" descr=""/>
          <p:cNvPicPr/>
          <p:nvPr/>
        </p:nvPicPr>
        <p:blipFill>
          <a:blip r:embed="rId1"/>
          <a:stretch/>
        </p:blipFill>
        <p:spPr>
          <a:xfrm>
            <a:off x="2743200" y="286236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3288240" y="5638680"/>
            <a:ext cx="24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ca22"/>
                </a:solidFill>
                <a:latin typeface="Times New Roman"/>
              </a:rPr>
              <a:t>Click image to view mov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533520" y="1495440"/>
            <a:ext cx="7619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ed electrons are attracted to the nuclei of both ato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33520" y="267660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move back and forth between the outer energy levels of each atom in the covalent bo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3520" y="43020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each atom has a stable outer energy level some of the t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33520" y="1219320"/>
            <a:ext cx="74674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utral particle is formed when atoms share electrons is called a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im38"/>
          <p:cNvPicPr/>
          <p:nvPr/>
        </p:nvPicPr>
        <p:blipFill>
          <a:blip r:embed="rId1"/>
          <a:stretch/>
        </p:blipFill>
        <p:spPr>
          <a:xfrm>
            <a:off x="2057400" y="2638440"/>
            <a:ext cx="50292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23:40:41Z</dcterms:created>
  <dc:creator>CIC1</dc:creator>
  <dc:description/>
  <dc:language>en-US</dc:language>
  <cp:lastModifiedBy>RomaK</cp:lastModifiedBy>
  <dcterms:modified xsi:type="dcterms:W3CDTF">2015-09-02T05:52:59Z</dcterms:modified>
  <cp:revision>7</cp:revision>
  <dc:subject/>
  <dc:title>Ionic, Covalent, and Metallic bonding</dc:title>
</cp:coreProperties>
</file>