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FCAB-8975-4C42-A915-77A2169885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4F9-A4C8-4B7A-9DEC-0D0B8051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B4C-2713-4F5C-9421-BDB6C8EE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00E-950F-4D24-B04A-4E08870C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105-3198-42B6-861E-33F75669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683-A4A4-4DA3-8D2A-938BB37E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CCE-B795-4E6D-89AC-EEF0712A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F05-E5E3-4062-9A83-5B86F779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122-A9DB-4F67-9BC3-1C2CD373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882-6765-4D08-A8DB-C98E1268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35F-AA34-4E1E-A5AB-A6D3DAF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2EF-E17B-4F3E-B916-D543730E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EC1-33B0-4AAD-97D3-7EEABC62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98DB-D767-4AFD-8FB9-907CD08C0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lecule is the basic unit of a molecular comp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e how molecules form by sharing electrons in this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66680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itive sodium ion and the negative chloride ion are strongly attracted to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34704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ttraction, which holds the ions close together, is a type of chemical bond called 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onic 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219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und sodium chloride, or table salt,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213372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ure substance containing two or more elements that are chemically bon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30"/>
          <p:cNvPicPr/>
          <p:nvPr/>
        </p:nvPicPr>
        <p:blipFill>
          <a:blip r:embed="rId1"/>
          <a:stretch/>
        </p:blipFill>
        <p:spPr>
          <a:xfrm>
            <a:off x="714240" y="4084560"/>
            <a:ext cx="77155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62160"/>
            <a:ext cx="3733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lements lose or gain more than one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2666880"/>
            <a:ext cx="36576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 magnesium, Mg, in Group 2 has two electrons in its outer energy lev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31"/>
          <p:cNvPicPr/>
          <p:nvPr/>
        </p:nvPicPr>
        <p:blipFill>
          <a:blip r:embed="rId1"/>
          <a:stretch/>
        </p:blipFill>
        <p:spPr>
          <a:xfrm>
            <a:off x="4419720" y="1371600"/>
            <a:ext cx="4190760" cy="349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3520" y="4975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 can lose these two electrons and achieve a completed energy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4796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, such as oxygen, need to gain two electrons to achieve st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6478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electrons released by one magnesium atom could be gained by a single atom of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426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happens, magnesium oxide (MgO) is for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68880" y="685800"/>
            <a:ext cx="552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alent Bonds—Sh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80648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 are unlikely to lose or gain electrons because the number of electrons in their outer levels makes this difficu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3520" y="374976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ternative is sharing electr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317600"/>
            <a:ext cx="81532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bond that forms between nonmetal atoms when they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val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S0306AA.avi" descr=""/>
          <p:cNvPicPr/>
          <p:nvPr/>
        </p:nvPicPr>
        <p:blipFill>
          <a:blip r:embed="rId1"/>
          <a:stretch/>
        </p:blipFill>
        <p:spPr>
          <a:xfrm>
            <a:off x="2743200" y="2862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3288240" y="563868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ca22"/>
                </a:solidFill>
                <a:latin typeface="Times New Roman"/>
              </a:rPr>
              <a:t>Click image to view mov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4954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electrons are attracted to the nuclei of both at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267660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ove back and forth between the outer energy levels of each atom in the covalent b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3520" y="4302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each atom has a stable outer energy level some of th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utral particle is formed when atoms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3:40:41Z</dcterms:created>
  <dc:creator>CIC1</dc:creator>
  <dc:description/>
  <dc:language>en-US</dc:language>
  <cp:lastModifiedBy>RomaK</cp:lastModifiedBy>
  <dcterms:modified xsi:type="dcterms:W3CDTF">2015-09-02T05:52:59Z</dcterms:modified>
  <cp:revision>7</cp:revision>
  <dc:subject/>
  <dc:title>Ionic, Covalent, and Metallic bonding</dc:title>
</cp:coreProperties>
</file>