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623E-6ED4-4F7D-924B-118F7D3E7D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lecule is the basic unit of a molecular compou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see how molecules form by sharing electrons in this fig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sitive sodium ion and the negative chloride ion are strongly attracted to each 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attraction, which holds the ions close together, is a type of chemical bond called an ionic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d 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ound sodium chloride, or table salt, is form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pound is a pure substance containing two or more elements that are chemically bon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elements lose or gain more than one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magnesium, Mg, in Group 2 has two electrons in its outer energy level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can lose these two electrons and achieve a completed energy leve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Gains and Los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, such as oxygen, need to gain two electrons to achieve stabi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wo electrons released by one magnesium atom could be gained by a single atom of oxy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is happens, magnesium oxide (MgO) is form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alent Bonds—Sha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toms are unlikely to lose or gain electrons because the number of electrons in their outer levels makes this difficul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lternative is sharing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emical bond that forms between nonmetal atoms when they share electrons is called a covalent bo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image to view mov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electrons are attracted to the nuclei of both ato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ove back and forth between the outer energy levels of each atom in the covalent b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each atom has a stable outer energy level some of the ti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valent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tral particle is formed when atoms share electrons is called 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Elements Bo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262-AEC7-427E-B21C-5E7E6C5C9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6E5F-CF33-4840-97C8-DA5B5AC8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7538-49B5-42B7-BD7B-E62F8BBF4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80F8-6F34-4B1C-ACCA-3F0B1957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C1F-5F22-4FFF-AE84-BA2DE8CE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045-29ED-49C7-B8A1-AF6FED8F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CEA2-B193-4B89-934A-9B2551CF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E9FB-6BA9-4553-A317-818D5B2F2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452B-212C-460F-AA7A-7E538443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BC42-CB4D-4DA4-ACAB-8F395577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EF87-3D31-4773-891B-B2AF9A14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26BD-78C0-4094-874E-07E3A68C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1A7A-09BB-4C1B-B2A3-099F4FA977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nic, Covalent, and Metallic bo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olecule is the basic unit of a molecular comp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33520" y="13716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see how molecules form by sharing electrons in this fig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666800"/>
            <a:ext cx="72388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ositive sodium ion and the negative chloride ion are strongly attracted to each oth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347040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attraction, which holds the ions close together, is a type of chemical bond called an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ionic 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569960" y="685800"/>
            <a:ext cx="34192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Bond 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533520" y="1219320"/>
            <a:ext cx="7238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ound sodium chloride, or table salt, is fo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533520" y="213372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mpou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ure substance containing two or more elements that are chemically bon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8" descr="im30"/>
          <p:cNvPicPr/>
          <p:nvPr/>
        </p:nvPicPr>
        <p:blipFill>
          <a:blip r:embed="rId1"/>
          <a:stretch/>
        </p:blipFill>
        <p:spPr>
          <a:xfrm>
            <a:off x="714240" y="4084560"/>
            <a:ext cx="771552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533520" y="1262160"/>
            <a:ext cx="37335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elements lose or gain more than one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2666880"/>
            <a:ext cx="365760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lement magnesium, Mg, in Group 2 has two electrons in its outer energy level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im31"/>
          <p:cNvPicPr/>
          <p:nvPr/>
        </p:nvPicPr>
        <p:blipFill>
          <a:blip r:embed="rId1"/>
          <a:stretch/>
        </p:blipFill>
        <p:spPr>
          <a:xfrm>
            <a:off x="4419720" y="1371600"/>
            <a:ext cx="4190760" cy="34923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533520" y="4975200"/>
            <a:ext cx="8001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gnesium can lose these two electrons and achieve a completed energy leve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1569960" y="685800"/>
            <a:ext cx="4740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More Gains and Lo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533520" y="14796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, such as oxygen, need to gain two electrons to achieve stabil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64780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wo electrons released by one magnesium atom could be gained by a single atom of oxy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426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is happens, magnesium oxide (MgO) is form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68880" y="685800"/>
            <a:ext cx="55299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Convalent Bonds—Sha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806480"/>
            <a:ext cx="76197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toms are unlikely to lose or gain electrons because the number of electrons in their outer levels makes this difficul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533520" y="3749760"/>
            <a:ext cx="7696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lternative is sharing electr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533520" y="1317600"/>
            <a:ext cx="8153280" cy="20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hemical bond that forms between nonmetal atoms when they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covalen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bo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S0306AA.avi" descr=""/>
          <p:cNvPicPr/>
          <p:nvPr/>
        </p:nvPicPr>
        <p:blipFill>
          <a:blip r:embed="rId1"/>
          <a:stretch/>
        </p:blipFill>
        <p:spPr>
          <a:xfrm>
            <a:off x="2743200" y="286236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8"/>
          <p:cNvSpPr/>
          <p:nvPr/>
        </p:nvSpPr>
        <p:spPr>
          <a:xfrm>
            <a:off x="3288240" y="563868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cca22"/>
                </a:solidFill>
                <a:latin typeface="Times New Roman"/>
              </a:rPr>
              <a:t>Click image to view mov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533520" y="1495440"/>
            <a:ext cx="76197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electrons are attracted to the nuclei of both ato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33520" y="2676600"/>
            <a:ext cx="769608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move back and forth between the outer energy levels of each atom in the covalent bo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533520" y="43020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, each atom has a stable outer energy level some of the ti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569240" y="685800"/>
            <a:ext cx="42210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The Convalent Bo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533520" y="1219320"/>
            <a:ext cx="74674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eutral particle is formed when atoms share electrons is called a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molecu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077640" y="0"/>
            <a:ext cx="293904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How Elements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82480" y="372960"/>
            <a:ext cx="4064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im38"/>
          <p:cNvPicPr/>
          <p:nvPr/>
        </p:nvPicPr>
        <p:blipFill>
          <a:blip r:embed="rId1"/>
          <a:stretch/>
        </p:blipFill>
        <p:spPr>
          <a:xfrm>
            <a:off x="2057400" y="2638440"/>
            <a:ext cx="5029200" cy="32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5T23:40:41Z</dcterms:created>
  <dc:creator>CIC1</dc:creator>
  <dc:description/>
  <dc:language>en-US</dc:language>
  <cp:lastModifiedBy>RomaK</cp:lastModifiedBy>
  <dcterms:modified xsi:type="dcterms:W3CDTF">2015-09-02T05:52:59Z</dcterms:modified>
  <cp:revision>7</cp:revision>
  <dc:subject/>
  <dc:title>Ionic, Covalent, and Metallic bonding</dc:title>
</cp:coreProperties>
</file>