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9B5A-D1D5-4A2C-93CD-DFDB5570A68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hapter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art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the next moon, has an outer layer of water 60 miles thick. The upper 12 miles are believed to be in the form of ice. This ocean is salty and holds a tantalizing possibility of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and Io are somewhat similar in bulk composition to the terrestrial planets: primarily composed of silicate rock below the outer layer of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the next moon, has an outer layer of water 60 miles thick. The upper 12 miles are believed to be in the form of ice. This ocean is salty and holds a tantalizing possibility of lif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and Io are somewhat similar in bulk composition to the terrestrial planets: primarily composed of silicate rock below the outer layer of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ymede is the largest moon in the Solar System. It is larger than Mercury and Plu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nymede is the largest moon in the Solar System. It is larger than Mercury and Pluto.</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s largest moon is nearly the size of Ganyme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 has a considerable atmosphere composed of mostly nitrogen but with traces of organic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Huygens data shows that there is geological evidence for precipitation, erosion, and other fluvial activity. There processes are much the same as those shaping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aturn’s largest moon is nearly the size of Ganymed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 has a considerable atmosphere composed of mostly nitrogen but with traces of organic compound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cent Huygens data shows that there is geological evidence for precipitation, erosion, and other fluvial activity. There processes are much the same as those shaping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s organic chemicals are thought by many to be the constituents that marked early Earth and that combined into complex forms to launch the long journey toward life it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s organic chemicals are thought by many to be the constituents that marked early Earth and that combined into complex forms to launch the long journey toward life itsel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largest of Neptune’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olcanically active like Io and Ti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ly it orbits the moon in the opposite direction of any other large m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the largest of Neptune’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volcanically active like Io and Tita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angely it orbits the moon in the opposite direction of any other large moo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Asteroid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d between Mars and Jupi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tains most of the asteroids (rocky and metallic objects that orbit the Sun but are too small to be considered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lt is continuously disrupted by Jupiter causing asteroids within to change orbits. Many are believed to have been thrown out of the belt. Some have wondered inward passing near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in Asteroid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cated between Mars and Jupite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contains most of the asteroids (rocky and metallic objects that orbit the Sun but are too small to be considered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lt is continuously disrupted by Jupiter causing asteroids within to change orbits. Many are believed to have been thrown out of the belt. Some have wondered inward passing near Earth.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has a large population (over 70,000) of small bodies. It is likely that the Kuiper Belt Objects are extremely primitive debris from the formation of 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sidered to be the source of the short-period com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has a large population (over 70,000) of small bodies. It is likely that the Kuiper Belt Objects are extremely primitive debris from the formation of 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considered to be the source of the short-period com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hypothetical spherical cloud of comets approximately 50,000 AU to 100,000 AU fro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remnant of the original nebula that collapsed to for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ort Cloud objects have been detected, the existence of this classification is only inferred from indirect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hypothetical spherical cloud of comets approximately 50,000 AU to 100,000 AU fro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remnant of the original nebula that collapsed to for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 Oort Cloud objects have been detected, the existence of this classification is only inferred from indirect eviden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re bodies of considerable mass that orbit a star like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officially comprised of nine pla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ison of the planets reveals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em to divide into rocky, dense, inner planets (called the terrestrial planets) and large outer gas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 are bodies of considerable mass that orbit a star like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 is officially comprised of nine plan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comparison of the planets reveals the follow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seem to divide into rocky, dense, inner planets (called the terrestrial planets) and large outer gas gia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s of the planets are ellipses though all except Mercury and Pluto are very nearly circ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away from the sun, the slower a planet travels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rotates very slowly and in the opposite direction of most of the other planets. Uranus and Pluto seem to have been knocked over their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lanets except for Pluto rotate nearly on the same plane (called the ecliptic)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rbits of the planets are ellipses though all except Mercury and Pluto are very nearly circula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further away from the sun, the slower a planet travels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nus rotates very slowly and in the opposite direction of most of the other planets. Uranus and Pluto seem to have been knocked over their axi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the planets except for Pluto rotate nearly on the same plane (called the ecliptic)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er Terrestrial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er terrestrial planets (Mercury, Venus, Earth, and Mars) are relatively smaller and dens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canyons, craters, mountains, and volcan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few moons if 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ner Terrestrial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inner terrestrial planets (Mercury, Venus, Earth, and Mars) are relatively smaller and dens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canyons, craters, mountains, and volcano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few moons if an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er Gas Giants (Jovian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vian planets (Jupiter, Saturn, Uranus, Neptune) are composed primarily of hydrogen and helium just like the Sun but lack the size to be able to start a fusion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generally have low densities, rapid rotation, and deep atmosphe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have rings (ie. Jupiter) and numerou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uter Gas Giants (Jovian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Jovian planets (Jupiter, Saturn, Uranus, Neptune) are composed primarily of hydrogen and helium just like the Sun but lack the size to be able to start a fusion react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generally have low densities, rapid rotation, and deep atmospher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have rings (ie. Jupiter) and numerou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 is it a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a moon, Charon, which is half its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similar to Neptune’s largest moon 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highly eccentric. At times it is closer to the Sun than Neptune (as it was from January 1979 thru February 11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quite inclined compared to the oth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and composition of Pluto resemble the sizes and composition of Kuiper Bel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ially Pluto is a planet and for historical reasons that may not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 … is it a Plane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has a moon, Charon, which is half its siz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ry similar to Neptune’s largest moon 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highly eccentric. At times it is closer to the Sun than Neptune (as it was from January 1979 thru February 11 1999).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quite inclined compared to the other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ize and composition of Pluto resemble the sizes and composition of Kuiper Belt objec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icially Pluto is a planet and for historical reasons that may not chang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Natural Satell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on is a natural object that orbits another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date 140 planetary moons (orbiting planets) have been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ons (Natural Satellit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moon is a natural object that orbits another objec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p to date 140 planetary moons (orbiting planets) have been discov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ary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DC270-29C2-4AF9-93B0-1F9DEE1B3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1C394-4479-45EF-8E62-701E7B662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424CF-1CCB-4B3B-8F5C-F360133CC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C1BE8-5300-40CE-B258-95DFE8309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1154E-A327-41A9-9A09-0531419B7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E73E6-CD8C-4473-8E0C-EFFCAD867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4334F-A52E-418A-9AD0-F9F6CA72E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424C7-8F67-48EE-BE65-ABD3DEB51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0DF7A-BBF4-4A70-96E0-891D46270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587A6-6B00-4D88-8F0D-1832BC3E0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C4F06-0A7F-4B51-99CC-03D82C7A6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77B29-F791-4FAE-BA2A-4B4375E3B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8390B-DBCA-4A22-9F1A-93782B080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30684-7340-460A-91C3-39C1E5CED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E15DF-6AA7-4FEE-8999-0D0071587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E4472-3296-48A3-8653-F24DCF500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F6D91-05A8-4856-AE8F-A78AC0A1D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26665-97AA-47BD-AC03-112F2497C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1F858-EC58-478E-A35E-125F01CBC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9306B-BDC9-4D93-BD01-7D39F1131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64E19-2479-4B38-B4D0-C5DB3AFE2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C9405-6EEC-4F64-8E13-8F3C06257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89495-2B0E-4755-B9EE-48BFA4C29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B3771-9C21-421E-9777-EF39E3A34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ARTHSEPA"/>
            <p:cNvPicPr/>
            <p:nvPr/>
          </p:nvPicPr>
          <p:blipFill>
            <a:blip r:embed="rId3"/>
            <a:stretch/>
          </p:blipFill>
          <p:spPr>
            <a:xfrm>
              <a:off x="5997600" y="6180120"/>
              <a:ext cx="3143160" cy="74520"/>
            </a:xfrm>
            <a:prstGeom prst="rect">
              <a:avLst/>
            </a:prstGeom>
            <a:ln w="0">
              <a:noFill/>
            </a:ln>
          </p:spPr>
        </p:pic>
        <p:pic>
          <p:nvPicPr>
            <p:cNvPr id="2" name="Picture 18" descr="Arthsepa"/>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FCD1-78E1-4781-8B05-345D4E4806D3}"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ARTBANNA"/>
            <p:cNvPicPr/>
            <p:nvPr/>
          </p:nvPicPr>
          <p:blipFill>
            <a:blip r:embed="rId3"/>
            <a:srcRect l="8126" t="0" r="0" b="0"/>
            <a:stretch/>
          </p:blipFill>
          <p:spPr>
            <a:xfrm>
              <a:off x="0" y="0"/>
              <a:ext cx="9144000" cy="914400"/>
            </a:xfrm>
            <a:prstGeom prst="rect">
              <a:avLst/>
            </a:prstGeom>
            <a:ln w="0">
              <a:noFill/>
            </a:ln>
          </p:spPr>
        </p:pic>
        <p:pic>
          <p:nvPicPr>
            <p:cNvPr id="46" name="Picture 17" descr="Arthsepa"/>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8997-0A5A-4E9B-97C8-85093227A226}"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ntwrp.gsfc.nasa.gov/apod/image/0101/europarotmovie_gal.gi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2/2e/Ganymede_g1_true.jpg" TargetMode="External"/><Relationship Id="rId2" Type="http://schemas.openxmlformats.org/officeDocument/2006/relationships/hyperlink" Target="http://upload.wikimedia.org/wikipedia/en/e/e9/Callisto.jp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antwrp.gsfc.nasa.gov/apod/ap041028.html" TargetMode="External"/><Relationship Id="rId2" Type="http://schemas.openxmlformats.org/officeDocument/2006/relationships/hyperlink" Target="http://sci.esa.int/science-e/www/object/index.cfm?fobjectid=36378"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hyperlink" Target="http://www.solarviews.com/raw/misc/ss.gif" TargetMode="External"/><Relationship Id="rId2" Type="http://schemas.openxmlformats.org/officeDocument/2006/relationships/hyperlink" Target="http://www.windows.ucar.edu/tour/link=/our_solar_system/planets_table.html&amp;edu=mid"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solarviews.com/browse/misc/obliquity.jpg" TargetMode="External"/><Relationship Id="rId2" Type="http://schemas.openxmlformats.org/officeDocument/2006/relationships/hyperlink" Target="http://www.crystalinks.com/plutosorbits.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ds-rings.arc.nasa.gov/jupiter/galileo/PIA01621.jpg"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paceplace.nasa.gov/en/educators/images/solarsystem/hst_pluto_charon_L.jp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en/4/4b/Phobos_hires_mars_express.jpg" TargetMode="External"/><Relationship Id="rId2" Type="http://schemas.openxmlformats.org/officeDocument/2006/relationships/hyperlink" Target="http://upload.wikimedia.org/wikipedia/en/4/43/Deimos-viking1.jpg"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en/3/36/C21_Io_true_pr.jpg" TargetMode="External"/><Relationship Id="rId2" Type="http://schemas.openxmlformats.org/officeDocument/2006/relationships/hyperlink" Target="http://pds.jpl.nasa.gov/planets/images/browse/jupiter/loki.jp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pter 2</a:t>
            </a:r>
            <a:endParaRPr b="0" lang="en-US" sz="4400" spc="-1" strike="noStrike">
              <a:solidFill>
                <a:srgbClr val="ffcc00"/>
              </a:solidFill>
              <a:latin typeface="Arial"/>
            </a:endParaRPr>
          </a:p>
        </p:txBody>
      </p:sp>
      <p:sp>
        <p:nvSpPr>
          <p:cNvPr id="96"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art 2</a:t>
            </a:r>
            <a:endParaRPr b="0" lang="en-US" sz="3200" spc="-1" strike="noStrike">
              <a:solidFill>
                <a:srgbClr val="ffffcc"/>
              </a:solidFill>
              <a:latin typeface="Arial"/>
            </a:endParaRPr>
          </a:p>
        </p:txBody>
      </p:sp>
      <p:sp>
        <p:nvSpPr>
          <p:cNvPr id="97" name="Місце для нижнього колонтитула 1"/>
          <p:cNvSpPr/>
          <p:nvPr/>
        </p:nvSpPr>
        <p:spPr>
          <a:xfrm>
            <a:off x="601992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Europa</a:t>
            </a:r>
            <a:r>
              <a:rPr b="0" lang="en-US" sz="2800" spc="-1" strike="noStrike">
                <a:solidFill>
                  <a:srgbClr val="ffffcc"/>
                </a:solidFill>
                <a:latin typeface="Arial"/>
              </a:rPr>
              <a:t>, the next moon, has an outer layer of water 60 miles thick. The upper 12 miles are believed to be in the form of ice. This ocean is salty and holds a tantalizing possibility of life.</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uropa and Io are somewhat similar in bulk composition to the terrestrial planets: primarily composed of silicate rock below the outer layer of water. </a:t>
            </a:r>
            <a:endParaRPr b="0" lang="en-US" sz="2800" spc="-1" strike="noStrike">
              <a:solidFill>
                <a:srgbClr val="ffffcc"/>
              </a:solidFill>
              <a:latin typeface="Arial"/>
            </a:endParaRPr>
          </a:p>
        </p:txBody>
      </p:sp>
      <p:sp>
        <p:nvSpPr>
          <p:cNvPr id="125"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7"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Ganymede</a:t>
            </a:r>
            <a:r>
              <a:rPr b="0" lang="en-US" sz="2800" spc="-1" strike="noStrike">
                <a:solidFill>
                  <a:srgbClr val="ffffcc"/>
                </a:solidFill>
                <a:latin typeface="Arial"/>
              </a:rPr>
              <a:t> is the largest moon in the Solar System. It is larger than Mercury and Plut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2"/>
              </a:rPr>
              <a:t>Callisto</a:t>
            </a:r>
            <a:r>
              <a:rPr b="0" lang="en-US" sz="2800" spc="-1" strike="noStrike">
                <a:solidFill>
                  <a:srgbClr val="ffffcc"/>
                </a:solidFill>
                <a:latin typeface="Arial"/>
              </a:rPr>
              <a:t>'s surface is covered entirely with craters. It has the oldest, most cratered surface of any body yet observed in the solar system; having undergone little change other than the occasional impact for 4 billion years. </a:t>
            </a:r>
            <a:endParaRPr b="0" lang="en-US" sz="2800" spc="-1" strike="noStrike">
              <a:solidFill>
                <a:srgbClr val="ffffcc"/>
              </a:solidFill>
              <a:latin typeface="Arial"/>
            </a:endParaRPr>
          </a:p>
        </p:txBody>
      </p:sp>
      <p:sp>
        <p:nvSpPr>
          <p:cNvPr id="128"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0" name="PlaceHolder 2"/>
          <p:cNvSpPr>
            <a:spLocks noGrp="1"/>
          </p:cNvSpPr>
          <p:nvPr>
            <p:ph/>
          </p:nvPr>
        </p:nvSpPr>
        <p:spPr>
          <a:xfrm>
            <a:off x="328680" y="1941480"/>
            <a:ext cx="8208720" cy="4114800"/>
          </a:xfrm>
          <a:prstGeom prst="rect">
            <a:avLst/>
          </a:prstGeom>
          <a:noFill/>
          <a:ln w="0">
            <a:noFill/>
          </a:ln>
        </p:spPr>
        <p:txBody>
          <a:bodyPr anchor="t">
            <a:normAutofit fontScale="90000"/>
          </a:bodyPr>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turn’s largest moon is nearly the size of Ganymede.</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 has a </a:t>
            </a:r>
            <a:r>
              <a:rPr b="0" lang="en-US" sz="2800" spc="-1" strike="noStrike" u="sng">
                <a:solidFill>
                  <a:srgbClr val="cc6600"/>
                </a:solidFill>
                <a:uFillTx/>
                <a:latin typeface="Arial"/>
                <a:hlinkClick r:id="rId1"/>
              </a:rPr>
              <a:t>considerable atmosphere</a:t>
            </a:r>
            <a:r>
              <a:rPr b="0" lang="en-US" sz="2800" spc="-1" strike="noStrike">
                <a:solidFill>
                  <a:srgbClr val="ffffcc"/>
                </a:solidFill>
                <a:latin typeface="Arial"/>
              </a:rPr>
              <a:t> composed of mostly nitrogen but with traces of organic compounds.</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cent Huygens data shows that there is geological evidence for </a:t>
            </a:r>
            <a:r>
              <a:rPr b="0" lang="en-US" sz="2800" spc="-1" strike="noStrike" u="sng">
                <a:solidFill>
                  <a:srgbClr val="cc6600"/>
                </a:solidFill>
                <a:uFillTx/>
                <a:latin typeface="Arial"/>
                <a:hlinkClick r:id="rId2"/>
              </a:rPr>
              <a:t>precipitation, erosion, and other fluvial activity</a:t>
            </a:r>
            <a:r>
              <a:rPr b="0" lang="en-US" sz="2800" spc="-1" strike="noStrike">
                <a:solidFill>
                  <a:srgbClr val="ffffcc"/>
                </a:solidFill>
                <a:latin typeface="Arial"/>
              </a:rPr>
              <a:t>. There processes are much the same as those shaping Earth.</a:t>
            </a:r>
            <a:endParaRPr b="0" lang="en-US" sz="2800" spc="-1" strike="noStrike">
              <a:solidFill>
                <a:srgbClr val="ffffcc"/>
              </a:solidFill>
              <a:latin typeface="Arial"/>
            </a:endParaRPr>
          </a:p>
        </p:txBody>
      </p:sp>
      <p:sp>
        <p:nvSpPr>
          <p:cNvPr id="131"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anchor="t">
            <a:normAutofit fontScale="94000"/>
          </a:bodyPr>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2800" spc="-1" strike="noStrike">
              <a:solidFill>
                <a:srgbClr val="ffffcc"/>
              </a:solidFill>
              <a:latin typeface="Arial"/>
            </a:endParaRPr>
          </a:p>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s organic chemicals are thought by many to be the constituents that marked early Earth and that combined into complex forms to launch the long journey toward life itself.   </a:t>
            </a:r>
            <a:endParaRPr b="0" lang="en-US" sz="2800" spc="-1" strike="noStrike">
              <a:solidFill>
                <a:srgbClr val="ffffcc"/>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34"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iton</a:t>
            </a:r>
            <a:endParaRPr b="0" lang="en-US" sz="4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the largest of Neptune’s moon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volcanically active like Io and Tita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angely it orbits the moon in the opposite direction of any other large moon. </a:t>
            </a:r>
            <a:endParaRPr b="0" lang="en-US" sz="3200" spc="-1" strike="noStrike">
              <a:solidFill>
                <a:srgbClr val="ffffcc"/>
              </a:solidFill>
              <a:latin typeface="Arial"/>
            </a:endParaRPr>
          </a:p>
        </p:txBody>
      </p:sp>
      <p:sp>
        <p:nvSpPr>
          <p:cNvPr id="137"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in Asteroid Belt</a:t>
            </a:r>
            <a:endParaRPr b="0" lang="en-US" sz="44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cated between Mars and Jupit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contains most of the asteroids (rocky and metallic objects that orbit the Sun but are too small to be considered plane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Belt is continuously disrupted by Jupiter causing asteroids within to change orbits. Many are believed to have been thrown out of the belt. Some have wondered inward passing near Earth.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Kuiper Belt</a:t>
            </a:r>
            <a:endParaRPr b="0" lang="en-US" sz="4400" spc="-1" strike="noStrike">
              <a:solidFill>
                <a:srgbClr val="ffcc00"/>
              </a:solidFill>
              <a:latin typeface="Arial"/>
            </a:endParaRPr>
          </a:p>
        </p:txBody>
      </p:sp>
      <p:sp>
        <p:nvSpPr>
          <p:cNvPr id="14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a:t>
            </a:r>
            <a:r>
              <a:rPr b="1" lang="en-US" sz="2800" spc="-1" strike="noStrike">
                <a:solidFill>
                  <a:srgbClr val="ffffcc"/>
                </a:solidFill>
                <a:latin typeface="Arial"/>
                <a:ea typeface="Times New Roman"/>
              </a:rPr>
              <a:t>Kuiper Belt</a:t>
            </a:r>
            <a:r>
              <a:rPr b="0" lang="en-US" sz="2800" spc="-1" strike="noStrike">
                <a:solidFill>
                  <a:srgbClr val="ffffcc"/>
                </a:solidFill>
                <a:latin typeface="Arial"/>
                <a:ea typeface="Times New Roman"/>
              </a:rPr>
              <a:t> is a disk-shaped region past the orbit of Neptune extending roughly from 30 to 50 AU from the Sun containing many small icy bodies. (An AU or Astronomical Unit is the mean distance from the Earth to the Sun).</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Kuiper Belt has a large population (over 70,000) of small bodies. It is likely that the Kuiper Belt Objects are extremely primitive debris from the formation of the solar system.</a:t>
            </a:r>
            <a:endParaRPr b="0" lang="en-US" sz="2800" spc="-1" strike="noStrike">
              <a:solidFill>
                <a:srgbClr val="ffffcc"/>
              </a:solidFill>
              <a:latin typeface="Arial"/>
            </a:endParaRPr>
          </a:p>
          <a:p>
            <a:pPr marL="343080" indent="-343080">
              <a:lnSpc>
                <a:spcPct val="8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is considered to be the source of the short-period com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Oort Cloud</a:t>
            </a:r>
            <a:endParaRPr b="0" lang="en-US" sz="4400" spc="-1" strike="noStrike">
              <a:solidFill>
                <a:srgbClr val="ffcc00"/>
              </a:solidFill>
              <a:latin typeface="Arial"/>
            </a:endParaRPr>
          </a:p>
        </p:txBody>
      </p:sp>
      <p:sp>
        <p:nvSpPr>
          <p:cNvPr id="14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Oort Cloud is a hypothetical spherical cloud of comets approximately 50,000 AU to 100,000 AU fro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ort cloud is a remnant of the original nebula that collapsed to for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No Oort Cloud objects have been detected, the existence of this classification is only inferred from indirect evidenc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s</a:t>
            </a:r>
            <a:endParaRPr b="0" lang="en-US" sz="4400" spc="-1" strike="noStrike">
              <a:solidFill>
                <a:srgbClr val="ffcc00"/>
              </a:solidFill>
              <a:latin typeface="Arial"/>
            </a:endParaRPr>
          </a:p>
        </p:txBody>
      </p:sp>
      <p:sp>
        <p:nvSpPr>
          <p:cNvPr id="99" name="PlaceHolder 2"/>
          <p:cNvSpPr>
            <a:spLocks noGrp="1"/>
          </p:cNvSpPr>
          <p:nvPr>
            <p:ph/>
          </p:nvPr>
        </p:nvSpPr>
        <p:spPr>
          <a:xfrm>
            <a:off x="0" y="1905120"/>
            <a:ext cx="8153280" cy="449568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nets are bodies of considerable mass that orbit a star like the sun.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 is officially comprised of </a:t>
            </a:r>
            <a:r>
              <a:rPr b="0" lang="en-US" sz="3200" spc="-1" strike="noStrike" u="sng">
                <a:solidFill>
                  <a:srgbClr val="cc6600"/>
                </a:solidFill>
                <a:uFillTx/>
                <a:latin typeface="Arial"/>
                <a:hlinkClick r:id="rId1"/>
              </a:rPr>
              <a:t>nine plan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a:t>
            </a:r>
            <a:r>
              <a:rPr b="0" lang="en-US" sz="3200" spc="-1" strike="noStrike" u="sng">
                <a:solidFill>
                  <a:srgbClr val="cc6600"/>
                </a:solidFill>
                <a:uFillTx/>
                <a:latin typeface="Arial"/>
                <a:hlinkClick r:id="rId2"/>
              </a:rPr>
              <a:t>comparison</a:t>
            </a:r>
            <a:r>
              <a:rPr b="0" lang="en-US" sz="3200" spc="-1" strike="noStrike">
                <a:solidFill>
                  <a:srgbClr val="ffffcc"/>
                </a:solidFill>
                <a:latin typeface="Arial"/>
              </a:rPr>
              <a:t> of the planets reveals the following:</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y seem to divide into rocky, dense, inner planets (called the terrestrial planets) and large outer gas giants.</a:t>
            </a:r>
            <a:endParaRPr b="0" lang="en-US" sz="2800" spc="-1" strike="noStrike">
              <a:solidFill>
                <a:srgbClr val="ffffcc"/>
              </a:solidFill>
              <a:latin typeface="Arial"/>
            </a:endParaRPr>
          </a:p>
        </p:txBody>
      </p:sp>
      <p:sp>
        <p:nvSpPr>
          <p:cNvPr id="10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Planets</a:t>
            </a:r>
            <a:endParaRPr b="0" lang="en-US" sz="4400" spc="-1" strike="noStrike">
              <a:solidFill>
                <a:srgbClr val="ffcc00"/>
              </a:solidFill>
              <a:latin typeface="Arial"/>
            </a:endParaRPr>
          </a:p>
        </p:txBody>
      </p:sp>
      <p:sp>
        <p:nvSpPr>
          <p:cNvPr id="102" name="PlaceHolder 2"/>
          <p:cNvSpPr>
            <a:spLocks noGrp="1"/>
          </p:cNvSpPr>
          <p:nvPr>
            <p:ph/>
          </p:nvPr>
        </p:nvSpPr>
        <p:spPr>
          <a:xfrm>
            <a:off x="0" y="1905120"/>
            <a:ext cx="8229600" cy="4419360"/>
          </a:xfrm>
          <a:prstGeom prst="rect">
            <a:avLst/>
          </a:prstGeom>
          <a:noFill/>
          <a:ln w="0">
            <a:noFill/>
          </a:ln>
        </p:spPr>
        <p:txBody>
          <a:bodyPr anchor="t">
            <a:normAutofit/>
          </a:bodyPr>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a:t>
            </a:r>
            <a:r>
              <a:rPr b="1" lang="en-US" sz="2400" spc="-1" strike="noStrike">
                <a:solidFill>
                  <a:srgbClr val="ffffcc"/>
                </a:solidFill>
                <a:latin typeface="Arial"/>
              </a:rPr>
              <a:t>orbits</a:t>
            </a:r>
            <a:r>
              <a:rPr b="0" lang="en-US" sz="2400" spc="-1" strike="noStrike">
                <a:solidFill>
                  <a:srgbClr val="ffffcc"/>
                </a:solidFill>
                <a:latin typeface="Arial"/>
              </a:rPr>
              <a:t> of the planets are ellipses though all except Mercury and Pluto are very nearly circular. </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further away from the sun, the slower a planet travels around the sun.</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nus rotates very slowly and in the opposite direction of </a:t>
            </a:r>
            <a:r>
              <a:rPr b="0" lang="en-US" sz="2400" spc="-1" strike="noStrike" u="sng">
                <a:solidFill>
                  <a:srgbClr val="cc6600"/>
                </a:solidFill>
                <a:uFillTx/>
                <a:latin typeface="Arial"/>
                <a:hlinkClick r:id="rId1"/>
              </a:rPr>
              <a:t>most of the other planets</a:t>
            </a:r>
            <a:r>
              <a:rPr b="0" lang="en-US" sz="2400" spc="-1" strike="noStrike">
                <a:solidFill>
                  <a:srgbClr val="ffffcc"/>
                </a:solidFill>
                <a:latin typeface="Arial"/>
              </a:rPr>
              <a:t>. Uranus and Pluto seem to have been knocked over their axi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l the planets except for Pluto rotate nearly on the </a:t>
            </a:r>
            <a:r>
              <a:rPr b="0" lang="en-US" sz="2400" spc="-1" strike="noStrike" u="sng">
                <a:solidFill>
                  <a:srgbClr val="cc6600"/>
                </a:solidFill>
                <a:uFillTx/>
                <a:latin typeface="Arial"/>
                <a:hlinkClick r:id="rId2"/>
              </a:rPr>
              <a:t>same plane</a:t>
            </a:r>
            <a:r>
              <a:rPr b="0" lang="en-US" sz="2400" spc="-1" strike="noStrike">
                <a:solidFill>
                  <a:srgbClr val="ffffcc"/>
                </a:solidFill>
                <a:latin typeface="Arial"/>
              </a:rPr>
              <a:t> (called the </a:t>
            </a:r>
            <a:r>
              <a:rPr b="1" lang="en-US" sz="2400" spc="-1" strike="noStrike">
                <a:solidFill>
                  <a:srgbClr val="ffffcc"/>
                </a:solidFill>
                <a:latin typeface="Arial"/>
              </a:rPr>
              <a:t>ecliptic</a:t>
            </a:r>
            <a:r>
              <a:rPr b="0" lang="en-US" sz="2400" spc="-1" strike="noStrike">
                <a:solidFill>
                  <a:srgbClr val="ffffcc"/>
                </a:solidFill>
                <a:latin typeface="Arial"/>
              </a:rPr>
              <a:t>) around the sun.</a:t>
            </a:r>
            <a:endParaRPr b="0" lang="en-US" sz="2400" spc="-1" strike="noStrike">
              <a:solidFill>
                <a:srgbClr val="ffffcc"/>
              </a:solidFill>
              <a:latin typeface="Arial"/>
            </a:endParaRPr>
          </a:p>
        </p:txBody>
      </p:sp>
      <p:sp>
        <p:nvSpPr>
          <p:cNvPr id="10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ner Terrestrial Planets</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inner terrestrial planets (Mercury, Venus, Earth, and Mars) are relatively smaller and denser. </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y contain a much higher percentage of metal elements. Terrestrial planets all have roughly the same structure: a central metallic core made up of mostly iron with a surrounding silicate mantle.</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canyons, craters, mountains, and volcanoes.</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few moons</a:t>
            </a:r>
            <a:r>
              <a:rPr b="0" lang="en-US" sz="2800" spc="-1" strike="noStrike">
                <a:solidFill>
                  <a:srgbClr val="ffffcc"/>
                </a:solidFill>
                <a:latin typeface="Arial"/>
              </a:rPr>
              <a:t> if any.</a:t>
            </a:r>
            <a:endParaRPr b="0" lang="en-US" sz="2800" spc="-1" strike="noStrike">
              <a:solidFill>
                <a:srgbClr val="ffffcc"/>
              </a:solidFill>
              <a:latin typeface="Arial"/>
            </a:endParaRPr>
          </a:p>
        </p:txBody>
      </p:sp>
      <p:sp>
        <p:nvSpPr>
          <p:cNvPr id="10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uter Gas Giants (Jovian Planet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Jovian planets (Jupiter, Saturn, Uranus, Neptune) are composed primarily of hydrogen and helium just like the Sun but lack the size to be able to start a fusion reactio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generally have low densities, rapid rotation, and deep atmospher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have rings (ie. </a:t>
            </a:r>
            <a:r>
              <a:rPr b="0" lang="en-US" sz="2800" spc="-1" strike="noStrike" u="sng">
                <a:solidFill>
                  <a:srgbClr val="cc6600"/>
                </a:solidFill>
                <a:uFillTx/>
                <a:latin typeface="Arial"/>
                <a:ea typeface="Times New Roman"/>
                <a:hlinkClick r:id="rId1"/>
              </a:rPr>
              <a:t>Jupiter</a:t>
            </a:r>
            <a:r>
              <a:rPr b="0" lang="en-US" sz="2800" spc="-1" strike="noStrike">
                <a:solidFill>
                  <a:srgbClr val="ffffcc"/>
                </a:solidFill>
                <a:latin typeface="Arial"/>
                <a:ea typeface="Times New Roman"/>
              </a:rPr>
              <a:t>) and numerous moon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0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uto … is it a Planet?</a:t>
            </a: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It has a moon, </a:t>
            </a:r>
            <a:r>
              <a:rPr b="0" lang="en-US" sz="2400" spc="-1" strike="noStrike" u="sng">
                <a:solidFill>
                  <a:srgbClr val="cc6600"/>
                </a:solidFill>
                <a:uFillTx/>
                <a:latin typeface="Arial"/>
                <a:ea typeface="Times New Roman"/>
                <a:hlinkClick r:id="rId1"/>
              </a:rPr>
              <a:t>Charon</a:t>
            </a:r>
            <a:r>
              <a:rPr b="0" lang="en-US" sz="2400" spc="-1" strike="noStrike">
                <a:solidFill>
                  <a:srgbClr val="ffffcc"/>
                </a:solidFill>
                <a:latin typeface="Arial"/>
                <a:ea typeface="Times New Roman"/>
              </a:rPr>
              <a:t>, which is half its size.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Very similar to Neptune’s largest moon Triton.</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highly eccentric. At times it is closer to the Sun than Neptune (as it was from January 1979 thru February 11 1999).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quite inclined compared to the other plane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The size and composition of Pluto resemble the sizes and composition of Kuiper Belt objec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Officially Pluto is a planet and for historical reasons that may not change.</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11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ons (Natural Satellites)</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moon is a natural object that orbits another objec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 to date 140 planetary moons (orbiting planets) have been discovered:</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15" name=""/>
          <p:cNvGraphicFramePr/>
          <p:nvPr/>
        </p:nvGraphicFramePr>
        <p:xfrm>
          <a:off x="304920" y="4191120"/>
          <a:ext cx="8458200" cy="1127160"/>
        </p:xfrm>
        <a:graphic>
          <a:graphicData uri="http://schemas.openxmlformats.org/drawingml/2006/table">
            <a:tbl>
              <a:tblPr/>
              <a:tblGrid>
                <a:gridCol w="1207800"/>
                <a:gridCol w="1208160"/>
                <a:gridCol w="1208160"/>
                <a:gridCol w="1209600"/>
                <a:gridCol w="1208160"/>
                <a:gridCol w="1390680"/>
                <a:gridCol w="1025640"/>
              </a:tblGrid>
              <a:tr h="606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rth</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r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Jupiter</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aturn</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ranu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ptune</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luto</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1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ary Moon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s’ moons </a:t>
            </a:r>
            <a:r>
              <a:rPr b="0" lang="en-US" sz="3200" spc="-1" strike="noStrike" u="sng">
                <a:solidFill>
                  <a:srgbClr val="cc6600"/>
                </a:solidFill>
                <a:uFillTx/>
                <a:latin typeface="Arial"/>
                <a:hlinkClick r:id="rId1"/>
              </a:rPr>
              <a:t>Phobos</a:t>
            </a:r>
            <a:r>
              <a:rPr b="0" lang="en-US" sz="3200" spc="-1" strike="noStrike">
                <a:solidFill>
                  <a:srgbClr val="ffffcc"/>
                </a:solidFill>
                <a:latin typeface="Arial"/>
              </a:rPr>
              <a:t> and </a:t>
            </a:r>
            <a:r>
              <a:rPr b="0" lang="en-US" sz="3200" spc="-1" strike="noStrike" u="sng">
                <a:solidFill>
                  <a:srgbClr val="cc6600"/>
                </a:solidFill>
                <a:uFillTx/>
                <a:latin typeface="Arial"/>
                <a:hlinkClick r:id="rId2"/>
              </a:rPr>
              <a:t>Deimos</a:t>
            </a:r>
            <a:r>
              <a:rPr b="0" lang="en-US" sz="3200" spc="-1" strike="noStrike">
                <a:solidFill>
                  <a:srgbClr val="ffffcc"/>
                </a:solidFill>
                <a:latin typeface="Arial"/>
              </a:rPr>
              <a:t> are irregular shaped and believed to be captured asteroids. Phobos is the larger inner moon that’s in a doomed course. In the next 50 million years it is expected to either collide with Mars or break up and form a planetary ring.</a:t>
            </a:r>
            <a:endParaRPr b="0" lang="en-US" sz="3200" spc="-1" strike="noStrike">
              <a:solidFill>
                <a:srgbClr val="ffffcc"/>
              </a:solidFill>
              <a:latin typeface="Arial"/>
            </a:endParaRPr>
          </a:p>
        </p:txBody>
      </p:sp>
      <p:sp>
        <p:nvSpPr>
          <p:cNvPr id="11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1" name="PlaceHolder 2"/>
          <p:cNvSpPr>
            <a:spLocks noGrp="1"/>
          </p:cNvSpPr>
          <p:nvPr>
            <p:ph/>
          </p:nvPr>
        </p:nvSpPr>
        <p:spPr>
          <a:xfrm>
            <a:off x="304920" y="1752120"/>
            <a:ext cx="8208720" cy="4419720"/>
          </a:xfrm>
          <a:prstGeom prst="rect">
            <a:avLst/>
          </a:prstGeom>
          <a:noFill/>
          <a:ln w="0">
            <a:noFill/>
          </a:ln>
        </p:spPr>
        <p:txBody>
          <a:bodyPr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y are by far the 4 largest moons of Jupiter. They were discovered by Galileo in 1610 when he pointed a telescope at Jupiter thus providing solid evidence that all objects did not orbit around the Earth.</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hlinkClick r:id="rId1"/>
              </a:rPr>
              <a:t>Io</a:t>
            </a:r>
            <a:r>
              <a:rPr b="0" lang="en-US" sz="2400" spc="-1" strike="noStrike">
                <a:solidFill>
                  <a:srgbClr val="ffffcc"/>
                </a:solidFill>
                <a:latin typeface="Arial"/>
              </a:rPr>
              <a:t> is the innermost of the Galilean moon best known for being the most </a:t>
            </a:r>
            <a:r>
              <a:rPr b="0" lang="en-US" sz="2400" spc="-1" strike="noStrike" u="sng">
                <a:solidFill>
                  <a:srgbClr val="cc6600"/>
                </a:solidFill>
                <a:uFillTx/>
                <a:latin typeface="Arial"/>
                <a:hlinkClick r:id="rId2"/>
              </a:rPr>
              <a:t>volcanically</a:t>
            </a:r>
            <a:r>
              <a:rPr b="0" lang="en-US" sz="2400" spc="-1" strike="noStrike">
                <a:solidFill>
                  <a:srgbClr val="ffffcc"/>
                </a:solidFill>
                <a:latin typeface="Arial"/>
              </a:rPr>
              <a:t>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2400" spc="-1" strike="noStrike">
              <a:solidFill>
                <a:srgbClr val="ffffcc"/>
              </a:solidFill>
              <a:latin typeface="Arial"/>
            </a:endParaRPr>
          </a:p>
        </p:txBody>
      </p:sp>
      <p:sp>
        <p:nvSpPr>
          <p:cNvPr id="12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11:36:11Z</dcterms:created>
  <dc:creator> </dc:creator>
  <dc:description/>
  <dc:language>en-US</dc:language>
  <cp:lastModifiedBy>Legion</cp:lastModifiedBy>
  <dcterms:modified xsi:type="dcterms:W3CDTF">2017-01-26T10:15:25Z</dcterms:modified>
  <cp:revision>26</cp:revision>
  <dc:subject/>
  <dc:title>Chapter 2</dc:title>
</cp:coreProperties>
</file>