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25.gif" ContentType="image/gif"/>
  <Override PartName="/ppt/media/image9.png" ContentType="image/png"/>
  <Override PartName="/ppt/media/image13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6.jpeg" ContentType="image/jpeg"/>
  <Override PartName="/ppt/media/image4.jpeg" ContentType="image/jpeg"/>
  <Override PartName="/ppt/media/image24.jpeg" ContentType="image/jpeg"/>
  <Override PartName="/ppt/media/image19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5.jpeg" ContentType="image/jpeg"/>
  <Override PartName="/ppt/media/image18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3.png" ContentType="image/png"/>
  <Override PartName="/ppt/media/image17.jpeg" ContentType="image/jpeg"/>
  <Override PartName="/ppt/media/image2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Palatino"/>
              </a:rPr>
              <a:t>Click to move the slide</a:t>
            </a: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0517C-CCE2-4C36-AB51-D0A085D3C9F6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ilky W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ur Galactic Ho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The Milky Way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Our Galactic Home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mma-ray emission from pulsars and black holes – copyright NAS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Gamma-ray emission from pulsars and black holes – copyright NASA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 are W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aren’t at the center of the Milky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 is the center the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lobular Clusters point the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10 – copyright Credner and Koh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Where are We?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We aren’t at the center of the Milky Way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Where is the center then?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Globular Clusters point the way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M10 – copyright Credner and Kohle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Are 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You Are Here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ar-Infrared stellar emission – copyright E. L. Wright and COB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Near-Infrared stellar emission – copyright E. L. Wright and COBE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lactic Distan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do we know the distance to stars and clusters in our galax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igonometric parallax good out to 100 p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believe galaxy is ~30 kpc wid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do we know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Galactic Distances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How do we know the distance to stars and clusters in our galaxy?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Trigonometric parallax good out to 100 pc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We believe galaxy is ~30 kpc wide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How do we know?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ctroscopic Paralla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you know how luminous a star REALLY is and how bright it looks from Earth, you can determine how far away it must be to look that fai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any star in the sky, we KNOW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pparent Magnitude (m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ctral Type  (O, B, A, F, G, K, M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uminosity Class (Main Sequence, Giant, etc…). These are denoted by a roman numeral (V, III, I,…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bine spectral type and luminosity class to get absolute magnitude (M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om Lecture 7B: m – M give you distan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Spectroscopic Parallax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If you know how luminous a star REALLY is and how bright it looks from Earth, you can determine how far away it must be to look that faint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For any star in the sky, we KNOW: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Apparent Magnitude (m)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Spectral Type  (O, B, A, F, G, K, M)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Luminosity Class (Main Sequence, Giant, etc…). These are denoted by a roman numeral (V, III, I,…)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Combine spectral type and luminosity class to get absolute magnitude (M)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From Lecture 7B: m – M give you distance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neb is A2Ia st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 = 1.25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2  Blue st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a  Supergia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 = -8.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tance = 1000 p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Deneb is A2Ia star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m = 1.25 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A2  Blue star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Ia  Supergiant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M = -8.8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Distance = 1000 pc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ndard Cand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ndard Candles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we know how bright something should be, and we know how bright it looks  Dist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ariable sta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R Lyra st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epheid variab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Standard Candles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Standard Candles”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If we know how bright something should be, and we know how bright it looks  Distance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Variable stars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RR Lyra stars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Cepheid variables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ariable St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RR Lyrae star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verage luminosity is a standard cand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ways ~ 100 x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Cepheid variabl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lsation period is proportional to average luminos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bserve the period  find the luminos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ood to 15 Mpc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Variable Stars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For RR Lyrae stars: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Average luminosity is a standard candle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Always ~ 100 x Sun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For Cepheid variables: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Pulsation period is proportional to average luminosity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Observe the period  find the luminosity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Good to 15 Mpc!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otation 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bjects in the disk, rotate in the dis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bula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pen clust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ng st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bjects in the halo, swarm in a hal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ld st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lobular clust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Rotation …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Objects in the disk, rotate in the disk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Nebulae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Open clusters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Young stars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Objects in the halo, swarm in a halo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Old stars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Globular clusters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Form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icture the formation of the Su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herical clou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denses to dis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nets in a pla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ort cloud sphe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rhaps the same with the galax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… </a:t>
            </a: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and Formation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Picture the formation of the Sun: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Spherical cloud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Condenses to disk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Planets in a plane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Oort cloud sphere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Perhaps the same with the galaxy?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ssing Ma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om variable stars we know distanc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om Doppler shift we know rotation velocit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 Kepler’s Third Law (again) to get mass of the Milky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 = 1011 x M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Missing Mass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From variable stars we know distances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From Doppler shift we know rotation velocity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Use Kepler’s Third Law (again) to get mass of the Milky Way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M = 1011 x Msun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ark Mat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causes the mass to keep on increasing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n’t see anything there. Thus  “dark” mat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own dwarf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ne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te dwarf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range matter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 gravitational lensing (last lecture) to look for these “dark” objec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Dark Matter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What causes the mass to keep on increasing?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Don’t see anything there. Thus  “dark” matter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Brown dwarfs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Planets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White dwarfs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Strange matter?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Use gravitational lensing (last lecture) to look for these “dark” objects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Heart of the Galax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cause of all the dust in the Galaxy, we can’t see its center in visible ligh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n use IR and radio to pierce the du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The Heart of the Galaxy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Because of all the dust in the Galaxy, we can’t see its center in visible light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Can use IR and radio to pierce the dust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200 p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5 p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Sagittarius A* - Sgr A*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Palatino"/>
              </a:rPr>
              <a:t>200 pc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Palatino"/>
              </a:rPr>
              <a:t>5 pc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Palatino"/>
              </a:rPr>
              <a:t>Sagittarius A* - Sgr A*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llar Mo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frared images of stars in the Galactic Center over 8 yea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“+” is the radio source Sgr A*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lusion: Must be over one million solar masses within less than 1/5 of a light year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permassive Black Hole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ent Horizon &lt; 0.05 AU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ably in the centers of all spiral galaxi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pyright Eckart &amp; Genze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Stellar Motion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Infrared images of stars in the Galactic Center over 8 years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The “+” is the radio source Sgr A*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Conclusion: Must be over one million solar masses within less than 1/5 of a light year!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Supermassive Black Hole!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Event Horizon &lt; 0.05 AU!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Probably in the centers of all spiral galaxies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Copyright Eckart &amp; Genzel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o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ructure of our Galax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s size and shap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do stars and things move through i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and Dark Mat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Galactic Cen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Goals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Structure of our Galaxy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Its size and shape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How do stars and things move through it?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Mass and Dark Matter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The Galactic Center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ilky W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u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seous Nebula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pen Clust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lobular Clust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ls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lack Ho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do they all fit together to make our galax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The Milky Way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Stars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Dust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Gaseous Nebulae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Open Clusters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Globular Clusters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Pulsars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Black Holes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How do they all fit together to make our galaxy?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ptical emission from stars and nebula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Optical emission from stars and nebulae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ar-Infrared stellar emission – copyright E. L. Wright and COB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Near-Infrared stellar emission – copyright E. L. Wright and COBE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r-Infrared dust emission – copyright E. L. Wright and COB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Far-Infrared dust emission – copyright E. L. Wright and COBE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dio emission from neutral hydrogen – copyright J. Dicke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Radio emission from neutral hydrogen – copyright J. Dickey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-ray emission from hot gas – copyright S. Digel and ROS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X-ray emission from hot gas – copyright S. Digel and ROSAT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542E3-4D5F-4C7A-AAA2-54DF040D7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4049E-9436-4320-8779-DB32C72DA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36739-D062-403B-A47E-B9A76D58A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2D76E-0CF3-47E9-AE0D-53E7C9939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B7FBB-90FF-476C-B865-610558B36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AAF9D-CA1F-4B0C-8EBE-A2036C254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F920D-1EA4-4740-87A8-8C75771F6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70E1B-0FC1-4B8B-8378-3B6F8CA3A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AEFEB-21EF-4951-A477-C18CD9991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F12FF-9A53-44B8-92E0-A3D928C3A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45FF6-1E20-4459-994C-D396ADEC2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D3437-E13C-4BEB-BD8A-7A5577EB6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9A280-F846-4B0D-A874-BAF7BC8FE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303E4-BFED-4D1B-A475-177350EB4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B0BC1-5EB9-4792-A14C-81225C889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64E23-4C18-4961-B365-DB0EC6826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A55BE-3FD7-482B-85ED-B991D274A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82E12-BC85-44F9-A305-501FE2C00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90A73-0C88-4F4B-857F-1AFC483D6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CAE8C-D3A6-4D19-AC17-19F63705E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496CA-36EC-407A-86B2-B38100401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44362-0854-440D-BE86-AB9080336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39C1D-5362-444A-90C6-1B072EC22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BD857-1823-44A4-94D6-37E940EA1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6" descr="C:\Documents and Settings\Tyler_Nordgren\My Documents\My Pictures\astro images\images\MandM_Magrath.jpg"/>
          <p:cNvPicPr/>
          <p:nvPr/>
        </p:nvPicPr>
        <p:blipFill>
          <a:blip r:embed="rId2"/>
          <a:stretch/>
        </p:blipFill>
        <p:spPr>
          <a:xfrm>
            <a:off x="7696080" y="5910120"/>
            <a:ext cx="1447920" cy="947880"/>
          </a:xfrm>
          <a:prstGeom prst="rect">
            <a:avLst/>
          </a:prstGeom>
          <a:ln w="9360">
            <a:solidFill>
              <a:srgbClr val="00cc99"/>
            </a:solidFill>
            <a:miter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Palatino"/>
              </a:rPr>
              <a:t>Click to edit the title text format</a:t>
            </a: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Click to edit the outline text format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lvl="2" marL="1143000" indent="-22860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Third Outline Level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lvl="3" marL="1600200" indent="-228600">
              <a:spcBef>
                <a:spcPts val="700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Fourth Outline Level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lvl="4" marL="2057400" indent="-228600">
              <a:spcBef>
                <a:spcPts val="700"/>
              </a:spcBef>
              <a:buClr>
                <a:srgbClr val="ccccff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Fifth Outline Level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Sixth Outline Level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Seventh Outline Level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4FB79-DCF8-4F49-B089-75396A231C6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Text Box 10"/>
          <p:cNvSpPr/>
          <p:nvPr/>
        </p:nvSpPr>
        <p:spPr>
          <a:xfrm>
            <a:off x="7911720" y="5958000"/>
            <a:ext cx="921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Palatino"/>
              </a:rPr>
              <a:t>9B</a:t>
            </a:r>
            <a:endParaRPr b="0" lang="en-US" sz="48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8"/>
          <p:cNvSpPr/>
          <p:nvPr/>
        </p:nvSpPr>
        <p:spPr>
          <a:xfrm>
            <a:off x="8077320" y="6019920"/>
            <a:ext cx="1066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Palatino"/>
              </a:rPr>
              <a:t>9B</a:t>
            </a:r>
            <a:endParaRPr b="0" lang="en-US" sz="4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44" name="Picture 17" descr="C:\Documents and Settings\Tyler_Nordgren\My Documents\My Pictures\astro images\images\MandM_Magrath.jpg"/>
          <p:cNvPicPr/>
          <p:nvPr/>
        </p:nvPicPr>
        <p:blipFill>
          <a:blip r:embed="rId2"/>
          <a:stretch/>
        </p:blipFill>
        <p:spPr>
          <a:xfrm>
            <a:off x="914400" y="685800"/>
            <a:ext cx="7696080" cy="5037120"/>
          </a:xfrm>
          <a:prstGeom prst="rect">
            <a:avLst/>
          </a:prstGeom>
          <a:ln w="9360">
            <a:solidFill>
              <a:srgbClr val="00cc99"/>
            </a:solidFill>
            <a:miter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Palatino"/>
              </a:rPr>
              <a:t>Click to edit the title text format</a:t>
            </a: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Click to edit the outline text format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lvl="2" marL="1143000" indent="-22860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Third Outline Level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lvl="3" marL="1600200" indent="-228600">
              <a:spcBef>
                <a:spcPts val="700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Fourth Outline Level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lvl="4" marL="2057400" indent="-228600">
              <a:spcBef>
                <a:spcPts val="700"/>
              </a:spcBef>
              <a:buClr>
                <a:srgbClr val="ccccff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Fifth Outline Level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Sixth Outline Level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Seventh Outline Level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51E00-3029-4CB1-8784-E916838BB29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600200" y="380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Palatino"/>
              </a:rPr>
              <a:t>The Milky Way</a:t>
            </a: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980720" y="5028840"/>
            <a:ext cx="579132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Palatino"/>
              </a:rPr>
              <a:t>Our Galactic Home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9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4" descr="C:\Documents and Settings\Tyler_Nordgren\My Documents\My Pictures\astro images\images\allsky1_egret.gif"/>
          <p:cNvPicPr/>
          <p:nvPr/>
        </p:nvPicPr>
        <p:blipFill>
          <a:blip r:embed="rId1"/>
          <a:srcRect l="1941" t="0" r="1941" b="0"/>
          <a:stretch/>
        </p:blipFill>
        <p:spPr>
          <a:xfrm>
            <a:off x="152280" y="990720"/>
            <a:ext cx="8839440" cy="4645080"/>
          </a:xfrm>
          <a:prstGeom prst="rect">
            <a:avLst/>
          </a:prstGeom>
          <a:ln w="9360">
            <a:solidFill>
              <a:srgbClr val="00cc99"/>
            </a:solidFill>
            <a:miter/>
          </a:ln>
        </p:spPr>
      </p:pic>
      <p:sp>
        <p:nvSpPr>
          <p:cNvPr id="122" name="Text Box 3"/>
          <p:cNvSpPr/>
          <p:nvPr/>
        </p:nvSpPr>
        <p:spPr>
          <a:xfrm>
            <a:off x="-272520" y="5732640"/>
            <a:ext cx="766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Palatino"/>
              </a:rPr>
              <a:t>Gamma-ray emission from pulsars and black holes </a:t>
            </a:r>
            <a:r>
              <a:rPr b="0" lang="en-US" sz="1200" spc="-1" strike="noStrike">
                <a:solidFill>
                  <a:srgbClr val="ccccff"/>
                </a:solidFill>
                <a:latin typeface="Palatino"/>
              </a:rPr>
              <a:t>– copyright NASA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Palatino"/>
              </a:rPr>
              <a:t>Where are We?</a:t>
            </a: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33160" y="1447920"/>
            <a:ext cx="4190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We aren’t at the center of the Milky Way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Where is the center then?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Globular Clusters point the way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pic>
        <p:nvPicPr>
          <p:cNvPr id="126" name="Picture 4" descr="D:\CHAISSON\BG314\IMAGES\AABJRIG0.jpg"/>
          <p:cNvPicPr/>
          <p:nvPr/>
        </p:nvPicPr>
        <p:blipFill>
          <a:blip r:embed="rId1"/>
          <a:srcRect l="1838" t="3656" r="4586" b="3051"/>
          <a:stretch/>
        </p:blipFill>
        <p:spPr>
          <a:xfrm>
            <a:off x="4952880" y="1523880"/>
            <a:ext cx="3886200" cy="3886200"/>
          </a:xfrm>
          <a:prstGeom prst="rect">
            <a:avLst/>
          </a:prstGeom>
          <a:ln w="9360">
            <a:solidFill>
              <a:srgbClr val="3333cc"/>
            </a:solidFill>
            <a:miter/>
          </a:ln>
        </p:spPr>
      </p:pic>
      <p:pic>
        <p:nvPicPr>
          <p:cNvPr id="127" name="Picture 5" descr="C:\Documents and Settings\Tyler_Nordgren\My Documents\My Pictures\astro images\images\m10_crednerkohle.jpg"/>
          <p:cNvPicPr/>
          <p:nvPr/>
        </p:nvPicPr>
        <p:blipFill>
          <a:blip r:embed="rId2"/>
          <a:stretch/>
        </p:blipFill>
        <p:spPr>
          <a:xfrm>
            <a:off x="685800" y="4038480"/>
            <a:ext cx="3200400" cy="2484720"/>
          </a:xfrm>
          <a:prstGeom prst="rect">
            <a:avLst/>
          </a:prstGeom>
          <a:ln w="9360">
            <a:solidFill>
              <a:srgbClr val="3333cc"/>
            </a:solidFill>
            <a:miter/>
          </a:ln>
        </p:spPr>
      </p:pic>
      <p:sp>
        <p:nvSpPr>
          <p:cNvPr id="128" name="Text Box 6"/>
          <p:cNvSpPr/>
          <p:nvPr/>
        </p:nvSpPr>
        <p:spPr>
          <a:xfrm>
            <a:off x="3777840" y="6172200"/>
            <a:ext cx="299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Palatino"/>
              </a:rPr>
              <a:t>M10 </a:t>
            </a:r>
            <a:r>
              <a:rPr b="0" lang="en-US" sz="1200" spc="-1" strike="noStrike">
                <a:solidFill>
                  <a:srgbClr val="ccccff"/>
                </a:solidFill>
                <a:latin typeface="Palatino"/>
              </a:rPr>
              <a:t>– copyright Credner and Kohle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3" descr="D:\CHAISSON\BG314\IMAGES\bg14fg13.jpg"/>
          <p:cNvPicPr/>
          <p:nvPr/>
        </p:nvPicPr>
        <p:blipFill>
          <a:blip r:embed="rId1"/>
          <a:srcRect l="6608" t="16670" r="7527" b="23337"/>
          <a:stretch/>
        </p:blipFill>
        <p:spPr>
          <a:xfrm>
            <a:off x="1676520" y="228600"/>
            <a:ext cx="5638680" cy="52070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31" name="Picture 4" descr="D:\CHAISSON\BG314\IMAGES\AAAKLAV0.jpg"/>
          <p:cNvPicPr/>
          <p:nvPr/>
        </p:nvPicPr>
        <p:blipFill>
          <a:blip r:embed="rId2"/>
          <a:stretch/>
        </p:blipFill>
        <p:spPr>
          <a:xfrm>
            <a:off x="1981080" y="4933800"/>
            <a:ext cx="4800600" cy="1924200"/>
          </a:xfrm>
          <a:prstGeom prst="rect">
            <a:avLst/>
          </a:prstGeom>
          <a:ln w="0">
            <a:noFill/>
          </a:ln>
        </p:spPr>
      </p:pic>
      <p:sp>
        <p:nvSpPr>
          <p:cNvPr id="132" name="Oval 5"/>
          <p:cNvSpPr/>
          <p:nvPr/>
        </p:nvSpPr>
        <p:spPr>
          <a:xfrm>
            <a:off x="5562720" y="2743200"/>
            <a:ext cx="152280" cy="1522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33" name="Line 6"/>
          <p:cNvSpPr/>
          <p:nvPr/>
        </p:nvSpPr>
        <p:spPr>
          <a:xfrm flipV="1">
            <a:off x="5715000" y="1905120"/>
            <a:ext cx="457200" cy="761760"/>
          </a:xfrm>
          <a:prstGeom prst="line">
            <a:avLst/>
          </a:prstGeom>
          <a:ln w="9360">
            <a:solidFill>
              <a:srgbClr val="00cc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34" name="Text Box 7"/>
          <p:cNvSpPr/>
          <p:nvPr/>
        </p:nvSpPr>
        <p:spPr>
          <a:xfrm>
            <a:off x="5607720" y="1465200"/>
            <a:ext cx="180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99"/>
                </a:solidFill>
                <a:latin typeface="Palatino"/>
              </a:rPr>
              <a:t>You Are Her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3" descr="D:\CHAISSON\BG314\IMAGES\AAAKLBH0.jpg"/>
          <p:cNvPicPr/>
          <p:nvPr/>
        </p:nvPicPr>
        <p:blipFill>
          <a:blip r:embed="rId1"/>
          <a:srcRect l="1062" t="2815" r="3193" b="5524"/>
          <a:stretch/>
        </p:blipFill>
        <p:spPr>
          <a:xfrm>
            <a:off x="609480" y="533520"/>
            <a:ext cx="8001000" cy="5778360"/>
          </a:xfrm>
          <a:prstGeom prst="rect">
            <a:avLst/>
          </a:prstGeom>
          <a:ln w="9360">
            <a:solidFill>
              <a:srgbClr val="ff3300"/>
            </a:solidFill>
            <a:miter/>
          </a:ln>
        </p:spPr>
      </p:pic>
      <p:sp>
        <p:nvSpPr>
          <p:cNvPr id="1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" descr="C:\Documents and Settings\Tyler_Nordgren\My Documents\My Pictures\astro images\images\nir_cobe.jpg"/>
          <p:cNvPicPr/>
          <p:nvPr/>
        </p:nvPicPr>
        <p:blipFill>
          <a:blip r:embed="rId1"/>
          <a:stretch/>
        </p:blipFill>
        <p:spPr>
          <a:xfrm>
            <a:off x="76320" y="990720"/>
            <a:ext cx="8915400" cy="4614840"/>
          </a:xfrm>
          <a:prstGeom prst="rect">
            <a:avLst/>
          </a:prstGeom>
          <a:ln w="9360">
            <a:solidFill>
              <a:srgbClr val="00cc99"/>
            </a:solidFill>
            <a:miter/>
          </a:ln>
        </p:spPr>
      </p:pic>
      <p:sp>
        <p:nvSpPr>
          <p:cNvPr id="139" name="Text Box 4"/>
          <p:cNvSpPr/>
          <p:nvPr/>
        </p:nvSpPr>
        <p:spPr>
          <a:xfrm>
            <a:off x="-219960" y="5715000"/>
            <a:ext cx="638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Palatino"/>
              </a:rPr>
              <a:t>Near-Infrared stellar emission </a:t>
            </a:r>
            <a:r>
              <a:rPr b="0" lang="en-US" sz="1200" spc="-1" strike="noStrike">
                <a:solidFill>
                  <a:srgbClr val="ccccff"/>
                </a:solidFill>
                <a:latin typeface="Palatino"/>
              </a:rPr>
              <a:t>– copyright E. L. Wright and COBE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Picture 5" descr="C:\Documents and Settings\Tyler_Nordgren\My Documents\My Pictures\astro images\galaxies\ngc4565_mclaughlin.jpg"/>
          <p:cNvPicPr/>
          <p:nvPr/>
        </p:nvPicPr>
        <p:blipFill>
          <a:blip r:embed="rId2"/>
          <a:stretch/>
        </p:blipFill>
        <p:spPr>
          <a:xfrm>
            <a:off x="1219320" y="304920"/>
            <a:ext cx="6350040" cy="5367240"/>
          </a:xfrm>
          <a:prstGeom prst="rect">
            <a:avLst/>
          </a:prstGeom>
          <a:ln w="0">
            <a:noFill/>
          </a:ln>
        </p:spPr>
      </p:pic>
      <p:sp>
        <p:nvSpPr>
          <p:cNvPr id="14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Palatino"/>
              </a:rPr>
              <a:t>Galactic Distances</a:t>
            </a: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746748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How do we know the distance to stars and clusters in our galaxy?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Trigonometric parallax good out to 100 pc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We believe galaxy is ~30 kpc wide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Palatino"/>
              </a:rPr>
              <a:t>How do we know?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14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Palatino"/>
              </a:rPr>
              <a:t>Spectroscopic Parallax</a:t>
            </a: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If you know how luminous a star REALLY is and how bright it looks from Earth, you can determine how far away it must be to look that faint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18960" indent="-31896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For any star in the sky, we KNOW: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lvl="1" marL="690840" indent="-26568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Apparent Magnitude (</a:t>
            </a:r>
            <a:r>
              <a:rPr b="0" lang="en-US" sz="2400" spc="-1" strike="noStrike">
                <a:solidFill>
                  <a:srgbClr val="00cc99"/>
                </a:solidFill>
                <a:latin typeface="Palatino"/>
              </a:rPr>
              <a:t>m</a:t>
            </a: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)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lvl="1" marL="690840" indent="-26568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Spectral Type  (O, B, A, F, G, K, M)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lvl="1" marL="690840" indent="-26568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Luminosity Class (Main Sequence, Giant, etc…). These are denoted by a roman numeral (V, III, I,…).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marL="318960" indent="-31896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Combine spectral type and luminosity class to get absolute magnitude (</a:t>
            </a:r>
            <a:r>
              <a:rPr b="0" lang="en-US" sz="2800" spc="-1" strike="noStrike">
                <a:solidFill>
                  <a:srgbClr val="00cc99"/>
                </a:solidFill>
                <a:latin typeface="Palatino"/>
              </a:rPr>
              <a:t>M</a:t>
            </a: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)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18960" indent="-31896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From Lecture 7B: </a:t>
            </a:r>
            <a:r>
              <a:rPr b="0" lang="en-US" sz="2800" spc="-1" strike="noStrike">
                <a:solidFill>
                  <a:srgbClr val="00cc99"/>
                </a:solidFill>
                <a:latin typeface="Palatino"/>
              </a:rPr>
              <a:t>m – M</a:t>
            </a: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 give you distance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14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5" descr="C:\Documents and Settings\Tyler_Nordgren\My Documents\My Pictures\astro images\stars\H-Rdiagram.gif"/>
          <p:cNvPicPr/>
          <p:nvPr/>
        </p:nvPicPr>
        <p:blipFill>
          <a:blip r:embed="rId1"/>
          <a:stretch/>
        </p:blipFill>
        <p:spPr>
          <a:xfrm>
            <a:off x="228600" y="1828800"/>
            <a:ext cx="7162920" cy="4578480"/>
          </a:xfrm>
          <a:prstGeom prst="rect">
            <a:avLst/>
          </a:prstGeom>
          <a:ln w="9360">
            <a:solidFill>
              <a:srgbClr val="ff3300"/>
            </a:solidFill>
            <a:miter/>
          </a:ln>
        </p:spPr>
      </p:pic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3124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Palatino"/>
              </a:rPr>
              <a:t>Example</a:t>
            </a: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724280" y="304560"/>
            <a:ext cx="419112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Deneb is A2Ia star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cc99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Palatino"/>
              </a:rPr>
              <a:t>m = 1.25</a:t>
            </a: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A2 </a:t>
            </a:r>
            <a:r>
              <a:rPr b="0" lang="en-US" sz="2400" spc="-1" strike="noStrike">
                <a:solidFill>
                  <a:srgbClr val="cccc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 Blue star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Ia </a:t>
            </a:r>
            <a:r>
              <a:rPr b="0" lang="en-US" sz="2400" spc="-1" strike="noStrike">
                <a:solidFill>
                  <a:srgbClr val="cccc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 Supergiant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cc99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Palatino"/>
              </a:rPr>
              <a:t>M = -8.8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4"/>
              <p:cNvSpPr txBox="1"/>
              <p:nvPr/>
            </p:nvSpPr>
            <p:spPr>
              <a:xfrm>
                <a:off x="5334120" y="3886200"/>
                <a:ext cx="3562200" cy="99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−</m:t>
                    </m:r>
                    <m:r>
                      <m:t xml:space="preserve">M</m:t>
                    </m:r>
                    <m:r>
                      <m:t xml:space="preserve">=</m:t>
                    </m:r>
                    <m:r>
                      <m:t xml:space="preserve">5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istance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pc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52" name="Text Box 6"/>
          <p:cNvSpPr/>
          <p:nvPr/>
        </p:nvSpPr>
        <p:spPr>
          <a:xfrm>
            <a:off x="1157760" y="5275440"/>
            <a:ext cx="2405880" cy="398880"/>
          </a:xfrm>
          <a:prstGeom prst="rect">
            <a:avLst/>
          </a:prstGeom>
          <a:solidFill>
            <a:srgbClr val="0000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Palatino"/>
              </a:rPr>
              <a:t>Distance = 1000 p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Palatino"/>
              </a:rPr>
              <a:t>Standard Candles</a:t>
            </a: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3055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Palatino"/>
              </a:rPr>
              <a:t>“</a:t>
            </a:r>
            <a:r>
              <a:rPr b="0" lang="en-US" sz="2800" spc="-1" strike="noStrike">
                <a:solidFill>
                  <a:srgbClr val="ffff00"/>
                </a:solidFill>
                <a:latin typeface="Palatino"/>
              </a:rPr>
              <a:t>Standard Candles”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If we know how bright something </a:t>
            </a:r>
            <a:r>
              <a:rPr b="0" lang="en-US" sz="2800" spc="-1" strike="noStrike">
                <a:solidFill>
                  <a:srgbClr val="ffff00"/>
                </a:solidFill>
                <a:latin typeface="Palatino"/>
              </a:rPr>
              <a:t>should be</a:t>
            </a: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, and we know how bright it </a:t>
            </a:r>
            <a:r>
              <a:rPr b="0" lang="en-US" sz="2800" spc="-1" strike="noStrike">
                <a:solidFill>
                  <a:srgbClr val="ffff00"/>
                </a:solidFill>
                <a:latin typeface="Palatino"/>
              </a:rPr>
              <a:t>looks</a:t>
            </a: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 </a:t>
            </a:r>
            <a:r>
              <a:rPr b="0" lang="en-US" sz="2800" spc="-1" strike="noStrike">
                <a:solidFill>
                  <a:srgbClr val="cccc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 </a:t>
            </a:r>
            <a:r>
              <a:rPr b="1" lang="en-US" sz="2800" spc="-1" strike="noStrike">
                <a:solidFill>
                  <a:srgbClr val="ccccff"/>
                </a:solidFill>
                <a:latin typeface="Palatino"/>
              </a:rPr>
              <a:t>Distance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Variable stars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RR Lyra stars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Cepheid variables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</p:txBody>
      </p:sp>
      <p:pic>
        <p:nvPicPr>
          <p:cNvPr id="156" name="Picture 4" descr="D:\CHAISSON\BG314\IMAGES\AAAKLBA0a.jpg"/>
          <p:cNvPicPr/>
          <p:nvPr/>
        </p:nvPicPr>
        <p:blipFill>
          <a:blip r:embed="rId1"/>
          <a:srcRect l="2743" t="11997" r="4489" b="11203"/>
          <a:stretch/>
        </p:blipFill>
        <p:spPr>
          <a:xfrm>
            <a:off x="3962520" y="3124080"/>
            <a:ext cx="4724280" cy="2438640"/>
          </a:xfrm>
          <a:prstGeom prst="rect">
            <a:avLst/>
          </a:prstGeom>
          <a:ln w="9360">
            <a:solidFill>
              <a:srgbClr val="ff3300"/>
            </a:solidFill>
            <a:miter/>
          </a:ln>
        </p:spPr>
      </p:pic>
      <p:pic>
        <p:nvPicPr>
          <p:cNvPr id="157" name="Picture 5" descr="D:\CHAISSON\BG314\IMAGES\AAAKLBA0b.jpg"/>
          <p:cNvPicPr/>
          <p:nvPr/>
        </p:nvPicPr>
        <p:blipFill>
          <a:blip r:embed="rId2"/>
          <a:srcRect l="1499" t="11997" r="4241" b="11203"/>
          <a:stretch/>
        </p:blipFill>
        <p:spPr>
          <a:xfrm>
            <a:off x="3962520" y="3124080"/>
            <a:ext cx="4724280" cy="2438640"/>
          </a:xfrm>
          <a:prstGeom prst="rect">
            <a:avLst/>
          </a:prstGeom>
          <a:ln w="9360">
            <a:solidFill>
              <a:srgbClr val="ff3300"/>
            </a:solidFill>
            <a:miter/>
          </a:ln>
        </p:spPr>
      </p:pic>
      <p:sp>
        <p:nvSpPr>
          <p:cNvPr id="1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Palatino"/>
              </a:rPr>
              <a:t>Variable Stars</a:t>
            </a: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38862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For RR Lyrae stars: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lvl="1" marL="698400" indent="-26856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Average luminosity is a standard candle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lvl="1" marL="698400" indent="-26856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Always ~ 100 x Sun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marL="322200" indent="-32220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For Cepheid variables: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lvl="1" marL="698400" indent="-26856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Pulsation period is proportional to average luminosity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lvl="1" marL="698400" indent="-26856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Observe the period </a:t>
            </a:r>
            <a:r>
              <a:rPr b="0" lang="en-US" sz="2400" spc="-1" strike="noStrike">
                <a:solidFill>
                  <a:srgbClr val="cccc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 find the luminosity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marL="322200" indent="-32220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Good to 15 Mpc!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pic>
        <p:nvPicPr>
          <p:cNvPr id="161" name="Picture 4" descr="D:\CHAISSON\BG314\IMAGES\AAAKLBE0.jpg"/>
          <p:cNvPicPr/>
          <p:nvPr/>
        </p:nvPicPr>
        <p:blipFill>
          <a:blip r:embed="rId1"/>
          <a:stretch/>
        </p:blipFill>
        <p:spPr>
          <a:xfrm>
            <a:off x="4343400" y="1981080"/>
            <a:ext cx="4610160" cy="3022560"/>
          </a:xfrm>
          <a:prstGeom prst="rect">
            <a:avLst/>
          </a:prstGeom>
          <a:ln w="0">
            <a:noFill/>
          </a:ln>
        </p:spPr>
      </p:pic>
      <p:sp>
        <p:nvSpPr>
          <p:cNvPr id="1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C:\Documents and Settings\Tyler_Nordgren\My Documents\My Pictures\astro images\images\MandM_Magrath.jpg"/>
          <p:cNvPicPr/>
          <p:nvPr/>
        </p:nvPicPr>
        <p:blipFill>
          <a:blip r:embed="rId1"/>
          <a:stretch/>
        </p:blipFill>
        <p:spPr>
          <a:xfrm>
            <a:off x="380880" y="533520"/>
            <a:ext cx="8534520" cy="5586120"/>
          </a:xfrm>
          <a:prstGeom prst="rect">
            <a:avLst/>
          </a:prstGeom>
          <a:ln w="9360">
            <a:solidFill>
              <a:srgbClr val="00cc99"/>
            </a:solidFill>
            <a:miter/>
          </a:ln>
        </p:spPr>
      </p:pic>
      <p:sp>
        <p:nvSpPr>
          <p:cNvPr id="9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2" descr="D:\CHAISSON\BG314\IMAGES\AAAKLBH0.jpg"/>
          <p:cNvPicPr/>
          <p:nvPr/>
        </p:nvPicPr>
        <p:blipFill>
          <a:blip r:embed="rId1"/>
          <a:srcRect l="1062" t="2815" r="3193" b="5524"/>
          <a:stretch/>
        </p:blipFill>
        <p:spPr>
          <a:xfrm>
            <a:off x="609480" y="533520"/>
            <a:ext cx="8001000" cy="5778360"/>
          </a:xfrm>
          <a:prstGeom prst="rect">
            <a:avLst/>
          </a:prstGeom>
          <a:ln w="9360">
            <a:solidFill>
              <a:srgbClr val="ff3300"/>
            </a:solidFill>
            <a:miter/>
          </a:ln>
        </p:spPr>
      </p:pic>
      <p:sp>
        <p:nvSpPr>
          <p:cNvPr id="16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Palatino"/>
              </a:rPr>
              <a:t>Rotation …</a:t>
            </a: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33160" y="1523520"/>
            <a:ext cx="3276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Objects in the disk, rotate in the disk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lvl="1" marL="705600" indent="-27144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Nebulae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lvl="1" marL="705600" indent="-27144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Open clusters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lvl="1" marL="705600" indent="-27144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Young stars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marL="325800" indent="-32580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Objects in the halo, swarm in a halo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lvl="1" marL="705600" indent="-27144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Old stars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lvl="1" marL="705600" indent="-27144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Globular clusters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</p:txBody>
      </p:sp>
      <p:pic>
        <p:nvPicPr>
          <p:cNvPr id="167" name="Picture 4" descr="D:\CHAISSON\BG314\IMAGES\AAAKLBK0.jpg"/>
          <p:cNvPicPr/>
          <p:nvPr/>
        </p:nvPicPr>
        <p:blipFill>
          <a:blip r:embed="rId1"/>
          <a:stretch/>
        </p:blipFill>
        <p:spPr>
          <a:xfrm>
            <a:off x="4267080" y="1600200"/>
            <a:ext cx="4152960" cy="4165560"/>
          </a:xfrm>
          <a:prstGeom prst="rect">
            <a:avLst/>
          </a:prstGeom>
          <a:ln w="0">
            <a:noFill/>
          </a:ln>
        </p:spPr>
      </p:pic>
      <p:sp>
        <p:nvSpPr>
          <p:cNvPr id="1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Palatino"/>
              </a:rPr>
              <a:t>… </a:t>
            </a:r>
            <a:r>
              <a:rPr b="1" lang="en-US" sz="4400" spc="-1" strike="noStrike">
                <a:solidFill>
                  <a:srgbClr val="ff3300"/>
                </a:solidFill>
                <a:latin typeface="Palatino"/>
              </a:rPr>
              <a:t>and Formation</a:t>
            </a: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396252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Picture the formation of the Sun: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lvl="1" marL="720720" indent="-27720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Spherical cloud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lvl="1" marL="720720" indent="-27720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Condenses to disk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lvl="1" marL="720720" indent="-27720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Planets in a plane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lvl="1" marL="720720" indent="-27720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Oort cloud sphere.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marL="332640" indent="-33264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Perhaps the same with the galaxy?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pic>
        <p:nvPicPr>
          <p:cNvPr id="171" name="Picture 4" descr="D:\CHAISSON\BG314\IMAGES\AAAKLBL0.jpg"/>
          <p:cNvPicPr/>
          <p:nvPr/>
        </p:nvPicPr>
        <p:blipFill>
          <a:blip r:embed="rId1"/>
          <a:stretch/>
        </p:blipFill>
        <p:spPr>
          <a:xfrm>
            <a:off x="4572000" y="1371600"/>
            <a:ext cx="4305240" cy="4191120"/>
          </a:xfrm>
          <a:prstGeom prst="rect">
            <a:avLst/>
          </a:prstGeom>
          <a:ln w="0">
            <a:noFill/>
          </a:ln>
        </p:spPr>
      </p:pic>
      <p:sp>
        <p:nvSpPr>
          <p:cNvPr id="17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Palatino"/>
              </a:rPr>
              <a:t>Missing Mass</a:t>
            </a: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From variable stars we know distances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From Doppler shift we know rotation velocity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Use Kepler’s Third Law (again) to get mass of the Milky Way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Palatino"/>
              </a:rPr>
              <a:t>M = 10</a:t>
            </a:r>
            <a:r>
              <a:rPr b="1" lang="en-US" sz="2800" spc="-1" strike="noStrike" baseline="30000">
                <a:solidFill>
                  <a:srgbClr val="00cc99"/>
                </a:solidFill>
                <a:latin typeface="Palatino"/>
              </a:rPr>
              <a:t>11</a:t>
            </a:r>
            <a:r>
              <a:rPr b="1" lang="en-US" sz="2800" spc="-1" strike="noStrike">
                <a:solidFill>
                  <a:srgbClr val="00cc99"/>
                </a:solidFill>
                <a:latin typeface="Palatino"/>
              </a:rPr>
              <a:t> x M</a:t>
            </a:r>
            <a:r>
              <a:rPr b="1" lang="en-US" sz="2800" spc="-1" strike="noStrike" baseline="-25000">
                <a:solidFill>
                  <a:srgbClr val="00cc99"/>
                </a:solidFill>
                <a:latin typeface="Palatino"/>
              </a:rPr>
              <a:t>sun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grpSp>
        <p:nvGrpSpPr>
          <p:cNvPr id="175" name="Group 4"/>
          <p:cNvGrpSpPr/>
          <p:nvPr/>
        </p:nvGrpSpPr>
        <p:grpSpPr>
          <a:xfrm>
            <a:off x="2362320" y="3809880"/>
            <a:ext cx="2971800" cy="2471760"/>
            <a:chOff x="2362320" y="3809880"/>
            <a:chExt cx="2971800" cy="2471760"/>
          </a:xfrm>
        </p:grpSpPr>
        <mc:AlternateContent>
          <mc:Choice xmlns:a14="http://schemas.microsoft.com/office/drawing/2010/main" Requires="a14">
            <p:sp>
              <p:nvSpPr>
                <p:cNvPr id="176" name="Object 5"/>
                <p:cNvSpPr txBox="1"/>
                <p:nvPr/>
              </p:nvSpPr>
              <p:spPr>
                <a:xfrm>
                  <a:off x="2362320" y="3809880"/>
                  <a:ext cx="1936800" cy="755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P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∝</m:t>
                      </m:r>
                      <m:sSup>
                        <m:e>
                          <m:r>
                            <m:t xml:space="preserve">a</m:t>
                          </m:r>
                        </m:e>
                        <m:sup>
                          <m:r>
                            <m:t xml:space="preserve">3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77" name="Object 6"/>
                <p:cNvSpPr txBox="1"/>
                <p:nvPr/>
              </p:nvSpPr>
              <p:spPr>
                <a:xfrm>
                  <a:off x="2362320" y="4724280"/>
                  <a:ext cx="2971800" cy="1557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P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=</m:t>
                      </m:r>
                      <m:f>
                        <m:num>
                          <m:r>
                            <m:t xml:space="preserve">4</m:t>
                          </m:r>
                          <m:sSup>
                            <m:e>
                              <m:r>
                                <m:t xml:space="preserve">π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GM</m:t>
                          </m:r>
                        </m:den>
                      </m:f>
                      <m:sSup>
                        <m:e>
                          <m:r>
                            <m:t xml:space="preserve">a</m:t>
                          </m:r>
                        </m:e>
                        <m:sup>
                          <m:r>
                            <m:t xml:space="preserve">3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178" name="Picture 7" descr="D:\CHAISSON\BG314\IMAGES\AAAKLBS0.jpg"/>
          <p:cNvPicPr/>
          <p:nvPr/>
        </p:nvPicPr>
        <p:blipFill>
          <a:blip r:embed="rId1"/>
          <a:stretch/>
        </p:blipFill>
        <p:spPr>
          <a:xfrm>
            <a:off x="1600200" y="3743280"/>
            <a:ext cx="6019920" cy="3114720"/>
          </a:xfrm>
          <a:prstGeom prst="rect">
            <a:avLst/>
          </a:prstGeom>
          <a:ln w="0">
            <a:noFill/>
          </a:ln>
        </p:spPr>
      </p:pic>
      <p:sp>
        <p:nvSpPr>
          <p:cNvPr id="17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Palatino"/>
              </a:rPr>
              <a:t>Dark Matter</a:t>
            </a: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What causes the mass to keep on increasing?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Don’t see anything there. Thus </a:t>
            </a:r>
            <a:r>
              <a:rPr b="0" lang="en-US" sz="2800" spc="-1" strike="noStrike">
                <a:solidFill>
                  <a:srgbClr val="cccc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 “dark” matter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Brown dwarfs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Planets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White dwarfs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Strange matter?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Use gravitational lensing (last lecture) to look for these “dark” objects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18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D:\CHAISSON\BG314\IMAGES\AAAKLBU0.jpg"/>
          <p:cNvPicPr/>
          <p:nvPr/>
        </p:nvPicPr>
        <p:blipFill>
          <a:blip r:embed="rId1"/>
          <a:stretch/>
        </p:blipFill>
        <p:spPr>
          <a:xfrm>
            <a:off x="2057400" y="1143000"/>
            <a:ext cx="5105520" cy="5003640"/>
          </a:xfrm>
          <a:prstGeom prst="rect">
            <a:avLst/>
          </a:prstGeom>
          <a:ln w="0">
            <a:noFill/>
          </a:ln>
        </p:spPr>
      </p:pic>
      <p:sp>
        <p:nvSpPr>
          <p:cNvPr id="18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Palatino"/>
              </a:rPr>
              <a:t>The Heart of the Galaxy</a:t>
            </a: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160" y="1904760"/>
            <a:ext cx="32763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Because of all the dust in the Galaxy, we can’t see its center in visible light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Can use IR and radio to pierce the dust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pic>
        <p:nvPicPr>
          <p:cNvPr id="187" name="Picture 4" descr="D:\CHAISSON\BG314\IMAGES\AAAKLBW0.jpg"/>
          <p:cNvPicPr/>
          <p:nvPr/>
        </p:nvPicPr>
        <p:blipFill>
          <a:blip r:embed="rId1"/>
          <a:stretch/>
        </p:blipFill>
        <p:spPr>
          <a:xfrm>
            <a:off x="3962520" y="1676520"/>
            <a:ext cx="5029200" cy="3914640"/>
          </a:xfrm>
          <a:prstGeom prst="rect">
            <a:avLst/>
          </a:prstGeom>
          <a:ln w="9360">
            <a:solidFill>
              <a:srgbClr val="ff3300"/>
            </a:solidFill>
            <a:miter/>
          </a:ln>
        </p:spPr>
      </p:pic>
      <p:sp>
        <p:nvSpPr>
          <p:cNvPr id="18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D:\CHAISSON\BG314\IMAGES\AAAKLBW0.jpg"/>
          <p:cNvPicPr/>
          <p:nvPr/>
        </p:nvPicPr>
        <p:blipFill>
          <a:blip r:embed="rId1"/>
          <a:stretch/>
        </p:blipFill>
        <p:spPr>
          <a:xfrm>
            <a:off x="304920" y="152280"/>
            <a:ext cx="8534160" cy="6643800"/>
          </a:xfrm>
          <a:prstGeom prst="rect">
            <a:avLst/>
          </a:prstGeom>
          <a:ln w="9360">
            <a:solidFill>
              <a:srgbClr val="ff3300"/>
            </a:solidFill>
            <a:miter/>
          </a:ln>
        </p:spPr>
      </p:pic>
      <p:sp>
        <p:nvSpPr>
          <p:cNvPr id="190" name="Line 3"/>
          <p:cNvSpPr/>
          <p:nvPr/>
        </p:nvSpPr>
        <p:spPr>
          <a:xfrm>
            <a:off x="3733920" y="457200"/>
            <a:ext cx="2666880" cy="0"/>
          </a:xfrm>
          <a:prstGeom prst="line">
            <a:avLst/>
          </a:prstGeom>
          <a:ln w="93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91" name="Text Box 4"/>
          <p:cNvSpPr/>
          <p:nvPr/>
        </p:nvSpPr>
        <p:spPr>
          <a:xfrm>
            <a:off x="4437360" y="474840"/>
            <a:ext cx="95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Palatino"/>
              </a:rPr>
              <a:t>200 p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92" name="Line 5"/>
          <p:cNvSpPr/>
          <p:nvPr/>
        </p:nvSpPr>
        <p:spPr>
          <a:xfrm>
            <a:off x="7772400" y="3276720"/>
            <a:ext cx="533520" cy="0"/>
          </a:xfrm>
          <a:prstGeom prst="line">
            <a:avLst/>
          </a:prstGeom>
          <a:ln w="93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93" name="Text Box 6"/>
          <p:cNvSpPr/>
          <p:nvPr/>
        </p:nvSpPr>
        <p:spPr>
          <a:xfrm>
            <a:off x="7668360" y="2743200"/>
            <a:ext cx="66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Palatino"/>
              </a:rPr>
              <a:t>5 p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94" name="Text Box 7"/>
          <p:cNvSpPr/>
          <p:nvPr/>
        </p:nvSpPr>
        <p:spPr>
          <a:xfrm>
            <a:off x="6121440" y="5562720"/>
            <a:ext cx="283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agittarius A* - Sgr A*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9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Palatino"/>
              </a:rPr>
              <a:t>Stellar Motion</a:t>
            </a: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41911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Infrared images of stars in the Galactic Center over 8 years.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marL="329040" indent="-329040">
              <a:spcBef>
                <a:spcPts val="601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The “</a:t>
            </a:r>
            <a:r>
              <a:rPr b="0" lang="en-US" sz="2400" spc="-1" strike="noStrike">
                <a:solidFill>
                  <a:srgbClr val="ffff00"/>
                </a:solidFill>
                <a:latin typeface="Palatino"/>
              </a:rPr>
              <a:t>+</a:t>
            </a: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” is the radio source Sgr A*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marL="329040" indent="-329040">
              <a:spcBef>
                <a:spcPts val="601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Conclusion: Must be over one million solar masses within less than 1/5 of a light year!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marL="329040" indent="-329040">
              <a:spcBef>
                <a:spcPts val="601"/>
              </a:spcBef>
              <a:buClr>
                <a:srgbClr val="ffff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Palatino"/>
              </a:rPr>
              <a:t>Supermassive Black Hole!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marL="329040" indent="-329040">
              <a:spcBef>
                <a:spcPts val="601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Event Horizon &lt; 0.05 AU!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marL="329040" indent="-329040">
              <a:spcBef>
                <a:spcPts val="601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Probably in the centers of all spiral galaxies.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</p:txBody>
      </p:sp>
      <p:pic>
        <p:nvPicPr>
          <p:cNvPr id="198" name="Picture 4" descr="C:\Documents and Settings\Tyler_Nordgren\My Documents\Astronomy classes\Fall 2001\movies\SgrA_sharp_big.gif"/>
          <p:cNvPicPr/>
          <p:nvPr/>
        </p:nvPicPr>
        <p:blipFill>
          <a:blip r:embed="rId1"/>
          <a:stretch/>
        </p:blipFill>
        <p:spPr>
          <a:xfrm>
            <a:off x="4648320" y="1219320"/>
            <a:ext cx="4495680" cy="4495680"/>
          </a:xfrm>
          <a:prstGeom prst="rect">
            <a:avLst/>
          </a:prstGeom>
          <a:ln w="0">
            <a:noFill/>
          </a:ln>
        </p:spPr>
      </p:pic>
      <p:sp>
        <p:nvSpPr>
          <p:cNvPr id="199" name="Text Box 5"/>
          <p:cNvSpPr/>
          <p:nvPr/>
        </p:nvSpPr>
        <p:spPr>
          <a:xfrm>
            <a:off x="4516920" y="5829480"/>
            <a:ext cx="209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Palatino"/>
              </a:rPr>
              <a:t>Copyright Eckart &amp; Genzel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0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Palatino"/>
              </a:rPr>
              <a:t>Goals</a:t>
            </a: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Structure of our Galaxy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Its size and shape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How do stars and things move through it?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Mass and Dark Matter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The Galactic Center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10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4" descr="C:\Documents and Settings\Tyler_Nordgren\My Documents\My Pictures\astro images\stars\mw7b_gleason.jpg"/>
          <p:cNvPicPr/>
          <p:nvPr/>
        </p:nvPicPr>
        <p:blipFill>
          <a:blip r:embed="rId1"/>
          <a:stretch/>
        </p:blipFill>
        <p:spPr>
          <a:xfrm>
            <a:off x="380880" y="228600"/>
            <a:ext cx="8382240" cy="5592600"/>
          </a:xfrm>
          <a:prstGeom prst="rect">
            <a:avLst/>
          </a:prstGeom>
          <a:ln w="9360">
            <a:solidFill>
              <a:srgbClr val="00cc99"/>
            </a:solidFill>
            <a:miter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Palatino"/>
              </a:rPr>
              <a:t>The Milky Way</a:t>
            </a: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Stars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Dust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Gaseous Nebulae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Open Clusters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Globular Clusters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Pulsars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Black Holes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How do they all fit together to make our galaxy?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6" descr="C:\Documents and Settings\Tyler_Nordgren\My Documents\My Pictures\astro images\images\allsky_mellinger_c2.jpg"/>
          <p:cNvPicPr/>
          <p:nvPr/>
        </p:nvPicPr>
        <p:blipFill>
          <a:blip r:embed="rId1"/>
          <a:stretch/>
        </p:blipFill>
        <p:spPr>
          <a:xfrm>
            <a:off x="76320" y="838080"/>
            <a:ext cx="8915400" cy="4953240"/>
          </a:xfrm>
          <a:prstGeom prst="rect">
            <a:avLst/>
          </a:prstGeom>
          <a:ln w="9360">
            <a:solidFill>
              <a:srgbClr val="00cc99"/>
            </a:solidFill>
            <a:miter/>
          </a:ln>
        </p:spPr>
      </p:pic>
      <p:sp>
        <p:nvSpPr>
          <p:cNvPr id="106" name="Text Box 4"/>
          <p:cNvSpPr/>
          <p:nvPr/>
        </p:nvSpPr>
        <p:spPr>
          <a:xfrm>
            <a:off x="152280" y="5943600"/>
            <a:ext cx="52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Palatino"/>
              </a:rPr>
              <a:t>Optical emission from stars and nebula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C:\Documents and Settings\Tyler_Nordgren\My Documents\My Pictures\astro images\images\nir_cobe.jpg"/>
          <p:cNvPicPr/>
          <p:nvPr/>
        </p:nvPicPr>
        <p:blipFill>
          <a:blip r:embed="rId1"/>
          <a:stretch/>
        </p:blipFill>
        <p:spPr>
          <a:xfrm>
            <a:off x="76320" y="990720"/>
            <a:ext cx="8915400" cy="4614840"/>
          </a:xfrm>
          <a:prstGeom prst="rect">
            <a:avLst/>
          </a:prstGeom>
          <a:ln w="9360">
            <a:solidFill>
              <a:srgbClr val="00cc99"/>
            </a:solidFill>
            <a:miter/>
          </a:ln>
        </p:spPr>
      </p:pic>
      <p:sp>
        <p:nvSpPr>
          <p:cNvPr id="109" name="Text Box 3"/>
          <p:cNvSpPr/>
          <p:nvPr/>
        </p:nvSpPr>
        <p:spPr>
          <a:xfrm>
            <a:off x="-219960" y="5715000"/>
            <a:ext cx="638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Palatino"/>
              </a:rPr>
              <a:t>Near-Infrared stellar emission </a:t>
            </a:r>
            <a:r>
              <a:rPr b="0" lang="en-US" sz="1200" spc="-1" strike="noStrike">
                <a:solidFill>
                  <a:srgbClr val="ccccff"/>
                </a:solidFill>
                <a:latin typeface="Palatino"/>
              </a:rPr>
              <a:t>– copyright E. L. Wright and COBE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" descr="C:\Documents and Settings\Tyler_Nordgren\My Documents\My Pictures\astro images\images\fir_cobe.jpg"/>
          <p:cNvPicPr/>
          <p:nvPr/>
        </p:nvPicPr>
        <p:blipFill>
          <a:blip r:embed="rId1"/>
          <a:stretch/>
        </p:blipFill>
        <p:spPr>
          <a:xfrm>
            <a:off x="76320" y="990720"/>
            <a:ext cx="8915400" cy="4636800"/>
          </a:xfrm>
          <a:prstGeom prst="rect">
            <a:avLst/>
          </a:prstGeom>
          <a:ln w="9360">
            <a:solidFill>
              <a:srgbClr val="00cc99"/>
            </a:solidFill>
            <a:miter/>
          </a:ln>
        </p:spPr>
      </p:pic>
      <p:sp>
        <p:nvSpPr>
          <p:cNvPr id="112" name="Text Box 3"/>
          <p:cNvSpPr/>
          <p:nvPr/>
        </p:nvSpPr>
        <p:spPr>
          <a:xfrm>
            <a:off x="-186480" y="5715000"/>
            <a:ext cx="596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Palatino"/>
              </a:rPr>
              <a:t>Far-Infrared dust emission </a:t>
            </a:r>
            <a:r>
              <a:rPr b="0" lang="en-US" sz="1200" spc="-1" strike="noStrike">
                <a:solidFill>
                  <a:srgbClr val="ccccff"/>
                </a:solidFill>
                <a:latin typeface="Palatino"/>
              </a:rPr>
              <a:t>– copyright E. L. Wright and COBE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1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3" descr="C:\Documents and Settings\Tyler_Nordgren\My Documents\My Pictures\astro images\images\fir_cobe.jpg"/>
          <p:cNvPicPr/>
          <p:nvPr/>
        </p:nvPicPr>
        <p:blipFill>
          <a:blip r:embed="rId1"/>
          <a:stretch/>
        </p:blipFill>
        <p:spPr>
          <a:xfrm>
            <a:off x="76320" y="990720"/>
            <a:ext cx="8915400" cy="4636800"/>
          </a:xfrm>
          <a:prstGeom prst="rect">
            <a:avLst/>
          </a:prstGeom>
          <a:ln w="9360">
            <a:solidFill>
              <a:srgbClr val="00cc99"/>
            </a:solidFill>
            <a:miter/>
          </a:ln>
        </p:spPr>
      </p:pic>
      <p:pic>
        <p:nvPicPr>
          <p:cNvPr id="115" name="Picture 2" descr="C:\Documents and Settings\Tyler_Nordgren\My Documents\My Pictures\astro images\images\nHI_alt_skyview_big.jpg"/>
          <p:cNvPicPr/>
          <p:nvPr/>
        </p:nvPicPr>
        <p:blipFill>
          <a:blip r:embed="rId2"/>
          <a:srcRect l="4272" t="9305" r="4272" b="9099"/>
          <a:stretch/>
        </p:blipFill>
        <p:spPr>
          <a:xfrm>
            <a:off x="76320" y="990720"/>
            <a:ext cx="8915400" cy="4647960"/>
          </a:xfrm>
          <a:prstGeom prst="rect">
            <a:avLst/>
          </a:prstGeom>
          <a:ln w="9360">
            <a:solidFill>
              <a:srgbClr val="00cc99"/>
            </a:solidFill>
            <a:miter/>
          </a:ln>
        </p:spPr>
      </p:pic>
      <p:sp>
        <p:nvSpPr>
          <p:cNvPr id="116" name="Text Box 4"/>
          <p:cNvSpPr/>
          <p:nvPr/>
        </p:nvSpPr>
        <p:spPr>
          <a:xfrm>
            <a:off x="-186480" y="5732640"/>
            <a:ext cx="642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Palatino"/>
              </a:rPr>
              <a:t>Radio emission from neutral hydrogen </a:t>
            </a:r>
            <a:r>
              <a:rPr b="0" lang="en-US" sz="1200" spc="-1" strike="noStrike">
                <a:solidFill>
                  <a:srgbClr val="ccccff"/>
                </a:solidFill>
                <a:latin typeface="Palatino"/>
              </a:rPr>
              <a:t>– copyright J. Dickey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C:\Documents and Settings\Tyler_Nordgren\My Documents\My Pictures\astro images\images\xallsky_rosat110.jpg"/>
          <p:cNvPicPr/>
          <p:nvPr/>
        </p:nvPicPr>
        <p:blipFill>
          <a:blip r:embed="rId1"/>
          <a:stretch/>
        </p:blipFill>
        <p:spPr>
          <a:xfrm>
            <a:off x="152280" y="990720"/>
            <a:ext cx="8839440" cy="4635360"/>
          </a:xfrm>
          <a:prstGeom prst="rect">
            <a:avLst/>
          </a:prstGeom>
          <a:ln w="9360">
            <a:solidFill>
              <a:srgbClr val="00cc99"/>
            </a:solidFill>
            <a:miter/>
          </a:ln>
        </p:spPr>
      </p:pic>
      <p:sp>
        <p:nvSpPr>
          <p:cNvPr id="119" name="Text Box 4"/>
          <p:cNvSpPr/>
          <p:nvPr/>
        </p:nvSpPr>
        <p:spPr>
          <a:xfrm>
            <a:off x="-59040" y="5732640"/>
            <a:ext cx="58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Palatino"/>
              </a:rPr>
              <a:t>X-ray emission from hot gas </a:t>
            </a:r>
            <a:r>
              <a:rPr b="0" lang="en-US" sz="1200" spc="-1" strike="noStrike">
                <a:solidFill>
                  <a:srgbClr val="ccccff"/>
                </a:solidFill>
                <a:latin typeface="Palatino"/>
              </a:rPr>
              <a:t>– copyright S. Digel and ROSAT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2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14T18:19:29Z</dcterms:created>
  <dc:creator>Julie A. Rathbun</dc:creator>
  <dc:description/>
  <dc:language>en-US</dc:language>
  <cp:lastModifiedBy>Legion</cp:lastModifiedBy>
  <dcterms:modified xsi:type="dcterms:W3CDTF">2017-01-26T10:14:56Z</dcterms:modified>
  <cp:revision>99</cp:revision>
  <dc:subject/>
  <dc:title>PowerPoint Presentation</dc:title>
</cp:coreProperties>
</file>