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17FE-7B0E-46A9-9B1D-5BA3069B6A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9C3-0423-4CFA-8A3E-BA3533A7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B5FD-B482-43AC-96EA-4B5F1F72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164C-B596-4802-930F-AD4C85B0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24F3-3D1D-4152-90EC-9F8AC8ED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067B-063E-480F-9214-86387487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70CF-8DB5-4C42-A684-8E717258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FB95-489A-42E8-9ACD-C3A2482C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D720-CA7C-4ED2-8DA9-5CF7385E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FCDD-41F7-48B8-A946-E9C7BD9A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6B62-0021-4E58-A215-C16A2C20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E712-785E-492D-BC0D-66965B45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D7B0-10F4-40D2-A4A3-5123F570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42E5-671A-4D6B-A89C-22C9D12D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D788-36F0-43FB-8710-A49B8309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85ED-2127-4137-A1F9-098CF7E2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29D3-8CF5-4608-B370-1AF9C9D7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1936-9304-4FAB-B8E6-3AD3256A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53B-C462-4F49-A1AB-77208914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9303-6D7D-4FD5-ADBE-6B29AF93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F1D-FDA0-4FAA-A05E-F4F3F6B0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E08-E312-4E1A-9F65-C8155D98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D73E-6377-41D8-AD65-C8F0DE80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880A-6D64-4895-81CA-3F55B443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5BB-20C6-4363-91D6-4C993B5E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7696080" y="5910120"/>
            <a:ext cx="1447920" cy="9478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C9D0-7BDB-412F-B020-6E4DA1E572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1720" y="5958000"/>
            <a:ext cx="9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44" name="Picture 17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914400" y="685800"/>
            <a:ext cx="7696080" cy="5037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7230-D4DA-409E-8012-80E57E070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0720" y="502884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Our Galactic Hom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Tyler_Nordgren\My Documents\My Pictures\astro images\images\allsky1_egret.gif"/>
          <p:cNvPicPr/>
          <p:nvPr/>
        </p:nvPicPr>
        <p:blipFill>
          <a:blip r:embed="rId1"/>
          <a:srcRect l="1941" t="0" r="1941" b="0"/>
          <a:stretch/>
        </p:blipFill>
        <p:spPr>
          <a:xfrm>
            <a:off x="152280" y="990720"/>
            <a:ext cx="8839440" cy="46450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-272520" y="573264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Gamma-ray emission from pulsars and black hole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Where are We?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aren’t at the center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is the center the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 point the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6" name="Picture 4" descr="D:\CHAISSON\BG314\IMAGES\AABJRIG0.jpg"/>
          <p:cNvPicPr/>
          <p:nvPr/>
        </p:nvPicPr>
        <p:blipFill>
          <a:blip r:embed="rId1"/>
          <a:srcRect l="1838" t="3656" r="4586" b="3051"/>
          <a:stretch/>
        </p:blipFill>
        <p:spPr>
          <a:xfrm>
            <a:off x="4952880" y="1523880"/>
            <a:ext cx="3886200" cy="3886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27" name="Picture 5" descr="C:\Documents and Settings\Tyler_Nordgren\My Documents\My Pictures\astro images\images\m10_crednerkohle.jpg"/>
          <p:cNvPicPr/>
          <p:nvPr/>
        </p:nvPicPr>
        <p:blipFill>
          <a:blip r:embed="rId2"/>
          <a:stretch/>
        </p:blipFill>
        <p:spPr>
          <a:xfrm>
            <a:off x="685800" y="4038480"/>
            <a:ext cx="3200400" cy="2484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3777840" y="6172200"/>
            <a:ext cx="29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M10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D:\CHAISSON\BG314\IMAGES\bg14fg13.jpg"/>
          <p:cNvPicPr/>
          <p:nvPr/>
        </p:nvPicPr>
        <p:blipFill>
          <a:blip r:embed="rId1"/>
          <a:srcRect l="6608" t="16670" r="7527" b="23337"/>
          <a:stretch/>
        </p:blipFill>
        <p:spPr>
          <a:xfrm>
            <a:off x="1676520" y="228600"/>
            <a:ext cx="5638680" cy="520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Picture 4" descr="D:\CHAISSON\BG314\IMAGES\AAAKLAV0.jpg"/>
          <p:cNvPicPr/>
          <p:nvPr/>
        </p:nvPicPr>
        <p:blipFill>
          <a:blip r:embed="rId2"/>
          <a:stretch/>
        </p:blipFill>
        <p:spPr>
          <a:xfrm>
            <a:off x="1981080" y="4933800"/>
            <a:ext cx="4800600" cy="1924200"/>
          </a:xfrm>
          <a:prstGeom prst="rect">
            <a:avLst/>
          </a:prstGeom>
          <a:ln w="0">
            <a:noFill/>
          </a:ln>
        </p:spPr>
      </p:pic>
      <p:sp>
        <p:nvSpPr>
          <p:cNvPr id="132" name="Oval 5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" name="Line 6"/>
          <p:cNvSpPr/>
          <p:nvPr/>
        </p:nvSpPr>
        <p:spPr>
          <a:xfrm flipV="1">
            <a:off x="5715000" y="1905120"/>
            <a:ext cx="457200" cy="76176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607720" y="14652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Palatino"/>
              </a:rPr>
              <a:t>You Are Her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39" name="Text Box 4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Picture 5" descr="C:\Documents and Settings\Tyler_Nordgren\My Documents\My Pictures\astro images\galaxies\ngc4565_mclaughlin.jpg"/>
          <p:cNvPicPr/>
          <p:nvPr/>
        </p:nvPicPr>
        <p:blipFill>
          <a:blip r:embed="rId2"/>
          <a:stretch/>
        </p:blipFill>
        <p:spPr>
          <a:xfrm>
            <a:off x="1219320" y="304920"/>
            <a:ext cx="6350040" cy="53672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alactic Distanc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the distance to stars and clusters in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rigonometric parallax good out to 100 pc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believe galaxy is ~30 kpc w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How do we know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pectroscopic Parallax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any star in the sky, we KNOW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pparent Magnitude (</a:t>
            </a: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ectral Type  (O, B, A, F, G, K, M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bine spectral type and luminosity class to get absolute magnitude (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Lecture 7B: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 – 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ive you distan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:\Documents and Settings\Tyler_Nordgren\My Documents\My Pictures\astro images\stars\H-Rdiagram.gif"/>
          <p:cNvPicPr/>
          <p:nvPr/>
        </p:nvPicPr>
        <p:blipFill>
          <a:blip r:embed="rId1"/>
          <a:stretch/>
        </p:blipFill>
        <p:spPr>
          <a:xfrm>
            <a:off x="228600" y="1828800"/>
            <a:ext cx="7162920" cy="45784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Exampl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24280" y="304560"/>
            <a:ext cx="419112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eneb is A2Ia sta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1.25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2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Blue sta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a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Supergiant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-8.8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334120" y="3886200"/>
                <a:ext cx="35622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stan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p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Text Box 6"/>
          <p:cNvSpPr/>
          <p:nvPr/>
        </p:nvSpPr>
        <p:spPr>
          <a:xfrm>
            <a:off x="1157760" y="5275440"/>
            <a:ext cx="240588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Distance = 10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andard Candl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tandard Candles”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we know how bright something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hould be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, and we know how bright it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looks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Distan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ariable st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R Lyra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epheid variab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6" name="Picture 4" descr="D:\CHAISSON\BG314\IMAGES\AAAKLBA0a.jpg"/>
          <p:cNvPicPr/>
          <p:nvPr/>
        </p:nvPicPr>
        <p:blipFill>
          <a:blip r:embed="rId1"/>
          <a:srcRect l="2743" t="11997" r="4489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57" name="Picture 5" descr="D:\CHAISSON\BG314\IMAGES\AAAKLBA0b.jpg"/>
          <p:cNvPicPr/>
          <p:nvPr/>
        </p:nvPicPr>
        <p:blipFill>
          <a:blip r:embed="rId2"/>
          <a:srcRect l="1499" t="11997" r="4241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Variable Star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RR Lyrae star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verage luminosity is a standard candl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lways ~ 100 x Su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Cepheid variable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ulsation period is proportional to averag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bserve the period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find th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ood to 15 Mpc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1" name="Picture 4" descr="D:\CHAISSON\BG314\IMAGES\AAAKLBE0.jpg"/>
          <p:cNvPicPr/>
          <p:nvPr/>
        </p:nvPicPr>
        <p:blipFill>
          <a:blip r:embed="rId1"/>
          <a:stretch/>
        </p:blipFill>
        <p:spPr>
          <a:xfrm>
            <a:off x="4343400" y="1981080"/>
            <a:ext cx="4610160" cy="30225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Tyler_Nordgren\My Documents\My Pictures\astro images\images\MandM_Magrath.jpg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586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Rotation …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276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disk, rotate in the disk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Nebula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Young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halo, swarm in a halo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ld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14\IMAGES\AAAKLBK0.jpg"/>
          <p:cNvPicPr/>
          <p:nvPr/>
        </p:nvPicPr>
        <p:blipFill>
          <a:blip r:embed="rId1"/>
          <a:stretch/>
        </p:blipFill>
        <p:spPr>
          <a:xfrm>
            <a:off x="4267080" y="1600200"/>
            <a:ext cx="4152960" cy="41655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… </a:t>
            </a: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and Forma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962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icture the formation of the Sun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herical clou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denses to dis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 in a pla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ort cloud sphere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erhaps the same with the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71" name="Picture 4" descr="D:\CHAISSON\BG314\IMAGES\AAAKLBL0.jpg"/>
          <p:cNvPicPr/>
          <p:nvPr/>
        </p:nvPicPr>
        <p:blipFill>
          <a:blip r:embed="rId1"/>
          <a:stretch/>
        </p:blipFill>
        <p:spPr>
          <a:xfrm>
            <a:off x="4572000" y="1371600"/>
            <a:ext cx="4305240" cy="41911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Missing Mas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variable stars we know distanc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Doppler shift we know rotation veloc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Kepler’s Third Law (again) to get mass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M = 10</a:t>
            </a:r>
            <a:r>
              <a:rPr b="1" lang="en-US" sz="2800" spc="-1" strike="noStrike" baseline="30000">
                <a:solidFill>
                  <a:srgbClr val="00cc99"/>
                </a:solidFill>
                <a:latin typeface="Palatino"/>
              </a:rPr>
              <a:t>11</a:t>
            </a: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 x M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Palatino"/>
              </a:rPr>
              <a:t>su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2362320" y="3809880"/>
            <a:ext cx="2971800" cy="2471760"/>
            <a:chOff x="2362320" y="3809880"/>
            <a:chExt cx="2971800" cy="2471760"/>
          </a:xfrm>
        </p:grpSpPr>
        <mc:AlternateContent>
          <mc:Choice xmlns:a14="http://schemas.microsoft.com/office/drawing/2010/main" Requires="a14">
            <p:sp>
              <p:nvSpPr>
                <p:cNvPr id="176" name="Object 5"/>
                <p:cNvSpPr txBox="1"/>
                <p:nvPr/>
              </p:nvSpPr>
              <p:spPr>
                <a:xfrm>
                  <a:off x="2362320" y="3809880"/>
                  <a:ext cx="1936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∝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6"/>
                <p:cNvSpPr txBox="1"/>
                <p:nvPr/>
              </p:nvSpPr>
              <p:spPr>
                <a:xfrm>
                  <a:off x="2362320" y="4724280"/>
                  <a:ext cx="2971800" cy="15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GM</m:t>
                          </m:r>
                        </m:den>
                      </m:f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Picture 7" descr="D:\CHAISSON\BG314\IMAGES\AAAKLBS0.jpg"/>
          <p:cNvPicPr/>
          <p:nvPr/>
        </p:nvPicPr>
        <p:blipFill>
          <a:blip r:embed="rId1"/>
          <a:stretch/>
        </p:blipFill>
        <p:spPr>
          <a:xfrm>
            <a:off x="1600200" y="3743280"/>
            <a:ext cx="6019920" cy="311472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Dark Matter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causes the mass to keep on increasing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on’t see anything there. Thus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“dark”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Brown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White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trange matter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gravitational lensing (last lecture) to look for these “dark” object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:\CHAISSON\BG314\IMAGES\AAAKLBU0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50036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Heart of the Galax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3276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use IR and radio to pierce the dus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7" name="Picture 4" descr="D:\CHAISSON\BG314\IMAGES\AAAKLBW0.jpg"/>
          <p:cNvPicPr/>
          <p:nvPr/>
        </p:nvPicPr>
        <p:blipFill>
          <a:blip r:embed="rId1"/>
          <a:stretch/>
        </p:blipFill>
        <p:spPr>
          <a:xfrm>
            <a:off x="3962520" y="1676520"/>
            <a:ext cx="5029200" cy="3914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:\CHAISSON\BG314\IMAGES\AAAKLBW0.jpg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643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90" name="Line 3"/>
          <p:cNvSpPr/>
          <p:nvPr/>
        </p:nvSpPr>
        <p:spPr>
          <a:xfrm>
            <a:off x="3733920" y="45720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437360" y="474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2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7772400" y="327672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668360" y="2743200"/>
            <a:ext cx="6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5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121440" y="556272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ellar Mo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frared images of stars in the Galactic Center over 8 year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“</a:t>
            </a: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+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” is the radio source Sgr A*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Supermassive Black Hole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vent Horizon &lt; 0.05 AU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robably in the centers of all spiral galaxie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98" name="Picture 4" descr="C:\Documents and Settings\Tyler_Nordgren\My Documents\Astronomy classes\Fall 2001\movies\SgrA_sharp_big.gif"/>
          <p:cNvPicPr/>
          <p:nvPr/>
        </p:nvPicPr>
        <p:blipFill>
          <a:blip r:embed="rId1"/>
          <a:stretch/>
        </p:blipFill>
        <p:spPr>
          <a:xfrm>
            <a:off x="4648320" y="12193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4516920" y="5829480"/>
            <a:ext cx="20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ructure of our Galax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ts size and shap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stars and things move through it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and Dark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Galactic Cen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Documents and Settings\Tyler_Nordgren\My Documents\My Pictures\astro images\stars\mw7b_gleason.jpg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55926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us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eous Nebula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uls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lack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they all fit together to make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C:\Documents and Settings\Tyler_Nordgren\My Documents\My Pictures\astro images\images\allsky_mellinger_c2.jpg"/>
          <p:cNvPicPr/>
          <p:nvPr/>
        </p:nvPicPr>
        <p:blipFill>
          <a:blip r:embed="rId1"/>
          <a:stretch/>
        </p:blipFill>
        <p:spPr>
          <a:xfrm>
            <a:off x="76320" y="838080"/>
            <a:ext cx="8915400" cy="49532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6" name="Text Box 4"/>
          <p:cNvSpPr/>
          <p:nvPr/>
        </p:nvSpPr>
        <p:spPr>
          <a:xfrm>
            <a:off x="152280" y="5943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Optical emission from stars and nebula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2" name="Text Box 3"/>
          <p:cNvSpPr/>
          <p:nvPr/>
        </p:nvSpPr>
        <p:spPr>
          <a:xfrm>
            <a:off x="-186480" y="5715000"/>
            <a:ext cx="59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Far-Infrared dust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115" name="Picture 2" descr="C:\Documents and Settings\Tyler_Nordgren\My Documents\My Pictures\astro images\images\nHI_alt_skyview_big.jpg"/>
          <p:cNvPicPr/>
          <p:nvPr/>
        </p:nvPicPr>
        <p:blipFill>
          <a:blip r:embed="rId2"/>
          <a:srcRect l="4272" t="9305" r="4272" b="9099"/>
          <a:stretch/>
        </p:blipFill>
        <p:spPr>
          <a:xfrm>
            <a:off x="76320" y="990720"/>
            <a:ext cx="8915400" cy="46479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6" name="Text Box 4"/>
          <p:cNvSpPr/>
          <p:nvPr/>
        </p:nvSpPr>
        <p:spPr>
          <a:xfrm>
            <a:off x="-186480" y="5732640"/>
            <a:ext cx="64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Radio emission from neutral hydroge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Tyler_Nordgren\My Documents\My Pictures\astro images\images\xallsky_rosat110.jpg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6353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9" name="Text Box 4"/>
          <p:cNvSpPr/>
          <p:nvPr/>
        </p:nvSpPr>
        <p:spPr>
          <a:xfrm>
            <a:off x="-59040" y="5732640"/>
            <a:ext cx="58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X-ray emission from hot ga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7-01-26T10:14:56Z</dcterms:modified>
  <cp:revision>99</cp:revision>
  <dc:subject/>
  <dc:title>PowerPoint Presentation</dc:title>
</cp:coreProperties>
</file>