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F158-4313-48BB-8FCB-FCBFCAE2CD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157-290D-4A2D-B1FA-7F46833D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175-3608-4BDB-9BB0-D522F718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B33-63DB-46CE-A07B-38B8410C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0FA-6F69-4376-AC29-9B561AEB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51C7-D197-4148-B87C-D2E528B2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082A-139F-4950-81B0-908A8233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BA7C-E4E4-4F83-B68C-85601B11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E358-E1D6-4B3D-8F4B-F5FC398F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4B2C-10C8-4276-B1E2-D2104876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C18E-30DD-486B-A844-A853A7AA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9502-926C-450E-BF83-7711B200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31D-8A1B-4D48-B629-62AFB9E3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4FBB-95CE-4AFF-B1EE-3D518F0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9597-E44B-4CD2-9360-D745A85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795E-612B-42C1-8AFD-167F32E6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C99F-876E-4B8C-AE67-2F4D5FAA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C2E8-3138-4175-A228-7EDEF409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306-760C-4066-8D4B-9476D2B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C9A-EB8B-4737-8596-99691E88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795-9236-4ADE-86D4-450CB039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E2E-9CDA-4ADD-B2F9-4E158AC9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FC1-E257-4058-B3D3-B76DB0C2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195-236A-437B-8082-B94A302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596-7BAF-47B9-90EF-4B9FE196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374D-4FA8-4798-B917-1308645FC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FF62-7F1E-4DDD-8B97-6557757D4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14:56Z</dcterms:modified>
  <cp:revision>99</cp:revision>
  <dc:subject/>
  <dc:title>PowerPoint Presentation</dc:title>
</cp:coreProperties>
</file>