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25.gif" ContentType="image/gif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6.jpeg" ContentType="image/jpeg"/>
  <Override PartName="/ppt/media/image4.jpeg" ContentType="image/jpeg"/>
  <Override PartName="/ppt/media/image24.jpeg" ContentType="image/jpeg"/>
  <Override PartName="/ppt/media/image19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3.png" ContentType="image/png"/>
  <Override PartName="/ppt/media/image17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move the slid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CA491-7B2F-467D-9F29-72ECDD3385F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ur Galactic Hom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mma-ray emission from pulsars and black holes 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are We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aren’t at the center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ere is the center then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 point the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10 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 Are Her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lactic Distanc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 the distance to stars and clusters in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rigonometric parallax good out to 100 pc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e believe galaxy is ~30 kpc wid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we know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oscopic Parallax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any star in the sky, we KNOW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pparent Magnitude (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ectral Type  (O, B, A, F, G, K, M)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mbine spectral type and luminosity class to get absolute magnitude (M)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Lecture 7B: m – M give you distanc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xamp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eneb is A2Ia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.25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2  Blue sta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a  Supergian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-8.8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istance = 10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ndard Candles”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f we know how bright something should be, and we know how bright it looks  Distanc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R Lyra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epheid variab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Variable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RR Lyrae star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verage luminosity is a standard cand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lways ~ 100 x 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or Cepheid variables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tion period is proportional to averag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serve the period  find the luminosit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od to 15 Mpc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otation …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disk, rotate in the disk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Young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bjects in the halo, swarm in a halo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ld 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… </a:t>
            </a: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and Forma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icture the formation of the Sun: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pherical cloud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denses to disk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 in a plan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ort cloud spher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erhaps the same with the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issing Mas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variable stars we know distanc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rom Doppler shift we know rotation velocit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Kepler’s Third Law (again) to get mass of the Milky Wa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 = 1011 x Msu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ark Matter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at causes the mass to keep on increasing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on’t see anything there. Thus  “dark”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rown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lanet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White dwarf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ange matter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Use gravitational lensing (last lecture) to look for these “dark” object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Heart of the Galax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an use IR and radio to pierce the dust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200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5 pc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ellar Motion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nfrared images of stars in the Galactic Center over 8 year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“+” is the radio source Sgr A*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upermassive Black Hole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Event Horizon &lt; 0.05 AU!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robably in the centers of all spiral galaxies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oal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ructure of our Galaxy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Its size and shape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stars and things move through it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Mass and Dark Mat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Galactic Center.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The Milky Wa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St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Dus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aseous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en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Globular Cluste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Pulsar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Black Holes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How do they all fit together to make our galaxy?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Optical emission from stars and nebula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Near-Infrared stellar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Far-Infrared dust emission 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Radio emission from neutral hydrogen 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X-ray emission from hot gas 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47BC-B119-4751-AEF8-8E5CF02AE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D952-2063-42EE-8A17-FE57E96A5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34E-8511-4A84-AD3C-8E4A3B5C2E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9668-046E-42AC-B149-C54E2AA73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E56A8-2A6E-4208-B503-C19788B8D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5C55A-0642-4CF3-B293-6B59BB37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3FB9D-7FC2-432F-B8E7-1774F1957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76B34-84BA-418B-8F50-2D76CBCBA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D2738-E457-4723-89FF-54A68AEA3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5F994-B58C-4053-AF5C-195FAF251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1C27A-6F86-487B-8AE9-9FE13456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F93F-EEC0-498B-A9F9-DFC129785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EA5BC-5334-466E-9966-B12B1E009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27E3-F53F-4865-BCF9-267E2DE6D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3C85-732E-426C-99A5-AF83A8DD8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318CF-1C7F-453A-9FA9-911A02B69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52388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9121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0145-D88D-4EFC-A592-05BB80ED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ED7A9-8EC5-4D0B-BEF9-9FE8A620E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E0A2-AC8B-450C-A52C-B3F800575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67A33-AD93-4107-936B-BC7D82D2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4E532-A54F-4F60-9570-92F1E829F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8D7B-E3F9-4D87-B87A-24201A9FF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9121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7D833-AA23-4484-8F94-B1B37C0B8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52388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9121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E75A8-0405-46B6-84C0-93EEAC8B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6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7696080" y="5910120"/>
            <a:ext cx="1447920" cy="9478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42591-E872-44B8-9393-49F0A1C29E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Text Box 10"/>
          <p:cNvSpPr/>
          <p:nvPr/>
        </p:nvSpPr>
        <p:spPr>
          <a:xfrm>
            <a:off x="7911720" y="5958000"/>
            <a:ext cx="921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a0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8"/>
          <p:cNvSpPr/>
          <p:nvPr/>
        </p:nvSpPr>
        <p:spPr>
          <a:xfrm>
            <a:off x="8077320" y="6019920"/>
            <a:ext cx="106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3300"/>
                </a:solidFill>
                <a:latin typeface="Palatino"/>
              </a:rPr>
              <a:t>9B</a:t>
            </a:r>
            <a:endParaRPr b="0" lang="en-US" sz="4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44" name="Picture 17" descr="C:\Documents and Settings\Tyler_Nordgren\My Documents\My Pictures\astro images\images\MandM_Magrath.jpg"/>
          <p:cNvPicPr/>
          <p:nvPr/>
        </p:nvPicPr>
        <p:blipFill>
          <a:blip r:embed="rId2"/>
          <a:stretch/>
        </p:blipFill>
        <p:spPr>
          <a:xfrm>
            <a:off x="914400" y="685800"/>
            <a:ext cx="7696080" cy="5037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Click to edit the title text format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lick to edit the outline text forma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2" marL="11430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ird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3" marL="1600200" indent="-228600">
              <a:spcBef>
                <a:spcPts val="700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ur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4" marL="2057400" indent="-228600">
              <a:spcBef>
                <a:spcPts val="700"/>
              </a:spcBef>
              <a:buClr>
                <a:srgbClr val="ccccff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if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ix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eventh Outline Level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80DE3-ED03-4744-AD5B-64E8A0C8A84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00200" y="380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980720" y="5028840"/>
            <a:ext cx="579132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Palatino"/>
              </a:rPr>
              <a:t>Our Galactic Hom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C:\Documents and Settings\Tyler_Nordgren\My Documents\My Pictures\astro images\images\allsky1_egret.gif"/>
          <p:cNvPicPr/>
          <p:nvPr/>
        </p:nvPicPr>
        <p:blipFill>
          <a:blip r:embed="rId1"/>
          <a:srcRect l="1941" t="0" r="1941" b="0"/>
          <a:stretch/>
        </p:blipFill>
        <p:spPr>
          <a:xfrm>
            <a:off x="152280" y="990720"/>
            <a:ext cx="8839440" cy="464508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22" name="Text Box 3"/>
          <p:cNvSpPr/>
          <p:nvPr/>
        </p:nvSpPr>
        <p:spPr>
          <a:xfrm>
            <a:off x="-272520" y="573264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Gamma-ray emission from pulsars and black hole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NASA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Where are We?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33160" y="1447920"/>
            <a:ext cx="41907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aren’t at the center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ere is the center then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 point the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26" name="Picture 4" descr="D:\CHAISSON\BG314\IMAGES\AABJRIG0.jpg"/>
          <p:cNvPicPr/>
          <p:nvPr/>
        </p:nvPicPr>
        <p:blipFill>
          <a:blip r:embed="rId1"/>
          <a:srcRect l="1838" t="3656" r="4586" b="3051"/>
          <a:stretch/>
        </p:blipFill>
        <p:spPr>
          <a:xfrm>
            <a:off x="4952880" y="1523880"/>
            <a:ext cx="3886200" cy="388620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pic>
        <p:nvPicPr>
          <p:cNvPr id="127" name="Picture 5" descr="C:\Documents and Settings\Tyler_Nordgren\My Documents\My Pictures\astro images\images\m10_crednerkohle.jpg"/>
          <p:cNvPicPr/>
          <p:nvPr/>
        </p:nvPicPr>
        <p:blipFill>
          <a:blip r:embed="rId2"/>
          <a:stretch/>
        </p:blipFill>
        <p:spPr>
          <a:xfrm>
            <a:off x="685800" y="4038480"/>
            <a:ext cx="3200400" cy="2484720"/>
          </a:xfrm>
          <a:prstGeom prst="rect">
            <a:avLst/>
          </a:prstGeom>
          <a:ln w="9360">
            <a:solidFill>
              <a:srgbClr val="3333cc"/>
            </a:solidFill>
            <a:miter/>
          </a:ln>
        </p:spPr>
      </p:pic>
      <p:sp>
        <p:nvSpPr>
          <p:cNvPr id="128" name="Text Box 6"/>
          <p:cNvSpPr/>
          <p:nvPr/>
        </p:nvSpPr>
        <p:spPr>
          <a:xfrm>
            <a:off x="3777840" y="6172200"/>
            <a:ext cx="299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M10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Credner and Kohl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3" descr="D:\CHAISSON\BG314\IMAGES\bg14fg13.jpg"/>
          <p:cNvPicPr/>
          <p:nvPr/>
        </p:nvPicPr>
        <p:blipFill>
          <a:blip r:embed="rId1"/>
          <a:srcRect l="6608" t="16670" r="7527" b="23337"/>
          <a:stretch/>
        </p:blipFill>
        <p:spPr>
          <a:xfrm>
            <a:off x="1676520" y="228600"/>
            <a:ext cx="5638680" cy="52070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31" name="Picture 4" descr="D:\CHAISSON\BG314\IMAGES\AAAKLAV0.jpg"/>
          <p:cNvPicPr/>
          <p:nvPr/>
        </p:nvPicPr>
        <p:blipFill>
          <a:blip r:embed="rId2"/>
          <a:stretch/>
        </p:blipFill>
        <p:spPr>
          <a:xfrm>
            <a:off x="1981080" y="4933800"/>
            <a:ext cx="4800600" cy="1924200"/>
          </a:xfrm>
          <a:prstGeom prst="rect">
            <a:avLst/>
          </a:prstGeom>
          <a:ln w="0">
            <a:noFill/>
          </a:ln>
        </p:spPr>
      </p:pic>
      <p:sp>
        <p:nvSpPr>
          <p:cNvPr id="132" name="Oval 5"/>
          <p:cNvSpPr/>
          <p:nvPr/>
        </p:nvSpPr>
        <p:spPr>
          <a:xfrm>
            <a:off x="5562720" y="2743200"/>
            <a:ext cx="152280" cy="15228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3" name="Line 6"/>
          <p:cNvSpPr/>
          <p:nvPr/>
        </p:nvSpPr>
        <p:spPr>
          <a:xfrm flipV="1">
            <a:off x="5715000" y="1905120"/>
            <a:ext cx="457200" cy="761760"/>
          </a:xfrm>
          <a:prstGeom prst="line">
            <a:avLst/>
          </a:prstGeom>
          <a:ln w="9360">
            <a:solidFill>
              <a:srgbClr val="00cc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4" name="Text Box 7"/>
          <p:cNvSpPr/>
          <p:nvPr/>
        </p:nvSpPr>
        <p:spPr>
          <a:xfrm>
            <a:off x="5607720" y="1465200"/>
            <a:ext cx="1806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Palatino"/>
              </a:rPr>
              <a:t>You Are Her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3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39" name="Text Box 4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Picture 5" descr="C:\Documents and Settings\Tyler_Nordgren\My Documents\My Pictures\astro images\galaxies\ngc4565_mclaughlin.jpg"/>
          <p:cNvPicPr/>
          <p:nvPr/>
        </p:nvPicPr>
        <p:blipFill>
          <a:blip r:embed="rId2"/>
          <a:stretch/>
        </p:blipFill>
        <p:spPr>
          <a:xfrm>
            <a:off x="1219320" y="304920"/>
            <a:ext cx="6350040" cy="5367240"/>
          </a:xfrm>
          <a:prstGeom prst="rect">
            <a:avLst/>
          </a:prstGeom>
          <a:ln w="0">
            <a:noFill/>
          </a:ln>
        </p:spPr>
      </p:pic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alactic Distanc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746748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we know the distance to stars and clusters in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rigonometric parallax good out to 100 pc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e believe galaxy is ~30 kpc wid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How do we know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pectroscopic Parallax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you know how luminous a star REALLY is and how bright it looks from Earth, you can determine how far away it must be to look that fain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any star in the sky, we KNOW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pparent Magnitude (</a:t>
            </a: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ectral Type  (O, B, A, F, G, K, M)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0840" indent="-26568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Luminosity Class (Main Sequence, Giant, etc…). These are denoted by a roman numeral (V, III, I,…)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ombine spectral type and luminosity class to get absolute magnitude (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)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18960" indent="-31896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Lecture 7B: </a:t>
            </a:r>
            <a:r>
              <a:rPr b="0" lang="en-US" sz="2800" spc="-1" strike="noStrike">
                <a:solidFill>
                  <a:srgbClr val="00cc99"/>
                </a:solidFill>
                <a:latin typeface="Palatino"/>
              </a:rPr>
              <a:t>m – M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give you distanc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5" descr="C:\Documents and Settings\Tyler_Nordgren\My Documents\My Pictures\astro images\stars\H-Rdiagram.gif"/>
          <p:cNvPicPr/>
          <p:nvPr/>
        </p:nvPicPr>
        <p:blipFill>
          <a:blip r:embed="rId1"/>
          <a:stretch/>
        </p:blipFill>
        <p:spPr>
          <a:xfrm>
            <a:off x="228600" y="1828800"/>
            <a:ext cx="7162920" cy="457848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3124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Example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724280" y="304560"/>
            <a:ext cx="4191120" cy="2438280"/>
          </a:xfrm>
          <a:prstGeom prst="rect">
            <a:avLst/>
          </a:pr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eneb is A2Ia star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1.25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2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Blue star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a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Supergiant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cc99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Palatino"/>
              </a:rPr>
              <a:t>M = -8.8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4"/>
              <p:cNvSpPr txBox="1"/>
              <p:nvPr/>
            </p:nvSpPr>
            <p:spPr>
              <a:xfrm>
                <a:off x="5334120" y="3886200"/>
                <a:ext cx="356220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−</m:t>
                    </m:r>
                    <m:r>
                      <m:t xml:space="preserve">M</m:t>
                    </m:r>
                    <m:r>
                      <m:t xml:space="preserve">=</m:t>
                    </m:r>
                    <m:r>
                      <m:t xml:space="preserve">5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log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istance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0pc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2" name="Text Box 6"/>
          <p:cNvSpPr/>
          <p:nvPr/>
        </p:nvSpPr>
        <p:spPr>
          <a:xfrm>
            <a:off x="1157760" y="5275440"/>
            <a:ext cx="2405880" cy="398880"/>
          </a:xfrm>
          <a:prstGeom prst="rect">
            <a:avLst/>
          </a:prstGeom>
          <a:solidFill>
            <a:srgbClr val="0000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Distance = 10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andard Candle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“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tandard Candles”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f we know how bright something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should be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, and we know how bright it </a:t>
            </a:r>
            <a:r>
              <a:rPr b="0" lang="en-US" sz="2800" spc="-1" strike="noStrike">
                <a:solidFill>
                  <a:srgbClr val="ffff00"/>
                </a:solidFill>
                <a:latin typeface="Palatino"/>
              </a:rPr>
              <a:t>looks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</a:t>
            </a:r>
            <a:r>
              <a:rPr b="1" lang="en-US" sz="2800" spc="-1" strike="noStrike">
                <a:solidFill>
                  <a:srgbClr val="ccccff"/>
                </a:solidFill>
                <a:latin typeface="Palatino"/>
              </a:rPr>
              <a:t>Distanc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Variable star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RR Lyra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epheid variable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56" name="Picture 4" descr="D:\CHAISSON\BG314\IMAGES\AAAKLBA0a.jpg"/>
          <p:cNvPicPr/>
          <p:nvPr/>
        </p:nvPicPr>
        <p:blipFill>
          <a:blip r:embed="rId1"/>
          <a:srcRect l="2743" t="11997" r="4489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pic>
        <p:nvPicPr>
          <p:cNvPr id="157" name="Picture 5" descr="D:\CHAISSON\BG314\IMAGES\AAAKLBA0b.jpg"/>
          <p:cNvPicPr/>
          <p:nvPr/>
        </p:nvPicPr>
        <p:blipFill>
          <a:blip r:embed="rId2"/>
          <a:srcRect l="1499" t="11997" r="4241" b="11203"/>
          <a:stretch/>
        </p:blipFill>
        <p:spPr>
          <a:xfrm>
            <a:off x="3962520" y="3124080"/>
            <a:ext cx="4724280" cy="2438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Variable Star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3886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RR Lyrae star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verage luminosity is a standard candl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Always ~ 100 x Sun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or Cepheid variables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ulsation period is proportional to averag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698400" indent="-2685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bserve the period </a:t>
            </a:r>
            <a:r>
              <a:rPr b="0" lang="en-US" sz="24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 find the luminosity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2200" indent="-3222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ood to 15 Mpc!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1" name="Picture 4" descr="D:\CHAISSON\BG314\IMAGES\AAAKLBE0.jpg"/>
          <p:cNvPicPr/>
          <p:nvPr/>
        </p:nvPicPr>
        <p:blipFill>
          <a:blip r:embed="rId1"/>
          <a:stretch/>
        </p:blipFill>
        <p:spPr>
          <a:xfrm>
            <a:off x="4343400" y="1981080"/>
            <a:ext cx="4610160" cy="302256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C:\Documents and Settings\Tyler_Nordgren\My Documents\My Pictures\astro images\images\MandM_Magrath.jpg"/>
          <p:cNvPicPr/>
          <p:nvPr/>
        </p:nvPicPr>
        <p:blipFill>
          <a:blip r:embed="rId1"/>
          <a:stretch/>
        </p:blipFill>
        <p:spPr>
          <a:xfrm>
            <a:off x="380880" y="533520"/>
            <a:ext cx="8534520" cy="558612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D:\CHAISSON\BG314\IMAGES\AAAKLBH0.jpg"/>
          <p:cNvPicPr/>
          <p:nvPr/>
        </p:nvPicPr>
        <p:blipFill>
          <a:blip r:embed="rId1"/>
          <a:srcRect l="1062" t="2815" r="3193" b="5524"/>
          <a:stretch/>
        </p:blipFill>
        <p:spPr>
          <a:xfrm>
            <a:off x="609480" y="533520"/>
            <a:ext cx="8001000" cy="577836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Rotation …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3160" y="1523520"/>
            <a:ext cx="3276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disk, rotate in the disk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Nebula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Young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5800" indent="-32580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bjects in the halo, swarm in a halo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ld sta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05600" indent="-27144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67" name="Picture 4" descr="D:\CHAISSON\BG314\IMAGES\AAAKLBK0.jpg"/>
          <p:cNvPicPr/>
          <p:nvPr/>
        </p:nvPicPr>
        <p:blipFill>
          <a:blip r:embed="rId1"/>
          <a:stretch/>
        </p:blipFill>
        <p:spPr>
          <a:xfrm>
            <a:off x="4267080" y="1600200"/>
            <a:ext cx="4152960" cy="4165560"/>
          </a:xfrm>
          <a:prstGeom prst="rect">
            <a:avLst/>
          </a:prstGeom>
          <a:ln w="0">
            <a:noFill/>
          </a:ln>
        </p:spPr>
      </p:pic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… </a:t>
            </a: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and Forma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80520" y="1447920"/>
            <a:ext cx="396252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icture the formation of the Sun: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pherical cloud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denses to disk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 in a plane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20720" indent="-27720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Oort cloud sphere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2640" indent="-33264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erhaps the same with the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71" name="Picture 4" descr="D:\CHAISSON\BG314\IMAGES\AAAKLBL0.jpg"/>
          <p:cNvPicPr/>
          <p:nvPr/>
        </p:nvPicPr>
        <p:blipFill>
          <a:blip r:embed="rId1"/>
          <a:stretch/>
        </p:blipFill>
        <p:spPr>
          <a:xfrm>
            <a:off x="4572000" y="1371600"/>
            <a:ext cx="4305240" cy="4191120"/>
          </a:xfrm>
          <a:prstGeom prst="rect">
            <a:avLst/>
          </a:prstGeom>
          <a:ln w="0">
            <a:noFill/>
          </a:ln>
        </p:spPr>
      </p:pic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Missing Mas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variable stars we know distance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From Doppler shift we know rotation velocit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Kepler’s Third Law (again) to get mass of the Milky Wa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M = 10</a:t>
            </a:r>
            <a:r>
              <a:rPr b="1" lang="en-US" sz="2800" spc="-1" strike="noStrike" baseline="30000">
                <a:solidFill>
                  <a:srgbClr val="00cc99"/>
                </a:solidFill>
                <a:latin typeface="Palatino"/>
              </a:rPr>
              <a:t>11</a:t>
            </a:r>
            <a:r>
              <a:rPr b="1" lang="en-US" sz="2800" spc="-1" strike="noStrike">
                <a:solidFill>
                  <a:srgbClr val="00cc99"/>
                </a:solidFill>
                <a:latin typeface="Palatino"/>
              </a:rPr>
              <a:t> x M</a:t>
            </a:r>
            <a:r>
              <a:rPr b="1" lang="en-US" sz="2800" spc="-1" strike="noStrike" baseline="-25000">
                <a:solidFill>
                  <a:srgbClr val="00cc99"/>
                </a:solidFill>
                <a:latin typeface="Palatino"/>
              </a:rPr>
              <a:t>sun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grpSp>
        <p:nvGrpSpPr>
          <p:cNvPr id="175" name="Group 4"/>
          <p:cNvGrpSpPr/>
          <p:nvPr/>
        </p:nvGrpSpPr>
        <p:grpSpPr>
          <a:xfrm>
            <a:off x="2362320" y="3809880"/>
            <a:ext cx="2971800" cy="2471760"/>
            <a:chOff x="2362320" y="3809880"/>
            <a:chExt cx="2971800" cy="2471760"/>
          </a:xfrm>
        </p:grpSpPr>
        <mc:AlternateContent>
          <mc:Choice xmlns:a14="http://schemas.microsoft.com/office/drawing/2010/main" Requires="a14">
            <p:sp>
              <p:nvSpPr>
                <p:cNvPr id="176" name="Object 5"/>
                <p:cNvSpPr txBox="1"/>
                <p:nvPr/>
              </p:nvSpPr>
              <p:spPr>
                <a:xfrm>
                  <a:off x="2362320" y="3809880"/>
                  <a:ext cx="1936800" cy="755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∝</m:t>
                      </m:r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77" name="Object 6"/>
                <p:cNvSpPr txBox="1"/>
                <p:nvPr/>
              </p:nvSpPr>
              <p:spPr>
                <a:xfrm>
                  <a:off x="2362320" y="4724280"/>
                  <a:ext cx="2971800" cy="1557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P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  <m:f>
                        <m:num>
                          <m:r>
                            <m:t xml:space="preserve">4</m:t>
                          </m:r>
                          <m:sSup>
                            <m:e>
                              <m:r>
                                <m:t xml:space="preserve">π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GM</m:t>
                          </m:r>
                        </m:den>
                      </m:f>
                      <m:sSup>
                        <m:e>
                          <m:r>
                            <m:t xml:space="preserve">a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" name="Picture 7" descr="D:\CHAISSON\BG314\IMAGES\AAAKLBS0.jpg"/>
          <p:cNvPicPr/>
          <p:nvPr/>
        </p:nvPicPr>
        <p:blipFill>
          <a:blip r:embed="rId1"/>
          <a:stretch/>
        </p:blipFill>
        <p:spPr>
          <a:xfrm>
            <a:off x="1600200" y="3743280"/>
            <a:ext cx="6019920" cy="31147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Dark Matter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What causes the mass to keep on increasing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on’t see anything there. Thus </a:t>
            </a:r>
            <a:r>
              <a:rPr b="0" lang="en-US" sz="2800" spc="-1" strike="noStrike">
                <a:solidFill>
                  <a:srgbClr val="cccc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 “dark”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Brown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lanet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White dwarfs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ccccff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Strange matter?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Use gravitational lensing (last lecture) to look for these “dark” objects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D:\CHAISSON\BG314\IMAGES\AAAKLBU0.jpg"/>
          <p:cNvPicPr/>
          <p:nvPr/>
        </p:nvPicPr>
        <p:blipFill>
          <a:blip r:embed="rId1"/>
          <a:stretch/>
        </p:blipFill>
        <p:spPr>
          <a:xfrm>
            <a:off x="2057400" y="1143000"/>
            <a:ext cx="5105520" cy="5003640"/>
          </a:xfrm>
          <a:prstGeom prst="rect">
            <a:avLst/>
          </a:prstGeom>
          <a:ln w="0">
            <a:noFill/>
          </a:ln>
        </p:spPr>
      </p:pic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Heart of the Galax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160" y="1904760"/>
            <a:ext cx="3276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ecause of all the dust in the Galaxy, we can’t see its center in visible ligh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Can use IR and radio to pierce the dust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87" name="Picture 4" descr="D:\CHAISSON\BG314\IMAGES\AAAKLBW0.jpg"/>
          <p:cNvPicPr/>
          <p:nvPr/>
        </p:nvPicPr>
        <p:blipFill>
          <a:blip r:embed="rId1"/>
          <a:stretch/>
        </p:blipFill>
        <p:spPr>
          <a:xfrm>
            <a:off x="3962520" y="1676520"/>
            <a:ext cx="5029200" cy="391464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D:\CHAISSON\BG314\IMAGES\AAAKLBW0.jpg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6438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190" name="Line 3"/>
          <p:cNvSpPr/>
          <p:nvPr/>
        </p:nvSpPr>
        <p:spPr>
          <a:xfrm>
            <a:off x="3733920" y="457200"/>
            <a:ext cx="266688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1" name="Text Box 4"/>
          <p:cNvSpPr/>
          <p:nvPr/>
        </p:nvSpPr>
        <p:spPr>
          <a:xfrm>
            <a:off x="4437360" y="474840"/>
            <a:ext cx="9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200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2" name="Line 5"/>
          <p:cNvSpPr/>
          <p:nvPr/>
        </p:nvSpPr>
        <p:spPr>
          <a:xfrm>
            <a:off x="7772400" y="3276720"/>
            <a:ext cx="533520" cy="0"/>
          </a:xfrm>
          <a:prstGeom prst="line">
            <a:avLst/>
          </a:prstGeom>
          <a:ln w="936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3" name="Text Box 6"/>
          <p:cNvSpPr/>
          <p:nvPr/>
        </p:nvSpPr>
        <p:spPr>
          <a:xfrm>
            <a:off x="7668360" y="274320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Palatino"/>
              </a:rPr>
              <a:t>5 p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4" name="Text Box 7"/>
          <p:cNvSpPr/>
          <p:nvPr/>
        </p:nvSpPr>
        <p:spPr>
          <a:xfrm>
            <a:off x="6121440" y="5562720"/>
            <a:ext cx="283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agittarius A* - Sgr A*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Stellar Motion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41911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Infrared images of stars in the Galactic Center over 8 year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The “</a:t>
            </a: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+</a:t>
            </a: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” is the radio source Sgr A*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Conclusion: Must be over one million solar masses within less than 1/5 of a light year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ffff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Palatino"/>
              </a:rPr>
              <a:t>Supermassive Black Hole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Event Horizon &lt; 0.05 AU!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  <a:p>
            <a:pPr marL="329040" indent="-329040">
              <a:spcBef>
                <a:spcPts val="601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ccff"/>
                </a:solidFill>
                <a:latin typeface="Palatino"/>
              </a:rPr>
              <a:t>Probably in the centers of all spiral galaxies.</a:t>
            </a:r>
            <a:endParaRPr b="0" lang="en-US" sz="2400" spc="-1" strike="noStrike">
              <a:solidFill>
                <a:srgbClr val="ccccff"/>
              </a:solidFill>
              <a:latin typeface="Palatino"/>
            </a:endParaRPr>
          </a:p>
        </p:txBody>
      </p:sp>
      <p:pic>
        <p:nvPicPr>
          <p:cNvPr id="198" name="Picture 4" descr="C:\Documents and Settings\Tyler_Nordgren\My Documents\Astronomy classes\Fall 2001\movies\SgrA_sharp_big.gif"/>
          <p:cNvPicPr/>
          <p:nvPr/>
        </p:nvPicPr>
        <p:blipFill>
          <a:blip r:embed="rId1"/>
          <a:stretch/>
        </p:blipFill>
        <p:spPr>
          <a:xfrm>
            <a:off x="4648320" y="1219320"/>
            <a:ext cx="4495680" cy="4495680"/>
          </a:xfrm>
          <a:prstGeom prst="rect">
            <a:avLst/>
          </a:prstGeom>
          <a:ln w="0">
            <a:noFill/>
          </a:ln>
        </p:spPr>
      </p:pic>
      <p:sp>
        <p:nvSpPr>
          <p:cNvPr id="199" name="Text Box 5"/>
          <p:cNvSpPr/>
          <p:nvPr/>
        </p:nvSpPr>
        <p:spPr>
          <a:xfrm>
            <a:off x="4516920" y="5829480"/>
            <a:ext cx="209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Copyright Eckart &amp; Genzel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Goals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ructure of our Galaxy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Its size and shape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stars and things move through it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Mass and Dark Mat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The Galactic Center.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C:\Documents and Settings\Tyler_Nordgren\My Documents\My Pictures\astro images\stars\mw7b_gleason.jpg"/>
          <p:cNvPicPr/>
          <p:nvPr/>
        </p:nvPicPr>
        <p:blipFill>
          <a:blip r:embed="rId1"/>
          <a:stretch/>
        </p:blipFill>
        <p:spPr>
          <a:xfrm>
            <a:off x="380880" y="228600"/>
            <a:ext cx="8382240" cy="55926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Palatino"/>
              </a:rPr>
              <a:t>The Milky Way</a:t>
            </a:r>
            <a:endParaRPr b="1" lang="en-US" sz="4400" spc="-1" strike="noStrike">
              <a:solidFill>
                <a:srgbClr val="ff3300"/>
              </a:solidFill>
              <a:latin typeface="Palatin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St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Dust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aseous Nebulae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Open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Globular Cluste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Pulsar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Black Holes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ccccff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ccff"/>
                </a:solidFill>
                <a:latin typeface="Palatino"/>
              </a:rPr>
              <a:t>How do they all fit together to make our galaxy?</a:t>
            </a:r>
            <a:endParaRPr b="0" lang="en-US" sz="2800" spc="-1" strike="noStrike">
              <a:solidFill>
                <a:srgbClr val="ccccff"/>
              </a:solidFill>
              <a:latin typeface="Palatino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6" descr="C:\Documents and Settings\Tyler_Nordgren\My Documents\My Pictures\astro images\images\allsky_mellinger_c2.jpg"/>
          <p:cNvPicPr/>
          <p:nvPr/>
        </p:nvPicPr>
        <p:blipFill>
          <a:blip r:embed="rId1"/>
          <a:stretch/>
        </p:blipFill>
        <p:spPr>
          <a:xfrm>
            <a:off x="76320" y="838080"/>
            <a:ext cx="8915400" cy="49532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6" name="Text Box 4"/>
          <p:cNvSpPr/>
          <p:nvPr/>
        </p:nvSpPr>
        <p:spPr>
          <a:xfrm>
            <a:off x="152280" y="594360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Optical emission from stars and nebula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Tyler_Nordgren\My Documents\My Pictures\astro images\images\n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1484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09" name="Text Box 3"/>
          <p:cNvSpPr/>
          <p:nvPr/>
        </p:nvSpPr>
        <p:spPr>
          <a:xfrm>
            <a:off x="-219960" y="5715000"/>
            <a:ext cx="638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Near-Infrared stellar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2" name="Text Box 3"/>
          <p:cNvSpPr/>
          <p:nvPr/>
        </p:nvSpPr>
        <p:spPr>
          <a:xfrm>
            <a:off x="-186480" y="5715000"/>
            <a:ext cx="596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Far-Infrared dust emissio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E. L. Wright and COBE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3" descr="C:\Documents and Settings\Tyler_Nordgren\My Documents\My Pictures\astro images\images\fir_cobe.jpg"/>
          <p:cNvPicPr/>
          <p:nvPr/>
        </p:nvPicPr>
        <p:blipFill>
          <a:blip r:embed="rId1"/>
          <a:stretch/>
        </p:blipFill>
        <p:spPr>
          <a:xfrm>
            <a:off x="76320" y="990720"/>
            <a:ext cx="8915400" cy="463680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pic>
        <p:nvPicPr>
          <p:cNvPr id="115" name="Picture 2" descr="C:\Documents and Settings\Tyler_Nordgren\My Documents\My Pictures\astro images\images\nHI_alt_skyview_big.jpg"/>
          <p:cNvPicPr/>
          <p:nvPr/>
        </p:nvPicPr>
        <p:blipFill>
          <a:blip r:embed="rId2"/>
          <a:srcRect l="4272" t="9305" r="4272" b="9099"/>
          <a:stretch/>
        </p:blipFill>
        <p:spPr>
          <a:xfrm>
            <a:off x="76320" y="990720"/>
            <a:ext cx="8915400" cy="46479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6" name="Text Box 4"/>
          <p:cNvSpPr/>
          <p:nvPr/>
        </p:nvSpPr>
        <p:spPr>
          <a:xfrm>
            <a:off x="-186480" y="5732640"/>
            <a:ext cx="6421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Radio emission from neutral hydrogen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J. Dickey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C:\Documents and Settings\Tyler_Nordgren\My Documents\My Pictures\astro images\images\xallsky_rosat110.jpg"/>
          <p:cNvPicPr/>
          <p:nvPr/>
        </p:nvPicPr>
        <p:blipFill>
          <a:blip r:embed="rId1"/>
          <a:stretch/>
        </p:blipFill>
        <p:spPr>
          <a:xfrm>
            <a:off x="152280" y="990720"/>
            <a:ext cx="8839440" cy="4635360"/>
          </a:xfrm>
          <a:prstGeom prst="rect">
            <a:avLst/>
          </a:prstGeom>
          <a:ln w="9360">
            <a:solidFill>
              <a:srgbClr val="00cc99"/>
            </a:solidFill>
            <a:miter/>
          </a:ln>
        </p:spPr>
      </p:pic>
      <p:sp>
        <p:nvSpPr>
          <p:cNvPr id="119" name="Text Box 4"/>
          <p:cNvSpPr/>
          <p:nvPr/>
        </p:nvSpPr>
        <p:spPr>
          <a:xfrm>
            <a:off x="-59040" y="5732640"/>
            <a:ext cx="58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Palatino"/>
              </a:rPr>
              <a:t>X-ray emission from hot gas </a:t>
            </a:r>
            <a:r>
              <a:rPr b="0" lang="en-US" sz="1200" spc="-1" strike="noStrike">
                <a:solidFill>
                  <a:srgbClr val="ccccff"/>
                </a:solidFill>
                <a:latin typeface="Palatino"/>
              </a:rPr>
              <a:t>– copyright S. Digel and ROSAT</a:t>
            </a:r>
            <a:endParaRPr b="0" lang="en-US" sz="1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14T18:19:29Z</dcterms:created>
  <dc:creator>Julie A. Rathbun</dc:creator>
  <dc:description/>
  <dc:language>en-US</dc:language>
  <cp:lastModifiedBy>Legion</cp:lastModifiedBy>
  <dcterms:modified xsi:type="dcterms:W3CDTF">2017-01-26T10:14:56Z</dcterms:modified>
  <cp:revision>99</cp:revision>
  <dc:subject/>
  <dc:title>PowerPoint Presentation</dc:title>
</cp:coreProperties>
</file>