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E9006-6493-49A3-9524-30F229640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C4B6C-3792-4332-9640-EA301A272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03F-DC63-455D-BE0C-041FD6DA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547F-AD99-405F-B6EA-F6FC598C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E063-1F29-4E15-BA5D-E113E9FF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534-6152-4479-AD40-ACBDB373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AA35-22A9-4A79-A04D-BC300657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38D9-E64F-4027-BE64-CF46A9CF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FE54-D252-41E6-8B1B-1196E1F3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72A3-4E48-4D51-A9A0-34E7A049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E640-165D-4B98-8F8F-F9684F67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EE80-4F3E-43B6-901A-9A4E0E67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FFDF-0DEE-4CF0-AD00-41875B83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70A-9EF0-4060-B685-39AD840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7814-BB25-4114-B628-5FE09806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6836-B757-45BD-B22C-8B1E58B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7FF4-EC8B-4188-A3E1-A5E5C17C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05A2-39F5-40A9-B235-69D5292F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A4EB-B72F-42ED-BDE0-C3D0B031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817-74D4-4F21-907B-81D268AB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C82-C120-428C-AA39-BC373C1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CB76-1183-4D81-8440-FE65E011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395-474C-4967-85A2-014FA33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D71-953A-46FE-877C-FA5A9206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33F-A67D-4C87-B403-EFD6B85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EDCD-1639-42B5-B454-5F760CA8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01CC7-C0C5-46E5-8C1C-33CA655E7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F2070-B08F-4BA3-845E-0DD2BB7D3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7-01-26T10:14:13Z</dcterms:modified>
  <cp:revision>20</cp:revision>
  <dc:subject/>
  <dc:title>How are images of the Sun taken?</dc:title>
</cp:coreProperties>
</file>