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5C88B-51B9-49A0-8F55-F0DCA9DF8C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F88FB-8941-4F39-AA43-12087D3AF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4A6-90B9-49D1-9708-192805FB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04C-5A5B-40B9-9646-0EA274DB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37F-F87A-4A8F-A971-C281EFB5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B0C-4A7C-4105-8F0C-ED4183F2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49EA-060F-478B-8418-2188FE28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39B3-C56A-477C-826E-8E45B816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C643-C52A-4733-BD74-2C8081C2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3FCD-3BE6-40E9-96C2-25D53146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CB76-1C6C-4FF3-841F-BE1E8F83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7673-F0FA-40C2-9637-3C06532C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DF49-F82B-4D4E-9FA7-941AF40F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AC8-19E5-4D32-A803-9E3641A5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7887-B244-4F9B-98E7-6DD47D2C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8BF4-3E31-4AA6-BF95-E8D3AEF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B921-5B40-4C51-861E-5CF5ACFC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761E-75FA-4BED-95C2-93110D7E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C269-1469-4AEE-944E-412049B2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1F7-88FB-4E4B-84AB-A5DA6F16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D85-B1A6-43FF-9FD4-7EA81137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3D3-F6F8-4592-B3DB-938BF2DF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44F-BB0A-4C35-B2E2-CDB05185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860-E13A-4730-8091-37D15AAA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224-4B4D-4691-9BBE-C827DE98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8CD-8DAD-458C-B01A-D73C846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EDB3F-A169-498C-B159-D83F4C8B3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EDB1A-F541-44DB-B8A6-E6117DA77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7-01-26T10:14:13Z</dcterms:modified>
  <cp:revision>20</cp:revision>
  <dc:subject/>
  <dc:title>How are images of the Sun taken?</dc:title>
</cp:coreProperties>
</file>