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FB7A4-0740-4409-B073-9683CD50AA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6CD36-C302-4388-BED3-C0E3AC832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’ spots on the Sun's surface that are cooler than the surrounding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= 3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area= 5800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about the size of Earth or even bigger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ill really hot, just not as hot as the rest of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move across Sun’s surface as it rotates_x0010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verage-size yellow star, just like billions of other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of the solar system, Earth orbits aroun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about 4.6 billion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a mass of 2x1030 kg or  330,000 Earths, that’s 99.8% of the mass in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1000-3800-4C9C-9636-487C4775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614-1FC0-4008-AB7B-9F1F5688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971-B261-4760-BF60-75129502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FF6A-885A-4078-9B5E-0551332B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F0D1-0A69-455B-B294-BE3B24BF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1991-ADFB-4B1E-8B59-1C21B1AC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4B7D-4D1E-4006-917E-FA6A51BC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A161-06FE-4459-8064-628863E1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F2F7-6805-427F-A1E6-95874DE5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7596-55BE-4FAD-A08A-DAC026AB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D661-70EE-4C03-9486-03F61EC3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32D-F9E6-40C1-8077-D4102E98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9626-1A30-4067-8A0F-8072006B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A528-A188-4BA4-874F-A0CA39C2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94A2-5438-449B-B30D-C7F91814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BED5-826E-4CA6-852A-E0A78CFD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9EAE-BA92-4F32-A1AC-4F3D0BBB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5246-5133-43AB-8440-1FC05035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5C0B-7D47-4917-ACC2-D11F12CB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CE91-559A-44D1-B579-06DCAF16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EF7-FC06-4C2B-BBF7-E6B9EDF0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470-BA13-4BDD-9C4E-20A5A952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8634-3976-43A3-8401-7EFB55DB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6130-9CA2-4364-AA8A-AD1CCE30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4C9EF-72BD-4E23-89D2-8757DFF7C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AA64D3-0F71-4FE5-B779-59C1A9658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THE SUN: </a:t>
            </a:r>
            <a:br>
              <a:rPr sz="4400"/>
            </a:b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AWESOME AND A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Boston University PHO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Outreach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2280" y="129528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ark’ spots on the Sun's surface that are cooler than the surrounding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emperature of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spot= 3800 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rrounding area= 5800 K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027" descr="Swedish%20sunspots1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5287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about 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12193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can be about the size of Earth or even bigger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come in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are still really hot, just not as hot as the rest of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move across Sun’s surface as it rotates_x0010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800px-Sunspot_with_Earth_Comparison.jpg"/>
          <p:cNvPicPr/>
          <p:nvPr/>
        </p:nvPicPr>
        <p:blipFill>
          <a:blip r:embed="rId1"/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Magnetic Activity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Sunspots are caused by strong magnetic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agnetic “ropes” break through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At each end of the rop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s a sunsp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t is the Sun’s magnetic activity that causes solar storm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flare.jpg"/>
          <p:cNvPicPr/>
          <p:nvPr/>
        </p:nvPicPr>
        <p:blipFill>
          <a:blip r:embed="rId1"/>
          <a:stretch/>
        </p:blipFill>
        <p:spPr>
          <a:xfrm>
            <a:off x="457200" y="1598760"/>
            <a:ext cx="3124080" cy="47257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How do we know all of this about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3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Tele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look at the Sun through a telescope with special fil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atell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re are also several spacecraft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re observing the Sun: SOHO, TRACE, STER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se satellites look at the Sun in 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ifferent kinds of light (ultraviolet, visibl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rared, X-ray) to see everything that 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oing 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ny cameras on telescopes need to u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caronagraph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where a disk is used to bloc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ut the Sun’s surface so we can see all the di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ff that the Sun’s brightness would drow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http://solar-heliospheric.engin.umich.edu/hjenning/fullhalo_c3_big.gif"/>
          <p:cNvPicPr/>
          <p:nvPr/>
        </p:nvPicPr>
        <p:blipFill>
          <a:blip r:embed="rId1"/>
          <a:stretch/>
        </p:blipFill>
        <p:spPr>
          <a:xfrm>
            <a:off x="5562720" y="28195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n average-size yellow star, just like billions of others in the univer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enter of the solar system, Earth orbits around 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rmed about 4.6 billion years ag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sun has a mass of 2x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30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kg or  330,000 Earths, that’s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99.8% of the mass in the solar syst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sun2.preview.jpg"/>
          <p:cNvPicPr/>
          <p:nvPr/>
        </p:nvPicPr>
        <p:blipFill>
          <a:blip r:embed="rId1"/>
          <a:stretch/>
        </p:blipFill>
        <p:spPr>
          <a:xfrm>
            <a:off x="4637160" y="1676520"/>
            <a:ext cx="4125960" cy="3992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391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un’s Energy &amp;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441972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un is the source of all of the energy on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feel this energy in the form of heat on your skin on a sunny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267080" cy="3679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4105800" y="6248520"/>
            <a:ext cx="497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5"/>
          <p:cNvSpPr/>
          <p:nvPr/>
        </p:nvSpPr>
        <p:spPr>
          <a:xfrm>
            <a:off x="1143000" y="4219560"/>
            <a:ext cx="6858000" cy="24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2280" y="1066680"/>
            <a:ext cx="87631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Energy is produced in the Sun’s core through a process known a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nuclear fus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e Sun’s nuclear fusion occurs when four hydrogen nuclei combine to make helium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1600200" y="4317840"/>
            <a:ext cx="6323760" cy="2276280"/>
            <a:chOff x="1600200" y="4317840"/>
            <a:chExt cx="6323760" cy="2276280"/>
          </a:xfrm>
        </p:grpSpPr>
        <p:sp>
          <p:nvSpPr>
            <p:cNvPr id="104" name="Oval 5"/>
            <p:cNvSpPr/>
            <p:nvPr/>
          </p:nvSpPr>
          <p:spPr>
            <a:xfrm>
              <a:off x="1600200" y="48002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"/>
            <p:cNvSpPr/>
            <p:nvPr/>
          </p:nvSpPr>
          <p:spPr>
            <a:xfrm>
              <a:off x="2594520" y="48002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"/>
            <p:cNvSpPr/>
            <p:nvPr/>
          </p:nvSpPr>
          <p:spPr>
            <a:xfrm>
              <a:off x="1600200" y="58856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8"/>
            <p:cNvSpPr/>
            <p:nvPr/>
          </p:nvSpPr>
          <p:spPr>
            <a:xfrm>
              <a:off x="2594520" y="58856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 flipV="1">
              <a:off x="1798920" y="55224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1798920" y="50400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 flipH="1" flipV="1">
              <a:off x="2298600" y="55224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 flipH="1">
              <a:off x="2298600" y="50400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2594520" y="5402880"/>
              <a:ext cx="189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4"/>
            <p:cNvSpPr/>
            <p:nvPr/>
          </p:nvSpPr>
          <p:spPr>
            <a:xfrm>
              <a:off x="4885560" y="55224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5"/>
            <p:cNvSpPr/>
            <p:nvPr/>
          </p:nvSpPr>
          <p:spPr>
            <a:xfrm>
              <a:off x="4885560" y="50400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6"/>
            <p:cNvSpPr/>
            <p:nvPr/>
          </p:nvSpPr>
          <p:spPr>
            <a:xfrm>
              <a:off x="4985640" y="5283000"/>
              <a:ext cx="19872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7"/>
            <p:cNvSpPr/>
            <p:nvPr/>
          </p:nvSpPr>
          <p:spPr>
            <a:xfrm>
              <a:off x="4786200" y="5283000"/>
              <a:ext cx="19908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5213520" y="512100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9" descr=""/>
            <p:cNvPicPr/>
            <p:nvPr/>
          </p:nvPicPr>
          <p:blipFill>
            <a:blip r:embed="rId1"/>
            <a:stretch/>
          </p:blipFill>
          <p:spPr>
            <a:xfrm>
              <a:off x="5883120" y="4317840"/>
              <a:ext cx="2040840" cy="22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20"/>
          <p:cNvSpPr/>
          <p:nvPr/>
        </p:nvSpPr>
        <p:spPr>
          <a:xfrm>
            <a:off x="6477120" y="5299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ere does the Sun’s Energy Come Fro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1219320" y="620064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4143240" y="59086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Untitled.png"/>
          <p:cNvPicPr/>
          <p:nvPr/>
        </p:nvPicPr>
        <p:blipFill>
          <a:blip r:embed="rId1"/>
          <a:stretch/>
        </p:blipFill>
        <p:spPr>
          <a:xfrm>
            <a:off x="4419720" y="1652760"/>
            <a:ext cx="4325760" cy="4443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much energy does the Sun ma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520" y="15238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We know how much energy the Sun emits by measuring the amount of energy that reaches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Based on the amount of hydrogen the Sun consumes per second and the mass of the Sun, we estimate its lifetime to be 50 billion yea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4724280" y="2057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uclear Fusion Hydrogen Bomb—50 mega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at’s inside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1101600"/>
            <a:ext cx="5867280" cy="522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5867280" y="1066680"/>
            <a:ext cx="3048120" cy="57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Layers of the 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core of the sun alone is the size of 13 Earth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Radiative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nergy from the core radiates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nvective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nvection cells move energy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Phot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part of the sun we 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hrom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part of the Sun’s atm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6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a bright halo around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0" y="5954760"/>
            <a:ext cx="58672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meter of the Sun = Diameter of 56 Earth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SUNSECT.JPG"/>
          <p:cNvPicPr/>
          <p:nvPr/>
        </p:nvPicPr>
        <p:blipFill>
          <a:blip r:embed="rId1"/>
          <a:stretch/>
        </p:blipFill>
        <p:spPr>
          <a:xfrm>
            <a:off x="4343400" y="1509840"/>
            <a:ext cx="4308480" cy="4281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nergy Escapes the Su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7800" y="1585440"/>
            <a:ext cx="4035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usion occurs in the Sun’s core, the hottest pa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nergy released by the fusion in the Sun’s core is in the form of li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t only takes 8 minutes for light from the surface of the Sun to reach Ear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The Changing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rface of the Sun is constantly chan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n is shooting particles off it all the time called the Solar W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an 11-year “Solar Cycle” when the Sun goes from being very active (solar maximum) to not not very active (solar mini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648320" y="1955880"/>
            <a:ext cx="4343400" cy="37591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How is the Sun a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cycle is characterized by the rising and falling of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maximum is the period of greatest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During solar maximum the Sun is more active meaning there are more sunspot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1723" t="15773" r="0" b="0"/>
          <a:stretch/>
        </p:blipFill>
        <p:spPr>
          <a:xfrm>
            <a:off x="76320" y="2286000"/>
            <a:ext cx="4343400" cy="284796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20:55:02Z</dcterms:created>
  <dc:creator>Ian Cohen User</dc:creator>
  <dc:description/>
  <dc:language>en-US</dc:language>
  <cp:lastModifiedBy>Legion</cp:lastModifiedBy>
  <dcterms:modified xsi:type="dcterms:W3CDTF">2017-01-26T10:14:13Z</dcterms:modified>
  <cp:revision>20</cp:revision>
  <dc:subject/>
  <dc:title>How are images of the Sun taken?</dc:title>
</cp:coreProperties>
</file>