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FF8D-0D16-4D54-AFC7-15B255BDD46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E93B-B455-4B36-83A7-72BC9E6D3C15}"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07D6-9431-49B0-976E-4E21180F87E5}"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7-01-26T10:11:53Z</dcterms:modified>
  <cp:revision>19</cp:revision>
  <dc:subject/>
  <dc:title>Claudius Ptolemy</dc:title>
</cp:coreProperties>
</file>