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9B29-7D18-429D-811A-67FB424AB1F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B483-8693-4E7A-9CB3-EE16B9B9CE20}"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1E6D-F8FA-40FF-97DF-B0EF5D21669F}"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7-01-26T10:11:53Z</dcterms:modified>
  <cp:revision>19</cp:revision>
  <dc:subject/>
  <dc:title>Claudius Ptolemy</dc:title>
</cp:coreProperties>
</file>