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4CD8-60D6-4426-9B2A-D2B48FAF3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6859-F0D7-4068-964C-8B60F75E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6812-4E02-42E8-A197-26669834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8D2E-BB42-4DA9-958A-C109B64B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E7F2-2431-4297-B11D-242FE803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9EFF-B628-48C3-8058-9ADA0B41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5AD5-0E8F-4303-BF30-10A5091C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5758-E859-4D2A-89C5-6E249A0C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7970-1B3E-4A14-AAF6-29A528F5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ACE3-D838-4EC7-9524-FB0B7450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98A4-E411-4889-9C9F-A8B2FFB1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B566-8C15-4AD3-97EE-174B7A7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AB3D-39B5-4CC2-9C6B-8B626F5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A4AB-83E1-4C14-8609-D8A9B3DE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3890-7C02-4278-8D15-BBC02B11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FC19-F183-4B9F-8725-1E67F8C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7B79-4865-4187-8CD4-954482B4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6C92-F162-4CEA-87F7-EECB1587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C023-1D72-40A1-9D3F-D17F7C83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DBB0-61D7-4CD1-A972-EEF4C908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A0DD-587A-4D65-B933-8C293409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3792-1668-4CA6-ADEE-88E086C3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18E8-5FAC-423B-903B-5D3DEF3E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0937-7BA8-4F3E-875D-09564988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3BCD-698F-4117-B2EB-843EFB73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58E9-F1E1-42EC-A528-959DFE2BAE4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DFCB-9D15-41C0-B71E-76F2A0E2644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2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5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2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3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1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199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09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0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7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7-01-26T10:10:41Z</dcterms:modified>
  <cp:revision>49</cp:revision>
  <dc:subject/>
  <dc:title>WOW !</dc:title>
</cp:coreProperties>
</file>