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44A271-B4E5-4919-9E33-929B501C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8CD-46BF-4B99-BE69-46FCE369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550-6809-4CBD-A259-B77F391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EA5-DFBF-44C7-B6FF-49836B0F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CE7-2B92-4A41-A7E4-843ED131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79AAE-F498-4012-AEBA-45919DEB68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EDCC0-ABAB-4CCF-8688-87EAC995D5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A52D7-32EB-4BB1-AFCE-EE001243DA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F9C4E-B7CA-4319-B271-4A735032E9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285BE-0765-4FC4-8811-666EDAEBB4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737AE-89D5-4ADC-98D9-41DCE602DF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C69E2-CAFF-4F7A-AF11-AB0FBA395E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917-3764-4F51-AE30-E3DEED88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DCB23-E804-473B-9513-324FBAC071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263A2-C361-4B94-86C3-89233BC1E2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56AAD-3B7B-4A4A-9C8A-7A6C957A93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52E4D-0F40-49D8-A123-AEF04C06D2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06AA2-CC5E-493C-9528-FD144F0E13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875D6-1434-491C-AD20-FD6E9900AB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A4FD1-F44F-496F-823D-20FF8C3A02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32188-0D8C-485A-9CE5-517783DC29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150CD-AE34-458D-8731-C086C463EC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B564B-A5A8-4EE3-B8A6-C33BC917CA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D60-9B53-4D87-9F08-C484566E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9A721-9A9D-4A17-B30B-292D2887C5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5981C-125D-40FB-B453-BF32B54ADB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2A6A5-5541-4230-ABA1-8DB440D2F7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7EB4C6-88EE-494B-8927-320C6E35F1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B9D13B-3883-4A63-87D4-FBD905966D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DE4E6-A984-4F64-89D9-852C12C140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E4091B-DA74-4049-9095-648B0DFCC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408-5007-4D61-97A7-96739111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92E-E249-4C7C-8CE6-5879CFCE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B1F-9958-4DE0-AFBB-59131860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DE7-922A-48BF-B556-FC907F5D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901-11C1-4C3E-AE74-A1706C32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4FF-1231-4B4E-9879-34055281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9E21-2ABA-4883-8602-A649911F2B93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CEF4-B996-4E93-B777-0CD426CCEC7E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8D0C-B055-4951-9247-CE770A3528BB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320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Legion</cp:lastModifiedBy>
  <dcterms:modified xsi:type="dcterms:W3CDTF">2017-01-26T10:08:36Z</dcterms:modified>
  <cp:revision>33</cp:revision>
  <dc:subject/>
  <dc:title>Hydrogen in the Milky Way</dc:title>
</cp:coreProperties>
</file>