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20.jpeg" ContentType="image/jpeg"/>
  <Override PartName="/ppt/media/image11.gif" ContentType="image/gif"/>
  <Override PartName="/ppt/media/image9.wmf" ContentType="image/x-wmf"/>
  <Override PartName="/ppt/media/image14.png" ContentType="image/png"/>
  <Override PartName="/ppt/media/image8.gif" ContentType="image/gif"/>
  <Override PartName="/ppt/media/image21.jpeg" ContentType="image/jpeg"/>
  <Override PartName="/ppt/media/image16.png" ContentType="image/png"/>
  <Override PartName="/ppt/media/image19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17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8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9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 type="sldNum" idx="10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49EAA30-8AEB-4BA6-844C-BAB769FBB1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in the Milky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is the most abundant element in our galax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in the Milky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is the most abundant element in our galax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ectrum line shift tells us the motion of a source (stars, galaxies, gases, etc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ectrum line shift tells us the motion of a source (stars, galaxies, gases, etc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ft in wave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away observer (red shif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toward  observ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lue shif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ource is  moving toward the observer, the spectral line will be shifted to a shorter waveleng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ource is moving away from the observer, the spectral line will be shifted to a longer waveleng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ft in wave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away observer (red shif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toward  observ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lue shif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ource is  moving toward the observer, the spectral line will be shifted to a shorter waveleng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ource is moving away from the observer, the spectral line will be shifted to a longer waveleng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length and velo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lative change in wavelength is related to the source’s veloc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s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f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length and velo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lative change in wavelength is related to the source’s veloc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s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f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lky Way has over 3 billion solar masses of hydrogen g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ough hydrogen atoms so that the 21-cm line is easily detected by radio telesco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, it is the best way to map the structure of the galax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lky Way has over 3 billion solar masses of hydrogen g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ough hydrogen atoms so that the 21-cm line is easily detected by radio telesco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, it is the best way to map the structure of the galax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Rotation of the Milky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 Richard Powell www.atlasoftheuniver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Rotation of the Milky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 Richard Powell www.atlasoftheuniver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ic Energy Lev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emit a photon of light at a specif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length when an electron falls to a 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leve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ic Energy Lev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emit a photon of light at a specif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length when an electron falls to a 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leve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sulting dark line spectrum identifies hydro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is detected using a technique called spectroscop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sulting dark line spectrum identifies hydro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is detected using a technique called spectroscop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ment’s Sign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ment’s spectrum acts as is its signatur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line will always appear in the same lo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ment’s Sign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ment’s spectrum acts as is its signatur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line will always appear in the same lo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only has only one electron spinning around its nucle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just a spinning  electron have energy level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only has only one electron spinning around its nucle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just a spinning  electron have energy level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n spin energy of a hydrogen atom is slightly different depending on whether the spins of the proton and electron are in the same direction or opposite direc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n spin energy of a hydrogen atom is slightly different depending on whether the spins of the proton and electron are in the same direction or opposite direc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pin of the electron changes from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energy level to  the lower energy on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hoton with a wavelength of 21 cm is emit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 from Nick Strobel’s website www.astronomynote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pin of the electron changes from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energy level to  the lower energy on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hoton with a wavelength of 21 cm is emit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 from Nick Strobel’s website www.astronomynote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21-cm Hydrogen Spect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21-cm Hydrogen Spect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tral Lines and Mo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tral lines can tell us whether the source is stationary or mov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ource is moving, the spectral line will be shifted (called a Doppler shif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 at 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 moving 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 moving clo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tral Lines and Mo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tral lines can tell us whether the source is stationary or mov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ource is moving, the spectral line will be shifted (called a Doppler shif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 at 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 moving 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 moving clo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1-cm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7A90-E122-417A-9627-2F63B4B54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C32B-8CBA-44F4-BB6C-94C58BC65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7174-AF40-4CC2-83D4-ABA6177F2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25F5-1B5E-41A2-8BDA-D40664D5A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42EFF3-069E-4210-B15D-EE66075B3CB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4C72C9-2AD7-4B7E-B5A2-81FF48A6B03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BF8148-D440-4143-B1CE-A5E8D44DA18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1093CD-A7E2-4A78-AEA9-057DAFC063C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9500F3-99FD-494B-97D0-550EADB9F9E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BDE12C-3356-46A2-B221-43196EC6AEB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889AFE-C1E2-43B4-8644-06C56DD22B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6B96-0B29-474C-9965-CBC3201B1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0BCE8B-F253-49B1-9B81-71D31259DC8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69FE72-4C99-4C47-9737-3EADE478879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7E33D2-8193-4297-BFBE-E8F2534AAF6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94E92B-C663-4170-A6C8-0BD9E5772AA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57AF95-E97E-4091-B08A-52CE4622654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E14801-77CD-4C6C-B426-7C8F95A7A22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BC6785-1638-4FF5-8649-5D78C6AC48F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985397-D69A-4C7F-AF0B-4327FD827F7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1C8584-7531-4AEE-A655-09C05742B11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B165F5-5A73-4E37-84C2-FD325C39025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D234-FD70-4B1E-B026-39FB6799F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C75E90-9F3C-4CBB-8134-34B5D0ECE3B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F32803-F661-41AE-A102-503BA90703B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931A4A-A70F-4E22-B275-4E1FA9D4027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843997-EEF1-4803-B7A7-4333A5E367D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1947D8-43CE-416E-BAC0-41E8EBA7D70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476724-3BCF-4D2A-84AE-5B15B395422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61C7BD-7C38-4DE3-85A5-5226775F15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F7C0-5E2D-40CD-BBEA-BD9F5DAA2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A34F-9B14-4A76-90C7-A0B9236B8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C2DC-29EF-4F1F-8BA8-98E9162F4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32D1-1FD7-43DC-808D-172C11BF4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5DDB-4161-47D2-827F-243E0B5CD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1535-3C41-4351-A651-756212C1C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C8661-2E17-4F4F-8352-0C0CEA98EA6F}" type="slidenum">
              <a:rPr b="0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1828800" y="6248160"/>
            <a:ext cx="5486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38BB6-31F1-4BC7-902B-9FCD86DAB0B8}" type="slidenum">
              <a:rPr b="0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AF3E5-89A2-4FCE-99A0-218E8EA78C2C}" type="slidenum">
              <a:rPr b="0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antwrp.gsfc.nasa.gov/apod/image/0510/allskymilkyway_brunier_big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Hydrogen in the Milky 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7924680" cy="21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Hydrogen is the most abundant element in our galax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0" descr="See Explanation.  Clicking on the picture will download&#10; the highest resolution version available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0" y="2743200"/>
            <a:ext cx="4944960" cy="3282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1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1828800" y="6248520"/>
            <a:ext cx="54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0" y="457200"/>
            <a:ext cx="86868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pectrum line shift tells us the motion of a source (stars, galaxies, gases, etc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23" descr="doppler_anim2"/>
          <p:cNvPicPr/>
          <p:nvPr/>
        </p:nvPicPr>
        <p:blipFill>
          <a:blip r:embed="rId1"/>
          <a:stretch/>
        </p:blipFill>
        <p:spPr>
          <a:xfrm>
            <a:off x="1676520" y="1676520"/>
            <a:ext cx="5562360" cy="4044960"/>
          </a:xfrm>
          <a:prstGeom prst="rect">
            <a:avLst/>
          </a:prstGeom>
          <a:ln w="0">
            <a:noFill/>
          </a:ln>
        </p:spPr>
      </p:pic>
      <p:sp>
        <p:nvSpPr>
          <p:cNvPr id="18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1828800" y="6248520"/>
            <a:ext cx="54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Shift in waveleng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Object 4"/>
          <p:cNvGraphicFramePr/>
          <p:nvPr/>
        </p:nvGraphicFramePr>
        <p:xfrm>
          <a:off x="4648320" y="1324080"/>
          <a:ext cx="3886200" cy="157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324080"/>
                    <a:ext cx="3886200" cy="1571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87" name="Object 5"/>
          <p:cNvGraphicFramePr/>
          <p:nvPr/>
        </p:nvGraphicFramePr>
        <p:xfrm>
          <a:off x="4648320" y="4572000"/>
          <a:ext cx="3886200" cy="160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4572000"/>
                    <a:ext cx="3886200" cy="16002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89" name="Object 6"/>
          <p:cNvGraphicFramePr/>
          <p:nvPr/>
        </p:nvGraphicFramePr>
        <p:xfrm>
          <a:off x="4648320" y="2971800"/>
          <a:ext cx="3886200" cy="1523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0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8320" y="2971800"/>
                    <a:ext cx="3886200" cy="15238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1" name="Text Box 7"/>
          <p:cNvSpPr/>
          <p:nvPr/>
        </p:nvSpPr>
        <p:spPr>
          <a:xfrm>
            <a:off x="6818760" y="1981080"/>
            <a:ext cx="1278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tio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6858000" y="4572000"/>
            <a:ext cx="16002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ving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way observer (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red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shif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9"/>
          <p:cNvSpPr/>
          <p:nvPr/>
        </p:nvSpPr>
        <p:spPr>
          <a:xfrm>
            <a:off x="6248520" y="3048120"/>
            <a:ext cx="220968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ving toward  observ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blue</a:t>
            </a:r>
            <a:r>
              <a:rPr b="1" lang="en-US" sz="1800" spc="-1" strike="noStrike">
                <a:solidFill>
                  <a:srgbClr val="00b0f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hif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f the source is  moving 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toward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the observer, the spectral line will be shifted to a </a:t>
            </a:r>
            <a:r>
              <a:rPr b="1" i="1" lang="en-US" sz="2600" spc="-1" strike="noStrike">
                <a:solidFill>
                  <a:srgbClr val="3333cc"/>
                </a:solidFill>
                <a:latin typeface="Comic Sans MS"/>
              </a:rPr>
              <a:t>shorter wavelength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f the source is moving 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away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from the observer, the spectral line will be shifted to a </a:t>
            </a:r>
            <a:r>
              <a:rPr b="1" i="1" lang="en-US" sz="2600" spc="-1" strike="noStrike">
                <a:solidFill>
                  <a:srgbClr val="ff0000"/>
                </a:solidFill>
                <a:latin typeface="Comic Sans MS"/>
              </a:rPr>
              <a:t>longer wavelength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Wavelength and velo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3657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The relative change in wavelength is related to the source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s velocity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Object 4"/>
          <p:cNvGraphicFramePr/>
          <p:nvPr/>
        </p:nvGraphicFramePr>
        <p:xfrm>
          <a:off x="4724280" y="1600200"/>
          <a:ext cx="3276720" cy="138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600200"/>
                    <a:ext cx="3276720" cy="1380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01" name="Object 5"/>
          <p:cNvGraphicFramePr/>
          <p:nvPr/>
        </p:nvGraphicFramePr>
        <p:xfrm>
          <a:off x="4724280" y="3124080"/>
          <a:ext cx="3276720" cy="140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3124080"/>
                    <a:ext cx="3276720" cy="14036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03" name="Object 6"/>
          <p:cNvGraphicFramePr/>
          <p:nvPr/>
        </p:nvGraphicFramePr>
        <p:xfrm>
          <a:off x="4724280" y="4724280"/>
          <a:ext cx="3276720" cy="143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4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24280" y="4724280"/>
                    <a:ext cx="3276720" cy="14320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05" name="Text Box 7"/>
          <p:cNvSpPr/>
          <p:nvPr/>
        </p:nvSpPr>
        <p:spPr>
          <a:xfrm>
            <a:off x="6387840" y="1828800"/>
            <a:ext cx="1378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tatio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5181480" y="3276720"/>
            <a:ext cx="990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oving s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5257800" y="4800600"/>
            <a:ext cx="990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oving f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ooter Placeholder 7"/>
          <p:cNvSpPr/>
          <p:nvPr/>
        </p:nvSpPr>
        <p:spPr>
          <a:xfrm>
            <a:off x="31320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12" name="Місце для нижнього колонтитула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Example: Rotation of the Milky 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3" descr="Galaxy rotation and Doppler shifts"/>
          <p:cNvPicPr/>
          <p:nvPr/>
        </p:nvPicPr>
        <p:blipFill>
          <a:blip r:embed="rId1"/>
          <a:stretch/>
        </p:blipFill>
        <p:spPr>
          <a:xfrm>
            <a:off x="5257800" y="2179800"/>
            <a:ext cx="3098880" cy="338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5" name=""/>
          <p:cNvSpPr txBox="1"/>
          <p:nvPr/>
        </p:nvSpPr>
        <p:spPr>
          <a:xfrm>
            <a:off x="4648320" y="11430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5" descr="milkyway"/>
          <p:cNvPicPr/>
          <p:nvPr/>
        </p:nvPicPr>
        <p:blipFill>
          <a:blip r:embed="rId2"/>
          <a:stretch/>
        </p:blipFill>
        <p:spPr>
          <a:xfrm>
            <a:off x="1066680" y="1905120"/>
            <a:ext cx="3784680" cy="3784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7" name="Picture 13" descr="Program Graphic"/>
          <p:cNvPicPr/>
          <p:nvPr/>
        </p:nvPicPr>
        <p:blipFill>
          <a:blip r:embed="rId3"/>
          <a:stretch/>
        </p:blipFill>
        <p:spPr>
          <a:xfrm>
            <a:off x="609480" y="4724280"/>
            <a:ext cx="2514600" cy="1886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8" name="Slide Number Placeholder 8"/>
          <p:cNvSpPr/>
          <p:nvPr/>
        </p:nvSpPr>
        <p:spPr>
          <a:xfrm>
            <a:off x="6705720" y="6248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ooter Placeholder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1"/>
          <p:cNvSpPr/>
          <p:nvPr/>
        </p:nvSpPr>
        <p:spPr>
          <a:xfrm>
            <a:off x="3048120" y="5334120"/>
            <a:ext cx="198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</a:rPr>
              <a:t>Image from Richard Powell www.atlasoftheuniver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Electronic Energy Lev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459432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oms emit a photon of light at a specif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avelength when an electron falls to a l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ergy leve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1" descr="Bohratommodel"/>
          <p:cNvPicPr/>
          <p:nvPr/>
        </p:nvPicPr>
        <p:blipFill>
          <a:blip r:embed="rId1"/>
          <a:stretch/>
        </p:blipFill>
        <p:spPr>
          <a:xfrm>
            <a:off x="2895480" y="1447920"/>
            <a:ext cx="3200400" cy="292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6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5181480"/>
            <a:ext cx="8229600" cy="14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resulting dark line spectrum identifies hydro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6" descr="g23_spectroscope"/>
          <p:cNvPicPr/>
          <p:nvPr/>
        </p:nvPicPr>
        <p:blipFill>
          <a:blip r:embed="rId1"/>
          <a:srcRect l="0" t="0" r="0" b="11437"/>
          <a:stretch/>
        </p:blipFill>
        <p:spPr>
          <a:xfrm>
            <a:off x="1600200" y="1905120"/>
            <a:ext cx="5584680" cy="2987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533160"/>
            <a:ext cx="807732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Hydrogen is detected using a technique called spectroscopy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An Element’s Signa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5"/>
          <p:cNvSpPr/>
          <p:nvPr/>
        </p:nvSpPr>
        <p:spPr>
          <a:xfrm>
            <a:off x="457200" y="457200"/>
            <a:ext cx="4114800" cy="21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7"/>
          <p:cNvSpPr/>
          <p:nvPr/>
        </p:nvSpPr>
        <p:spPr>
          <a:xfrm>
            <a:off x="533520" y="1523880"/>
            <a:ext cx="8076960" cy="244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n element’s spectrum acts as is its signature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Each line will always appear in the same loc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8" descr="EL_MSES_StarSpectra4"/>
          <p:cNvPicPr/>
          <p:nvPr/>
        </p:nvPicPr>
        <p:blipFill>
          <a:blip r:embed="rId1"/>
          <a:stretch/>
        </p:blipFill>
        <p:spPr>
          <a:xfrm>
            <a:off x="2286000" y="3048120"/>
            <a:ext cx="4302000" cy="302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8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1828800" y="6248520"/>
            <a:ext cx="54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09120" y="1294920"/>
            <a:ext cx="44960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Hydrogen only has only one electron spinning around its nucleu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How can just a spinning  electron have energy levels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8" descr="Hydrogen atom"/>
          <p:cNvPicPr/>
          <p:nvPr/>
        </p:nvPicPr>
        <p:blipFill>
          <a:blip r:embed="rId1"/>
          <a:stretch/>
        </p:blipFill>
        <p:spPr>
          <a:xfrm>
            <a:off x="4952880" y="1295280"/>
            <a:ext cx="3810240" cy="324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2" name="Picture 9" descr="Key to atom parts"/>
          <p:cNvPicPr/>
          <p:nvPr/>
        </p:nvPicPr>
        <p:blipFill>
          <a:blip r:embed="rId2"/>
          <a:stretch/>
        </p:blipFill>
        <p:spPr>
          <a:xfrm>
            <a:off x="4876920" y="4678200"/>
            <a:ext cx="3962160" cy="893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3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28600" y="1294920"/>
            <a:ext cx="41911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The electron spin energy of a hydrogen atom is slightly different depending on whether the spins of the proton and electron are in the same direction or opposite directions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3" descr="kauf25_10"/>
          <p:cNvPicPr/>
          <p:nvPr/>
        </p:nvPicPr>
        <p:blipFill>
          <a:blip r:embed="rId1"/>
          <a:srcRect l="1775" t="0" r="0" b="7016"/>
          <a:stretch/>
        </p:blipFill>
        <p:spPr>
          <a:xfrm>
            <a:off x="4800600" y="1600200"/>
            <a:ext cx="4222800" cy="403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7" name="Text Box 4"/>
          <p:cNvSpPr/>
          <p:nvPr/>
        </p:nvSpPr>
        <p:spPr>
          <a:xfrm>
            <a:off x="1219320" y="5257800"/>
            <a:ext cx="6248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Y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ooter Placeholder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The 21-cm 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76312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the spin of the electron changes from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igher energy level to  the lower energy on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photon with a wavelength of 21 cm is emit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7" descr="spinflip-anim"/>
          <p:cNvPicPr/>
          <p:nvPr/>
        </p:nvPicPr>
        <p:blipFill>
          <a:blip r:embed="rId1"/>
          <a:stretch/>
        </p:blipFill>
        <p:spPr>
          <a:xfrm>
            <a:off x="1828800" y="3505320"/>
            <a:ext cx="5392800" cy="2630520"/>
          </a:xfrm>
          <a:prstGeom prst="rect">
            <a:avLst/>
          </a:prstGeom>
          <a:ln w="0">
            <a:noFill/>
          </a:ln>
        </p:spPr>
      </p:pic>
      <p:sp>
        <p:nvSpPr>
          <p:cNvPr id="164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8"/>
          <p:cNvSpPr/>
          <p:nvPr/>
        </p:nvSpPr>
        <p:spPr>
          <a:xfrm>
            <a:off x="2561760" y="5943600"/>
            <a:ext cx="40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Animation from Nick Strobel’s website www.astronomynote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1828800" y="6248520"/>
            <a:ext cx="54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A 21-cm Hydrogen Spectr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5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6864480" cy="4572000"/>
          </a:xfrm>
          <a:prstGeom prst="rect">
            <a:avLst/>
          </a:prstGeom>
          <a:ln w="0">
            <a:noFill/>
          </a:ln>
        </p:spPr>
      </p:pic>
      <p:sp>
        <p:nvSpPr>
          <p:cNvPr id="16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ooter Placeholder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Spectral Lines and Mo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pectral lines can tell us whether the source is stationary or mov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the source is moving, the spectral line will be shifted (called a Doppler shif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0" descr="200c"/>
          <p:cNvPicPr/>
          <p:nvPr/>
        </p:nvPicPr>
        <p:blipFill>
          <a:blip r:embed="rId1"/>
          <a:srcRect l="1816" t="5231" r="3674" b="599"/>
          <a:stretch/>
        </p:blipFill>
        <p:spPr>
          <a:xfrm>
            <a:off x="3733920" y="3492360"/>
            <a:ext cx="4114800" cy="2847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5" name="Text Box 11"/>
          <p:cNvSpPr/>
          <p:nvPr/>
        </p:nvSpPr>
        <p:spPr>
          <a:xfrm>
            <a:off x="647640" y="387360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Source at r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2"/>
          <p:cNvSpPr/>
          <p:nvPr/>
        </p:nvSpPr>
        <p:spPr>
          <a:xfrm>
            <a:off x="609480" y="4635360"/>
            <a:ext cx="291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Source moving a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3"/>
          <p:cNvSpPr/>
          <p:nvPr/>
        </p:nvSpPr>
        <p:spPr>
          <a:xfrm>
            <a:off x="609480" y="5549760"/>
            <a:ext cx="289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Source moving clo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1828800" y="6248520"/>
            <a:ext cx="54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11:22Z</dcterms:created>
  <dc:creator>S. Daniel Daugherty II</dc:creator>
  <dc:description/>
  <dc:language>en-US</dc:language>
  <cp:lastModifiedBy>Legion</cp:lastModifiedBy>
  <dcterms:modified xsi:type="dcterms:W3CDTF">2017-01-26T10:08:36Z</dcterms:modified>
  <cp:revision>33</cp:revision>
  <dc:subject/>
  <dc:title>Hydrogen in the Milky Way</dc:title>
</cp:coreProperties>
</file>