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25.jpeg" ContentType="image/jpeg"/>
  <Override PartName="/ppt/media/image20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3FEB-5D59-42A7-8DB4-14D6EB99080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FA6-680D-484A-993A-FCF3BBC6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959-BE6B-4CBB-9DC3-4E6F93EF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8036-A3C2-4B07-95B0-708922E1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6F0-4BF1-4EA8-BAB6-F41C9E80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F98-C9AF-4FF0-8503-63A92C4C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A68-0D4C-434B-B6D5-8C8655D2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591-A87C-42AD-9D70-EF46661A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928-A7B8-4B0F-BB3D-8D7D09FF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501-515F-4D71-A61D-12A45550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8C0F-5257-4407-9F19-12A0DC3C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2179-7C63-4135-9C4A-13AAAC23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611-7660-4484-B409-33CC3ED2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5B32-9B3A-4359-997A-36AC9C74B1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M:\working copy\PLANETS\AstronImages\cobe_milkyw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467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M:\working copy\GRAPHIC0\Astronomy\NearArms1.gif"/>
          <p:cNvPicPr/>
          <p:nvPr/>
        </p:nvPicPr>
        <p:blipFill>
          <a:blip r:embed="rId1"/>
          <a:stretch/>
        </p:blipFill>
        <p:spPr>
          <a:xfrm>
            <a:off x="1600200" y="1133640"/>
            <a:ext cx="5996160" cy="57243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28" descr="M:\working copy\GRAPHIC0\Astronomy\NearArms2.gif"/>
          <p:cNvPicPr/>
          <p:nvPr/>
        </p:nvPicPr>
        <p:blipFill>
          <a:blip r:embed="rId1"/>
          <a:stretch/>
        </p:blipFill>
        <p:spPr>
          <a:xfrm>
            <a:off x="1598760" y="1133640"/>
            <a:ext cx="5995800" cy="5724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M:\working copy\GRAPHIC0\Astronomy\Galmap1.gif"/>
          <p:cNvPicPr/>
          <p:nvPr/>
        </p:nvPicPr>
        <p:blipFill>
          <a:blip r:embed="rId1"/>
          <a:stretch/>
        </p:blipFill>
        <p:spPr>
          <a:xfrm>
            <a:off x="3124080" y="685800"/>
            <a:ext cx="5722920" cy="5337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514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M:\working copy\GRAPHIC0\Astronomy\galmap2.gif"/>
          <p:cNvPicPr/>
          <p:nvPr/>
        </p:nvPicPr>
        <p:blipFill>
          <a:blip r:embed="rId1"/>
          <a:stretch/>
        </p:blipFill>
        <p:spPr>
          <a:xfrm>
            <a:off x="3733920" y="914400"/>
            <a:ext cx="4762440" cy="523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75248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M:\working copy\GRAPHIC0\Astronomy\localgrp.gif"/>
          <p:cNvPicPr/>
          <p:nvPr/>
        </p:nvPicPr>
        <p:blipFill>
          <a:blip r:embed="rId1"/>
          <a:stretch/>
        </p:blipFill>
        <p:spPr>
          <a:xfrm>
            <a:off x="1827360" y="227160"/>
            <a:ext cx="7148520" cy="6391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27" descr="M:\working copy\PLANETS\AstronImages\gal_virgo.gif"/>
          <p:cNvPicPr/>
          <p:nvPr/>
        </p:nvPicPr>
        <p:blipFill>
          <a:blip r:embed="rId1"/>
          <a:stretch/>
        </p:blipFill>
        <p:spPr>
          <a:xfrm>
            <a:off x="1447920" y="1828800"/>
            <a:ext cx="6389640" cy="4586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1905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M:\working copy\GRAPHIC0\Astronomy\localsupercluster.gif"/>
          <p:cNvPicPr/>
          <p:nvPr/>
        </p:nvPicPr>
        <p:blipFill>
          <a:blip r:embed="rId1"/>
          <a:stretch/>
        </p:blipFill>
        <p:spPr>
          <a:xfrm>
            <a:off x="2279520" y="0"/>
            <a:ext cx="687384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2590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M:\working copy\PLANETS\AstronImages\gal_coma.gif"/>
          <p:cNvPicPr/>
          <p:nvPr/>
        </p:nvPicPr>
        <p:blipFill>
          <a:blip r:embed="rId1"/>
          <a:stretch/>
        </p:blipFill>
        <p:spPr>
          <a:xfrm>
            <a:off x="3200400" y="990720"/>
            <a:ext cx="5703840" cy="53038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M:\working copy\PLANETS\AstronImages\galaxy survey.gif"/>
          <p:cNvPicPr/>
          <p:nvPr/>
        </p:nvPicPr>
        <p:blipFill>
          <a:blip r:embed="rId1"/>
          <a:stretch/>
        </p:blipFill>
        <p:spPr>
          <a:xfrm>
            <a:off x="3352680" y="533520"/>
            <a:ext cx="5343480" cy="565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k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a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mi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M:\working copy\GRAPHIC0\Astronomy\herschel.gif"/>
          <p:cNvPicPr/>
          <p:nvPr/>
        </p:nvPicPr>
        <p:blipFill>
          <a:blip r:embed="rId1"/>
          <a:stretch/>
        </p:blipFill>
        <p:spPr>
          <a:xfrm>
            <a:off x="990720" y="3124080"/>
            <a:ext cx="7148520" cy="3287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 Energy = 1/2 M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=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, v = 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 = 1/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there, you hav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Einste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Einst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Speed of Light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Same for All Obser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    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n-US" sz="800" spc="-1" strike="noStrike" baseline="30000">
                <a:solidFill>
                  <a:srgbClr val="000000"/>
                </a:solidFill>
                <a:latin typeface="Calibri"/>
              </a:rPr>
              <a:t>-------------------------------------------------------------------------------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-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onsequence: as v approaches c, Energy goes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as we approach c, Energy goes up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ery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:\working copy\GRAPHIC0\Astronomy\einstein.gif"/>
          <p:cNvPicPr/>
          <p:nvPr/>
        </p:nvPicPr>
        <p:blipFill>
          <a:blip r:embed="rId1"/>
          <a:stretch/>
        </p:blipFill>
        <p:spPr>
          <a:xfrm>
            <a:off x="1219320" y="914400"/>
            <a:ext cx="6856200" cy="5284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ting our 1000 ton ship to 0.9 c takes 1.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 = U.S. energy use for 1100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M:\working copy\PLANETS\AstronImages\gravlens.jpg"/>
          <p:cNvPicPr/>
          <p:nvPr/>
        </p:nvPicPr>
        <p:blipFill>
          <a:blip r:embed="rId1"/>
          <a:stretch/>
        </p:blipFill>
        <p:spPr>
          <a:xfrm>
            <a:off x="0" y="2141640"/>
            <a:ext cx="9144000" cy="4716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SpaceCurv0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SpaceCurv1.gif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 Far Out as We Can See -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en Day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the Hubble Tele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M:\working copy\PLANETS\AstronImages\deep_field_small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561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ky and Telescop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199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There must b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invisible mass in the Unive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esigne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have c = 300,000 km/sec, why? What (who?) dictated that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lanetary orbits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rotons dec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rounding other galaxies is a spherical halo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lobular Star Clu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M:\working copy\PLANETS\PLANFOTO\glob0.jpg"/>
          <p:cNvPicPr/>
          <p:nvPr/>
        </p:nvPicPr>
        <p:blipFill>
          <a:blip r:embed="rId1"/>
          <a:stretch/>
        </p:blipFill>
        <p:spPr>
          <a:xfrm>
            <a:off x="4648320" y="1600200"/>
            <a:ext cx="3894120" cy="48672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Einstein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Einstein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M:\working copy\GRAPHIC0\Astronomy\galaxy2.gif"/>
          <p:cNvPicPr/>
          <p:nvPr/>
        </p:nvPicPr>
        <p:blipFill>
          <a:blip r:embed="rId1"/>
          <a:stretch/>
        </p:blipFill>
        <p:spPr>
          <a:xfrm>
            <a:off x="-6480" y="1138320"/>
            <a:ext cx="9150480" cy="57196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M:\working copy\GRAPHIC0\Astronomy\globclusters.gif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49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:\working copy\GRAPHIC0\Astronomy\galaxy1.gif"/>
          <p:cNvPicPr/>
          <p:nvPr/>
        </p:nvPicPr>
        <p:blipFill>
          <a:blip r:embed="rId1"/>
          <a:stretch/>
        </p:blipFill>
        <p:spPr>
          <a:xfrm>
            <a:off x="304920" y="1295280"/>
            <a:ext cx="8574120" cy="5145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M:\working copy\GRAPHIC0\Astronomy\pop1-2.gif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37944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M:\working copy\GRAPHIC0\Astronomy\m51.gif"/>
          <p:cNvPicPr/>
          <p:nvPr/>
        </p:nvPicPr>
        <p:blipFill>
          <a:blip r:embed="rId1"/>
          <a:stretch/>
        </p:blipFill>
        <p:spPr>
          <a:xfrm>
            <a:off x="990720" y="1295280"/>
            <a:ext cx="7138800" cy="4797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6:11:44Z</dcterms:created>
  <dc:creator>default prof</dc:creator>
  <dc:description/>
  <dc:language>en-US</dc:language>
  <cp:lastModifiedBy>Legion</cp:lastModifiedBy>
  <dcterms:modified xsi:type="dcterms:W3CDTF">2017-01-26T10:06:37Z</dcterms:modified>
  <cp:revision>10</cp:revision>
  <dc:subject/>
  <dc:title>Galaxies and the Unive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uwgb.edu/dutchs</vt:lpwstr>
  </property>
  <property fmtid="{D5CDD505-2E9C-101B-9397-08002B2CF9AE}" pid="9" name="LinkColor">
    <vt:r8>16711782</vt:r8>
  </property>
  <property fmtid="{D5CDD505-2E9C-101B-9397-08002B2CF9AE}" pid="10" name="MailAddress">
    <vt:lpwstr>dutchs@uwgb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M:\working copy\COSNOTE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