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jpeg" ContentType="image/jpeg"/>
  <Override PartName="/ppt/media/image26.jpeg" ContentType="image/jpeg"/>
  <Override PartName="/ppt/media/image25.jpeg" ContentType="image/jpeg"/>
  <Override PartName="/ppt/media/image20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.png" ContentType="image/png"/>
  <Override PartName="/ppt/media/image24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FC07-2231-4DA9-BD9D-3E0D40100C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crowaves, We Can See the Hub of the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Neighborh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pping the Galaxy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Ther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wntown: The Virgo Cluster: 50 m.l.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al Super-clu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a Clust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-Scale Structure of the Universe to 500 m.l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ek galax = mi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iam Herschel, 1783: A disk with the Sun slightly off-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vel to the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netic Energy = 1/2 Mv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it take to get a 1000-ton spaceship to 10% of the speed of light? (43 years to Alpha Centau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=106 kg, v = 3 x 107 m/se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 = 1/2 x 106 x 9 x 1014 = 4.5 x 1020 jo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s U.S. Energy Production for 4.5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you get there, you have to sto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Independent of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helson and Morley, 1887 - Speed of Light Independent of Ob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Most Unexpected Results in the History of Science” - Isaac Asimo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Speed of Light is the Same for All Observ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cation: Space and Time Must Change to Keep Speed of Light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the Speed of Light is a Speed Li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of a Moving Object in Relativity: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 =     mc2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-------------------------------------------------------------------------------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  1 - v2/c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consequence: as v approaches c, Energy goes to 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, as we approach c, Energy goes up very f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el Economy of a Starsh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1 c, energy is 0.7% greater than Newtonian form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5 c, 24%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 c, 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 c, 12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0.999 c, 43 x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extra 9 more than triples the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our 1000 ton ship to 0.9 c takes 1.1 x 1023 joules = U.S. energy use for 1100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Consequence of Relativity- Gravitational Len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The Universe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a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win Hubble, Recession of Galaxies, 19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-shift increases with d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ic Microwave Background, 19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timated Age of Universe: 12-15 b.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ang” originally a derisive term, coined by Fred Hoy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Galaxi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th Century: “Spiral Nebula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arby? Maybe Solar Systems in Form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: Galaxies are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20’s: Galaxies are like the Milky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gest single increase in our mental picture  of the Universe in human hi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Far Out as We Can See - Ten Days With the Hubbl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ew Name for the “Big Bang?”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ky and Telescope, 199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g Bo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d’s Log-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 Withair Day (“Nobody ever named anything else after me, so why not?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If I Push This Butt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’re Never Going To Get It All Back In There Ag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0% of the Universe is “Missing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er Stars in Galaxies revolve faster than expec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olds clusters of galaxies togeth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: There must be a lot of invisible mass in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really “missing”, just non-lumin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tronomers Are Not As Upset As One Might Exp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CHO’s (Massive Compact Halo Objects): faint stars, brown dwarfs,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non-luminous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ive Neutrino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MP’s (Weakly Interacting Massive Partic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ic monop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otic objects: strings, mini-black ho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greater and the Universe would already have collapsed in on itse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ch less and stars could no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o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im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sion too eas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hropic Princi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smology has to be able to explain why we ex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just came out that 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to be that way for reasons we haven’t yet discove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be there are an infinity of universes but only those with certain parameters develop intelligent life (Multiver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ed or desig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e Tuning the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sign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esn’t Explain Any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Designer can create a Universe, why is c = 300,000 km/sec instead of 400,000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Designer had to have c = 300,000 km/sec, why? What (who?) dictated that, and w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o says Designer is anything pictured by any relig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sinterpreting Relati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 absol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ed of light is absol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not be possible to be absolutely right but it is very easy to be absolutely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Will It All En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llions of years: Star formation 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-100 trillion years: Stars stop radi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15 – 1020 years: Planetary orbits dec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32 – 1041 years: Protons deca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t Deat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Crunc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g Bounc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es Cosmology Imply for Philosoph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Least, Not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Hopelessly Premature To Try To Create A Philosophy Based on Cosm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can say what the fate of the Universe will be based on specific assum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a long way from knowing the assumptions are complete or cor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support your philosophy with science, be prepared for science to prove it wro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Are We in our Galax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sible Milky Way suggests our galaxy is a flat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rounding other galaxies is a spherical halo of Globular St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laxies and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’s Globular Clu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ky Way As We See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atomy of a Gala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ral Ar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DADB-AF67-4371-B282-B2DEE1F36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5AE1-743D-48D7-80E2-5BCA3F40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A3E-B6CE-4F07-983C-B56D9C22F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3BA0-6A9D-4B53-AFDC-F228781DD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268B-D46C-42A4-8AC2-21DD40F3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B3DC-0F59-4E05-8C0B-37BBB638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59DF-DEB0-4A78-B1AA-29F5CB72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CB10-E841-436C-8195-3581675C0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C53D-BD21-4387-8A0E-96B6F913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CE09-1A86-476D-B2E0-CCB2D8FC7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026E-D00A-4290-AF36-D7A7E797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333-DEA0-4EDB-92D5-1E52C8A78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F73C6-12CF-4255-A0DF-5412BE1C16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In Microwaves, We Can See the Hub of the Galax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M:\working copy\PLANETS\AstronImages\cobe_milkyw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4672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M:\working copy\GRAPHIC0\Astronomy\NearArms1.gif"/>
          <p:cNvPicPr/>
          <p:nvPr/>
        </p:nvPicPr>
        <p:blipFill>
          <a:blip r:embed="rId1"/>
          <a:stretch/>
        </p:blipFill>
        <p:spPr>
          <a:xfrm>
            <a:off x="1600200" y="1133640"/>
            <a:ext cx="5996160" cy="572436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pping the Neighborho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28" descr="M:\working copy\GRAPHIC0\Astronomy\NearArms2.gif"/>
          <p:cNvPicPr/>
          <p:nvPr/>
        </p:nvPicPr>
        <p:blipFill>
          <a:blip r:embed="rId1"/>
          <a:stretch/>
        </p:blipFill>
        <p:spPr>
          <a:xfrm>
            <a:off x="1598760" y="1133640"/>
            <a:ext cx="5995800" cy="572436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2667240" cy="533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3" descr="M:\working copy\GRAPHIC0\Astronomy\Galmap1.gif"/>
          <p:cNvPicPr/>
          <p:nvPr/>
        </p:nvPicPr>
        <p:blipFill>
          <a:blip r:embed="rId1"/>
          <a:stretch/>
        </p:blipFill>
        <p:spPr>
          <a:xfrm>
            <a:off x="3124080" y="685800"/>
            <a:ext cx="5722920" cy="53370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25146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pping the Galax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t There Ye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3" descr="M:\working copy\GRAPHIC0\Astronomy\galmap2.gif"/>
          <p:cNvPicPr/>
          <p:nvPr/>
        </p:nvPicPr>
        <p:blipFill>
          <a:blip r:embed="rId1"/>
          <a:stretch/>
        </p:blipFill>
        <p:spPr>
          <a:xfrm>
            <a:off x="3733920" y="914400"/>
            <a:ext cx="4762440" cy="523872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1752480" cy="335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Grou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3" descr="M:\working copy\GRAPHIC0\Astronomy\localgrp.gif"/>
          <p:cNvPicPr/>
          <p:nvPr/>
        </p:nvPicPr>
        <p:blipFill>
          <a:blip r:embed="rId1"/>
          <a:stretch/>
        </p:blipFill>
        <p:spPr>
          <a:xfrm>
            <a:off x="1827360" y="227160"/>
            <a:ext cx="7148520" cy="639108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owntown: The Virgo Cluster: 50 m.l.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27" descr="M:\working copy\PLANETS\AstronImages\gal_virgo.gif"/>
          <p:cNvPicPr/>
          <p:nvPr/>
        </p:nvPicPr>
        <p:blipFill>
          <a:blip r:embed="rId1"/>
          <a:stretch/>
        </p:blipFill>
        <p:spPr>
          <a:xfrm>
            <a:off x="1447920" y="1828800"/>
            <a:ext cx="6389640" cy="458640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19051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Local Super-clus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3" descr="M:\working copy\GRAPHIC0\Astronomy\localsupercluster.gif"/>
          <p:cNvPicPr/>
          <p:nvPr/>
        </p:nvPicPr>
        <p:blipFill>
          <a:blip r:embed="rId1"/>
          <a:stretch/>
        </p:blipFill>
        <p:spPr>
          <a:xfrm>
            <a:off x="2279520" y="0"/>
            <a:ext cx="6873840" cy="686448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259092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Coma Cluster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5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M:\working copy\PLANETS\AstronImages\gal_coma.gif"/>
          <p:cNvPicPr/>
          <p:nvPr/>
        </p:nvPicPr>
        <p:blipFill>
          <a:blip r:embed="rId1"/>
          <a:stretch/>
        </p:blipFill>
        <p:spPr>
          <a:xfrm>
            <a:off x="3200400" y="990720"/>
            <a:ext cx="5703840" cy="53038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2895480" cy="563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rge-Scale Structure of the Universe to 500 m.l.y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3" descr="M:\working copy\PLANETS\AstronImages\galaxy survey.gif"/>
          <p:cNvPicPr/>
          <p:nvPr/>
        </p:nvPicPr>
        <p:blipFill>
          <a:blip r:embed="rId1"/>
          <a:stretch/>
        </p:blipFill>
        <p:spPr>
          <a:xfrm>
            <a:off x="3352680" y="533520"/>
            <a:ext cx="5343480" cy="56577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371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eek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alax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mil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lliam Herschel, 1783: A disk with the Sun slightly off-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M:\working copy\GRAPHIC0\Astronomy\herschel.gif"/>
          <p:cNvPicPr/>
          <p:nvPr/>
        </p:nvPicPr>
        <p:blipFill>
          <a:blip r:embed="rId1"/>
          <a:stretch/>
        </p:blipFill>
        <p:spPr>
          <a:xfrm>
            <a:off x="990720" y="3124080"/>
            <a:ext cx="7148520" cy="328788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avel to the Star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inetic Energy = 1/2 M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does it take to get a 1000-ton spaceship to 10% of the speed of light? (43 years to Alpha Centauri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=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kg, v = 3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7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/se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 = 1/2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x 9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4.5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quals U.S. Energy Production for 4.5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you get there, you have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o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Einstei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1" descr="Einst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lativ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ed of Light is Independent of Sour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chelson and Morley, 1887 - Speed of Light Independent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bser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Most Unexpected Results in the History of Science” - Isaac Asim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Speed of Light is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Same for All Observ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ication: Space and Time Must Change to Keep Speed of Light Cons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y the Speed of Light is a Speed Limi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ergy of a Moving Object in Relativity: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 =     m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                                               </a:t>
            </a:r>
            <a:r>
              <a:rPr b="1" lang="en-US" sz="800" spc="-1" strike="noStrike" baseline="30000">
                <a:solidFill>
                  <a:srgbClr val="000000"/>
                </a:solidFill>
                <a:latin typeface="Calibri"/>
              </a:rPr>
              <a:t>-------------------------------------------------------------------------------</a:t>
            </a:r>
            <a:br>
              <a:rPr sz="800"/>
            </a:br>
            <a:r>
              <a:rPr b="0" lang="en-US" sz="800" spc="-1" strike="noStrike" baseline="30000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 - v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consequence: as v approaches c, Energy goes to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nfi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so, as we approach c, Energy goes up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ery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M:\working copy\GRAPHIC0\Astronomy\einstein.gif"/>
          <p:cNvPicPr/>
          <p:nvPr/>
        </p:nvPicPr>
        <p:blipFill>
          <a:blip r:embed="rId1"/>
          <a:stretch/>
        </p:blipFill>
        <p:spPr>
          <a:xfrm>
            <a:off x="1219320" y="914400"/>
            <a:ext cx="6856200" cy="5284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el Economy of a Starshi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1 c, energy is 0.7% greater than Newtonian formu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5 c, 24%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 c, 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 c, 12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0.999 c, 43 x grea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extra 9 more than triples the ener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tting our 1000 ton ship to 0.9 c takes 1.1 x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joules = U.S. energy use for 1100 ye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nother Consequence of Relativity- Gravitational Lens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3" descr="M:\working copy\PLANETS\AstronImages\gravlens.jpg"/>
          <p:cNvPicPr/>
          <p:nvPr/>
        </p:nvPicPr>
        <p:blipFill>
          <a:blip r:embed="rId1"/>
          <a:stretch/>
        </p:blipFill>
        <p:spPr>
          <a:xfrm>
            <a:off x="0" y="2141640"/>
            <a:ext cx="9144000" cy="47163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2" descr="SpaceCurv0.gif"/>
          <p:cNvPicPr/>
          <p:nvPr/>
        </p:nvPicPr>
        <p:blipFill>
          <a:blip r:embed="rId1"/>
          <a:stretch/>
        </p:blipFill>
        <p:spPr>
          <a:xfrm>
            <a:off x="914400" y="152388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Does The Universe Look Lik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3" descr="SpaceCurv1.gif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48769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 Big Ba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dwin Hubble, Recession of Galaxies, 19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d-shift increases with d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smic Microwave Background, 196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stimated Age of Universe: 12-15 b.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ang” originally a derisive term, coined by Fred Ho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Are Galaxie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th Century: “Spiral Nebula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arby? Maybe Solar Systems in Form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: Galaxies are Sta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920’s: Galaxies are like the Milky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gest single increase in our mental picture  of the Universe in human his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 Far Out as We Can See -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Ten Day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With the Hubble Telescop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3" descr="M:\working copy\PLANETS\AstronImages\deep_field_small.gif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561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New Name for the “Big Bang?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Sky and Telescope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, 1995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Big Boo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od’s Log-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 Withair Day (“Nobody ever named anything else after me, so why not?”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If I Push This Butt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’re Never Going To Get It All Back In There Ag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90% of the Universe is “Missing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er Stars in Galaxies revolve faster than exp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olds clusters of galaxies togeth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: There must be a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lo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f invisible mass in the Univer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 really “missing”, just non-lumino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stronomers Are Not As Upset As One Might Expec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HO’s (Massive Compact Halo Objects): faint stars, brown dwarfs, plane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ol non-luminous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ive Neutrino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MP’s (Weakly Interacting Massive Particl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gnetic monop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otic objects: strings, mini-black h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n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greater and the Universe would already have collapsed in on itsel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uch less and stars could not have for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uclear For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im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sion too eas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thropic Princi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smology has to be able to explain why we exi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just came out that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has to be that way for reasons we haven’t yet discove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ybe there are an infinity of universes but only those with certain parameters develop intelligent life (Multivers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gineered or de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ne Tuning the Univer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sign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esn’t Explain Any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Designer can create a Universe, why is c = 300,000 km/sec instead of 400,000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Designe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to have c = 300,000 km/sec, why? What (who?) dictated that, and wh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o says Designer is anything pictured by any relig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isinterpreting Relativ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re are no absolu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ed of light is absolu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t may not be possible to be absolutely right but it is very easy to be absolutely wro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Will It All End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illions of years: Star formation 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-100 trillion years: Stars stop radi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lanetary orbits dec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–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4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years: Protons deca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t Deat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Crunch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ig Bo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4920" y="274680"/>
            <a:ext cx="85341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What Does Cosmology Imply for Philosophy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 Least, Not Y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Hopelessly Premature To Try To Create A Philosophy Based on Cosm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can say what the fate of the Universe will be based on specific assum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a long way from knowing the assumptions are complete or correc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support your philosophy with science, be prepared for science to prove it wro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ere Are We in our Galaxy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visible Milky Way suggests our galaxy is a flat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rrounding other galaxies is a spherical halo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lobular Star Clus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M:\working copy\PLANETS\PLANFOTO\glob0.jpg"/>
          <p:cNvPicPr/>
          <p:nvPr/>
        </p:nvPicPr>
        <p:blipFill>
          <a:blip r:embed="rId1"/>
          <a:stretch/>
        </p:blipFill>
        <p:spPr>
          <a:xfrm>
            <a:off x="4648320" y="1600200"/>
            <a:ext cx="3894120" cy="48672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1" descr="Einstein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Einstein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Galaxies and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M:\working copy\GRAPHIC0\Astronomy\galaxy2.gif"/>
          <p:cNvPicPr/>
          <p:nvPr/>
        </p:nvPicPr>
        <p:blipFill>
          <a:blip r:embed="rId1"/>
          <a:stretch/>
        </p:blipFill>
        <p:spPr>
          <a:xfrm>
            <a:off x="-6480" y="1138320"/>
            <a:ext cx="9150480" cy="571968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’s Globular Clus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M:\working copy\GRAPHIC0\Astronomy\globclusters.gif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495324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Milky Way As We See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M:\working copy\GRAPHIC0\Astronomy\galaxy1.gif"/>
          <p:cNvPicPr/>
          <p:nvPr/>
        </p:nvPicPr>
        <p:blipFill>
          <a:blip r:embed="rId1"/>
          <a:stretch/>
        </p:blipFill>
        <p:spPr>
          <a:xfrm>
            <a:off x="304920" y="1295280"/>
            <a:ext cx="8574120" cy="51451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tomy of a Galax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M:\working copy\GRAPHIC0\Astronomy\pop1-2.gif"/>
          <p:cNvPicPr/>
          <p:nvPr/>
        </p:nvPicPr>
        <p:blipFill>
          <a:blip r:embed="rId1"/>
          <a:stretch/>
        </p:blipFill>
        <p:spPr>
          <a:xfrm>
            <a:off x="0" y="1981080"/>
            <a:ext cx="9144000" cy="379440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piral Ar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3" descr="M:\working copy\GRAPHIC0\Astronomy\m51.gif"/>
          <p:cNvPicPr/>
          <p:nvPr/>
        </p:nvPicPr>
        <p:blipFill>
          <a:blip r:embed="rId1"/>
          <a:stretch/>
        </p:blipFill>
        <p:spPr>
          <a:xfrm>
            <a:off x="990720" y="1295280"/>
            <a:ext cx="7138800" cy="479772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7T16:11:44Z</dcterms:created>
  <dc:creator>default prof</dc:creator>
  <dc:description/>
  <dc:language>en-US</dc:language>
  <cp:lastModifiedBy>Legion</cp:lastModifiedBy>
  <dcterms:modified xsi:type="dcterms:W3CDTF">2017-01-26T10:06:37Z</dcterms:modified>
  <cp:revision>10</cp:revision>
  <dc:subject/>
  <dc:title>Galaxies and the Univers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www.uwgb.edu/dutchs</vt:lpwstr>
  </property>
  <property fmtid="{D5CDD505-2E9C-101B-9397-08002B2CF9AE}" pid="9" name="LinkColor">
    <vt:r8>16711782</vt:r8>
  </property>
  <property fmtid="{D5CDD505-2E9C-101B-9397-08002B2CF9AE}" pid="10" name="MailAddress">
    <vt:lpwstr>dutchs@uwgb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M:\working copy\COSNOTE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