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6.jpeg" ContentType="image/jpeg"/>
  <Override PartName="/ppt/media/image25.jpeg" ContentType="image/jpeg"/>
  <Override PartName="/ppt/media/image20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44A3-3685-4579-B671-3B4FB9BEBFF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xies and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 and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icrowaves, We Can See the Hub of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icrowaves, We Can See the Hub of the Gala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the Neighborh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the Neighborh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the Neighborh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the Neighborh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the Galax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There Y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the Galax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here Y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the Galax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There Y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the Galax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here Y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c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wntown: The Virgo Cluster: 50 m.l.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town: The Virgo Cluster: 50 m.l.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cal Super-clu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al Super-clu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a Clus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0 m.l.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a Clus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0 m.l.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-Scale Structure of the Universe to 500 m.l.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-Scale Structure of the Universe to 500 m.l.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Galaxi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k galax = mi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Herschel, 1783: A disk with the Sun slightly off-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Galax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 galax = mi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iam Herschel, 1783: A disk with the Sun slightly off-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vel to the Sta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etic Energy = 1/2 M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it take to get a 1000-ton spaceship to 10% of the speed of light? (43 years to Alpha Centaur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=106 kg, v = 3 x 107 m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 = 1/2 x 106 x 9 x 1014 = 4.5 x 1020 jo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ls U.S. Energy Production for 4.5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you get there, you have to sto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o the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etic Energy = 1/2 M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it take to get a 1000-ton spaceship to 10% of the speed of light? (43 years to Alpha Centaur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=106 kg, v = 3 x 107 m/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 = 1/2 x 106 x 9 x 1014 = 4.5 x 1020 jo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ls U.S. Energy Production for 4.5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get there, you have to st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of Light is Independent of Sou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helson and Morley, 1887 - Speed of Light Independent of Obser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Most Unexpected Results in the History of Science” - Isaac Asimo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: Speed of Light is the Same for All Obser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lication: Space and Time Must Change to Keep Speed of Light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of Light is Independent of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elson and Morley, 1887 - Speed of Light Independent of Ob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Most Unexpected Results in the History of Science” - Isaac Asim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: Speed of Light is the Same for All Obser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ation: Space and Time Must Change to Keep Speed of Light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the Speed of Light is a Speed Lim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of a Moving Object in Relativity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    mc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-----------------------------------------------------------------------------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  1 - v2/c2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consequence: as v approaches c, Energy goes to infi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, as we approach c, Energy goes up very f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 Speed of Light is a Speed Li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of a Moving Object in Relativity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    mc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-----------------------------------------------------------------------------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  1 - v2/c2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onsequence: as v approaches c, Energy goes to infi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, as we approach c, Energy goes up very f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el Economy of a Starsh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1 c, energy is 0.7% greater than Newtonian form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5 c, 24%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9 c, 3 x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99 c, 12 x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999 c, 43 x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extra 9 more than triples the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ting our 1000 ton ship to 0.9 c takes 1.1 x 1023 joules = U.S. energy use for 1100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el Economy of a Star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1 c, energy is 0.7% greater than Newtonian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5 c, 24%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9 c, 3 x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99 c, 12 x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999 c, 43 x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extra 9 more than triples the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our 1000 ton ship to 0.9 c takes 1.1 x 1023 joules = U.S. energy use for 110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Consequence of Relativity- Gravitational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Consequence of Relativity- Gravitational Len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The Universe Look Li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Universe Look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The Universe Look Li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Universe Look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g Bang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win Hubble, Recession of Galaxies, 19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-shift increases with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mic Microwave Background, 19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imated Age of Universe: 12-15 b.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Bang” originally a derisive term, coined by Fred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Ba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in Hubble, Recession of Galaxies, 19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-shift increases with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mic Microwave Background, 19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d Age of Universe: 12-15 b.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ang” originally a derisive term, coined by Fred Ho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Galaxi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th Century: “Spiral Nebula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by? Maybe Solar Systems in Form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20: Galaxies ar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20’s: Galaxies are like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gest single increase in our mental picture  of the Universe in human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Galax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th Century: “Spiral Nebula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by? Maybe Solar Systems in Form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0: Galaxies ar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0’s: Galaxies are like the Milky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gest single increase in our mental picture  of the Universe in human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Far Out as We Can See - Ten Days With the Hubble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Far Out as We Can See - Ten Days With the Hubble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Name for the “Big Bang?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ky and Telescope, 199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g B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’s Log-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d Withair Day (“Nobody ever named anything else after me, so why not?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 If I Push This Butt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re Never Going To Get It All Back In There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w Name for the “Big Bang?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ky and Telescope, 199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B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d’s Log-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d Withair Day (“Nobody ever named anything else after me, so why not?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If I Push This Butt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’re Never Going To Get It All Back In There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0% of the Universe is “Missing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Stars in Galaxies revolve faster than expec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olds clusters of galaxies togeth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: There must be a lot of invisible mass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really “missing”, just non-lumin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% of the Universe is “Miss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Stars in Galaxies revolve faster than exp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olds clusters of galaxies togeth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: There must be a lot of invisible mass in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really “missing”, just non-lumin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ronomers Are Not As Upset As One Might Exp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HO’s (Massive Compact Halo Objects): faint stars, brown dwarfs,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 non-luminous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ive Neutrino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MP’s (Weakly Interacting Massive Partic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mono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otic objects: strings, mini-black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Are Not As Upset As One Might Exp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HO’s (Massive Compact Halo Objects): faint stars, brown dwarfs,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 non-luminous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ive Neutrino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MP’s (Weakly Interacting Massive Partic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mono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otic objects: strings, mini-black 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ch greater and the Universe would already have collapsed in on it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ch less and stars could not have for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impos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too eas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hropic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mology has to be able to explain why we ex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greater and the Universe would already have collapsed in on it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less and stars could no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m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too ea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hropic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mology has to be able to explain why we ex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just came out that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to be that way for reasons we haven’t yet discov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be there are an infinity of universes but only those with certain parameters develop intelligent life (Multiver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ineered or desig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just came out that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to be that way for reasons we haven’t yet discov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be there are an infinity of universes but only those with certain parameters develop intelligent life (Multiver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ineered or desig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ign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n’t Explain Any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Designer can create a Universe, why is c = 300,000 km/sec instead of 400,000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Designer had to have c = 300,000 km/sec, why? What (who?) dictated that, and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says Designer is anything pictured by any relig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Explain Any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Designer can create a Universe, why is c = 300,000 km/sec instead of 400,000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esigner had to have c = 300,000 km/sec, why? What (who?) dictated that, and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says Designer is anything pictured by any relig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interpreting Rela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 absol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of light is absolu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ay not be possible to be absolutely right but it is very easy to be absolutely 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interpreting Rel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no absol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of light is absol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y not be possible to be absolutely right but it is very easy to be absolutely 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Will It All En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llions of years: Star formation e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-100 trillion years: Stars stop radi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15 – 1020 years: Planetary orbits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32 – 1041 years: Protons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 Deat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Crun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Boun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Will It All E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llions of years: Star formation 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100 trillion years: Stars stop radi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15 – 1020 years: Planetary orbits dec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32 – 1041 years: Protons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Deat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Crunc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ou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Cosmology Imply for Philosop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Least, Not Y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Hopelessly Premature To Try To Create A Philosophy Based on Cosm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say what the fate of the Universe will be based on specific assump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a long way from knowing the assumptions are complete or 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support your philosophy with science, be prepared for science to prove it 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Cosmology Imply for Philosop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Least, Not Y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Hopelessly Premature To Try To Create A Philosophy Based on Cosm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say what the fate of the Universe will be based on specific assum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a long way from knowing the assumptions are complete or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support your philosophy with science, be prepared for science to prove it 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Are We in our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sible Milky Way suggests our galaxy is a flat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 other galaxies is a spherical halo of Globular St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We in our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ble Milky Way suggests our galaxy is a flat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rounding other galaxies is a spherical halo of Globular Star Clu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xies and 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 and Globular Clu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’s 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lky Way’s Globular Clu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 As We See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lky Way As We See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tomy of a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tomy of a Gala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ral A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E205-3008-4A83-91C1-7A848D2B7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216B-0169-4C46-ACE6-BEFAD1CD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F116-3B2D-443D-85BF-F8A92E7C5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FFDB-03F6-461F-9ABC-C80A7C0D3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6115-C568-4A80-A74E-5DB175AB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12C2-6A69-4C88-83FF-D323A37B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4AF8-89A3-4EB0-B9DF-3668E821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39EC-0521-4611-A930-C1DD3D73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30E2-F41B-407F-91B2-7CD01888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D803-2208-49BE-8578-8DA66B5F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ECD9-9032-4B96-8154-02C4F50E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21B3-B7E3-413A-B7FD-DF6B41A5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69CC-44B3-4BFF-9B2C-AF9014D272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laxies and the Unive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Microwaves, We Can See the Hub of the Galax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M:\working copy\PLANETS\AstronImages\cobe_milkyw.gif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46724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the Neighborho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M:\working copy\GRAPHIC0\Astronomy\NearArms1.gif"/>
          <p:cNvPicPr/>
          <p:nvPr/>
        </p:nvPicPr>
        <p:blipFill>
          <a:blip r:embed="rId1"/>
          <a:stretch/>
        </p:blipFill>
        <p:spPr>
          <a:xfrm>
            <a:off x="1600200" y="1133640"/>
            <a:ext cx="5996160" cy="572436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pping the Neighborho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028" descr="M:\working copy\GRAPHIC0\Astronomy\NearArms2.gif"/>
          <p:cNvPicPr/>
          <p:nvPr/>
        </p:nvPicPr>
        <p:blipFill>
          <a:blip r:embed="rId1"/>
          <a:stretch/>
        </p:blipFill>
        <p:spPr>
          <a:xfrm>
            <a:off x="1598760" y="1133640"/>
            <a:ext cx="5995800" cy="572436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266724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the Galax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 There Y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M:\working copy\GRAPHIC0\Astronomy\Galmap1.gif"/>
          <p:cNvPicPr/>
          <p:nvPr/>
        </p:nvPicPr>
        <p:blipFill>
          <a:blip r:embed="rId1"/>
          <a:stretch/>
        </p:blipFill>
        <p:spPr>
          <a:xfrm>
            <a:off x="3124080" y="685800"/>
            <a:ext cx="5722920" cy="53370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25146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the Galax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 There Y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M:\working copy\GRAPHIC0\Astronomy\galmap2.gif"/>
          <p:cNvPicPr/>
          <p:nvPr/>
        </p:nvPicPr>
        <p:blipFill>
          <a:blip r:embed="rId1"/>
          <a:stretch/>
        </p:blipFill>
        <p:spPr>
          <a:xfrm>
            <a:off x="3733920" y="914400"/>
            <a:ext cx="4762440" cy="523872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175248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ocal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M:\working copy\GRAPHIC0\Astronomy\localgrp.gif"/>
          <p:cNvPicPr/>
          <p:nvPr/>
        </p:nvPicPr>
        <p:blipFill>
          <a:blip r:embed="rId1"/>
          <a:stretch/>
        </p:blipFill>
        <p:spPr>
          <a:xfrm>
            <a:off x="1827360" y="227160"/>
            <a:ext cx="7148520" cy="63910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owntown: The Virgo Cluster: 50 m.l.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027" descr="M:\working copy\PLANETS\AstronImages\gal_virgo.gif"/>
          <p:cNvPicPr/>
          <p:nvPr/>
        </p:nvPicPr>
        <p:blipFill>
          <a:blip r:embed="rId1"/>
          <a:stretch/>
        </p:blipFill>
        <p:spPr>
          <a:xfrm>
            <a:off x="1447920" y="1828800"/>
            <a:ext cx="6389640" cy="458640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19051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ocal Super-clu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M:\working copy\GRAPHIC0\Astronomy\localsupercluster.gif"/>
          <p:cNvPicPr/>
          <p:nvPr/>
        </p:nvPicPr>
        <p:blipFill>
          <a:blip r:embed="rId1"/>
          <a:stretch/>
        </p:blipFill>
        <p:spPr>
          <a:xfrm>
            <a:off x="2279520" y="0"/>
            <a:ext cx="6873840" cy="68644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259092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oma Clus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50 m.l.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M:\working copy\PLANETS\AstronImages\gal_coma.gif"/>
          <p:cNvPicPr/>
          <p:nvPr/>
        </p:nvPicPr>
        <p:blipFill>
          <a:blip r:embed="rId1"/>
          <a:stretch/>
        </p:blipFill>
        <p:spPr>
          <a:xfrm>
            <a:off x="3200400" y="990720"/>
            <a:ext cx="5703840" cy="53038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289548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rge-Scale Structure of the Universe to 500 m.l.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M:\working copy\PLANETS\AstronImages\galaxy survey.gif"/>
          <p:cNvPicPr/>
          <p:nvPr/>
        </p:nvPicPr>
        <p:blipFill>
          <a:blip r:embed="rId1"/>
          <a:stretch/>
        </p:blipFill>
        <p:spPr>
          <a:xfrm>
            <a:off x="3352680" y="533520"/>
            <a:ext cx="5343480" cy="56577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re Galaxi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ek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ala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mil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iam Herschel, 1783: A disk with the Sun slightly off-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M:\working copy\GRAPHIC0\Astronomy\herschel.gif"/>
          <p:cNvPicPr/>
          <p:nvPr/>
        </p:nvPicPr>
        <p:blipFill>
          <a:blip r:embed="rId1"/>
          <a:stretch/>
        </p:blipFill>
        <p:spPr>
          <a:xfrm>
            <a:off x="990720" y="3124080"/>
            <a:ext cx="7148520" cy="32878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vel to the Star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netic Energy = 1/2 M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it take to get a 1000-ton spaceship to 10% of the speed of light? (43 years to Alpha Centaur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=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g, v = 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/se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 = 1/2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x 9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4.5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jo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quals U.S. Energy Production for 4.5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you get there, you have to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o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Einste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Einst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la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ed of Light is Independent of Sou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helson and Morley, 1887 - Speed of Light Independent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bser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of the Most Unexpected Results in the History of Science” - Isaac Asim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: Speed of Light i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Same for All Observ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ication: Space and Time Must Change to Keep Speed of Light Cons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the Speed of Light is a Speed Lim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ergy of a Moving Object in Relativity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=     m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br>
              <a:rPr sz="800"/>
            </a:br>
            <a:r>
              <a:rPr b="0" lang="en-US" sz="800" spc="-1" strike="noStrike" baseline="30000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en-US" sz="800" spc="-1" strike="noStrike" baseline="30000">
                <a:solidFill>
                  <a:srgbClr val="000000"/>
                </a:solidFill>
                <a:latin typeface="Calibri"/>
              </a:rPr>
              <a:t>-------------------------------------------------------------------------------</a:t>
            </a:r>
            <a:br>
              <a:rPr sz="800"/>
            </a:br>
            <a:r>
              <a:rPr b="0" lang="en-US" sz="800" spc="-1" strike="noStrike" baseline="30000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-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consequence: as v approaches c, Energy goes to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fi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, as we approach c, Energy goes up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ery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M:\working copy\GRAPHIC0\Astronomy\einstein.gif"/>
          <p:cNvPicPr/>
          <p:nvPr/>
        </p:nvPicPr>
        <p:blipFill>
          <a:blip r:embed="rId1"/>
          <a:stretch/>
        </p:blipFill>
        <p:spPr>
          <a:xfrm>
            <a:off x="1219320" y="914400"/>
            <a:ext cx="6856200" cy="52848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el Economy of a Starsh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1 c, energy is 0.7% greater than Newtonian form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5 c, 24% gr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9 c, 3 x gr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99 c, 12 x gr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999 c, 43 x gr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extra 9 more than triples the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tting our 1000 ton ship to 0.9 c takes 1.1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joules = U.S. energy use for 1100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other Consequence of Relativity- Gravitational Len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M:\working copy\PLANETS\AstronImages\gravlens.jpg"/>
          <p:cNvPicPr/>
          <p:nvPr/>
        </p:nvPicPr>
        <p:blipFill>
          <a:blip r:embed="rId1"/>
          <a:stretch/>
        </p:blipFill>
        <p:spPr>
          <a:xfrm>
            <a:off x="0" y="2141640"/>
            <a:ext cx="9144000" cy="471636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es The Universe Look Lik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SpaceCurv0.gif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48769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es The Universe Look Lik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SpaceCurv1.gif"/>
          <p:cNvPicPr/>
          <p:nvPr/>
        </p:nvPicPr>
        <p:blipFill>
          <a:blip r:embed="rId1"/>
          <a:stretch/>
        </p:blipFill>
        <p:spPr>
          <a:xfrm>
            <a:off x="914400" y="1371600"/>
            <a:ext cx="7315200" cy="48769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Big Bang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dwin Hubble, Recession of Galaxies, 19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-shift increases with di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mic Microwave Background, 196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imated Age of Universe: 12-15 b.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 Bang” originally a derisive term, coined by Fred Ho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re Galaxi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th Century: “Spiral Nebula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arby? Maybe Solar Systems in Form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20: Galaxies are St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20’s: Galaxies are like the Milky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gest single increase in our mental picture  of the Universe in human hi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s Far Out as We Can See -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Ten Day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With the Hubble Telescop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3" descr="M:\working copy\PLANETS\AstronImages\deep_field_small.gif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55616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New Name for the “Big Bang?”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Sky and Telescop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1995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ig Bo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d’s Log-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d Withair Day (“Nobody ever named anything else after me, so why not?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If I Push This Butt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’re Never Going To Get It All Back In There A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90% of the Universe is “Missing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er Stars in Galaxies revolve faster than exp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olds clusters of galaxies togeth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: There must be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invisible mass in the Unive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really “missing”, just non-lumin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stronomers Are Not As Upset As One Might Expe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HO’s (Massive Compact Halo Objects): faint stars, brown dwarfs, plan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l non-luminous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ive Neutrino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MP’s (Weakly Interacting Massive Particl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gnetic monop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otic objects: strings, mini-black h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ch greater and the Universe would already have collapsed in on it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ch less and stars could not have for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ear Fo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sion im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sion too ea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hropic Princi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smology has to be able to explain why we ex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just came out that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to be that way for reasons we haven’t yet discove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be there are an infinity of universes but only those with certain parameters develop intelligent life (Multivers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ineered or desig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n’t Explain Any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 Designer can create a Universe, why is c = 300,000 km/sec instead of 400,000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Designe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have c = 300,000 km/sec, why? What (who?) dictated that, and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says Designer is anything pictured by any relig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sinterpreting Rela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no absol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ed of light is absol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may not be possible to be absolutely right but it is very easy to be absolutely wro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Will It All E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illions of years: Star formation e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-100 trillion years: Stars stop radia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years: Planetary orbits dec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years: Protons dec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t Deat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 Crunc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 Boun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at Does Cosmology Imply for Philosophy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Least, Not Y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Hopelessly Premature To Try To Create A Philosophy Based on Cosm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can say what the fate of the Universe will be based on specific assum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re a long way from knowing the assumptions are complete or corr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support your philosophy with science, be prepared for science to prove it wro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Are We in our Galax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isible Milky Way suggests our galaxy is a flat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rounding other galaxies is a spherical halo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lobular Star Clus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M:\working copy\PLANETS\PLANFOTO\glob0.jpg"/>
          <p:cNvPicPr/>
          <p:nvPr/>
        </p:nvPicPr>
        <p:blipFill>
          <a:blip r:embed="rId1"/>
          <a:stretch/>
        </p:blipFill>
        <p:spPr>
          <a:xfrm>
            <a:off x="4648320" y="1600200"/>
            <a:ext cx="3894120" cy="48672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Einstein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Einstein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laxies and Globular Clus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M:\working copy\GRAPHIC0\Astronomy\galaxy2.gif"/>
          <p:cNvPicPr/>
          <p:nvPr/>
        </p:nvPicPr>
        <p:blipFill>
          <a:blip r:embed="rId1"/>
          <a:stretch/>
        </p:blipFill>
        <p:spPr>
          <a:xfrm>
            <a:off x="-6480" y="1138320"/>
            <a:ext cx="9150480" cy="571968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ilky Way’s Globular Clus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M:\working copy\GRAPHIC0\Astronomy\globclusters.gif"/>
          <p:cNvPicPr/>
          <p:nvPr/>
        </p:nvPicPr>
        <p:blipFill>
          <a:blip r:embed="rId1"/>
          <a:stretch/>
        </p:blipFill>
        <p:spPr>
          <a:xfrm>
            <a:off x="1828800" y="1295280"/>
            <a:ext cx="5715000" cy="49532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ilky Way As We See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M:\working copy\GRAPHIC0\Astronomy\galaxy1.gif"/>
          <p:cNvPicPr/>
          <p:nvPr/>
        </p:nvPicPr>
        <p:blipFill>
          <a:blip r:embed="rId1"/>
          <a:stretch/>
        </p:blipFill>
        <p:spPr>
          <a:xfrm>
            <a:off x="304920" y="1295280"/>
            <a:ext cx="8574120" cy="51451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tomy of a Galax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M:\working copy\GRAPHIC0\Astronomy\pop1-2.gif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379440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piral Ar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M:\working copy\GRAPHIC0\Astronomy\m51.gif"/>
          <p:cNvPicPr/>
          <p:nvPr/>
        </p:nvPicPr>
        <p:blipFill>
          <a:blip r:embed="rId1"/>
          <a:stretch/>
        </p:blipFill>
        <p:spPr>
          <a:xfrm>
            <a:off x="990720" y="1295280"/>
            <a:ext cx="7138800" cy="47977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7T16:11:44Z</dcterms:created>
  <dc:creator>default prof</dc:creator>
  <dc:description/>
  <dc:language>en-US</dc:language>
  <cp:lastModifiedBy>Legion</cp:lastModifiedBy>
  <dcterms:modified xsi:type="dcterms:W3CDTF">2017-01-26T10:06:37Z</dcterms:modified>
  <cp:revision>10</cp:revision>
  <dc:subject/>
  <dc:title>Galaxies and the Univer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uwgb.edu/dutchs</vt:lpwstr>
  </property>
  <property fmtid="{D5CDD505-2E9C-101B-9397-08002B2CF9AE}" pid="9" name="LinkColor">
    <vt:r8>16711782</vt:r8>
  </property>
  <property fmtid="{D5CDD505-2E9C-101B-9397-08002B2CF9AE}" pid="10" name="MailAddress">
    <vt:lpwstr>dutchs@uwgb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M:\working copy\COSNOTES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