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6.jpeg" ContentType="image/jpeg"/>
  <Override PartName="/ppt/media/image25.jpeg" ContentType="image/jpeg"/>
  <Override PartName="/ppt/media/image20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A05B-CB6F-470C-8688-CF5F2BB0EDC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 and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and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icrowaves, We Can See the Hub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crowaves, We Can See the Hub of the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c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town: The Virgo Cluster: 50 m.l.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town: The Virgo Cluster: 50 m.l.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cal Super-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Super-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 Clus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0 m.l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 Clus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 m.l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-Scale Structure of the Universe to 500 m.l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Structure of the Universe to 500 m.l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k galax =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Herschel, 1783: A disk with the Sun slightly off-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galax = mi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, 1783: A disk with the Sun slightly off-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 to the Sta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 = 1/2 M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it take to get a 1000-ton spaceship to 10% of the speed of light? (43 years to Alpha Centaur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=106 kg, v = 3 x 107 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 = 1/2 x 106 x 9 x 1014 = 4.5 x 1020 jo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s U.S. Energy Production for 4.5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get there, you have to sto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o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Energy = 1/2 M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take to get a 1000-ton spaceship to 10% of the speed of light? (43 years to Alpha Centaur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=106 kg, v = 3 x 107 m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 = 1/2 x 106 x 9 x 1014 = 4.5 x 1020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U.S. Energy Production for 4.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get there, you have to s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is Independent of 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helson and Morley, 1887 - Speed of Light Independent of Obser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Most Unexpected Results in the History of Science” - Isaac Asim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Speed of Light is the Same for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: Space and Time Must Change to Keep Speed of Light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Light is Independent of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son and Morley, 1887 - Speed of Light Independent of O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Most Unexpected Results in the History of Science” - Isaac Asim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 Speed of Light is the Same for All Ob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: Space and Time Must Change to Keep Speed of Light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Speed of Light is a Speed 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f a Moving Object in Relativity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    mc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-----------------------------------------------------------------------------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  1 - v2/c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consequence: as v approaches c, Energy goes to inf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, as we approach c, Energy goes up very 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Speed of Light is a Speed 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f a Moving Object in Relativity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    mc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-----------------------------------------------------------------------------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  1 - v2/c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nsequence: as v approaches c, Energy goes to 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, as we approach c, Energy goes up very f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el Economy of a Sta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1 c, energy is 0.7% greater than Newtonian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5 c, 24%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 c, 3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9 c, 12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99 c, 43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xtra 9 more than triples the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ting our 1000 ton ship to 0.9 c takes 1.1 x 1023 joules = U.S. energy use for 110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el Economy of a Sta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1 c, energy is 0.7% greater than Newtonian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5 c, 24%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 c, 3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9 c, 12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99 c, 43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xtra 9 more than triples th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our 1000 ton ship to 0.9 c takes 1.1 x 1023 joules = U.S. energy use for 11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Consequence of Relativity- Gravitational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Consequence of Relativity- Gravitational L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Ba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win Hubble, Recession of Galaxies, 19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-shift increases with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Microwave Background, 19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imated Age of Universe: 12-15 b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ang” originally a derisive term, coined by Fred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Ba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, Recession of Galaxies, 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shift increases with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mic Microwave Background, 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Age of Universe: 12-15 b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ang” originally a derisive term, coined by Fred Ho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th Century: “Spiral Nebula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by? Maybe Solar Systems in Form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: Galaxies ar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’s: Galaxies are like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gest single increase in our mental picture  of the Universe in human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“Spiral Nebula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by? Maybe Solar Systems in Form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: Galaxies ar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’s: Galaxies are like the Milky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gest single increase in our mental picture  of the Universe in huma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Far Out as We Can See - Ten Days With the Hubbl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Far Out as We Can See - Ten Days With the Hubbl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Name for the “Big Bang?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ky and Telescope, 199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B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’s Log-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 Withair Day (“Nobody ever named anything else after me, so why not?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If I Push This Butt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Never Going To Get It All Back In There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Name for the “Big Bang?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ky and Telescope, 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B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’s Log-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Withair Day (“Nobody ever named anything else after me, so why not?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f I Push This But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’re Never Going To Get It All Back In There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% of the Universe is “Missi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Stars in Galaxies revolve faster than exp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olds clusters of galaxies toget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There must be a lot of invisible mas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really “missing”, just non-lumi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the Universe is “Miss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Stars in Galaxies revolve faster than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olds clusters of galaxies togeth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 There must be a lot of invisible mass in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really “missing”, just non-lumi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ers Are Not As Upset As One Might Exp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HO’s (Massive Compact Halo Objects): faint stars, brown dwarfs,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non-luminous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ive Neutrino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MP’s (Weakly Interacting Massive Partic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mono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otic objects: strings, mini-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Are Not As Upset As One Might Ex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O’s (Massive Compact Halo Objects): faint stars, brown dwarfs,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non-luminous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Neutrin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MP’s (Weakly Interacting Massive Partic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mono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tic objects: strings, mini-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ch greater and the Universe would already have collapsed in on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ch less and stars could not have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im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too eas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hropic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ology has to be able to explain why we ex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greater and the Universe would already have collapsed in on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less and stars could no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m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too ea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ropic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mology has to be able to explain why we ex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just came out tha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to be that way for reasons we haven’t yet discov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there are an infinity of universes but only those with certain parameters develop intelligent life (Multiver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ered or desig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just came out that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to be that way for reasons we haven’t yet discov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there are an infinity of universes but only those with certain parameters develop intelligent life (Multiver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ed or desig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n’t Explain Any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Designer can create a Universe, why is c = 300,000 km/sec instead of 400,00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Designer had to have c = 300,000 km/sec, why? What (who?) dictated that, and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says Designer is anything pictured by any relig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Explain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Designer can create a Universe, why is c = 300,000 km/sec instead of 400,0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esigner had to have c = 300,000 km/sec, why? What (who?) dictated that,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says Designer is anything pictured by any relig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interpreting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absol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is ab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y not be possible to be absolutely right but it is very easy to be absolutely 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interpreting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 absol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light is absol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not be possible to be absolutely right but it is very easy to be absolutely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ill It All En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ions of years: Star formation e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-100 trillion years: Stars stop radi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15 – 1020 years: Planetary orbits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32 – 1041 years: Protons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Dea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Crun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ou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ill It All E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llions of years: Star formation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100 trillion years: Stars stop radi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5 – 1020 years: Planetary orbits dec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32 – 1041 years: Protons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Dea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Crun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ou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Cosmology Imply for Philosop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, Not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Hopelessly Premature To Try To Create A Philosophy Based on Co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ay what the fate of the Universe will be based on specific 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a long way from knowing the assumptions are complete or 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support your philosophy with science, be prepared for science to prove it 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Cosmology Imply for Philosop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, Not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lessly Premature To Try To Create A Philosophy Based on Co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ay what the fate of the Universe will be based on specific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a long way from knowing the assumptions are complete or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support your philosophy with science, be prepared for science to prove it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sible Milky Way suggests our galaxy is a flat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other galaxies is a spherical halo of Globular St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We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Milky Way suggests our galaxy is a flat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ing other galaxies is a spherical halo of Globular St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 and 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and Globul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’s 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ky Way’s Globul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 As We See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ky Way As We Se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tomy of a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ral A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F0BD-E2B4-439B-9234-F46FAFCE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312-362D-41DD-9D07-CE0AB7B0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B51-842A-44B6-9DE0-BD6F6A20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54F-AAD3-421B-B949-7D9FDC8B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E41-0BF2-48A3-9A9C-6B93F52A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804-D25C-4CC2-93FC-F6F03524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C210-B6C0-4DF8-AFBB-E2034F3C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D19-266F-4FFC-8A5E-4461216B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A8E3-8D64-4185-8EC9-9399C687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FAD-0463-4676-8663-29C2B3F3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2FC-5341-4F8F-A4EC-763A42C9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022-9FAE-4EC6-BC90-88452975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D098-08E6-4A01-B9D5-9431852D76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ies and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Microwaves, We Can See the Hub of the Galax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M:\working copy\PLANETS\AstronImages\cobe_milkyw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4672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M:\working copy\GRAPHIC0\Astronomy\NearArms1.gif"/>
          <p:cNvPicPr/>
          <p:nvPr/>
        </p:nvPicPr>
        <p:blipFill>
          <a:blip r:embed="rId1"/>
          <a:stretch/>
        </p:blipFill>
        <p:spPr>
          <a:xfrm>
            <a:off x="1600200" y="1133640"/>
            <a:ext cx="5996160" cy="57243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028" descr="M:\working copy\GRAPHIC0\Astronomy\NearArms2.gif"/>
          <p:cNvPicPr/>
          <p:nvPr/>
        </p:nvPicPr>
        <p:blipFill>
          <a:blip r:embed="rId1"/>
          <a:stretch/>
        </p:blipFill>
        <p:spPr>
          <a:xfrm>
            <a:off x="1598760" y="1133640"/>
            <a:ext cx="5995800" cy="57243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66724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M:\working copy\GRAPHIC0\Astronomy\Galmap1.gif"/>
          <p:cNvPicPr/>
          <p:nvPr/>
        </p:nvPicPr>
        <p:blipFill>
          <a:blip r:embed="rId1"/>
          <a:stretch/>
        </p:blipFill>
        <p:spPr>
          <a:xfrm>
            <a:off x="3124080" y="685800"/>
            <a:ext cx="5722920" cy="5337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5146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M:\working copy\GRAPHIC0\Astronomy\galmap2.gif"/>
          <p:cNvPicPr/>
          <p:nvPr/>
        </p:nvPicPr>
        <p:blipFill>
          <a:blip r:embed="rId1"/>
          <a:stretch/>
        </p:blipFill>
        <p:spPr>
          <a:xfrm>
            <a:off x="3733920" y="914400"/>
            <a:ext cx="4762440" cy="5238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175248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cal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M:\working copy\GRAPHIC0\Astronomy\localgrp.gif"/>
          <p:cNvPicPr/>
          <p:nvPr/>
        </p:nvPicPr>
        <p:blipFill>
          <a:blip r:embed="rId1"/>
          <a:stretch/>
        </p:blipFill>
        <p:spPr>
          <a:xfrm>
            <a:off x="1827360" y="227160"/>
            <a:ext cx="7148520" cy="63910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wntown: The Virgo Cluster: 50 m.l.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27" descr="M:\working copy\PLANETS\AstronImages\gal_virgo.gif"/>
          <p:cNvPicPr/>
          <p:nvPr/>
        </p:nvPicPr>
        <p:blipFill>
          <a:blip r:embed="rId1"/>
          <a:stretch/>
        </p:blipFill>
        <p:spPr>
          <a:xfrm>
            <a:off x="1447920" y="1828800"/>
            <a:ext cx="6389640" cy="45864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1905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cal Super-c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M:\working copy\GRAPHIC0\Astronomy\localsupercluster.gif"/>
          <p:cNvPicPr/>
          <p:nvPr/>
        </p:nvPicPr>
        <p:blipFill>
          <a:blip r:embed="rId1"/>
          <a:stretch/>
        </p:blipFill>
        <p:spPr>
          <a:xfrm>
            <a:off x="2279520" y="0"/>
            <a:ext cx="6873840" cy="68644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2590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ma Clu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50 m.l.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M:\working copy\PLANETS\AstronImages\gal_coma.gif"/>
          <p:cNvPicPr/>
          <p:nvPr/>
        </p:nvPicPr>
        <p:blipFill>
          <a:blip r:embed="rId1"/>
          <a:stretch/>
        </p:blipFill>
        <p:spPr>
          <a:xfrm>
            <a:off x="3200400" y="990720"/>
            <a:ext cx="5703840" cy="53038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289548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rge-Scale Structure of the Universe to 500 m.l.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M:\working copy\PLANETS\AstronImages\galaxy survey.gif"/>
          <p:cNvPicPr/>
          <p:nvPr/>
        </p:nvPicPr>
        <p:blipFill>
          <a:blip r:embed="rId1"/>
          <a:stretch/>
        </p:blipFill>
        <p:spPr>
          <a:xfrm>
            <a:off x="3352680" y="533520"/>
            <a:ext cx="5343480" cy="5657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k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al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mi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iam Herschel, 1783: A disk with the Sun slightly off-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M:\working copy\GRAPHIC0\Astronomy\herschel.gif"/>
          <p:cNvPicPr/>
          <p:nvPr/>
        </p:nvPicPr>
        <p:blipFill>
          <a:blip r:embed="rId1"/>
          <a:stretch/>
        </p:blipFill>
        <p:spPr>
          <a:xfrm>
            <a:off x="990720" y="3124080"/>
            <a:ext cx="7148520" cy="3287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vel to the Sta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etic Energy = 1/2 M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it take to get a 1000-ton spaceship to 10% of the speed of light? (43 years to Alpha Centau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=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, v = 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 = 1/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 9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o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als U.S. Energy Production for 4.5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 get there, you have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Einste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Einst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ed of Light is Independent of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helson and Morley, 1887 - Speed of Light Independent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b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Most Unexpected Results in the History of Science” - Isaac Asim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 Speed of Light i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Same for All Obser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ication: Space and Time Must Change to Keep Speed of Light Con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the Speed of Light is a Speed Lim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of a Moving Object in Relativity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=     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800"/>
            </a:br>
            <a:r>
              <a:rPr b="0" lang="en-US" sz="800" spc="-1" strike="noStrike" baseline="30000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en-US" sz="800" spc="-1" strike="noStrike" baseline="30000">
                <a:solidFill>
                  <a:srgbClr val="000000"/>
                </a:solidFill>
                <a:latin typeface="Calibri"/>
              </a:rPr>
              <a:t>-------------------------------------------------------------------------------</a:t>
            </a:r>
            <a:br>
              <a:rPr sz="800"/>
            </a:br>
            <a:r>
              <a:rPr b="0" lang="en-US" sz="800" spc="-1" strike="noStrike" baseline="30000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-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consequence: as v approaches c, Energy goes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fi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as we approach c, Energy goes up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ery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M:\working copy\GRAPHIC0\Astronomy\einstein.gif"/>
          <p:cNvPicPr/>
          <p:nvPr/>
        </p:nvPicPr>
        <p:blipFill>
          <a:blip r:embed="rId1"/>
          <a:stretch/>
        </p:blipFill>
        <p:spPr>
          <a:xfrm>
            <a:off x="1219320" y="914400"/>
            <a:ext cx="6856200" cy="5284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el Economy of a Sta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1 c, energy is 0.7% greater than Newtonian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5 c, 24%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 c, 3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9 c, 12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99 c, 43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extra 9 more than triples the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ting our 1000 ton ship to 0.9 c takes 1.1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oules = U.S. energy use for 1100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other Consequence of Relativity- Gravitational Len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M:\working copy\PLANETS\AstronImages\gravlens.jpg"/>
          <p:cNvPicPr/>
          <p:nvPr/>
        </p:nvPicPr>
        <p:blipFill>
          <a:blip r:embed="rId1"/>
          <a:stretch/>
        </p:blipFill>
        <p:spPr>
          <a:xfrm>
            <a:off x="0" y="2141640"/>
            <a:ext cx="9144000" cy="47163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SpaceCurv0.gif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SpaceCurv1.gif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Big Bang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win Hubble, Recession of Galaxies, 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-shift increases with d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ic Microwave Background, 19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imated Age of Universe: 12-15 b.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Bang” originally a derisive term, coined by Fred Ho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th Century: “Spiral Nebula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arby? Maybe Solar Systems in Form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0: Galaxies are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0’s: Galaxies are like the Milky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gest single increase in our mental picture  of the Universe in human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 Far Out as We Can See -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Ten Day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ith the Hubble Telesco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M:\working copy\PLANETS\AstronImages\deep_field_small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5561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New Name for the “Big Bang?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ky and Telescop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199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 B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d’s Log-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 Withair Day (“Nobody ever named anything else after me, so why not?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If I Push This Butt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’re Never Going To Get It All Back In There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0% of the Universe is “Missing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er Stars in Galaxies revolve faster than exp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olds clusters of galaxies toge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 There must be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invisible mass in the Unive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really “missing”, just non-lumin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tronomers Are Not As Upset As One Might Exp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HO’s (Massive Compact Halo Objects): faint stars, brown dwarfs, plan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 non-luminous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ive Neutrin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MP’s (Weakly Interacting Massive Partic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etic monop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otic objects: strings, mini-black h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greater and the Universe would already have collapsed in on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less and stars could not have 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Fo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sion im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sion too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hropic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mology has to be able to explain why we ex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just came out that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to be that way for reasons we haven’t yet discov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there are an infinity of universes but only those with certain parameters develop intelligent life (Multiver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ineered or desig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n’t Explain Any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Designer can create a Universe, why is c = 300,000 km/sec instead of 400,00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esigne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have c = 300,000 km/sec, why? What (who?) dictated that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says Designer is anything pictured by any relig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nterpreting Rela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no absol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d of light is absol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not be possible to be absolutely right but it is very easy to be absolutely wr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Will It All 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llions of years: Star formation 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-100 trillion years: Stars stop radi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ears: Planetary orbits dec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ears: Protons dec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t Deat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Crun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Bou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Does Cosmology Imply for Philosoph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Least, Not Y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Hopelessly Premature To Try To Create A Philosophy Based on Cosm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say what the fate of the Universe will be based on specific assum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a long way from knowing the assumptions are complete or 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support your philosophy with science, be prepared for science to prove it wr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Are We in our Galax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sible Milky Way suggests our galaxy is a flat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rounding other galaxies is a spherical halo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lobular Star Clu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M:\working copy\PLANETS\PLANFOTO\glob0.jpg"/>
          <p:cNvPicPr/>
          <p:nvPr/>
        </p:nvPicPr>
        <p:blipFill>
          <a:blip r:embed="rId1"/>
          <a:stretch/>
        </p:blipFill>
        <p:spPr>
          <a:xfrm>
            <a:off x="4648320" y="1600200"/>
            <a:ext cx="3894120" cy="48672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Einstein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Einstein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ies and Globular Clu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M:\working copy\GRAPHIC0\Astronomy\galaxy2.gif"/>
          <p:cNvPicPr/>
          <p:nvPr/>
        </p:nvPicPr>
        <p:blipFill>
          <a:blip r:embed="rId1"/>
          <a:stretch/>
        </p:blipFill>
        <p:spPr>
          <a:xfrm>
            <a:off x="-6480" y="1138320"/>
            <a:ext cx="9150480" cy="57196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lky Way’s Globular Clu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M:\working copy\GRAPHIC0\Astronomy\globclusters.gif"/>
          <p:cNvPicPr/>
          <p:nvPr/>
        </p:nvPicPr>
        <p:blipFill>
          <a:blip r:embed="rId1"/>
          <a:stretch/>
        </p:blipFill>
        <p:spPr>
          <a:xfrm>
            <a:off x="1828800" y="1295280"/>
            <a:ext cx="5715000" cy="49532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lky Way As We See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M:\working copy\GRAPHIC0\Astronomy\galaxy1.gif"/>
          <p:cNvPicPr/>
          <p:nvPr/>
        </p:nvPicPr>
        <p:blipFill>
          <a:blip r:embed="rId1"/>
          <a:stretch/>
        </p:blipFill>
        <p:spPr>
          <a:xfrm>
            <a:off x="304920" y="1295280"/>
            <a:ext cx="8574120" cy="51451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tomy of a Gala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M:\working copy\GRAPHIC0\Astronomy\pop1-2.gif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37944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iral A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M:\working copy\GRAPHIC0\Astronomy\m51.gif"/>
          <p:cNvPicPr/>
          <p:nvPr/>
        </p:nvPicPr>
        <p:blipFill>
          <a:blip r:embed="rId1"/>
          <a:stretch/>
        </p:blipFill>
        <p:spPr>
          <a:xfrm>
            <a:off x="990720" y="1295280"/>
            <a:ext cx="7138800" cy="4797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16:11:44Z</dcterms:created>
  <dc:creator>default prof</dc:creator>
  <dc:description/>
  <dc:language>en-US</dc:language>
  <cp:lastModifiedBy>Legion</cp:lastModifiedBy>
  <dcterms:modified xsi:type="dcterms:W3CDTF">2017-01-26T10:06:37Z</dcterms:modified>
  <cp:revision>10</cp:revision>
  <dc:subject/>
  <dc:title>Galaxies and the Unive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uwgb.edu/dutchs</vt:lpwstr>
  </property>
  <property fmtid="{D5CDD505-2E9C-101B-9397-08002B2CF9AE}" pid="9" name="LinkColor">
    <vt:r8>16711782</vt:r8>
  </property>
  <property fmtid="{D5CDD505-2E9C-101B-9397-08002B2CF9AE}" pid="10" name="MailAddress">
    <vt:lpwstr>dutchs@uwgb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M:\working copy\COSNOTE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