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4D43-FD51-4384-979C-FEC24DFA38E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Planets and Dwarf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Planets and Dwarf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19.6 AU), at 14 Earth masses, is the lightest of the out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ly among the planets, it orbits the Sun on its side; its axial tilt is over ninety degrees to the eclip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much colder core than the other gas giants, and radiates very little heat into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has 27 known satellites, the largest ones being Titania, Oberon, Umbriel, Ariel and Mira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19.6 AU), at 14 Earth masses, is the lightest of the out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ly among the planets, it orbits the Sun on its side; its axial tilt is over ninety degrees to the eclipt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much colder core than the other gas giants, and radiates very little heat into sp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has 27 known satellites, the largest ones being Titania, Oberon, Umbriel, Ariel and Mirand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30 AU), though slightly smaller than Uranus, is more massive (equivalent to 17 Earths) and therefore more dense. It radiates more internal heat, but not as much as Jupiter or Sa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has 13 known satell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Triton, is geologically active, with geysers of liquid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ton is the only large satellite with a retrograde orbit. Neptune is accompanied in its orbit by a number of minor planets, termed Neptune trojans, that are in 1:1 resonance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30 AU), though slightly smaller than Uranus, is more massive (equivalent to 17 Earths) and therefore more dense. It radiates more internal heat, but not as much as Jupiter or Satu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has 13 known satell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Triton, is geologically active, with geysers of liquid nitr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ton is the only large satellite with a retrograde orbit. Neptune is accompanied in its orbit by a number of minor planets, termed Neptune trojans, that are in 1:1 resonance with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ARF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xplicitly, it is a planetary-mass object—it has sufficient mass to overcome its internal compressive strength and achieve hydrostatic equilibrium—but is neither a planet nor a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ARF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xplicitly, it is a planetary-mass object—it has sufficient mass to overcome its internal compressive strength and achieve hydrostatic equilibrium—but is neither a planet nor a satell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is 39 AU away of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dwarf planet in the  Kuiper b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in 193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longer thought to be a normal planet in our Solar System, but a dwar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argest moon, Charon, has an almost same mass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is 39 AU away of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dwarf planet in the  Kuiper be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in 193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longer thought to be a normal planet in our Solar System, but a dwar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argest moon, Charon, has an almost same mass with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 is 45.79 AU away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brightest object in Kuiper belt after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 is 45.79 AU away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brightest object in Kuiper belt after 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M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Haumea and Sun is 43.13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same size as Make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M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Haumea and Sun is 43.13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same size as Makem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ABOUT OUR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ar System consists of the Sun and its planetary system of eight planets, their moons, and other non-stellar obj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med 4.6 billion years ago from the collapse of a giant molecular cloud. The vast majority of the system's mass is in the Sun, with most of the remaining mass contained in Jupi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smaller inner planets, Mercury, Venus, Earth and Mars, also called the terrestrial planets, are primarily composed of rock and me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called the gas giants, are substantially more massive than the terrestr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gest, Jupiter and Saturn, are composed mainly of hydrogen and helium; the two outermost planets, Uranus and Neptune, are composed largely of ices, such as water, ammonia and methane, and are often referred to separately as "ice gi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anets have almost circula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ABOUT 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ar System consists of the Sun and its planetary system of eight planets, their moons, and other non-stellar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med 4.6 billion years ago from the collapse of a giant molecular cloud. The vast majority of the system's mass is in the Sun, with most of the remaining mass contained in Jupi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smaller inner planets, Mercury, Venus, Earth and Mars, also called the terrestrial planets, are primarily composed of rock and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called the gas giants, are substantially more massive than the terrest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gest, Jupiter and Saturn, are composed mainly of hydrogen and helium; the two outermost planets, Uranus and Neptune, are composed largely of ices, such as water, ammonia and methane, and are often referred to separately as "ice gi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anets have almost 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suggests that the Sun's position on the main sequence puts it in the "prime of life" for a star, in that it has not yet exhausted its store of hydrogen for nuclear 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growing brighter; early in its history it was 70 percent as bright as it is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was born in the later stages of the universe's evolution, and thus contains more elements heavier than hydrogen and helium ("metals" in astronomical parlance) than older population II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heavier than hydrogen and helium were formed in the cores of ancient and exploding stars, so the first generation of stars had to die before the universe could be enriched with these 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est stars contain few metals, while stars born later have more. This high metallicity is thought to have been crucial to the Sun's developing a planetary system, because planets form from accretion of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suggests that the Sun's position on the main sequence puts it in the "prime of life" for a star, in that it has not yet exhausted its store of hydrogen for nuclear fu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growing brighter; early in its history it was 70 percent as bright as it is to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was born in the later stages of the universe's evolution, and thus contains more elements heavier than hydrogen and helium ("metals" in astronomical parlance) than older population II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heavier than hydrogen and helium were formed in the cores of ancient and exploding stars, so the first generation of stars had to die before the universe could be enriched with these 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est stars contain few metals, while stars born later have more. This high metallicity is thought to have been crucial to the Sun's developing a planetary system, because planets form from accretion of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CLOSE TO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is the closest planet to the Sun, the distance between them is 0.4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mallest planet in our Solar System (0.05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have any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relatively large iron core and thin mantle, which have not been adequately explained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CLOSE TO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is the closest planet to the Sun, the distance between them is 0.4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mallest planet in our Solar System (0.05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have any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relatively large iron core and thin mantle, which have not been adequately explained y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 is 0.7 AU close to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 in size to Earth (0.801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hottest planet in our Solar System, 400 °C and it’s also much drier tha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magnetic fiel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 is 0.7 AU close to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 in size to Earth (0.801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hottest planet in our Solar System, 400 °C and it’s also much drier than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magnetic field</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is 1 AU close to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and the densest of the four planets, Mercury, Venous, M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nly planet that in our Solar System where life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only planet where water can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is different from the other planets, because it contains 21% oxygen in order to life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natural satellite,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is 1 AU close to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and the densest of the four planets, Mercury, Venous, M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nly planet that in our Solar System where life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only planet where water can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is different from the other planets, because it contains 21% oxygen in order to life exist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natural satellite,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is 1.5AU away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Earth (0.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contains mostly carbon di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urface pressure is 6.1 millibars (0.6 percent of Ear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d color is from the iron 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 Deimos and Phobos, which are very 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is 1.5AU away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Earth (0.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contains mostly carbon diox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urface pressure is 6.1 millibars (0.6 percent of Ear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d color is from the iron 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 Deimos and Phobos, which are very 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FAR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5.2 AU), at 318 Earth masses, is 2.5 times the mass of all the other planets put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osed largely of hydrogen and hel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s strong internal heat creates a number of semi-permanent features in its atmosphere, such as cloud bands and the Great Red S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has 67 known satell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largest, Ganymede, Callisto, Io, and Europa, show similarities to the terrestrial planets, such as volcanism and internal h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ymede, the largest satellite in the Solar System, is larger than Merc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FAR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5.2 AU), at 318 Earth masses, is 2.5 times the mass of all the other planets put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osed largely of hydrogen and heli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s strong internal heat creates a number of semi-permanent features in its atmosphere, such as cloud bands and the Great Red Sp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has 67 known satell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largest, Ganymede, Callisto, Io, and Europa, show similarities to the terrestrial planets, such as volcanism and internal hea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ymede, the largest satellite in the Solar System, is larger than Mercu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9.5 AU), distinguished by its extensive ring system, has several similarities to Jupiter, such as its atmospheric composition and magnetosp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aturn has 60% of Jupiter's volume, it is less than a third as massive, at 95 Earth masses, making it the least dense planet in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ngs of Saturn are made up of small ice and rock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has 62 confirmed satellites; two of which, Titan and Enceladus, show signs of geological activity, though they are largely made of 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the second-largest moon in the Solar System, is larger than Mercury and the only satellite in the Solar System with a substantial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9.5 AU), distinguished by its extensive ring system, has several similarities to Jupiter, such as its atmospheric composition and magnetosphe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aturn has 60% of Jupiter's volume, it is less than a third as massive, at 95 Earth masses, making it the least dense planet in the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ngs of Saturn are made up of small ice and rock part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has 62 confirmed satellites; two of which, Titan and Enceladus, show signs of geological activity, though they are largely made of 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the second-largest moon in the Solar System, is larger than Mercury and the only satellite in the Solar System with a substantial atmosp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F2814F-1028-4D6E-8308-44FAFDE1AF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80D540-F61E-482F-951A-B5893667CD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283103-E259-4015-AD59-4D3515FB9A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2EA413-941D-4FA6-8BBA-0F01428847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B9832-DE09-4CD3-95E2-CAE0482C9B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6D82C-7F42-479D-BB34-2DBB06FF9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DB80A-D989-48B4-BD7C-6036E64FF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0E30D-6242-41EE-8E65-B30E9BA4E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DDB33-394A-483B-A704-C6E078542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53DDC-170F-41DA-A5FD-62EED147C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97841-A1B3-44D7-B83A-7D9B6067E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3A853A-CFB3-4F7B-8F6F-3D24D91041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6C742-DCF8-4AFB-B143-FE68C748E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C464C-49AE-4552-A787-C46B04893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56DD5-9C65-43A3-BCB7-4C13CCE3F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5EB60-5B0C-40C8-B4D6-16542D6F80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2AA14D-BA9D-4CAD-9D23-3C26BF16B2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816658-C92E-4575-9E6E-DD7966107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760A72-6EC1-492F-899E-24AFBD8EEA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290518-1F92-4BBC-B421-02ECBF4EB7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1C51D5-1163-415F-A5DD-3EFB9542C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EFCF68-825B-4DAC-8C9C-BB5E6ED8F8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8B485F-96DE-4B59-9001-C97F013360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44524E-6FD5-46C7-8A66-3737D97BB3A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9130-4508-48DB-A6E5-51D94B0039F2}"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17EB4-ACDA-4982-B5FC-BFFC203F1C9E}"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OUR SOLAR SYSTEM</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The Sun, Planets and Dwarf Planets</a:t>
            </a:r>
            <a:endParaRPr b="0" lang="en-US" sz="34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7" name="PlaceHolder 2"/>
          <p:cNvSpPr>
            <a:spLocks noGrp="1"/>
          </p:cNvSpPr>
          <p:nvPr>
            <p:ph/>
          </p:nvPr>
        </p:nvSpPr>
        <p:spPr>
          <a:xfrm>
            <a:off x="4674960" y="1980720"/>
            <a:ext cx="4011480" cy="3886200"/>
          </a:xfrm>
          <a:prstGeom prst="rect">
            <a:avLst/>
          </a:prstGeom>
          <a:noFill/>
          <a:ln w="0">
            <a:noFill/>
          </a:ln>
        </p:spPr>
        <p:txBody>
          <a:bodyPr anchor="t">
            <a:normAutofit fontScale="99000"/>
          </a:bodyPr>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URANUS</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ranus (19.6 AU), at 14 Earth masses, is the lightest of the outer planets.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niquely among the planets, it orbits the Sun on its side; its axial tilt is over ninety degrees to the ecliptic.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t has a much colder core than the other gas giants, and radiates very little heat into space.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ranus has 27 known satellites, the largest ones being Titania, Oberon, Umbriel, Ariel and Miranda.</a:t>
            </a:r>
            <a:endParaRPr b="0" lang="en-US" sz="2000" spc="-1" strike="noStrike">
              <a:solidFill>
                <a:srgbClr val="000000"/>
              </a:solidFill>
              <a:latin typeface="Arial"/>
            </a:endParaRPr>
          </a:p>
        </p:txBody>
      </p:sp>
      <p:pic>
        <p:nvPicPr>
          <p:cNvPr id="148" name="Picture 7" descr="240px-Uranus2"/>
          <p:cNvPicPr/>
          <p:nvPr/>
        </p:nvPicPr>
        <p:blipFill>
          <a:blip r:embed="rId1"/>
          <a:stretch/>
        </p:blipFill>
        <p:spPr>
          <a:xfrm>
            <a:off x="676440" y="2268360"/>
            <a:ext cx="3235320" cy="277848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1"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Narrow"/>
              </a:rPr>
              <a:t>NEPTUN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ptune (30 AU), though slightly smaller than Uranus, is more massive (equivalent to 17 Earths) and therefore more dense. It radiates more internal heat, but not as much as Jupiter or Saturn.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ptune has 13 known satellit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e largest, Triton, is geologically active, with geysers of liquid nitroge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Triton is the only large satellite with a retrograde orbit. Neptune is accompanied in its orbit by a number of minor planets, termed Neptune trojans, that are in 1:1 resonance with it.</a:t>
            </a:r>
            <a:endParaRPr b="0" lang="en-US" sz="1800" spc="-1" strike="noStrike">
              <a:solidFill>
                <a:srgbClr val="000000"/>
              </a:solidFill>
              <a:latin typeface="Arial"/>
            </a:endParaRPr>
          </a:p>
        </p:txBody>
      </p:sp>
      <p:pic>
        <p:nvPicPr>
          <p:cNvPr id="152" name="Picture 7" descr="240px-Neptune"/>
          <p:cNvPicPr/>
          <p:nvPr/>
        </p:nvPicPr>
        <p:blipFill>
          <a:blip r:embed="rId1"/>
          <a:stretch/>
        </p:blipFill>
        <p:spPr>
          <a:xfrm>
            <a:off x="676440" y="2193840"/>
            <a:ext cx="3531960" cy="29606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WARF PLANE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5" name="PlaceHolder 2"/>
          <p:cNvSpPr>
            <a:spLocks noGrp="1"/>
          </p:cNvSpPr>
          <p:nvPr>
            <p:ph/>
          </p:nvPr>
        </p:nvSpPr>
        <p:spPr>
          <a:xfrm>
            <a:off x="1476000" y="4221000"/>
            <a:ext cx="5832360" cy="2159280"/>
          </a:xfrm>
          <a:prstGeom prst="rect">
            <a:avLst/>
          </a:prstGeom>
          <a:noFill/>
          <a:ln w="0">
            <a:noFill/>
          </a:ln>
        </p:spPr>
        <p:txBody>
          <a:bodyPr anchor="t">
            <a:normAutofit fontScale="91000"/>
          </a:bodyPr>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600" spc="-1" strike="noStrike">
              <a:solidFill>
                <a:srgbClr val="000000"/>
              </a:solidFill>
              <a:latin typeface="Arial"/>
            </a:endParaRPr>
          </a:p>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More explicitly, it is a planetary-mass object—it has sufficient mass to overcome its internal compressive strength and achieve hydrostatic equilibrium—but is neither a planet nor a satellite.</a:t>
            </a:r>
            <a:endParaRPr b="0" lang="en-US" sz="1600" spc="-1" strike="noStrike">
              <a:solidFill>
                <a:srgbClr val="000000"/>
              </a:solidFill>
              <a:latin typeface="Arial"/>
            </a:endParaRPr>
          </a:p>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600" spc="-1" strike="noStrike">
              <a:solidFill>
                <a:srgbClr val="000000"/>
              </a:solidFill>
              <a:latin typeface="Arial"/>
            </a:endParaRPr>
          </a:p>
        </p:txBody>
      </p:sp>
      <p:pic>
        <p:nvPicPr>
          <p:cNvPr id="156" name="Picture 7" descr="449px-TheTransneptunians_Size_Albedo_Color"/>
          <p:cNvPicPr/>
          <p:nvPr/>
        </p:nvPicPr>
        <p:blipFill>
          <a:blip r:embed="rId1"/>
          <a:stretch/>
        </p:blipFill>
        <p:spPr>
          <a:xfrm>
            <a:off x="1486080" y="1992240"/>
            <a:ext cx="5314680" cy="1809720"/>
          </a:xfrm>
          <a:prstGeom prst="rect">
            <a:avLst/>
          </a:prstGeom>
          <a:ln w="0">
            <a:noFill/>
          </a:ln>
        </p:spPr>
      </p:pic>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9" name="PlaceHolder 2"/>
          <p:cNvSpPr>
            <a:spLocks noGrp="1"/>
          </p:cNvSpPr>
          <p:nvPr>
            <p:ph/>
          </p:nvPr>
        </p:nvSpPr>
        <p:spPr>
          <a:xfrm>
            <a:off x="4674960" y="1980720"/>
            <a:ext cx="4011480" cy="3886200"/>
          </a:xfrm>
          <a:prstGeom prst="rect">
            <a:avLst/>
          </a:prstGeom>
          <a:noFill/>
          <a:ln w="0">
            <a:noFill/>
          </a:ln>
        </p:spPr>
        <p:txBody>
          <a:bodyPr anchor="t">
            <a:normAutofit fontScale="93000"/>
          </a:bodyPr>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PLUTO</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luto is 39 AU away of Sun</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the largest dwarf planet in the  Kuiper belt</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was discovered in 1930 </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no longer thought to be a normal planet in our Solar System, but a dwarf</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s largest moon, Charon, has an almost same mass with it</a:t>
            </a:r>
            <a:endParaRPr b="0" lang="en-US" sz="2400" spc="-1" strike="noStrike">
              <a:solidFill>
                <a:srgbClr val="000000"/>
              </a:solidFill>
              <a:latin typeface="Arial"/>
            </a:endParaRPr>
          </a:p>
        </p:txBody>
      </p:sp>
      <p:pic>
        <p:nvPicPr>
          <p:cNvPr id="160" name="Picture 7" descr="220px-Pluto-map-hs-2010-06-d270"/>
          <p:cNvPicPr/>
          <p:nvPr/>
        </p:nvPicPr>
        <p:blipFill>
          <a:blip r:embed="rId1"/>
          <a:stretch/>
        </p:blipFill>
        <p:spPr>
          <a:xfrm>
            <a:off x="523800" y="2268360"/>
            <a:ext cx="3773520" cy="297504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3"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Narrow"/>
              </a:rPr>
              <a:t>MAKEMAK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kemake is 45.79 AU away from the Sun</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smaller than Pluto</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the brightest object in Kuiper belt after Pluto</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was named a dwarf planet in 2008</a:t>
            </a:r>
            <a:endParaRPr b="0" lang="en-US" sz="2800" spc="-1" strike="noStrike">
              <a:solidFill>
                <a:srgbClr val="000000"/>
              </a:solidFill>
              <a:latin typeface="Arial"/>
            </a:endParaRPr>
          </a:p>
        </p:txBody>
      </p:sp>
      <p:pic>
        <p:nvPicPr>
          <p:cNvPr id="164" name="Picture 7" descr="220px-2005FY9art"/>
          <p:cNvPicPr/>
          <p:nvPr/>
        </p:nvPicPr>
        <p:blipFill>
          <a:blip r:embed="rId1"/>
          <a:stretch/>
        </p:blipFill>
        <p:spPr>
          <a:xfrm>
            <a:off x="1106640" y="2341440"/>
            <a:ext cx="2805120" cy="241956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7" name="PlaceHolder 2"/>
          <p:cNvSpPr>
            <a:spLocks noGrp="1"/>
          </p:cNvSpPr>
          <p:nvPr>
            <p:ph/>
          </p:nvPr>
        </p:nvSpPr>
        <p:spPr>
          <a:xfrm>
            <a:off x="5076360" y="2636640"/>
            <a:ext cx="2971800" cy="4221000"/>
          </a:xfrm>
          <a:prstGeom prst="rect">
            <a:avLst/>
          </a:prstGeom>
          <a:noFill/>
          <a:ln w="0">
            <a:noFill/>
          </a:ln>
        </p:spPr>
        <p:txBody>
          <a:bodyPr anchor="t">
            <a:normAutofit/>
          </a:bodyPr>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HAUME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distance between Haumea and Sun is 43.13 AU</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is about the same size as Makemake</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has two natural satellites</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was named a dwarf planet in 2008</a:t>
            </a:r>
            <a:endParaRPr b="0" lang="en-US" sz="1800" spc="-1" strike="noStrike">
              <a:solidFill>
                <a:srgbClr val="000000"/>
              </a:solidFill>
              <a:latin typeface="Arial"/>
            </a:endParaRPr>
          </a:p>
        </p:txBody>
      </p:sp>
      <p:pic>
        <p:nvPicPr>
          <p:cNvPr id="168" name="Picture 7" descr="220px-2003EL61art"/>
          <p:cNvPicPr/>
          <p:nvPr/>
        </p:nvPicPr>
        <p:blipFill>
          <a:blip r:embed="rId1"/>
          <a:stretch/>
        </p:blipFill>
        <p:spPr>
          <a:xfrm>
            <a:off x="906480" y="2203560"/>
            <a:ext cx="3314520" cy="284328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S ABOUT OUR SOLAR SYSTEM</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olar System consists of the Sun and its planetary system of eight planets, their moons, and other non-stellar objec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t formed 4.6 billion years ago from the collapse of a giant molecular cloud. The vast majority of the system's mass is in the Sun, with most of the remaining mass contained in Jupiter.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our smaller inner planets, Mercury, Venus, Earth and Mars, also called the terrestrial planets, are primarily composed of rock and metal.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our outer planets, called the gas giants, are substantially more massive than the terrestria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two largest, Jupiter and Saturn, are composed mainly of hydrogen and helium; the two outermost planets, Uranus and Neptune, are composed largely of ices, such as water, ammonia and methane, and are often referred to separately as "ice gian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ll planets have almost circular orbits.</a:t>
            </a:r>
            <a:endParaRPr b="0" lang="en-US" sz="2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u="sng">
                <a:solidFill>
                  <a:srgbClr val="000000"/>
                </a:solidFill>
                <a:uFillTx/>
                <a:latin typeface="Arial"/>
              </a:rPr>
              <a:t>THE SUN</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vidence suggests that the Sun's position on the main sequence puts it in the "prime of life" for a star, in that it has not yet exhausted its store of hydrogen for nuclear fusion.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un is growing brighter; early in its history it was 70 percent as bright as it is today.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un is was born in the later stages of the universe's evolution, and thus contains more elements heavier than hydrogen and helium ("metals" in astronomical parlance) than older population II star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 </a:t>
            </a:r>
            <a:r>
              <a:rPr b="0" lang="en-GB" sz="2000" spc="-1" strike="noStrike">
                <a:solidFill>
                  <a:srgbClr val="000000"/>
                </a:solidFill>
                <a:latin typeface="Arial Narrow"/>
              </a:rPr>
              <a:t>Elements heavier than hydrogen and helium were formed in the cores of ancient and exploding stars, so the first generation of stars had to die before the universe could be enriched with these atom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oldest stars contain few metals, while stars born later have more. This high metallicity is thought to have been crucial to the Sun's developing a planetary system, because planets form from accretion of "metals".</a:t>
            </a:r>
            <a:endParaRPr b="0" lang="en-US" sz="20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LANETS CLOSE TO THE SUN</a:t>
            </a:r>
            <a:r>
              <a:rPr b="0" lang="el-GR" sz="4400" spc="-1" strike="noStrike">
                <a:solidFill>
                  <a:srgbClr val="000000"/>
                </a:solidFill>
                <a:latin typeface="Arial"/>
              </a:rPr>
              <a:t> </a:t>
            </a:r>
            <a:endParaRPr b="0" lang="en-US" sz="4400" spc="-1" strike="noStrike">
              <a:solidFill>
                <a:srgbClr val="000000"/>
              </a:solidFill>
              <a:latin typeface="Arial"/>
            </a:endParaRPr>
          </a:p>
        </p:txBody>
      </p:sp>
      <p:sp>
        <p:nvSpPr>
          <p:cNvPr id="123"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rPr>
              <a:t>MERCUR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rcury is the closest planet to the Sun, the distance between them is 0.4 AU</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smallest planet in our Solar System (0.055 Earth mass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doesn’t have any natural satellit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a  relatively large iron core and thin mantle, which have not been adequately explained yet</a:t>
            </a:r>
            <a:endParaRPr b="0" lang="en-US" sz="2000" spc="-1" strike="noStrike">
              <a:solidFill>
                <a:srgbClr val="000000"/>
              </a:solidFill>
              <a:latin typeface="Arial"/>
            </a:endParaRPr>
          </a:p>
        </p:txBody>
      </p:sp>
      <p:pic>
        <p:nvPicPr>
          <p:cNvPr id="124" name="Picture 6" descr="mercury"/>
          <p:cNvPicPr/>
          <p:nvPr/>
        </p:nvPicPr>
        <p:blipFill>
          <a:blip r:embed="rId1"/>
          <a:stretch/>
        </p:blipFill>
        <p:spPr>
          <a:xfrm>
            <a:off x="1019160" y="2492280"/>
            <a:ext cx="2892600" cy="244476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27" name="PlaceHolder 2"/>
          <p:cNvSpPr>
            <a:spLocks noGrp="1"/>
          </p:cNvSpPr>
          <p:nvPr>
            <p:ph/>
          </p:nvPr>
        </p:nvSpPr>
        <p:spPr>
          <a:xfrm>
            <a:off x="4674960" y="1980720"/>
            <a:ext cx="4011480" cy="3886200"/>
          </a:xfrm>
          <a:prstGeom prst="rect">
            <a:avLst/>
          </a:prstGeom>
          <a:noFill/>
          <a:ln w="0">
            <a:noFill/>
          </a:ln>
        </p:spPr>
        <p:txBody>
          <a:bodyPr anchor="t">
            <a:normAutofit fontScale="87000"/>
          </a:bodyPr>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VENOU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enous is 0.7 AU close to the Sun</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close in size to Earth (0.8015 Earth masse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has no natural satellite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the hottest planet in our Solar System, 400 °C and it’s also much drier than Earth</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has no magnetic field</a:t>
            </a:r>
            <a:br>
              <a:rPr sz="2400"/>
            </a:br>
            <a:br>
              <a:rPr sz="2400"/>
            </a:br>
            <a:r>
              <a:rPr b="1" lang="en-US" sz="2400" spc="-1" strike="noStrike" u="sng">
                <a:solidFill>
                  <a:srgbClr val="000000"/>
                </a:solidFill>
                <a:uFillTx/>
                <a:latin typeface="Arial Narrow"/>
              </a:rPr>
              <a:t> </a:t>
            </a:r>
            <a:endParaRPr b="0" lang="en-US" sz="2400" spc="-1" strike="noStrike">
              <a:solidFill>
                <a:srgbClr val="000000"/>
              </a:solidFill>
              <a:latin typeface="Arial"/>
            </a:endParaRPr>
          </a:p>
        </p:txBody>
      </p:sp>
      <p:pic>
        <p:nvPicPr>
          <p:cNvPr id="128" name="Picture 7" descr="venous"/>
          <p:cNvPicPr/>
          <p:nvPr/>
        </p:nvPicPr>
        <p:blipFill>
          <a:blip r:embed="rId1"/>
          <a:stretch/>
        </p:blipFill>
        <p:spPr>
          <a:xfrm>
            <a:off x="1019160" y="2417760"/>
            <a:ext cx="2892600" cy="251928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1" name="PlaceHolder 2"/>
          <p:cNvSpPr>
            <a:spLocks noGrp="1"/>
          </p:cNvSpPr>
          <p:nvPr>
            <p:ph/>
          </p:nvPr>
        </p:nvSpPr>
        <p:spPr>
          <a:xfrm>
            <a:off x="4674960" y="1980720"/>
            <a:ext cx="4011480" cy="3886200"/>
          </a:xfrm>
          <a:prstGeom prst="rect">
            <a:avLst/>
          </a:prstGeom>
          <a:noFill/>
          <a:ln w="0">
            <a:noFill/>
          </a:ln>
        </p:spPr>
        <p:txBody>
          <a:bodyPr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EARTH</a:t>
            </a:r>
            <a:endParaRPr b="0" lang="en-US" sz="32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arth is 1 AU close to the Sun</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largest and the densest of the four planets, Mercury, Venous, Mars</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only planet that in our Solar System where life exist</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the only planet where water can be found</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atmosphere is different from the other planets, because it contains 21% oxygen in order to life existence</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a natural satellite, Moon.</a:t>
            </a:r>
            <a:endParaRPr b="0" lang="en-US" sz="2000" spc="-1" strike="noStrike">
              <a:solidFill>
                <a:srgbClr val="000000"/>
              </a:solidFill>
              <a:latin typeface="Arial"/>
            </a:endParaRPr>
          </a:p>
        </p:txBody>
      </p:sp>
      <p:pic>
        <p:nvPicPr>
          <p:cNvPr id="132" name="Picture 7" descr="earth"/>
          <p:cNvPicPr/>
          <p:nvPr/>
        </p:nvPicPr>
        <p:blipFill>
          <a:blip r:embed="rId1"/>
          <a:stretch/>
        </p:blipFill>
        <p:spPr>
          <a:xfrm>
            <a:off x="985680" y="2417760"/>
            <a:ext cx="2891160" cy="25956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5"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MARS</a:t>
            </a:r>
            <a:r>
              <a:rPr b="0" lang="el-GR" sz="2000" spc="-1" strike="noStrike">
                <a:solidFill>
                  <a:srgbClr val="000000"/>
                </a:solidFill>
                <a:latin typeface="Arial Narrow"/>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rs is 1.5AU away from the Su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smaller than Earth (0.5 Earth masse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atmosphere contains mostly carbon dioxide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surface pressure is 6.1 millibars (0.6 percent of Earth’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red color is from the iron oxid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two natural satellites, Deimos and Phobos, which are very tiny</a:t>
            </a:r>
            <a:endParaRPr b="0" lang="en-US" sz="2000" spc="-1" strike="noStrike">
              <a:solidFill>
                <a:srgbClr val="000000"/>
              </a:solidFill>
              <a:latin typeface="Arial"/>
            </a:endParaRPr>
          </a:p>
        </p:txBody>
      </p:sp>
      <p:pic>
        <p:nvPicPr>
          <p:cNvPr id="136" name="Picture 7" descr="mars"/>
          <p:cNvPicPr/>
          <p:nvPr/>
        </p:nvPicPr>
        <p:blipFill>
          <a:blip r:embed="rId1"/>
          <a:stretch/>
        </p:blipFill>
        <p:spPr>
          <a:xfrm>
            <a:off x="987480" y="2268360"/>
            <a:ext cx="2954160" cy="264024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LANETS FAR FROM THE SUN</a:t>
            </a:r>
            <a:endParaRPr b="0" lang="en-US" sz="4400" spc="-1" strike="noStrike">
              <a:solidFill>
                <a:srgbClr val="000000"/>
              </a:solidFill>
              <a:latin typeface="Arial"/>
            </a:endParaRPr>
          </a:p>
        </p:txBody>
      </p:sp>
      <p:sp>
        <p:nvSpPr>
          <p:cNvPr id="139"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JUPITER</a:t>
            </a:r>
            <a:endParaRPr b="0" lang="en-US" sz="20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 (5.2 AU), at 318 Earth masses, is 2.5 times the mass of all the other planets put together.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It is composed largely of hydrogen and helium.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s strong internal heat creates a number of semi-permanent features in its atmosphere, such as cloud bands and the Great Red Spo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 has 67 known satellites.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e four largest, Ganymede, Callisto, Io, and Europa, show similarities to the terrestrial planets, such as volcanism and internal heating.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Ganymede, the largest satellite in the Solar System, is larger than Mercury. </a:t>
            </a:r>
            <a:endParaRPr b="0" lang="en-US" sz="1600" spc="-1" strike="noStrike">
              <a:solidFill>
                <a:srgbClr val="000000"/>
              </a:solidFill>
              <a:latin typeface="Arial"/>
            </a:endParaRPr>
          </a:p>
        </p:txBody>
      </p:sp>
      <p:pic>
        <p:nvPicPr>
          <p:cNvPr id="140" name="Picture 7" descr="Jupiter_by_Cassini-Huygens"/>
          <p:cNvPicPr/>
          <p:nvPr/>
        </p:nvPicPr>
        <p:blipFill>
          <a:blip r:embed="rId1"/>
          <a:stretch/>
        </p:blipFill>
        <p:spPr>
          <a:xfrm>
            <a:off x="600120" y="2193840"/>
            <a:ext cx="3532320" cy="308772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3" name="PlaceHolder 2"/>
          <p:cNvSpPr>
            <a:spLocks noGrp="1"/>
          </p:cNvSpPr>
          <p:nvPr>
            <p:ph/>
          </p:nvPr>
        </p:nvSpPr>
        <p:spPr>
          <a:xfrm>
            <a:off x="4674960" y="1980720"/>
            <a:ext cx="4011480" cy="3886200"/>
          </a:xfrm>
          <a:prstGeom prst="rect">
            <a:avLst/>
          </a:prstGeom>
          <a:noFill/>
          <a:ln w="0">
            <a:noFill/>
          </a:ln>
        </p:spPr>
        <p:txBody>
          <a:bodyPr anchor="t">
            <a:normAutofit fontScale="95000"/>
          </a:bodyPr>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Narrow"/>
              </a:rPr>
              <a:t>SATURN</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turn (9.5 AU), distinguished by its extensive ring system, has several similarities to Jupiter, such as its atmospheric composition and magnetosphere.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Although Saturn has 60% of Jupiter's volume, it is less than a third as massive, at 95 Earth masses, making it the least dense planet in the Solar System.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e rings of Saturn are made up of small ice and rock particles.</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turn has 62 confirmed satellites; two of which, Titan and Enceladus, show signs of geological activity, though they are largely made of ice.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itan, the second-largest moon in the Solar System, is larger than Mercury and the only satellite in the Solar System with a substantial atmosphere.</a:t>
            </a:r>
            <a:endParaRPr b="0" lang="en-US" sz="1600" spc="-1" strike="noStrike">
              <a:solidFill>
                <a:srgbClr val="000000"/>
              </a:solidFill>
              <a:latin typeface="Arial"/>
            </a:endParaRPr>
          </a:p>
        </p:txBody>
      </p:sp>
      <p:pic>
        <p:nvPicPr>
          <p:cNvPr id="144" name="Picture 7" descr="280px-Saturn-cassini-March-27-2004"/>
          <p:cNvPicPr/>
          <p:nvPr/>
        </p:nvPicPr>
        <p:blipFill>
          <a:blip r:embed="rId1"/>
          <a:stretch/>
        </p:blipFill>
        <p:spPr>
          <a:xfrm>
            <a:off x="733320" y="2268360"/>
            <a:ext cx="3256200" cy="263052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7T13:30:41Z</dcterms:created>
  <dc:creator>KostasDemertzidis</dc:creator>
  <dc:description/>
  <dc:language>en-US</dc:language>
  <cp:lastModifiedBy>Legion</cp:lastModifiedBy>
  <dcterms:modified xsi:type="dcterms:W3CDTF">2017-01-26T10:05:17Z</dcterms:modified>
  <cp:revision>16</cp:revision>
  <dc:subject/>
  <dc:title>OUR SOLAR SYSTEM</dc:title>
</cp:coreProperties>
</file>