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127A-9701-4F1B-ACCB-E20C409F7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more advanced reading materials, please see http://www.geo.utexas.edu/courses/387h/ScheduleGPC_detail.ht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arth’s global average surface temperature in present climate is 15C (59F).  Without the atmosphere, it would be -18C (-0.4F)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3C or 59.4F colder!  Atmosphere is the most important component of the earth’s climat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 vs. other heat sourc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energy enter the earth’s atmosphere: 174 petawatts or 174X1015 Wat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: 99.978%, Geothermal: 0.013%, waste and fossil fuel: 0.007%, tidal: 0.002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ore advanced reading materials, please see http://www.geo.utexas.edu/courses/387h/ScheduleGPC_detail.h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global average surface temperature in present climate is 15C (59F).  Without the atmosphere, it would be -18C (-0.4F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3C or 59.4F colder!  Atmosphere is the most important component of the earth’s clim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 vs. other heat sour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enter the earth’s atmosphere: 174 petawatts or 174X1015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: 99.978%, Geothermal: 0.013%, waste and fossil fuel: 0.007%, tidal: 0.00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 accounts for 60% of the atmospheric greenhouse effect, CO2 26%, and the remaining greenhouse gases 1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house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 (H2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 (CO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ane (CH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us oxide (N2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 (O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lorofluorocarbons (CFC’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y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 contributes most (55-60%) to the anthropogenic greenhouse effect, and methane is a distant second (16%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FCs cause the strongest greenhouse warming on a molecule-for-molecule basi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 accounts for 60% of the atmospheric greenhouse effect, CO2 26%, and the remaining greenhouse gases 14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 (H2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 (CH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oxide (N2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(O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fluorocarbons (CFC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contributes most (55-60%) to the anthropogenic greenhouse effect, and methane is a distant second (16%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Cs cause the strongest greenhouse warming on a molecule-for-molecule ba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mospheric Absor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radiation passes rather freely through Earth's atmosphe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 emits longwave energy, which either leaks through a narrow window o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bsorbed by greenhouse gases and radiated back to Eart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(100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us Ox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At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ic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radiation passes rather freely through Earth'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emits longwave energy, which either leaks through a narrow window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sorbed by greenhouse gases and radiated back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(1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Intensity and La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intensity, defined as the energy per area, is different at different latitu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unlight beam that strikes at an angle is spread across a greater surface area, and is a less intense heat source than a beam impinging di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Intensity and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intensity, defined as the energy per area, is different at different latitu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nlight beam that strikes at an angle is spread across a greater surface area, and is a less intense heat source than a beam impinging di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equal Radiation on a 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olation is stronger in the tropics (low latitudes) than in in the polar regions (high latitude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al Radiation on a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olation is stronger in the tropics (low latitudes) than in in the polar regions (high latitud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le-to-Equator Heating Imbal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e-to-Equator Heating Im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controls the elevation of the Sun above the horizon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Tilt Primarily Determines Seas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trols the elevation of the Sun above the horiz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Tilt Primarily Determines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's Annual Energy Bal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lance is achieved locally at only two lines of latitu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lobal balance is maintained by excess heat from the equatorial region transferring toward the po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oming Solar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going Long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equal heating of tropics and p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's Annual Energy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ance is achieved locally at only two lines of latitu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lobal balance is maintained by excess heat from the equatorial region transferring toward the p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ing Solar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Long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al heating of tropics and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lobal Energy Budget:  Driver of Atmospheric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ever, the tilt of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 means this bal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not maintained for ea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alance exists betwe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coming solar 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going longwave ener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veraged over the glob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y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C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Energy Budget:  Driver of Atmospheric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til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means this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maintained fo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lance exists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coming sola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longwav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d over the glo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C or 59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greenhouse effect of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tributes to 99.978% of total heat flux in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CO2, CH4, O3, CFCs, 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 heat in the tropics or 40S-40N, loss heat in high latitudes (50S-50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C or 59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of greenhouse effect of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contributes to 99.978% of total heat flux into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2O, CO2, CH4, O3, CFCs, NO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in heat in the tropics or 40S-40N, loss heat in high latitudes (50S-50N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What is it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in gaseous envelope around the plane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Composi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atmosphere: nitrogen  (78%), oxygen (21%), other (1%) – trace gas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gen, oxygen, argon, water vapor, carbon dioxide, methane, and most other gases are invisib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uds are not gas, but condensed vapor in the form of  liquid droplets or ice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nd based smog, which is visible, contains reactants of                       nitrogen and ozo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ur layer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verturning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stratified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surface to 8-18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roposphere top  to 5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ue sky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n gaseous envelope around the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ompos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atmosphere: nitrogen  (78%), oxygen (21%), other (1%) – trace ga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, oxygen, argon, water vapor, carbon dioxide, methane, and most other gases are invi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are not gas, but condensed vapor in the form of  liquid droplets or ice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based smog, which is visible, contains reactants of                       nitrogen and o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layer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verturn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atifie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urface to 8-18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roposphere top  to 5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sk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ed in more questions?  Try these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name one or more main causes of glacier and interglacier climate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important greenhouse gases for modern climate change?  What is the fastest growing greenhouse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climate has been much colder and warmer than that of today.  Do you know in what ways the earth’s radiation balance was alte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ested in more questions?  Try these 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name one or more main causes of glacier and interglacier climate chang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most important greenhouse gases for modern climate change?  What is the fastest growing greenhouse ga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climate has been much colder and warmer than that of today.  Do you know in what ways the earth’s radiation balance was altere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tructure of Earth’s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Four layers defined b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Importance to climate and climate chan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0% of Earth’s gas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Earth’s weather happ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measur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9.9% of Earth’s gas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 layer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cking Sun’s ultraviolet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our layers defin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mportance to climate and climate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of Earth’s g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Earth’s weather hap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9% of Earth’s g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lay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cking Sun’s ultraviolet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from the S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Characteristic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vels through space (vacuum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speed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Importance to climate and climate chan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form of wav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stream of parti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Photo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mary driving force of Earth’s climate eng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Electromagnetic spectru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short wavelength, high energy, gamma rays to long wavelength, low energy, radio wav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eases heat when absorb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ltraviolet, Visible, Infra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racterist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s through space (vacuu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peed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mportance to climate and climate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rm of w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ream of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hot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driving force of Earth’s climate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lectromagnetic spectru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hort wavelength, high energy, gamma rays to long wavelength, low energy, radio wa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s heat when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violet, Visible,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n’s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radiation has peak intensities in the shorter wavelengths, dominant in the region we know as visible, thus short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’s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radiation has peak intensities in the shorter wavelengths, dominant in the region we know as visible, thus short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ackbody Radiation Cur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y object above absolute zero radiates heat, as proportional to T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temperature, shorter 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body Radiation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bject above absolute zero radiates heat, as proportional to 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temperature, shorter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ngwave &amp; Short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sun radiates at shorter wavelengths that carry more energy, and the fraction absorbed by the cooler earth is then re-radiated at longer wavelengt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wave &amp; Short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sun radiates at shorter wavelengths that carry more energy, and the fraction absorbed by the cooler earth is then re-radiated at longer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mospheric Greenhouse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= 15°C (59°F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= –18°C (0°F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house effects make Earth’s surface warmer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face Temperature With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face Temperature Without the Atmosphe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ic Greenhous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= 15°C (59°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= –18°C (0°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effects make Earth’s surface warm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With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Without the 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4CE0-9CB0-49CF-8061-C99E3420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3FF-089A-4C49-B61D-B59FDD16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0A02-DEE3-4053-B434-CBDE1F99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1343-D9FF-4BF2-AF59-96CE0D28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69A-2F08-4355-B186-0DF15C49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7D6-6861-4A1F-9F3A-58C3E306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5198-181F-472A-8EA0-443B6F75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9039-B329-4D29-8B00-606FC986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DBA3-FED9-494B-B6A4-9175C05D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DB4-6035-4A31-8DD7-3D59BF54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9ED-FFA7-4601-9535-FFD20836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9BE-C8FE-41F8-94EC-63649862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1E5F-D719-497B-8F60-61558E38FA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o.utexas.edu/courses/302c/EarthsClimate_Web_Chapter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0" y="533520"/>
            <a:ext cx="9080640" cy="1069200"/>
            <a:chOff x="0" y="533520"/>
            <a:chExt cx="9080640" cy="1069200"/>
          </a:xfrm>
        </p:grpSpPr>
        <p:sp>
          <p:nvSpPr>
            <p:cNvPr id="49" name="Text Box 2"/>
            <p:cNvSpPr/>
            <p:nvPr/>
          </p:nvSpPr>
          <p:spPr>
            <a:xfrm>
              <a:off x="0" y="533520"/>
              <a:ext cx="9080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ecture 3: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diatio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and Earth’s Atmosphe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2133360" y="1143000"/>
              <a:ext cx="4953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Times New Roman"/>
                  <a:hlinkClick r:id="rId1"/>
                </a:rPr>
                <a:t>EarthsClimate_Web_Chapter.pdf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p. 1-5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Text Box 6"/>
          <p:cNvSpPr/>
          <p:nvPr/>
        </p:nvSpPr>
        <p:spPr>
          <a:xfrm>
            <a:off x="152280" y="5943600"/>
            <a:ext cx="85345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’s global average surface temperature in present climate is 15C (59F).  Without the atmosphere, it would be -18C (-0.4F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33C or 59.4F colder!  Atmosphere is the most important component of the earth’s clima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tion vs. other heat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nergy enter the earth’s atmosphere: 174 petawatts or 174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t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: 99.978%, Geothermal: 0.013%, waste and fossil fuel: 0.007%, tidal: 0.00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52280" y="3048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spcBef>
                <a:spcPts val="4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Water vapor accounts for 60% of the atmospheric greenhouse effect, CO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26%, and the remaining greenhouse gases 14%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057400" y="152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eenhouse G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429000" y="1143000"/>
            <a:ext cx="23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ater vapor (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98108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rbon dioxide (C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57200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thane (C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943600" y="2224080"/>
            <a:ext cx="26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trous oxide (N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990720" y="220968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zone (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048120" y="2133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lorofluorocarbons (CFC’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04920" y="8380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What are they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152280" y="42670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ntributes most (55-60%)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hropogenic greenhouse effec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and methane is a distant second (16%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52280" y="53341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FCs cause the strongest greenhouse warming on a molecule-for-molecule basi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1295280" y="1523880"/>
            <a:ext cx="7086600" cy="12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28600" y="228600"/>
            <a:ext cx="403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Absor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" y="1447920"/>
            <a:ext cx="34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asses rather freel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hrough Earth's atmosp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Earth emits longwave energy, which either leaks through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rrow window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sorbe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by greenhouse gases and radiated back to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G:\clones\Meterology\custom lectures\jpegs\chapter 02\11.jpg"/>
          <p:cNvPicPr/>
          <p:nvPr/>
        </p:nvPicPr>
        <p:blipFill>
          <a:blip r:embed="rId1"/>
          <a:stretch/>
        </p:blipFill>
        <p:spPr>
          <a:xfrm>
            <a:off x="4267080" y="76320"/>
            <a:ext cx="4267440" cy="6637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6095880" y="6384960"/>
            <a:ext cx="1828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 rot="16200000">
            <a:off x="3111480" y="2940840"/>
            <a:ext cx="2252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bsorption (10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7086600" y="1522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itrous 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162920" y="123336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eth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7391520" y="23004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7086600" y="321480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ater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4800600" y="4191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5867280" y="541008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5562720" y="5410080"/>
            <a:ext cx="30456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4876920" y="5410080"/>
            <a:ext cx="685800" cy="0"/>
          </a:xfrm>
          <a:prstGeom prst="line">
            <a:avLst/>
          </a:prstGeom>
          <a:ln w="28440">
            <a:solidFill>
              <a:srgbClr val="cc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510552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otal At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7086600" y="533412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5029200" y="505944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3200400" y="2133720"/>
            <a:ext cx="2362320" cy="41148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3048120" y="3809880"/>
            <a:ext cx="441936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2438280" y="5029200"/>
            <a:ext cx="55627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2743200" y="5105520"/>
            <a:ext cx="39625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olar Intensity and La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3" descr="G:\clones\Meterology\custom lectures\jpegs\chapter 03\02.jpg"/>
          <p:cNvPicPr/>
          <p:nvPr/>
        </p:nvPicPr>
        <p:blipFill>
          <a:blip r:embed="rId1"/>
          <a:stretch/>
        </p:blipFill>
        <p:spPr>
          <a:xfrm>
            <a:off x="415800" y="325440"/>
            <a:ext cx="8248680" cy="39495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1160" y="4448160"/>
            <a:ext cx="905976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intensity, defined a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ergy per area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is different at different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sunlight beam th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ikes at an ang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ea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across a greater surface area, and is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ss intens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heat source than a beam impinging direc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Radiation on a 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3" descr="figure 02-04"/>
          <p:cNvPicPr/>
          <p:nvPr/>
        </p:nvPicPr>
        <p:blipFill>
          <a:blip r:embed="rId1"/>
          <a:stretch/>
        </p:blipFill>
        <p:spPr>
          <a:xfrm>
            <a:off x="380880" y="762120"/>
            <a:ext cx="5346720" cy="60958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6248520" y="1752480"/>
            <a:ext cx="24382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solation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onger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opics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(low latitudes) than in in the polar regions (high latitud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Pole-to-Equator Heating Imbal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3" descr="figure 02-05"/>
          <p:cNvPicPr/>
          <p:nvPr/>
        </p:nvPicPr>
        <p:blipFill>
          <a:blip r:embed="rId1"/>
          <a:stretch/>
        </p:blipFill>
        <p:spPr>
          <a:xfrm>
            <a:off x="1676520" y="1066680"/>
            <a:ext cx="5608440" cy="50292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igure 02-07a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456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63360" y="2286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What controls the elevation of the Sun above the horiz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0" y="61722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Tilt Primarily Determines 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's Annual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533520"/>
            <a:ext cx="2349720" cy="58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achieved locally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ly two line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f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global 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maintained by excess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heat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from the equatorial region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ransferring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oward the p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4" descr="G:\clones\Meterology\custom lectures\jpegs\chapter 03\08.jpg"/>
          <p:cNvPicPr/>
          <p:nvPr/>
        </p:nvPicPr>
        <p:blipFill>
          <a:blip r:embed="rId1"/>
          <a:stretch/>
        </p:blipFill>
        <p:spPr>
          <a:xfrm>
            <a:off x="2654280" y="912960"/>
            <a:ext cx="6464160" cy="47955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5257800" y="1219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oming Solar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724280" y="2635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utgoing Longwave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895480" y="6095880"/>
            <a:ext cx="61088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heating of tropics and p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90520" y="0"/>
            <a:ext cx="84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The Global Energy Budget:  Driver of Atmospheric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3" descr="earthrad"/>
          <p:cNvPicPr/>
          <p:nvPr/>
        </p:nvPicPr>
        <p:blipFill>
          <a:blip r:embed="rId1"/>
          <a:stretch/>
        </p:blipFill>
        <p:spPr>
          <a:xfrm>
            <a:off x="228600" y="603360"/>
            <a:ext cx="8305920" cy="5645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6292080" y="5254560"/>
            <a:ext cx="284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However, the tilt of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Earth means this ba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is not maintained for 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latitu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333840" y="533520"/>
            <a:ext cx="295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 balance exists betwe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the incoming solar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outgoing longwave energ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veraged over the glob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nd the 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1324080" y="525780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476360" y="54928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DEFIC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-46080" y="548640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URP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212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C or 59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cause of greenhouse effect of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contributes to 99.978% of total heat flux into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, C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FCs, 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ain heat in the tropics or 40S-40N, loss heat in high latitudes (50S-50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80880" y="91440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What is it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9" descr="Picture1"/>
          <p:cNvPicPr/>
          <p:nvPr/>
        </p:nvPicPr>
        <p:blipFill>
          <a:blip r:embed="rId1"/>
          <a:stretch/>
        </p:blipFill>
        <p:spPr>
          <a:xfrm>
            <a:off x="6553080" y="7621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685800" y="12952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thin gaseous envelope around the plane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80880" y="202392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Composi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228600" y="2390760"/>
            <a:ext cx="595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oday’s atmosphere: nitrogen  (78%), oxygen (21%), other (1%) – trace gases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8580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Nitrogen, oxygen, argon, water vapor, carbon dioxide, methane, and most other gases are invi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685800" y="36576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louds are not gas, but condensed vapor in the form of  liquid droplets or ice parti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85800" y="43434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Ground based smog, which is visible, contains reactants of                       nitrogen and oz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80880" y="489096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2590920" y="48769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our layers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685800" y="5181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Trop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2133720" y="5181480"/>
            <a:ext cx="1676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overturnin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685800" y="54864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Strat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2133720" y="5486400"/>
            <a:ext cx="167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stratified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3657600" y="51814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surface to 8-18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3657600" y="54864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troposphere top  to 50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685800" y="57913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es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685800" y="61722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Therm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2971800" y="1676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lue sk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27" descr="box 02-01"/>
          <p:cNvPicPr/>
          <p:nvPr/>
        </p:nvPicPr>
        <p:blipFill>
          <a:blip r:embed="rId2"/>
          <a:stretch/>
        </p:blipFill>
        <p:spPr>
          <a:xfrm>
            <a:off x="7054920" y="3505320"/>
            <a:ext cx="2165400" cy="32763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ested in more questions?  Try these 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ame one or more main causes of glacier and interglacier climate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important greenhouse gases for modern climate change?  What is the fastest growing greenhouse g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’s climate has been much colder and warmer than that of today.  Do you know in what ways the earth’s radiation balance was alt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The Structure of 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80880" y="914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Four layers defined b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44792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71520" y="3200400"/>
            <a:ext cx="54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28600" y="365760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rop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685800" y="17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op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85800" y="2071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at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85800" y="2376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s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858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rm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2438280" y="17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2438280" y="2057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2514600" y="23907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2514600" y="2681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990720" y="4038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80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990720" y="43434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Earth’s weather happ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990720" y="464832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the measu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228600" y="499752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trat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990720" y="53341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19.9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990720" y="56386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Ozone layer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1371600" y="59436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Blocking Sun’s ultraviolet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6" descr="vertpro"/>
          <p:cNvPicPr/>
          <p:nvPr/>
        </p:nvPicPr>
        <p:blipFill>
          <a:blip r:embed="rId1"/>
          <a:stretch/>
        </p:blipFill>
        <p:spPr>
          <a:xfrm>
            <a:off x="6172200" y="838080"/>
            <a:ext cx="2787480" cy="278784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nergy from the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0880" y="914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Characteristic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85800" y="13716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vels through space (vacuu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9" descr="figure 02-01"/>
          <p:cNvPicPr/>
          <p:nvPr/>
        </p:nvPicPr>
        <p:blipFill>
          <a:blip r:embed="rId1"/>
          <a:stretch/>
        </p:blipFill>
        <p:spPr>
          <a:xfrm>
            <a:off x="5013360" y="990720"/>
            <a:ext cx="4054320" cy="49035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1143000" y="1676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a speed of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80880" y="51674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685800" y="2057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the form of wav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85800" y="2757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stream of part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1143000" y="2362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42900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hoton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685800" y="5791320"/>
            <a:ext cx="502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Primary driving force of Earth’s climate 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380880" y="3581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Electromagnetic spectr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685800" y="4038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short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high energy, gamma rays to </a:t>
            </a:r>
            <a:r>
              <a:rPr b="1" lang="en-US" sz="1800" spc="-1" strike="noStrike">
                <a:solidFill>
                  <a:srgbClr val="cc6600"/>
                </a:solidFill>
                <a:latin typeface="Tahoma"/>
              </a:rPr>
              <a:t>long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low energy, radio wav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85800" y="3138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leases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hea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hen absorb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685800" y="61722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Ultraviolet, Visible, Infra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un’s 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60280" y="5076720"/>
            <a:ext cx="85615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has peak intensities in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er wavelength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dominant in the region we know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sib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thu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wave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G:\clones\Meterology\custom lectures\jpegs\chapter 02\09.jpg"/>
          <p:cNvPicPr/>
          <p:nvPr/>
        </p:nvPicPr>
        <p:blipFill>
          <a:blip r:embed="rId1"/>
          <a:stretch/>
        </p:blipFill>
        <p:spPr>
          <a:xfrm>
            <a:off x="12600" y="903240"/>
            <a:ext cx="9080640" cy="4000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ckbod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Radiation Curv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9" name="Picture 3" descr="bbcurves"/>
          <p:cNvPicPr/>
          <p:nvPr/>
        </p:nvPicPr>
        <p:blipFill>
          <a:blip r:embed="rId1"/>
          <a:stretch/>
        </p:blipFill>
        <p:spPr>
          <a:xfrm>
            <a:off x="685800" y="8953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4343400" y="1447920"/>
            <a:ext cx="38098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02060"/>
                </a:solidFill>
                <a:latin typeface="Tahoma"/>
              </a:rPr>
              <a:t>Any object above absolute zero radiates heat,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s proportional to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cc66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4572000"/>
            <a:ext cx="2971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Higher temperature, shorter wave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Longwave &amp; Shortwave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3" descr="G:\clones\Meterology\custom lectures\jpegs\chapter 02\08.jpg"/>
          <p:cNvPicPr/>
          <p:nvPr/>
        </p:nvPicPr>
        <p:blipFill>
          <a:blip r:embed="rId1"/>
          <a:stretch/>
        </p:blipFill>
        <p:spPr>
          <a:xfrm>
            <a:off x="12600" y="682560"/>
            <a:ext cx="6756480" cy="5254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6794640" y="873000"/>
            <a:ext cx="23238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t sun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radiates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orter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wavelengths that carr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energ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and the fraction absorbed by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oler earth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then re-radiated 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nger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waveleng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Greenhous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3" descr="G:\clones\Meterology\custom lectures\jpegs\chapter 02\12A.jpg"/>
          <p:cNvPicPr/>
          <p:nvPr/>
        </p:nvPicPr>
        <p:blipFill>
          <a:blip r:embed="rId1"/>
          <a:stretch/>
        </p:blipFill>
        <p:spPr>
          <a:xfrm>
            <a:off x="4603680" y="685800"/>
            <a:ext cx="4540320" cy="4129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G:\clones\Meterology\custom lectures\jpegs\chapter 02\12B.jpg"/>
          <p:cNvPicPr/>
          <p:nvPr/>
        </p:nvPicPr>
        <p:blipFill>
          <a:blip r:embed="rId2"/>
          <a:stretch/>
        </p:blipFill>
        <p:spPr>
          <a:xfrm>
            <a:off x="31680" y="674640"/>
            <a:ext cx="4540320" cy="3363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1676520" y="3443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15°C (59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0958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–18°C (0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0" y="5410080"/>
            <a:ext cx="9080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eenhouse effects make Earth’s surface warm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28600" y="380988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4800600" y="464832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GHeffect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12:03Z</dcterms:created>
  <dc:creator>Zong-Liang Yang</dc:creator>
  <dc:description/>
  <dc:language>en-US</dc:language>
  <cp:lastModifiedBy>Legion</cp:lastModifiedBy>
  <dcterms:modified xsi:type="dcterms:W3CDTF">2017-01-26T10:04:30Z</dcterms:modified>
  <cp:revision>237</cp:revision>
  <dc:subject/>
  <dc:title>Elements of the Sun; Solar Radiation</dc:title>
</cp:coreProperties>
</file>