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1572-0268-438F-AA2B-B85BC99ED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66F-E440-469B-B58F-30B8661B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1A8-5A4B-4B75-A063-7BF5BA25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B73-E257-4D7C-8EE6-3844A5F9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E9D-2A52-47AF-B9EE-1EC37730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B44-86BA-418D-9DFB-462E9284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BB4-9EF0-43C8-921C-AF9B8464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945B-DAE7-4EE4-BE55-5481240A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7EE-0BDD-42C1-8EA3-4A252B01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199-BDA7-49E7-91FC-20DEDFD5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7E3-AB53-4858-B04A-895D8C5F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D1F-CD96-45C4-ACDE-8567AA2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213-F3D4-48C1-B510-9CC8B3C6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C05F-BABF-4C69-97BD-86D3F65D1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Text Box 6"/>
          <p:cNvSpPr/>
          <p:nvPr/>
        </p:nvSpPr>
        <p:spPr>
          <a:xfrm>
            <a:off x="152280" y="5943600"/>
            <a:ext cx="8534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9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Legion</cp:lastModifiedBy>
  <dcterms:modified xsi:type="dcterms:W3CDTF">2017-01-26T10:04:30Z</dcterms:modified>
  <cp:revision>237</cp:revision>
  <dc:subject/>
  <dc:title>Elements of the Sun; Solar Radiation</dc:title>
</cp:coreProperties>
</file>