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3EB15-586F-4F6C-A894-3CB7D923C5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DDF5F-426F-45D9-84FB-4FC6713821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visible light we see from our Sun comes from which par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) 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) cor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) pho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) chro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) convection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03A20-223C-4917-9D1C-5CD2FBA22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f a neutrino can escape from the solar core within minutes, then    how long does it take a photon to escap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1)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2) h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3) mon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4) hundreds of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) about a million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Gamma ray photons are absorbed and re-emitted continuously in the layers above the c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y gradually shift in spectrum to visible and infrared light at the photospher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06A6A-6509-48EE-8E25-F946812F2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hat is probably responsible for the increase in temperature of the </a:t>
            </a:r>
            <a:r>
              <a:rPr b="1" i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coron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far from the Sun’s surface?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) a higher rate of fu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) the Sun’s magnetis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) higher radiation press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) absorption of X-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) convection cur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42074-1837-4A90-A942-FCF736BFCF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hat is probably responsible for the increase in temperature of the </a:t>
            </a:r>
            <a:r>
              <a:rPr b="1" i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coron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far from the Sun’s surface?</a:t>
            </a:r>
            <a:br>
              <a:rPr sz="1200"/>
            </a:b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1) the higher rate of fu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) the Sun’s magnetis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3) higher radiation press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4) absorption of X-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5) convection currents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pparently the Sun’s magnetic field acts like a pump to increase the speeds of particles in the upper coron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18238-A300-4258-A962-5B114BB5A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number of sunspots and solar activity in general peaks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) every 27 days, the apparent rotation period of the Sun’s surfa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) once a yea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) every 5 ½ 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) every 11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) approximately every 100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718BC-BDAC-4F14-A52B-A9151F1943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number of sunspots and sola</a:t>
            </a:r>
            <a:br>
              <a:rPr sz="1200"/>
            </a:b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1) every 27 days, the apparent rotation period of the Sun’s surfa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2) once a yea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3) every 5 ½ 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) every 11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5) approximately every 100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 activity in general pe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sunspot cycle shows a consistent 11-year pattern of activity dating back more than 300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9C21F-E4F4-4CEA-8680-7CEBA102C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“Solar Neutrino Problem” refers to th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) cannot explain how the Sun is stab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) detect only one-third the number of neutrinos expected by the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) cannot detect neutrinos eas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) are unable to explain how neutrinos oscillate between other ty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) cannot create controlled fusion reactions on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 fact that astrono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C2C34-A62B-4316-B28C-2530FA8157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“Solar Neutrino Problem” refers to the fact that astrono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1) cannot explain how the Sun is stable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) detect only one-third the number of neutrinos expected by the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3) cannot detect neutrinos eas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4) are unable to explain how neutrinos oscillate between other ty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5) cannot create controlled fusion reactions on Earth.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urther experiments have shown that solar neutrinos can change into other types that were not initially det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27781-3C89-45C6-BAF7-BCDF8B304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visible light we see from our Sun comes from which par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1) 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2) cor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) pho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4) chro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5) convection z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photosphere is a relatively narrow layer below the chromosphere and corona, with an average temperature of about 6000 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B7200-4DFF-4896-90AA-1F304D704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add notes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density of the Sun is most similar to that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) a com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) Jupi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)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) interstellar g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) an astero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111F6-8719-4652-87A4-50E80A8B4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density of the Sun is most similar to that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1)  a com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) Jupi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3)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4) interstellar g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5) an astero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Sun is a ball of charged gas, without a solid surfac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upiter has a similar composition, but not enough mass to be a st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1560F-5D26-4F43-AD23-671B3F2D1C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Sun is stable as a star beca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) gravity balances forces from pres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) the rate of fusion equals the rate of fiss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) radiation and convection bal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) mass is converted into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) fusion doesn’t depend on tempera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928EA-6C92-4EA2-8543-2FAC657FD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Sun is stable as a star beca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) gravity balances forces from pres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2) the rate of fusion equals the rate of fiss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3) radiation and convection bal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4) mass is converted into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5) fusion doesn’t depend on tempera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principle of </a:t>
            </a:r>
            <a:r>
              <a:rPr b="1" i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Hydrostatic Equilibrium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explains how stars maintain their stabi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E703A-41C0-4CBE-9325-ABD269163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proton–proton cycle involves what kind of fusion proce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) carbon (C) into oxygen (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) helium (He) into carbon (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) hydrogen (H) into helium (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) neon (Ne) into silicon (S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) oxygen (O) into iron (F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46F15-7BB2-4213-BA74-8D64267B7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proton–proton cycle involves what kind of fusion proce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1) carbon (C) into oxygen (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2) helium (He) into carbon (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) hydrogen (H) into helium (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4) neon (Ne) into silicon (S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5) oxygen (O) into iron (F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 the P-P cycle, four Hydrogen nuclei (protons) fuse into one Helium nucleus, releasing gamma rays and neutrin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D8333-506C-4208-806E-C5B48C9DE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f a neutrino can escape from the solar core within m1)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) h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) mon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) hundreds of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) about a million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utes, then    how long does it take a photon to escap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5AD6-33E7-4C96-A1D4-BA9CFD84F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2A23-40C9-4910-9D4A-5840F2137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B4F5-BF8A-4197-BA4B-AB59A023E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0AA6-0C7D-4BD7-AA4D-F241A3D61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C831-DAC2-4ED4-8451-D96A7F28E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1324-1F8E-4293-8C7E-A5D959F54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BE0D-52A9-436C-B27C-452DEFF8C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CE78-CA32-40E2-AFCF-A253BCD7A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3C5B-6D8E-47D4-A4BC-12990F754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0478-26D4-4CD7-B9F1-E3BD8FD5C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32F6-1926-43C2-92DA-4B79E474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0438-EED8-4314-A96D-3A1814CC7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F9CA9-C220-42E8-B67A-EDA7C35C1A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5105520" y="914400"/>
            <a:ext cx="2819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) c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) cor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) photosp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) chromosp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) convection z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685800" y="12193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visible light we see from our Sun comes from which par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533520" y="1066680"/>
            <a:ext cx="3886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a neutrino can escape from the solar core within minutes, then    how long does it take a photon to escap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648320" y="1143000"/>
            <a:ext cx="3124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1)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2)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3)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4) hundreds of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) about a million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6"/>
          <p:cNvSpPr/>
          <p:nvPr/>
        </p:nvSpPr>
        <p:spPr>
          <a:xfrm>
            <a:off x="4176720" y="2514600"/>
            <a:ext cx="3900600" cy="533520"/>
          </a:xfrm>
          <a:prstGeom prst="ellipse">
            <a:avLst/>
          </a:prstGeom>
          <a:noFill/>
          <a:ln w="507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4267080" y="3581280"/>
            <a:ext cx="472464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amma ray photons are absorbed and re-emitted continuously in the layers above the c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y gradually shift in spectrum to visible and infrared light at the photospher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9" descr="16_02Figure-F"/>
          <p:cNvPicPr/>
          <p:nvPr/>
        </p:nvPicPr>
        <p:blipFill>
          <a:blip r:embed="rId1"/>
          <a:srcRect l="0" t="0" r="0" b="1614"/>
          <a:stretch/>
        </p:blipFill>
        <p:spPr>
          <a:xfrm>
            <a:off x="304920" y="3429000"/>
            <a:ext cx="3581280" cy="342756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228600" y="914400"/>
            <a:ext cx="3886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is probably responsible for the increase in temperature of the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ron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far from the Sun’s surfa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4724280" y="990720"/>
            <a:ext cx="4419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) a higher rate of fu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) the Sun’s magnetis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) higher radiation pres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) absorption of X-r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) convection curr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228600" y="914400"/>
            <a:ext cx="3886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is probably responsible for the increase in temperature of the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ron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far from the Sun’s surfa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4724280" y="990720"/>
            <a:ext cx="4419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1) the higher rate of fu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) the Sun’s magnetis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3) higher radiation pres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4) absorption of X-r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5) convection curr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6"/>
          <p:cNvSpPr/>
          <p:nvPr/>
        </p:nvSpPr>
        <p:spPr>
          <a:xfrm>
            <a:off x="4419720" y="1295280"/>
            <a:ext cx="3900240" cy="533520"/>
          </a:xfrm>
          <a:prstGeom prst="ellipse">
            <a:avLst/>
          </a:prstGeom>
          <a:noFill/>
          <a:ln w="507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4114800" y="4038480"/>
            <a:ext cx="3809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arently the Sun’s magnetic field acts like a pump to increase the speeds of particles in the upper coron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9" descr="16_23Figure-P"/>
          <p:cNvPicPr/>
          <p:nvPr/>
        </p:nvPicPr>
        <p:blipFill>
          <a:blip r:embed="rId1"/>
          <a:srcRect l="0" t="0" r="0" b="9717"/>
          <a:stretch/>
        </p:blipFill>
        <p:spPr>
          <a:xfrm>
            <a:off x="152280" y="3355920"/>
            <a:ext cx="3505320" cy="350208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228600" y="1295280"/>
            <a:ext cx="304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number of sunspots and solar activity in general pea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4114800" y="990720"/>
            <a:ext cx="5029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) every 27 days, the apparent rotation period of the Sun’s surfa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) once a yea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) every 5 ½ 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) every 11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) approximately every 100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4114800" y="990720"/>
            <a:ext cx="5029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1) every 27 days, the apparent rotation period of the Sun’s surfa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2) once a yea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3) every 5 ½ 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) every 11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5) approximately every 100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6"/>
          <p:cNvSpPr/>
          <p:nvPr/>
        </p:nvSpPr>
        <p:spPr>
          <a:xfrm>
            <a:off x="3505320" y="2362320"/>
            <a:ext cx="3900240" cy="533160"/>
          </a:xfrm>
          <a:prstGeom prst="ellipse">
            <a:avLst/>
          </a:prstGeom>
          <a:noFill/>
          <a:ln w="507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304920" y="588312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sunspot cycle shows a consistent 11-year pattern of activity dating back more than 300 ye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228600" y="1295280"/>
            <a:ext cx="304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number of sunspots and solar activity in general pea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0" descr="16_20Figure-F"/>
          <p:cNvPicPr/>
          <p:nvPr/>
        </p:nvPicPr>
        <p:blipFill>
          <a:blip r:embed="rId1"/>
          <a:srcRect l="0" t="0" r="0" b="2727"/>
          <a:stretch/>
        </p:blipFill>
        <p:spPr>
          <a:xfrm>
            <a:off x="2514600" y="3349800"/>
            <a:ext cx="4280040" cy="255564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AutoShape 2"/>
          <p:cNvSpPr/>
          <p:nvPr/>
        </p:nvSpPr>
        <p:spPr>
          <a:xfrm>
            <a:off x="0" y="0"/>
            <a:ext cx="9144000" cy="38098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228600" y="1295280"/>
            <a:ext cx="304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“Solar Neutrino Problem” refers to the fact that astrono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4114800" y="990720"/>
            <a:ext cx="5029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) cannot explain how the Sun is stab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) detect only one-third the number of neutrinos expected by the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) cannot detect neutrinos easi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) are unable to explain how neutrinos oscillate between other typ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) cannot create controlled fusion reactions on Ear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AutoShape 2"/>
          <p:cNvSpPr/>
          <p:nvPr/>
        </p:nvSpPr>
        <p:spPr>
          <a:xfrm>
            <a:off x="0" y="0"/>
            <a:ext cx="9144000" cy="38098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228600" y="1295280"/>
            <a:ext cx="304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“Solar Neutrino Problem” refers to the fact that astrono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4114800" y="990720"/>
            <a:ext cx="5029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1) cannot explain how the Sun is stable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) detect only one-third the number of neutrinos expected by the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3) cannot detect neutrinos easi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4) are unable to explain how neutrinos oscillate between other typ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5) cannot create controlled fusion reactions on Ear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6"/>
          <p:cNvSpPr/>
          <p:nvPr/>
        </p:nvSpPr>
        <p:spPr>
          <a:xfrm>
            <a:off x="3678120" y="1295280"/>
            <a:ext cx="5486400" cy="838440"/>
          </a:xfrm>
          <a:prstGeom prst="ellipse">
            <a:avLst/>
          </a:prstGeom>
          <a:noFill/>
          <a:ln w="507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4267080" y="4419720"/>
            <a:ext cx="426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rther experiments have shown that solar neutrinos can change into other types that were not initially detec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9" descr="16_29Figureb-P"/>
          <p:cNvPicPr/>
          <p:nvPr/>
        </p:nvPicPr>
        <p:blipFill>
          <a:blip r:embed="rId1"/>
          <a:srcRect l="0" t="0" r="0" b="7943"/>
          <a:stretch/>
        </p:blipFill>
        <p:spPr>
          <a:xfrm>
            <a:off x="457200" y="3956040"/>
            <a:ext cx="3220920" cy="290196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685800" y="12193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visible light we see from our Sun comes from which par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5105520" y="914400"/>
            <a:ext cx="2743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1) c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2) cor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) photosp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4) chromosp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5) convection zo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4419720" y="3733920"/>
            <a:ext cx="4495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photosphere is a relatively narrow layer below the chromosphere and corona, with an average temperature of about 6000 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9"/>
          <p:cNvSpPr/>
          <p:nvPr/>
        </p:nvSpPr>
        <p:spPr>
          <a:xfrm>
            <a:off x="4648320" y="1600200"/>
            <a:ext cx="2895480" cy="533520"/>
          </a:xfrm>
          <a:prstGeom prst="ellipse">
            <a:avLst/>
          </a:prstGeom>
          <a:noFill/>
          <a:ln w="507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0" descr="16_01Figure-P"/>
          <p:cNvPicPr/>
          <p:nvPr/>
        </p:nvPicPr>
        <p:blipFill>
          <a:blip r:embed="rId1"/>
          <a:srcRect l="0" t="0" r="0" b="10806"/>
          <a:stretch/>
        </p:blipFill>
        <p:spPr>
          <a:xfrm>
            <a:off x="380880" y="3429000"/>
            <a:ext cx="3505320" cy="332748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533520" y="106668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density of the Sun is most similar to that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5257800" y="914400"/>
            <a:ext cx="3200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) a com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) Jupi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) the Ear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) interstellar g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) an astero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5257800" y="914400"/>
            <a:ext cx="3200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1)  a com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) Jupi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3) the Ear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4) interstellar g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5) an astero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7"/>
          <p:cNvSpPr/>
          <p:nvPr/>
        </p:nvSpPr>
        <p:spPr>
          <a:xfrm>
            <a:off x="4724280" y="1219320"/>
            <a:ext cx="2590920" cy="533160"/>
          </a:xfrm>
          <a:prstGeom prst="ellipse">
            <a:avLst/>
          </a:prstGeom>
          <a:noFill/>
          <a:ln w="507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4419720" y="3733920"/>
            <a:ext cx="36576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Sun is a ball of charged gas, without a solid surfac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upiter has a similar composition, but not enough mass to be a st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533520" y="106668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density of the Sun is most similar to that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1" descr="16_01Figure-P"/>
          <p:cNvPicPr/>
          <p:nvPr/>
        </p:nvPicPr>
        <p:blipFill>
          <a:blip r:embed="rId1"/>
          <a:srcRect l="0" t="0" r="0" b="10806"/>
          <a:stretch/>
        </p:blipFill>
        <p:spPr>
          <a:xfrm>
            <a:off x="380880" y="3429000"/>
            <a:ext cx="3505320" cy="332748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304920" y="106668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Sun is stable as a star beca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3276720" y="9144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) gravity balances forces from pres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) the rate of fusion equals the rate of fiss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) radiation and convection bal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) mass is converted into ener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) fusion doesn’t depend on tempera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0" descr="16_01Figure-P"/>
          <p:cNvPicPr/>
          <p:nvPr/>
        </p:nvPicPr>
        <p:blipFill>
          <a:blip r:embed="rId1"/>
          <a:srcRect l="0" t="0" r="0" b="10806"/>
          <a:stretch/>
        </p:blipFill>
        <p:spPr>
          <a:xfrm>
            <a:off x="380880" y="3429000"/>
            <a:ext cx="3505320" cy="332748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304920" y="106668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Sun is stable as a star beca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3276720" y="9144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) gravity balances forces from pres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2) the rate of fusion equals the rate of fiss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3) radiation and convection bal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4) mass is converted into ener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5) fusion doesn’t depend on tempera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7"/>
          <p:cNvSpPr/>
          <p:nvPr/>
        </p:nvSpPr>
        <p:spPr>
          <a:xfrm>
            <a:off x="3200400" y="838080"/>
            <a:ext cx="5638680" cy="533520"/>
          </a:xfrm>
          <a:prstGeom prst="ellipse">
            <a:avLst/>
          </a:prstGeom>
          <a:noFill/>
          <a:ln w="507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4724280" y="4191120"/>
            <a:ext cx="3962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principle of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ydrostatic Equilibrium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explains how stars maintain their sta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9" descr="16_04Figure-F"/>
          <p:cNvPicPr/>
          <p:nvPr/>
        </p:nvPicPr>
        <p:blipFill>
          <a:blip r:embed="rId1"/>
          <a:stretch/>
        </p:blipFill>
        <p:spPr>
          <a:xfrm>
            <a:off x="457200" y="3429000"/>
            <a:ext cx="3557520" cy="314640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304920" y="106668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proton–proton cycle involves what kind of fusion proce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4495680" y="914400"/>
            <a:ext cx="4419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) carbon (C) into oxygen (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) helium (He) into carbon (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) hydrogen (H) into helium (H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) neon (Ne) into silicon (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) oxygen (O) into iron (F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5562720" y="3962520"/>
            <a:ext cx="3504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the P-P cycle, four Hydrogen nuclei (protons) fuse into one Helium nucleus, releasing gamma rays and neutrin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304920" y="106668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proton–proton cycle involves what kind of fusion proce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4495680" y="914400"/>
            <a:ext cx="4419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1) carbon (C) into oxygen (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2) helium (He) into carbon (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) hydrogen (H) into helium (H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4) neon (Ne) into silicon (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5) oxygen (O) into iron (F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10"/>
          <p:cNvSpPr/>
          <p:nvPr/>
        </p:nvSpPr>
        <p:spPr>
          <a:xfrm>
            <a:off x="4114800" y="1600200"/>
            <a:ext cx="4967280" cy="533520"/>
          </a:xfrm>
          <a:prstGeom prst="ellipse">
            <a:avLst/>
          </a:prstGeom>
          <a:noFill/>
          <a:ln w="507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1" descr="16_28Figure-F"/>
          <p:cNvPicPr/>
          <p:nvPr/>
        </p:nvPicPr>
        <p:blipFill>
          <a:blip r:embed="rId1"/>
          <a:srcRect l="0" t="0" r="0" b="6193"/>
          <a:stretch/>
        </p:blipFill>
        <p:spPr>
          <a:xfrm>
            <a:off x="152280" y="3429000"/>
            <a:ext cx="5257800" cy="332892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533520" y="1066680"/>
            <a:ext cx="3886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a neutrino can escape from the solar core within minutes, then    how long does it take a photon to escap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4648320" y="1143000"/>
            <a:ext cx="3124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)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)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)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) hundreds of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) about a million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2T01:33:30Z</dcterms:created>
  <dc:creator>UBOTTCH</dc:creator>
  <dc:description/>
  <dc:language>en-US</dc:language>
  <cp:lastModifiedBy>Legion</cp:lastModifiedBy>
  <dcterms:modified xsi:type="dcterms:W3CDTF">2017-01-26T09:48:06Z</dcterms:modified>
  <cp:revision>38</cp:revision>
  <dc:subject/>
  <dc:title>Slide 1</dc:title>
</cp:coreProperties>
</file>