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8658-D7FA-414E-8135-075C015C1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D2A5-1A59-4E80-AD5C-E4138D245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FEE4-B5FA-466F-B10F-E9B44EA4F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5196-A32F-49DD-8FB0-523C0384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6835-CC12-433E-9884-FFFDDEE0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43AA-E31D-4FE4-8C42-A3597EA2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69BA-188E-464A-A680-CEA31841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 activity in general p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EE97-C967-4DE6-B803-7020F38C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303F-954F-4969-AF34-F86C1541B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5503-4EDE-4422-8FA4-9FA88675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E68A-93BA-40AF-B0BE-C2BD12EC9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6DA6-2A23-4470-A4E7-BE3E3CD71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1AA0-BF79-4EB6-9458-F49FF2641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43ED-F9D6-4BAE-A4F7-6F3045F5E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9DD7-6A9C-4B8F-A871-E758922B8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60FF-4CD2-4CB6-A861-99FB8413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FEC9-4ECB-4974-8E2A-39B34927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27E-A6B3-43DE-B576-8F52049D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4D3-37EF-4620-AB3D-B4EE38E9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0F4-BF06-4DB4-B5A7-0B6A544B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BE6-8299-41DC-AD28-983425E4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76C-60C6-4D16-B76A-D68E5BA0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ABE-B508-47F3-822D-18297F6D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60A-8ECF-49F0-A27F-F2FB10DB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C54-3749-41C2-986E-7EC623F5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B47-783C-4D59-AAC7-E06A3847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71A-3586-4323-9D1B-F302124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8E8-C129-4B75-9686-BC321062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BB7-288F-4F59-8AE3-2CF6EB17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2E0-6A39-43A4-BAA6-192DD23C1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05520" y="9144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176720" y="2514600"/>
            <a:ext cx="390060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67080" y="358128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16_02Figure-F"/>
          <p:cNvPicPr/>
          <p:nvPr/>
        </p:nvPicPr>
        <p:blipFill>
          <a:blip r:embed="rId1"/>
          <a:srcRect l="0" t="0" r="0" b="1614"/>
          <a:stretch/>
        </p:blipFill>
        <p:spPr>
          <a:xfrm>
            <a:off x="304920" y="3429000"/>
            <a:ext cx="3581280" cy="3427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419720" y="1295280"/>
            <a:ext cx="390024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14800" y="4038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16_23Figure-P"/>
          <p:cNvPicPr/>
          <p:nvPr/>
        </p:nvPicPr>
        <p:blipFill>
          <a:blip r:embed="rId1"/>
          <a:srcRect l="0" t="0" r="0" b="9717"/>
          <a:stretch/>
        </p:blipFill>
        <p:spPr>
          <a:xfrm>
            <a:off x="152280" y="3355920"/>
            <a:ext cx="350532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505320" y="2362320"/>
            <a:ext cx="390024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4920" y="5883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_20Figure-F"/>
          <p:cNvPicPr/>
          <p:nvPr/>
        </p:nvPicPr>
        <p:blipFill>
          <a:blip r:embed="rId1"/>
          <a:srcRect l="0" t="0" r="0" b="2727"/>
          <a:stretch/>
        </p:blipFill>
        <p:spPr>
          <a:xfrm>
            <a:off x="2514600" y="3349800"/>
            <a:ext cx="4280040" cy="2555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678120" y="1295280"/>
            <a:ext cx="5486400" cy="8384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67080" y="441972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16_29Figureb-P"/>
          <p:cNvPicPr/>
          <p:nvPr/>
        </p:nvPicPr>
        <p:blipFill>
          <a:blip r:embed="rId1"/>
          <a:srcRect l="0" t="0" r="0" b="7943"/>
          <a:stretch/>
        </p:blipFill>
        <p:spPr>
          <a:xfrm>
            <a:off x="457200" y="3956040"/>
            <a:ext cx="322092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05520" y="9144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9720" y="3733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648320" y="1600200"/>
            <a:ext cx="28954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724280" y="1219320"/>
            <a:ext cx="259092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19720" y="3733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3200400" y="838080"/>
            <a:ext cx="56386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7242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6_04Figure-F"/>
          <p:cNvPicPr/>
          <p:nvPr/>
        </p:nvPicPr>
        <p:blipFill>
          <a:blip r:embed="rId1"/>
          <a:stretch/>
        </p:blipFill>
        <p:spPr>
          <a:xfrm>
            <a:off x="457200" y="3429000"/>
            <a:ext cx="355752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627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4114800" y="1600200"/>
            <a:ext cx="49672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16_28Figure-F"/>
          <p:cNvPicPr/>
          <p:nvPr/>
        </p:nvPicPr>
        <p:blipFill>
          <a:blip r:embed="rId1"/>
          <a:srcRect l="0" t="0" r="0" b="6193"/>
          <a:stretch/>
        </p:blipFill>
        <p:spPr>
          <a:xfrm>
            <a:off x="152280" y="3429000"/>
            <a:ext cx="5257800" cy="33289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1:33:30Z</dcterms:created>
  <dc:creator>UBOTTCH</dc:creator>
  <dc:description/>
  <dc:language>en-US</dc:language>
  <cp:lastModifiedBy>Legion</cp:lastModifiedBy>
  <dcterms:modified xsi:type="dcterms:W3CDTF">2017-01-26T09:48:06Z</dcterms:modified>
  <cp:revision>38</cp:revision>
  <dc:subject/>
  <dc:title>Slide 1</dc:title>
</cp:coreProperties>
</file>