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C61-D232-403F-8F7C-D27552FA5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767F-6236-4B91-86CE-3738EA13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BBD2-013B-4EAC-B121-8E67CDC4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838A-6728-454F-9290-14335513A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C0D-A43D-498F-AE16-1331B4B1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B01D-9E97-4CB0-8939-BEF87EF5E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03A4-962D-4BED-B58A-8267C8B4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number of sunspots and sola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 activity in general p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0DC4-BBC0-4506-86A1-83F2B3C2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B60A-D815-4D88-B448-B355D396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5948-9740-4E46-BA1D-186F88091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1105-1EA5-4C11-9231-9DD8A00B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add not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B616-9852-4532-82EB-A650382DB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642D-AD04-4795-B68F-BE835D94D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A9DE-4126-4154-B674-50B81095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F171-68A4-48BA-B3B0-FA859EF8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0F4B-B730-4D77-97A3-70168FDE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B716-AC44-49EB-9D95-CC72154F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f a neutrino can escape from the solar core within m1)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utes, then    how long does it take a photon to escap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785-1842-440B-8EB0-13F5C1B0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EB2-E4DA-45C5-BE5B-60480C38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EF7-7627-411B-A0E8-40EA2A2D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FC3-EC1B-4E55-82C0-FFE6F516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4565-57F5-40F6-8A94-9410B26F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709-C016-41ED-9F9F-6857388F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8D2-E57A-4C02-AB5A-DF1924B4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EE5-B331-487A-A34A-C58F180E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2BC-EB0B-4A87-910E-40949895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473F-E12B-45D3-B057-7273EAA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21B-1F9F-4F2A-81ED-93D76DE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2EC-E971-4BCC-BA1A-0858C095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DA9-0F02-4418-9484-D43E848E1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105520" y="914400"/>
            <a:ext cx="281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176720" y="2514600"/>
            <a:ext cx="390060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267080" y="3581280"/>
            <a:ext cx="4724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mma ray photons are absorbed and re-emitted continuously in the layers above the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gradually shift in spectrum to visible and infrared light at the photospher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16_02Figure-F"/>
          <p:cNvPicPr/>
          <p:nvPr/>
        </p:nvPicPr>
        <p:blipFill>
          <a:blip r:embed="rId1"/>
          <a:srcRect l="0" t="0" r="0" b="1614"/>
          <a:stretch/>
        </p:blipFill>
        <p:spPr>
          <a:xfrm>
            <a:off x="304920" y="3429000"/>
            <a:ext cx="3581280" cy="3427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8600" y="91440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probably responsible for the increase in temperature of 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on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ar from the Sun’s surf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724280" y="9907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the higher rate of fu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Sun’s magnet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higher radiation pres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bsorption of X-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419720" y="1295280"/>
            <a:ext cx="390024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14800" y="40384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arently the Sun’s magnetic field acts like a pump to increase the speeds of particles in the upper cor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16_23Figure-P"/>
          <p:cNvPicPr/>
          <p:nvPr/>
        </p:nvPicPr>
        <p:blipFill>
          <a:blip r:embed="rId1"/>
          <a:srcRect l="0" t="0" r="0" b="9717"/>
          <a:stretch/>
        </p:blipFill>
        <p:spPr>
          <a:xfrm>
            <a:off x="152280" y="3355920"/>
            <a:ext cx="350532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every 27 days, the apparent rotation period of the Sun’s surfa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once a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every 5 ½ 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every 11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pproximately every 100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3505320" y="2362320"/>
            <a:ext cx="390024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04920" y="5883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spot cycle shows a consistent 11-year pattern of activity dating back more than 30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sunspots and solar activity in general p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16_20Figure-F"/>
          <p:cNvPicPr/>
          <p:nvPr/>
        </p:nvPicPr>
        <p:blipFill>
          <a:blip r:embed="rId1"/>
          <a:srcRect l="0" t="0" r="0" b="2727"/>
          <a:stretch/>
        </p:blipFill>
        <p:spPr>
          <a:xfrm>
            <a:off x="2514600" y="3349800"/>
            <a:ext cx="4280040" cy="2555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nnot explain how the Sun is st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0" y="0"/>
            <a:ext cx="9144000" cy="3809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1295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“Solar Neutrino Problem” refers to the fact that astron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114800" y="990720"/>
            <a:ext cx="5029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nnot explain how the Sun is stab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detect only one-third the number of neutrinos expected by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cannot detect neutrinos eas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are unable to explain how neutrinos oscillate between other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annot create controlled fusion reactions on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3678120" y="1295280"/>
            <a:ext cx="5486400" cy="83844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267080" y="441972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rther experiments have shown that solar neutrinos can change into other types that were not initially det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16_29Figureb-P"/>
          <p:cNvPicPr/>
          <p:nvPr/>
        </p:nvPicPr>
        <p:blipFill>
          <a:blip r:embed="rId1"/>
          <a:srcRect l="0" t="0" r="0" b="7943"/>
          <a:stretch/>
        </p:blipFill>
        <p:spPr>
          <a:xfrm>
            <a:off x="457200" y="3956040"/>
            <a:ext cx="3220920" cy="29019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85800" y="12193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isible light we see from our Sun comes from which pa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105520" y="91440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phot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chro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convection z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419720" y="373392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hotosphere is a relatively narrow layer below the chromosphere and corona, with an average temperature of about 6000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648320" y="1600200"/>
            <a:ext cx="28954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5257800" y="9144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 a co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Jupi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the Ea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interstellar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an astero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4724280" y="1219320"/>
            <a:ext cx="2590920" cy="53316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419720" y="3733920"/>
            <a:ext cx="3657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a ball of charged gas, without a solid surf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piter has a similar composition, but not enough mass to be a s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3520" y="1066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ensity of the Sun is most similar to tha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16_01Figure-P"/>
          <p:cNvPicPr/>
          <p:nvPr/>
        </p:nvPicPr>
        <p:blipFill>
          <a:blip r:embed="rId1"/>
          <a:srcRect l="0" t="0" r="0" b="10806"/>
          <a:stretch/>
        </p:blipFill>
        <p:spPr>
          <a:xfrm>
            <a:off x="380880" y="3429000"/>
            <a:ext cx="3505320" cy="3327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1066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 is stable as a star 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76720" y="91440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gravity balances forces from pres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the rate of fusion equals the rate of fis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3) radiation and convection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mass is converted into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fusion doesn’t depend on temp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7"/>
          <p:cNvSpPr/>
          <p:nvPr/>
        </p:nvSpPr>
        <p:spPr>
          <a:xfrm>
            <a:off x="3200400" y="838080"/>
            <a:ext cx="56386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47242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inciple of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ydrostatic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xplains how stars maintain their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16_04Figure-F"/>
          <p:cNvPicPr/>
          <p:nvPr/>
        </p:nvPicPr>
        <p:blipFill>
          <a:blip r:embed="rId1"/>
          <a:stretch/>
        </p:blipFill>
        <p:spPr>
          <a:xfrm>
            <a:off x="457200" y="3429000"/>
            <a:ext cx="3557520" cy="31464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562720" y="3962520"/>
            <a:ext cx="350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-P cycle, four Hydrogen nuclei (protons) fuse into one Helium nucleus, releasing gamma rays and neutri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10666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oton–proton cycle involves what kind of fusion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495680" y="914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1) carbon (C) into oxygen (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2) helium (He) into carbon 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hydrogen (H) into helium (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4) neon (Ne) into silicon (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5) oxygen (O) into iron (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4114800" y="1600200"/>
            <a:ext cx="4967280" cy="533520"/>
          </a:xfrm>
          <a:prstGeom prst="ellipse">
            <a:avLst/>
          </a:prstGeom>
          <a:noFill/>
          <a:ln w="507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16_28Figure-F"/>
          <p:cNvPicPr/>
          <p:nvPr/>
        </p:nvPicPr>
        <p:blipFill>
          <a:blip r:embed="rId1"/>
          <a:srcRect l="0" t="0" r="0" b="6193"/>
          <a:stretch/>
        </p:blipFill>
        <p:spPr>
          <a:xfrm>
            <a:off x="152280" y="3429000"/>
            <a:ext cx="5257800" cy="33289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0"/>
            <a:ext cx="9144000" cy="327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36760" y="76320"/>
            <a:ext cx="56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Questi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533520" y="106668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neutrino can escape from the solar core within minutes, then    how long does it take a photon to e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648320" y="1143000"/>
            <a:ext cx="31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)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)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)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) hundreds of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) about a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01:33:30Z</dcterms:created>
  <dc:creator>UBOTTCH</dc:creator>
  <dc:description/>
  <dc:language>en-US</dc:language>
  <cp:lastModifiedBy>Legion</cp:lastModifiedBy>
  <dcterms:modified xsi:type="dcterms:W3CDTF">2017-01-26T09:48:06Z</dcterms:modified>
  <cp:revision>38</cp:revision>
  <dc:subject/>
  <dc:title>Slide 1</dc:title>
</cp:coreProperties>
</file>