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4AEA-EF46-4355-8F12-A5488232AD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erial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ion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reaction between a metal and acid produces hydrogen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hydrogen uniq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knows as a very unique element as: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Usually elements in group(I) are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+ is non as a proton (stable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H1- is known as a hydride (unsta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for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s that their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H2 + N2             2N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191-0DC4-4ECC-8BB7-CCA9FBB3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081B-5AEE-40AC-9415-4A94BBED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AA2-91C3-450E-8A74-401CB41C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5C8-E8D8-4950-9502-07FE77B7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677-EDDD-4D78-92D7-DF8A8BEF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BD5-86ED-40B1-AF0B-E0C3893C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965-6FC0-4C98-927A-C1CA8D63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ED8-9E7D-4EDB-BCF8-2710B1A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463-F3EF-47D8-B208-9D43683F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569-3DDE-4022-8649-6AA3EAE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A43-1573-4823-AF82-64CB5645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0B39-5CC3-4C97-B99E-FC4C43B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BD3E-881E-4D81-94B0-08B01231D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Material: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omic Sans MS"/>
              </a:rPr>
              <a:t>Production of hydro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properti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Why is hydrogen u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Test for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Uses of 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duction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clounaghscience.files.wordpress.com/2009/03/preparation-of-hydrogen.jpg"/>
          <p:cNvPicPr/>
          <p:nvPr/>
        </p:nvPicPr>
        <p:blipFill>
          <a:blip r:embed="rId1"/>
          <a:stretch/>
        </p:blipFill>
        <p:spPr>
          <a:xfrm>
            <a:off x="561960" y="1143000"/>
            <a:ext cx="8277120" cy="5210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57200" y="1143000"/>
            <a:ext cx="8381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533520" y="4419720"/>
            <a:ext cx="830556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As the reaction between a metal and acid produce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ydrogen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, we can place this reaction in a flask that is connected to a delivery tube, that will allow hydrogen to pass through it ending up in a water trough, hydrogen will try to escape by  bubbling up into the glass 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roperti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less: - can’t be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orless: - has no sm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less: - doesn’t have a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: - found in gas state, not liquid, or sol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est gas: - least density, lighter then 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sive: - H2 + O2             H2O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ctants combine causing an explosion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Straight Arrow Connector 4"/>
          <p:cNvCxnSpPr/>
          <p:nvPr/>
        </p:nvCxnSpPr>
        <p:spPr>
          <a:xfrm>
            <a:off x="4267080" y="457200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Left Brace 5"/>
          <p:cNvSpPr/>
          <p:nvPr/>
        </p:nvSpPr>
        <p:spPr>
          <a:xfrm rot="16200000">
            <a:off x="3238560" y="453384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1295280"/>
              <a:gd name="textAreaBottom" fmla="*/ 127152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0"/>
                  <a:pt x="10800" y="1280"/>
                </a:cubicBezTo>
                <a:lnTo>
                  <a:pt x="10800" y="9520"/>
                </a:lnTo>
                <a:cubicBezTo>
                  <a:pt x="10800" y="10160"/>
                  <a:pt x="5400" y="10800"/>
                  <a:pt x="0" y="10800"/>
                </a:cubicBezTo>
                <a:cubicBezTo>
                  <a:pt x="5400" y="10800"/>
                  <a:pt x="10800" y="11440"/>
                  <a:pt x="10800" y="12080"/>
                </a:cubicBezTo>
                <a:lnTo>
                  <a:pt x="10800" y="20320"/>
                </a:lnTo>
                <a:cubicBezTo>
                  <a:pt x="10800" y="2096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905120" y="5334120"/>
            <a:ext cx="4267080" cy="3045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hy is hydrogen uniqu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ydrogen is knows as a very unique element as: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non-metal in group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Usually elements in group(I) are met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 It tends to form more than one 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+ is non as a proton (stable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- H1- is known as a hydride (unst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est for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boy forgets to label contents of 2 tubes, but he remembers that one of them has hydrogen, and the other has carbon diox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asks his teacher, “how do I test for hydrogen?”, and the teacher answers him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st: - expose the gas to a lighted splint (in the presence of oxyg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ult: - it’ll explode with a squeaky “pop sound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equation for the rxn is as follows: - H2 + O2          H2O + ener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images[13].jpg"/>
          <p:cNvPicPr/>
          <p:nvPr/>
        </p:nvPicPr>
        <p:blipFill>
          <a:blip r:embed="rId1"/>
          <a:stretch/>
        </p:blipFill>
        <p:spPr>
          <a:xfrm>
            <a:off x="228600" y="22860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1981080" y="2438280"/>
            <a:ext cx="2971800" cy="1600200"/>
          </a:xfrm>
          <a:prstGeom prst="rect">
            <a:avLst/>
          </a:prstGeom>
          <a:solidFill>
            <a:srgbClr val="f2f2f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he problem is that their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d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olor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Tastel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6"/>
          <p:cNvCxnSpPr/>
          <p:nvPr/>
        </p:nvCxnSpPr>
        <p:spPr>
          <a:xfrm>
            <a:off x="5943600" y="5715000"/>
            <a:ext cx="5342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Uses of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is a very usefu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used as a fu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akes ammonia, NH4 (a soil fertiliz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2 + N2             2NH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It is used to make plastic (P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It also turns liquid vegetable oils into marga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Straight Arrow Connector 4"/>
          <p:cNvCxnSpPr/>
          <p:nvPr/>
        </p:nvCxnSpPr>
        <p:spPr>
          <a:xfrm>
            <a:off x="2971800" y="3657600"/>
            <a:ext cx="9914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8:08:47Z</dcterms:created>
  <dc:creator>pc</dc:creator>
  <dc:description/>
  <dc:language>en-US</dc:language>
  <cp:lastModifiedBy>RomaK</cp:lastModifiedBy>
  <dcterms:modified xsi:type="dcterms:W3CDTF">2015-09-02T05:53:15Z</dcterms:modified>
  <cp:revision>8</cp:revision>
  <dc:subject/>
  <dc:title>Slide 1</dc:title>
</cp:coreProperties>
</file>