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F797-FAEE-4CDD-B266-ABBB565D86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8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2A03-1433-4622-AF53-F99DF8C20A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utu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DCF2-EE73-4E0A-AB9F-8CDA51C28B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25C6-7535-4275-B97E-D8370CCFE8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62ED-E291-4B52-A80C-4718488D37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3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ational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ronautics and Spac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CE42-BAD8-4F01-9712-EB45C4DC28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Are C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and so we study space. Things that we need to know about space exploration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EE51-2FF0-49DB-B6CD-7223903628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FF1F-AF96-436E-855A-DD1FBC4ED3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5431-81A3-4F26-90F4-EA12363470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95B1-74A8-427E-B0E7-1AB6A2FFEA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46EA-BC3D-4F83-8008-27D4996E27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o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304E-7542-4843-BBFE-1192378D23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D5A-FF2E-461C-989F-F5E8AB83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0B8-C2D6-4F45-8671-AFDD18C1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D4C-B321-42AA-8330-6F8D40A0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F7A-2C4A-4C73-B621-26259ED9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50C-AE01-4CBB-8E10-39C92060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A60-CC56-48B7-8823-BB6A7E6C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351-CB4A-42B6-B607-DC417E7F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AFE-8543-4DCA-B66A-FAFFAA9C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D85-F541-4960-8302-8FAAC20E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289-4464-4A33-85F2-26C49EAF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59F-6861-47A4-9B6E-72D8585C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BA8-3126-4C27-A8C9-6CEF8C39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BA2F-EE68-4020-BCFE-C2813931F8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CDC2-1841-4600-9E6A-BEB143068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048120" cy="2300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001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35268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Fu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28600" y="1523880"/>
            <a:ext cx="41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733560" cy="3419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8600" y="152388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236232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60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ional Aeronautics and Space Admini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04920" y="2362320"/>
            <a:ext cx="518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49560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We Are Curiou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80880" y="1371600"/>
            <a:ext cx="38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so we study space. Things that we need to know about space exploratio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724280" y="137160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9880" y="1295280"/>
            <a:ext cx="5181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19386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Oval Callout 7"/>
          <p:cNvSpPr/>
          <p:nvPr/>
        </p:nvSpPr>
        <p:spPr>
          <a:xfrm>
            <a:off x="2057400" y="4648320"/>
            <a:ext cx="1828800" cy="1904760"/>
          </a:xfrm>
          <a:prstGeom prst="wedgeEllipseCallout">
            <a:avLst>
              <a:gd name="adj1" fmla="val -79148"/>
              <a:gd name="adj2" fmla="val -392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got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876920" y="137160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4816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04920" y="1523880"/>
            <a:ext cx="4038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62520" cy="317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257800" y="48769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781680" y="3962520"/>
            <a:ext cx="2095560" cy="265752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7"/>
          <p:cNvSpPr/>
          <p:nvPr/>
        </p:nvSpPr>
        <p:spPr>
          <a:xfrm>
            <a:off x="3505320" y="5791320"/>
            <a:ext cx="18288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Space Race and Cold W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724280" y="1295280"/>
            <a:ext cx="4114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1976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852120" y="5867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robes Vs. Human Pilo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85800" y="16002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2095560" cy="247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2762280" cy="35528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7" descr=""/>
          <p:cNvPicPr/>
          <p:nvPr/>
        </p:nvPicPr>
        <p:blipFill>
          <a:blip r:embed="rId3"/>
          <a:stretch/>
        </p:blipFill>
        <p:spPr>
          <a:xfrm>
            <a:off x="1554120" y="2077920"/>
            <a:ext cx="5992920" cy="23479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0:10:00Z</dcterms:created>
  <dc:creator> </dc:creator>
  <dc:description/>
  <dc:language>en-US</dc:language>
  <cp:lastModifiedBy>Legion</cp:lastModifiedBy>
  <dcterms:modified xsi:type="dcterms:W3CDTF">2017-01-26T09:21:36Z</dcterms:modified>
  <cp:revision>46</cp:revision>
  <dc:subject/>
  <dc:title>Space Exploration Past, Present, Future</dc:title>
</cp:coreProperties>
</file>