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C663-6AFC-4AF8-B8D5-C91A127C8A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18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, Present,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9AA9-3E68-49DC-BE2E-F8657B9750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utu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ploration at greater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tended st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umans need to be ready and educated for the space travel of 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1700-5FE0-477A-948F-B19127B4D0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me Difficulties Includ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ation expo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unar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od an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erc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ffering levels of pressure, atmosphere composition, and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leep l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sk of bone fra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d muscle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d aerobic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ntal disorders arising from extreme, confined, and isolated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4839-AB47-4459-A37B-8C0D5FB7B1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Big Pictur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 is still in infancy. Although we have learned a lot, we still have a lot of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ost of space exploration mandates that we work together with other count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: International Space Station (IS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2AD9-1685-43EB-B449-09D65AE952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SA</a:t>
            </a:r>
            <a:br>
              <a:rPr sz="3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ational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complish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rst to land someone on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vented the space shu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veloped many products for space that we now use as everyday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: Velc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ronautics and Space Admini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453E-6F2C-421E-9272-3D09F001BA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Are C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and so we study space. Things that we need to know about space exploration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tificial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pro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mote sensoring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mpu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uel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anding mod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terials that can survive heat and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iving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iomedical equi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ir purification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d many mo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0529-5EC0-4A41-9B71-13BC5A9DF4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 Histor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space age began on October 4, 1957, when the Soviet Union launched Sputnik, the first artificial satellite to orbit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Soviets also achieved the first piloted space flight on April 12,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irst cosmonaut was Yuri Gagarin. He orbited Earth in a ship named Vost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684E-9293-407A-A6D9-592D5FCCDC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et’s Go to the Mo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ollo 8 orbited the moon 10 times and returned to Earth safely on December 21, 19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il Armstrong and Buzz Aldrin landed Apollo 11 on the moon on July 20,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il Armstrong was the first person to set foot o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laptops in our classroom are more powerful than the computers used to run the Apollo progra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041E-F3BE-41F9-ACA8-7E8D09960C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space shuttle is a reusable space c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rst used in 198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le to land on an ordinary air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wo shuttle tragedies in 1987 and 20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huttles replaced the previous method of space flight – Rockets and caps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250B-4D07-4807-AAD0-B79A2F560D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ur ability to achieve our space goals became an indicator of our status as a great nation, and the Soviets were our top competi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is occurred during a time in our history known as the Cold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is was a time when our relationship with the Soviets was, well, c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intense rivalry between our two countries led us to some amazing accomplish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Khrushchev &amp;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E8E3-2D5D-4F31-A63B-92A322C9EB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e need bo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e need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obes can make space flight cheaper, safer, and f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uman pilots can make decisions when things don’t go as plan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4C90-A9AE-43A0-845D-F451169A72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620-1494-4D00-B0F1-2BF3EF3E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AE47-EAEE-4936-94B6-2D1B7DBE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4AB-9AFC-4D8B-A434-F7758701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C72-3AF0-4395-A0B0-EC0CA3A9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0FF-9DD0-4663-B88C-CBC2FCEF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EA68-6EEC-4D30-A590-04B87E1D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36D-FCE8-4FCB-9FBD-BA45A205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0938-00AA-4CE2-9156-AFB7E614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D58-0114-4B1E-B80B-D864FA71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D872-227A-4D62-B77D-5DA5EBA4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4D99-5854-47A9-8998-8CA174F1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AA7-15A3-4C18-AE37-ADDD8E16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4165-C25F-4FC7-AED8-14DB5570C0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59DB-EFFA-4530-9AD7-82EB5A2FE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048120" cy="2300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st, Present,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300168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335268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 Fu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28600" y="1523880"/>
            <a:ext cx="4114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ploration at greater di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tended st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umans need to be ready and educated for the space travel of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733560" cy="34196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ome Difficulties Inclu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28600" y="1523880"/>
            <a:ext cx="8001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diation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unar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od and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ing levels of pressure, atmosphere composition, and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leep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sk of bone 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muscle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aerobic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ntal disorders arising from extreme, confined, and isolat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2362320"/>
            <a:ext cx="8534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ace exploration is still in infancy. Although we have learned a lot, we still have a lot of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ost of space exploration mandates that we work together with other coun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: International Space Station (I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ASA</a:t>
            </a:r>
            <a:br>
              <a:rPr sz="60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tional Aeronautics and Space Adminis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04920" y="2362320"/>
            <a:ext cx="5181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complish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to land someone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ented the space shu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veloped many products for space that we now use as everyday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ample: Vel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495600" cy="2971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We Are Curiou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380880" y="1371600"/>
            <a:ext cx="3886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so we study space. Things that we need to know about space exploration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tificial satel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ote sensor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724280" y="1371600"/>
            <a:ext cx="3886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el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nd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erials that can survive heat an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lar 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ving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omedical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ir purification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lesc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many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ace Exploration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809880" y="1295280"/>
            <a:ext cx="5181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pace age began on October 4, 1957, when the Soviet Union launched Sputnik, the first artificial satellite to orbit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oviets also achieved the first piloted space flight on April 12,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irst cosmonaut was Yuri Gagarin. He orbited Earth in a ship named Vost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2286000" cy="307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1938600" cy="2819520"/>
          </a:xfrm>
          <a:prstGeom prst="rect">
            <a:avLst/>
          </a:prstGeom>
          <a:ln w="0">
            <a:noFill/>
          </a:ln>
        </p:spPr>
      </p:pic>
      <p:sp>
        <p:nvSpPr>
          <p:cNvPr id="68" name="Oval Callout 7"/>
          <p:cNvSpPr/>
          <p:nvPr/>
        </p:nvSpPr>
        <p:spPr>
          <a:xfrm>
            <a:off x="2057400" y="4648320"/>
            <a:ext cx="1828800" cy="1904760"/>
          </a:xfrm>
          <a:prstGeom prst="wedgeEllipseCallout">
            <a:avLst>
              <a:gd name="adj1" fmla="val -79148"/>
              <a:gd name="adj2" fmla="val -392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 got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Let’s Go to the Mo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4876920" y="1371600"/>
            <a:ext cx="4038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pollo 8 orbited the moon 10 times and returned to Earth safely on December 21, 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l Armstrong and Buzz Aldrin landed Apollo 11 on the moon on July 20, 19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l Armstrong was the first person to set foot on the mo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laptops in our classroom are more powerful than the computers used to run the Apollo progra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448160" cy="44956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304920" y="1523880"/>
            <a:ext cx="4038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space shuttle is a reusable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used in 198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le to land on an ordinary air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wo shuttle tragedies in 1987 and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uttles replaced the previous method of space flight – Rockets and caps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962520" cy="317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257800" y="48769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6781680" y="3962520"/>
            <a:ext cx="2095560" cy="2657520"/>
          </a:xfrm>
          <a:prstGeom prst="rect">
            <a:avLst/>
          </a:prstGeom>
          <a:ln w="0">
            <a:noFill/>
          </a:ln>
        </p:spPr>
      </p:pic>
      <p:sp>
        <p:nvSpPr>
          <p:cNvPr id="79" name="Right Arrow 7"/>
          <p:cNvSpPr/>
          <p:nvPr/>
        </p:nvSpPr>
        <p:spPr>
          <a:xfrm>
            <a:off x="3505320" y="5791320"/>
            <a:ext cx="1828800" cy="8380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 Space Race and Cold W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4724280" y="1295280"/>
            <a:ext cx="4114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ur ability to achieve our space goals became an indicator of our status as a great nation, and the Soviets were our top compet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occurred during a time in our history known as the Cold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was a time when our relationship with the Soviets was, well, c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intense rivalry between our two countries led us to some amazing accomplish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019760" cy="31240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852120" y="586728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hrushchev &amp; Kenn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robes Vs. Human Pilo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85800" y="1600200"/>
            <a:ext cx="8077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bes can make space flight cheaper, safer, and f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uman pilots can make decisions when things don’t go as plan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447920" y="3733920"/>
            <a:ext cx="2095560" cy="2476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5181480" y="3048120"/>
            <a:ext cx="2762280" cy="355284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7" descr=""/>
          <p:cNvPicPr/>
          <p:nvPr/>
        </p:nvPicPr>
        <p:blipFill>
          <a:blip r:embed="rId3"/>
          <a:stretch/>
        </p:blipFill>
        <p:spPr>
          <a:xfrm>
            <a:off x="1554120" y="2077920"/>
            <a:ext cx="5992920" cy="23479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20:10:00Z</dcterms:created>
  <dc:creator> </dc:creator>
  <dc:description/>
  <dc:language>en-US</dc:language>
  <cp:lastModifiedBy>Legion</cp:lastModifiedBy>
  <dcterms:modified xsi:type="dcterms:W3CDTF">2017-01-26T09:21:36Z</dcterms:modified>
  <cp:revision>46</cp:revision>
  <dc:subject/>
  <dc:title>Space Exploration Past, Present, Future</dc:title>
</cp:coreProperties>
</file>