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326D-A0CC-4367-BA6F-28CACD9C41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18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ast, Present,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FC2B-046B-4050-B63D-B90326BBCC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utu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ploration at greater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tended st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umans need to be ready and educated for the space travel of the fu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5DCE-5803-4FB9-8A69-9FE6D01555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me Difficulties Includ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iation expo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unar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ood and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erc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ffering levels of pressure, atmosphere composition, and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leep l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isk of bone fra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d muscle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d aerobic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ntal disorders arising from extreme, confined, and isolated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3604-0127-4947-BEAE-AC2905340D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Big Pictur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 is still in infancy. Although we have learned a lot, we still have a lot of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cost of space exploration mandates that we work together with other countr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: International Space Station (IS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B0AA-A51F-4E4A-A523-0761271E0D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SA</a:t>
            </a:r>
            <a:br>
              <a:rPr sz="3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ational 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ccomplishm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rst to land someone on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vented the space shu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veloped many products for space that we now use as everyday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: Velc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ronautics and Space Adminis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3761-0424-42E9-B100-6429AD8E6C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Are C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…and so we study space. Things that we need to know about space exploration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rtificial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pro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mote sensoring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mpu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uel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anding mod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terials that can survive heat and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iving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iomedical equip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ir purification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nd many mo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E30E-A992-4293-9473-6360AF57F0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Exploration Histor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space age began on October 4, 1957, when the Soviet Union launched Sputnik, the first artificial satellite to orbit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Soviets also achieved the first piloted space flight on April 12, 19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first cosmonaut was Yuri Gagarin. He orbited Earth in a ship named Vost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2A47-45DB-4C03-A4E2-98AF89C63F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et’s Go to the Mo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ollo 8 orbited the moon 10 times and returned to Earth safely on December 21, 19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il Armstrong and Buzz Aldrin landed Apollo 11 on the moon on July 20,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eil Armstrong was the first person to set foot o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laptops in our classroom are more powerful than the computers used to run the Apollo progra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D3CB-2892-4B6B-9985-5D9C089C9B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space shuttle is a reusable space cra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rst used in 198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ble to land on an ordinary air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wo shuttle tragedies in 1987 and 20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huttles replaced the previous method of space flight – Rockets and capsu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D035-FBE2-4564-B91A-693435FF99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ur ability to achieve our space goals became an indicator of our status as a great nation, and the Soviets were our top competi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is occurred during a time in our history known as the Cold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is was a time when our relationship with the Soviets was, well, c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e intense rivalry between our two countries led us to some amazing accomplish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Khrushchev &amp;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5582-FEAA-45BC-86C4-E6C0F2469E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e need bot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We need bal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obes can make space flight cheaper, safer, and fa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uman pilots can make decisions when things don’t go as plan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9169-1888-4400-A056-626ED9C4BD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AB9-2A2A-44BF-8B69-2831701F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C33-0FA9-404E-BBA2-D35E5FA2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4988-2B00-4038-86E2-557F00D1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AF0B-B758-4CCE-BCC2-B6E000EA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5834-BAEB-4D02-B0B2-EC909088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F77-FF43-498A-96AA-22562C4D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18E-2786-41B8-ABDB-74B36D69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BAA0-B14E-4EED-A33F-613AAFA4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7144-0630-40DD-A59E-7D1D3559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C25-078B-4341-9398-BD9748F9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7907-F562-48BB-BC8F-D4A60211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DA4-7912-4407-A9BE-3D7DB36B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DC06-3226-42C4-A8C3-27293D31A4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C1C0-D70B-4E43-A307-DFFBBF985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048120" cy="2300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st, Present, Fu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300168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2743200" y="3886200"/>
            <a:ext cx="335268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 Fu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28600" y="1523880"/>
            <a:ext cx="4114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ploration at greater di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tended st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Humans need to be ready and educated for the space travel of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733560" cy="34196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ome Difficulties Inclu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28600" y="1523880"/>
            <a:ext cx="8001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diation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unar d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od and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ing levels of pressure, atmosphere composition, and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leep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sk of bone 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d muscle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duced aerobic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ntal disorders arising from extreme, confined, and isolated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Space Exploration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ig Pi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2362320"/>
            <a:ext cx="8534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ace exploration is still in infancy. Although we have learned a lot, we still have a lot of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ost of space exploration mandates that we work together with other coun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: International Space Station (I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ASA</a:t>
            </a:r>
            <a:br>
              <a:rPr sz="60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tional Aeronautics and Space Adminis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304920" y="2362320"/>
            <a:ext cx="5181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complish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to land someone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vented the space shu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veloped many products for space that we now use as everyday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ample: Vel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495600" cy="2971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We Are Curiou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380880" y="1371600"/>
            <a:ext cx="3886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so we study space. Things that we need to know about space exploration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tificial satell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mote sensor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ace s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724280" y="1371600"/>
            <a:ext cx="3886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a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el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nd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terials that can survive heat an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olar 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ving qu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omedical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ir purification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lesc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d many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ace Exploration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809880" y="1295280"/>
            <a:ext cx="5181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pace age began on October 4, 1957, when the Soviet Union launched Sputnik, the first artificial satellite to orbit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oviets also achieved the first piloted space flight on April 12,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irst cosmonaut was Yuri Gagarin. He orbited Earth in a ship named Vost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2286000" cy="307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1938600" cy="2819520"/>
          </a:xfrm>
          <a:prstGeom prst="rect">
            <a:avLst/>
          </a:prstGeom>
          <a:ln w="0">
            <a:noFill/>
          </a:ln>
        </p:spPr>
      </p:pic>
      <p:sp>
        <p:nvSpPr>
          <p:cNvPr id="68" name="Oval Callout 7"/>
          <p:cNvSpPr/>
          <p:nvPr/>
        </p:nvSpPr>
        <p:spPr>
          <a:xfrm>
            <a:off x="2057400" y="4648320"/>
            <a:ext cx="1828800" cy="1904760"/>
          </a:xfrm>
          <a:prstGeom prst="wedgeEllipseCallout">
            <a:avLst>
              <a:gd name="adj1" fmla="val -79148"/>
              <a:gd name="adj2" fmla="val -392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 got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Let’s Go to the Mo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4876920" y="1371600"/>
            <a:ext cx="4038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pollo 8 orbited the moon 10 times and returned to Earth safely on December 21, 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eil Armstrong and Buzz Aldrin landed Apollo 11 on the moon on July 20, 196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eil Armstrong was the first person to set foot on the mo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laptops in our classroom are more powerful than the computers used to run the Apollo progra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448160" cy="44956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pace Shutt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304920" y="1523880"/>
            <a:ext cx="4038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space shuttle is a reusable space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rst used in 198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le to land on an ordinary air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wo shuttle tragedies in 1987 and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huttles replaced the previous method of space flight – Rockets and caps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962520" cy="317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5257800" y="48769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6781680" y="3962520"/>
            <a:ext cx="2095560" cy="2657520"/>
          </a:xfrm>
          <a:prstGeom prst="rect">
            <a:avLst/>
          </a:prstGeom>
          <a:ln w="0">
            <a:noFill/>
          </a:ln>
        </p:spPr>
      </p:pic>
      <p:sp>
        <p:nvSpPr>
          <p:cNvPr id="79" name="Right Arrow 7"/>
          <p:cNvSpPr/>
          <p:nvPr/>
        </p:nvSpPr>
        <p:spPr>
          <a:xfrm>
            <a:off x="3505320" y="5791320"/>
            <a:ext cx="1828800" cy="8380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e Space Race and Cold Wa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4724280" y="1295280"/>
            <a:ext cx="4114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ur ability to achieve our space goals became an indicator of our status as a great nation, and the Soviets were our top competi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occurred during a time in our history known as the Cold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s was a time when our relationship with the Soviets was, well, c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intense rivalry between our two countries led us to some amazing accomplish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019760" cy="312408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852120" y="586728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hrushchev &amp; Kenn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Probes Vs. Human Pilo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85800" y="1600200"/>
            <a:ext cx="8077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bes can make space flight cheaper, safer, and fa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uman pilots can make decisions when things don’t go as plan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447920" y="3733920"/>
            <a:ext cx="2095560" cy="2476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5181480" y="3048120"/>
            <a:ext cx="2762280" cy="355284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7" descr=""/>
          <p:cNvPicPr/>
          <p:nvPr/>
        </p:nvPicPr>
        <p:blipFill>
          <a:blip r:embed="rId3"/>
          <a:stretch/>
        </p:blipFill>
        <p:spPr>
          <a:xfrm>
            <a:off x="1554120" y="2077920"/>
            <a:ext cx="5992920" cy="23479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20:10:00Z</dcterms:created>
  <dc:creator> </dc:creator>
  <dc:description/>
  <dc:language>en-US</dc:language>
  <cp:lastModifiedBy>Legion</cp:lastModifiedBy>
  <dcterms:modified xsi:type="dcterms:W3CDTF">2017-01-26T09:21:36Z</dcterms:modified>
  <cp:revision>46</cp:revision>
  <dc:subject/>
  <dc:title>Space Exploration Past, Present, Future</dc:title>
</cp:coreProperties>
</file>