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0C4B-E370-432F-8A48-545B4A664E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Epicyc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ed to explain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retrograde (westward) mo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f plane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ptolemaic syste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as considered the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“standard model”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f the Universe until the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Copernican R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9113-A8CB-4B06-9A42-3C509A56C7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At the time of Ptolemy, the introduction of epicycles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 was considered a very elegant idea because 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it explained the motion of the planets to the accuracy observable at the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it was consistent with the prevailing geocentric world vie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it explained the apparently irregular motion of the planets in the sky with “perfect” cir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because it did not openly contradict the teaching of the previous authori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All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07EF-F510-4B56-87A4-21BAFCCEA5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The Copernican R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28FD-BF94-497C-BF90-64E7058433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New (and correct) explanation f</a:t>
            </a:r>
            <a:br>
              <a:rPr sz="1200"/>
            </a:b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Retrograd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westward)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motion of a planet occur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when the Earth passes the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or retrograde motion of the planet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ade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Ptolemy’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epicycl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unnecessary</a:t>
            </a:r>
            <a:br>
              <a:rPr sz="1200"/>
            </a:b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Described in Copernicus’ famous book “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De Revolutionibus Orbium Coelestium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” (“About the revolutions of celestial objects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9FC9-2F2E-47C0-9C41-1155475BAD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In the Copernikan “Universe”, the orbits of pl</a:t>
            </a:r>
            <a:br>
              <a:rPr sz="1200"/>
            </a:b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anets and moons were …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Perfect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Spi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Epi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None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BF5B-C308-4F58-8BD6-306DD0D496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Johannes Kepler (1571 – 163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the precise observational tables of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Tycho Brahe (1546 – 1601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o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study planetary motion mathematicall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a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consistent descrip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by </a:t>
            </a:r>
            <a:r>
              <a:rPr b="0" lang="en-US" sz="1200" spc="-1" strike="noStrike">
                <a:solidFill>
                  <a:srgbClr val="cc0000"/>
                </a:solidFill>
                <a:latin typeface="Calibri"/>
              </a:rPr>
              <a:t>abandon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bo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move around the sun on </a:t>
            </a:r>
            <a:r>
              <a:rPr b="0" lang="en-US" sz="1200" spc="-1" strike="noStrike">
                <a:solidFill>
                  <a:srgbClr val="cc0000"/>
                </a:solidFill>
                <a:latin typeface="Calibri"/>
              </a:rPr>
              <a:t>elliptical path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with </a:t>
            </a:r>
            <a:r>
              <a:rPr b="0" lang="en-US" sz="1200" spc="-1" strike="noStrike">
                <a:solidFill>
                  <a:srgbClr val="cc0000"/>
                </a:solidFill>
                <a:latin typeface="Calibri"/>
              </a:rPr>
              <a:t>non-uniform veloc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2701-8D4A-4EDF-87CC-31FB7FD176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Kepler’s Laws of Planetary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The orbits of the planets ar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llipses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 with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un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 at on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ocus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4573-D632-4E29-ACB0-DD2F2DA8EF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Eccentricities of 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C9D5-E64D-4C1B-B7F4-85191B66E4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When did mankind first become interested in the science of astronomy?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With the advent of modern computer technology (mid-20</a:t>
            </a:r>
            <a:r>
              <a:rPr b="0" lang="en-US" sz="1200" spc="-1" strike="noStrike" baseline="30000">
                <a:solidFill>
                  <a:srgbClr val="ffff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 centur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With the development of the theory of relativity (early 20</a:t>
            </a:r>
            <a:r>
              <a:rPr b="0" lang="en-US" sz="1200" spc="-1" strike="noStrike" baseline="30000">
                <a:solidFill>
                  <a:srgbClr val="ffff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 centur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With the invention of the telescope (~ A.D. 16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During the times of the ancient greeks (~ 400 – 300 B.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In the stone and bronze ages (several thousand years B.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7C3E-131C-432C-9038-146F05763A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Eccentricities </a:t>
            </a:r>
            <a:br>
              <a:rPr sz="1200"/>
            </a:b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Orbits of planets are virtually indistinguishable from circles</a:t>
            </a: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of planetary orb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006D-3808-4DB7-9369-070F05E36A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marL="20574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ine from a planet to the sun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 sweeps over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qual areas in equal intervals of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AC04-1542-44E7-A513-3E43125DD7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Are all four seasons equally long?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Y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No, summer is the longest; winter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No, fall is the longest; spring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No, winter is the longest; summer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No, spring is the longest; fall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D319-561A-4702-9609-4043BDE625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Why is the summer longer than winter?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Because of the precession of the Earth’s axis of ro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Because of the moon’s 5</a:t>
            </a:r>
            <a:r>
              <a:rPr b="0" lang="en-US" sz="1200" spc="-1" strike="noStrike" baseline="30000">
                <a:solidFill>
                  <a:srgbClr val="ffff00"/>
                </a:solidFill>
                <a:latin typeface="Calibri"/>
              </a:rPr>
              <a:t>o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 inclination with respect to the Eclipt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Because the Earth is rotating around its axis more slowly in the summer (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  <a:ea typeface="Arial"/>
              </a:rPr>
              <a:t>→ 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longer days!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Because the Earth is closest to the sun in January and most distant from the sun in Ju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Because the Earth is closest to the sun in July and most distant from the sun in Janu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B3FF-39E8-42EA-A957-00B953D43C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Kepler’s Third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A planet’s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orbital period (P) squared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 is proportional to its average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distance from the sun (a) cubed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(P</a:t>
            </a:r>
            <a:r>
              <a:rPr b="0" lang="en-US" sz="1200" spc="-1" strike="noStrike" baseline="-25000">
                <a:solidFill>
                  <a:srgbClr val="c0504d"/>
                </a:solidFill>
                <a:latin typeface="Calibri"/>
              </a:rPr>
              <a:t>y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 = period in years; a</a:t>
            </a:r>
            <a:r>
              <a:rPr b="0" lang="en-US" sz="1200" spc="-1" strike="noStrike" baseline="-25000">
                <a:solidFill>
                  <a:srgbClr val="c0504d"/>
                </a:solidFill>
                <a:latin typeface="Calibri"/>
              </a:rPr>
              <a:t>AU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= distance in A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Orbital period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P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 known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  <a:ea typeface="Arial"/>
              </a:rPr>
              <a:t>→ Calculate average distance to the sun,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a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  <a:ea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1200" spc="-1" strike="noStrike" baseline="-25000">
                <a:solidFill>
                  <a:srgbClr val="ff0000"/>
                </a:solidFill>
                <a:latin typeface="Calibri"/>
              </a:rPr>
              <a:t>AU</a:t>
            </a:r>
            <a:r>
              <a:rPr b="0" lang="en-US" sz="1200" spc="-1" strike="noStrike" baseline="30000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= P</a:t>
            </a:r>
            <a:r>
              <a:rPr b="0" lang="en-US" sz="1200" spc="-1" strike="noStrike" baseline="-25000">
                <a:solidFill>
                  <a:srgbClr val="ff0000"/>
                </a:solidFill>
                <a:latin typeface="Calibri"/>
              </a:rPr>
              <a:t>y</a:t>
            </a:r>
            <a:r>
              <a:rPr b="0" lang="en-US" sz="1200" spc="-1" strike="noStrike" baseline="30000">
                <a:solidFill>
                  <a:srgbClr val="ff0000"/>
                </a:solidFill>
                <a:latin typeface="Calibri"/>
              </a:rPr>
              <a:t>2/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  <a:ea typeface="Arial"/>
              </a:rPr>
              <a:t>Average distance to the sun,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a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  <a:ea typeface="Arial"/>
              </a:rPr>
              <a:t>, known → Calculate orbital period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P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993B-A86D-41FD-AEDA-30D3E261E5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It takes 29.46 years for Saturn to orbit once around the sun. What is its average distance from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B328-41EB-46F1-8F1A-7D7D178BBB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Think critically about Kepler’s Laws: Would you categorize his achievements as physics or mathematic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3BC3-E859-495F-AD2B-48F13A10DA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ready in the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stone and bronze ag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human cultures realized the cyclic nature of motions in the s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uments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dating back to ~ 3000 B.C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show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alignments with astronomical significan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se monuments were probably used as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calendar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r even to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predict eclips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9E8F-FD4D-4AAB-B439-DCFB143126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Velocity and Acceleration</a:t>
            </a:r>
            <a:br>
              <a:rPr sz="1200"/>
            </a:b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cceleration (a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the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change of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 body’s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velocity (v) with time (t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Velocit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ccelera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ar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directed quantiti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(vectors)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cases of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cceler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Acceleration in the conventional sens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i.e. incre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 speed)</a:t>
            </a:r>
            <a:br>
              <a:rPr sz="1200"/>
            </a:b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Decelera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i.e. decreasing spe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Change of the direc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f motion (e.g., in circular mo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8736-1826-41DB-A056-FAA533D1C8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A ball attached to a string is in a circular motion as shown. Which path will the ball follow if the string breaks at the marked poi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0D52-6FFF-4A70-B9CA-EC3FC302D5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Newton’s Laws of Motion (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ccelera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 body is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inversely proportiona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o its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mass 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directly proportiona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o the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net force F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in the same direc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s the net for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9EB8-2892-470E-B651-EA71F11AC8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Newton’s Laws of Motion (I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every ac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there is an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equal and opposite reac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 force that is accelerating the boy forward, is accelerating the skateboard backw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D21D-F378-40F7-B9D8-3845232225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The Universal Law of Grav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two bodies are attracting each other through gravitation, with a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force proportional to the product of their masses and inversely proportional to the square of their distan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D38F-DA83-49A7-8C85-685DB24E4F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According to Newton’s universal law of gravity, the sun is attracting the Earth with a force of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3.6*10</a:t>
            </a:r>
            <a:r>
              <a:rPr b="0" lang="en-US" sz="1200" spc="-1" strike="noStrike" u="sng" baseline="30000">
                <a:solidFill>
                  <a:srgbClr val="ffff00"/>
                </a:solidFill>
                <a:uFillTx/>
                <a:latin typeface="Calibri"/>
              </a:rPr>
              <a:t>22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 N. 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What is the gravitational force that the Earth exerts on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B483-9B90-45E2-8F8B-1EC91215F8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Stonehe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35A9-5884-49B6-AABD-0438E34134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Stonehenge</a:t>
            </a:r>
            <a:br>
              <a:rPr sz="12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ed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3000 – 1800 B.C. in Great Bri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ignments with locations of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sunset, sunrise, moonset and moonrise at summer and winter solst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ably used as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calend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69BD-6DA3-477A-8155-69CE191AB8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Big Horn Medicine Wheel (Wyom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3670-40FF-42A3-BC6E-6C975C1416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Other Examples around the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781B-0C66-4FFF-A8C2-8A9D48B5BB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Why is it so difficult to find out about the state of astronomical knowledge of bronze-age civilizations?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Written documents from that time are in a language that we don’t underst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There are no written documents documents from tha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Different written documents about their astronomical knowledge often contradict each o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Due to the Earth’s precession, they had a completely different view of the sky than we have to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They didn’t have any astronomical knowledge at 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78ED-8248-4E6C-8ADE-B7CF1B13FE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s were based on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unprove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“first principles”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believed to be “obvious” and were not question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1. Geocentric “Universe”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The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Ear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at the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Center of the “Universe”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2. “Perfect Heavens”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he motions of all celestial bodies can be described by motions involving objects of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“perfect” sha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i.e.,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spheres or circl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6197-37BA-4E0D-84C5-F69EDB0E6B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57E8-1165-413E-A2F0-01842CED2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9B93-5646-4EAE-BAA7-D52EA443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2798-ADFE-4543-8896-A79DDDCB8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E342-F356-40A0-856C-448A56E94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C573-DAC6-4D6E-A3C8-0FA6E9FD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34D1-5BF0-4649-92BB-368749F0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21EB-37CB-4538-95D3-957D3269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E145-33E9-4FFB-9DC6-475A0083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449C-D6EC-4BBF-821E-61944670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C4AB-62C2-4B59-A36A-6C7B6011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7B48-3E67-40A3-BCB9-7C10EF81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A272-791F-4791-B80A-F5793EE5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458F-0EEB-477A-BD5F-6E09412FE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file:///retrograde.mov" TargetMode="External"/><Relationship Id="rId4" Type="http://schemas.openxmlformats.org/officeDocument/2006/relationships/hyperlink" Target="file:///retrograde.mov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file:///passing_car.mov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tonehenge_solstice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00200" y="-9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History of Astronom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762120" y="48006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ease pick up your assigned transmi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seedshistory044"/>
          <p:cNvPicPr/>
          <p:nvPr/>
        </p:nvPicPr>
        <p:blipFill>
          <a:blip r:embed="rId1"/>
          <a:stretch/>
        </p:blipFill>
        <p:spPr>
          <a:xfrm>
            <a:off x="1523880" y="1066680"/>
            <a:ext cx="6096240" cy="4135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228600" y="76320"/>
            <a:ext cx="8915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Ptolemy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eocentric model, including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epi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6552720" y="762120"/>
            <a:ext cx="1219320" cy="18288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 flipH="1">
            <a:off x="5410080" y="762120"/>
            <a:ext cx="2362320" cy="9144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 flipH="1">
            <a:off x="4343040" y="762120"/>
            <a:ext cx="3429000" cy="761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1676520" y="58672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. Imperfect, changeable Eart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1143000" y="6324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. Perfect Heavens (described by sphe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2209680" y="53341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entral guiding princi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What were the epicycles in Ptolemy’s model supposed to expla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33520" y="20574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are moving against the background of the sta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the sun is moving against the background of the st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are moving eastward for a short amount of time, while they are usually moving west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are moving westward for a short amount of time, while they are usually moving east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seem to remain stationary for substantial amounts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Epi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seedshistory043"/>
          <p:cNvPicPr/>
          <p:nvPr/>
        </p:nvPicPr>
        <p:blipFill>
          <a:blip r:embed="rId1"/>
          <a:stretch/>
        </p:blipFill>
        <p:spPr>
          <a:xfrm>
            <a:off x="152280" y="1046160"/>
            <a:ext cx="4343400" cy="35258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1295280" y="492300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tolemaic syst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s considered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“standard model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Universe until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pernican Revol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seedshistory042"/>
          <p:cNvPicPr/>
          <p:nvPr/>
        </p:nvPicPr>
        <p:blipFill>
          <a:blip r:embed="rId2"/>
          <a:stretch/>
        </p:blipFill>
        <p:spPr>
          <a:xfrm>
            <a:off x="4572000" y="1066680"/>
            <a:ext cx="4495680" cy="25606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4572000" y="3733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d to explain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etrograde (westward) motion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pla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7"/>
          <p:cNvSpPr/>
          <p:nvPr/>
        </p:nvSpPr>
        <p:spPr>
          <a:xfrm flipH="1" flipV="1">
            <a:off x="6552720" y="2438280"/>
            <a:ext cx="121932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70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t the time of Ptolemy, the introduction of epicycles was considered a very elegant idea becaus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25909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explained the motion of the planets to the accuracy observable at th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was consistent with the prevailing geocentric world vi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explained the apparently irregular motion of the planets in the sky with “perfect” cir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it did not openly contradict the teaching of the previous author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l of the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Copernican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08"/>
          <p:cNvPicPr/>
          <p:nvPr/>
        </p:nvPicPr>
        <p:blipFill>
          <a:blip r:embed="rId1"/>
          <a:stretch/>
        </p:blipFill>
        <p:spPr>
          <a:xfrm>
            <a:off x="1295280" y="990720"/>
            <a:ext cx="2963880" cy="4525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09a"/>
          <p:cNvPicPr/>
          <p:nvPr/>
        </p:nvPicPr>
        <p:blipFill>
          <a:blip r:embed="rId2"/>
          <a:stretch/>
        </p:blipFill>
        <p:spPr>
          <a:xfrm>
            <a:off x="4952880" y="990720"/>
            <a:ext cx="3070440" cy="45259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8"/>
          <p:cNvSpPr/>
          <p:nvPr/>
        </p:nvSpPr>
        <p:spPr>
          <a:xfrm>
            <a:off x="457200" y="571500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icolaus Copernic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473 – 1543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eliocentric Univer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Sun in the Cen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New (and correct) explanation for retrograde motion of the plane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09b"/>
          <p:cNvPicPr/>
          <p:nvPr/>
        </p:nvPicPr>
        <p:blipFill>
          <a:blip r:embed="rId1"/>
          <a:stretch/>
        </p:blipFill>
        <p:spPr>
          <a:xfrm>
            <a:off x="685800" y="1143000"/>
            <a:ext cx="2557440" cy="4343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10"/>
          <p:cNvPicPr/>
          <p:nvPr/>
        </p:nvPicPr>
        <p:blipFill>
          <a:blip r:embed="rId2"/>
          <a:stretch/>
        </p:blipFill>
        <p:spPr>
          <a:xfrm>
            <a:off x="3448080" y="1143000"/>
            <a:ext cx="2919240" cy="43434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8"/>
          <p:cNvSpPr/>
          <p:nvPr/>
        </p:nvSpPr>
        <p:spPr>
          <a:xfrm>
            <a:off x="6367320" y="39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d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tolemy’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picyc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n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6443640" y="1204920"/>
            <a:ext cx="24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trogr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westward)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otion of a planet occ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hen the Earth passes the plane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76320" y="573084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d in Copernicus’ famous book 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 Revolutionibus Orbium Coelestiu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” (“About the revolutions of celestial object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In the Copernikan “Universe”, the orbits of planets and moons were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133720" y="2514240"/>
            <a:ext cx="48765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rfect Cir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llip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pi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pi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ne of the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7"/>
          <p:cNvSpPr/>
          <p:nvPr/>
        </p:nvSpPr>
        <p:spPr>
          <a:xfrm>
            <a:off x="990720" y="15228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Johannes Kepler (1571 – 163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04920" y="990720"/>
            <a:ext cx="5333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he precise observational tables of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ycho Brahe (1546 – 160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udy planetary motion mathematic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990720" y="40384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ircular mo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0" y="541008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ts move around the sun on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elliptical path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ith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on-uniform veloc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228600" y="3000240"/>
            <a:ext cx="5029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nd a 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consistent descrip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abandon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o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990720" y="464832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Uniform mo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5" descr="kepler"/>
          <p:cNvPicPr/>
          <p:nvPr/>
        </p:nvPicPr>
        <p:blipFill>
          <a:blip r:embed="rId1"/>
          <a:stretch/>
        </p:blipFill>
        <p:spPr>
          <a:xfrm>
            <a:off x="5943600" y="1295280"/>
            <a:ext cx="2830680" cy="38862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5"/>
          <p:cNvSpPr/>
          <p:nvPr/>
        </p:nvSpPr>
        <p:spPr>
          <a:xfrm>
            <a:off x="1752480" y="152280"/>
            <a:ext cx="571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333399"/>
                </a:solidFill>
                <a:uFillTx/>
                <a:latin typeface="Arial"/>
              </a:rPr>
              <a:t>Kepler’s Laws of Planetary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Text Box 6" descr=""/>
          <p:cNvPicPr/>
          <p:nvPr/>
        </p:nvPicPr>
        <p:blipFill>
          <a:blip r:embed="rId1"/>
          <a:stretch/>
        </p:blipFill>
        <p:spPr>
          <a:xfrm>
            <a:off x="993600" y="1847880"/>
            <a:ext cx="7882200" cy="1596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20a"/>
          <p:cNvPicPr/>
          <p:nvPr/>
        </p:nvPicPr>
        <p:blipFill>
          <a:blip r:embed="rId2"/>
          <a:stretch/>
        </p:blipFill>
        <p:spPr>
          <a:xfrm>
            <a:off x="1160640" y="2819520"/>
            <a:ext cx="3259080" cy="3429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20b"/>
          <p:cNvPicPr/>
          <p:nvPr/>
        </p:nvPicPr>
        <p:blipFill>
          <a:blip r:embed="rId3"/>
          <a:stretch/>
        </p:blipFill>
        <p:spPr>
          <a:xfrm>
            <a:off x="4724280" y="3048120"/>
            <a:ext cx="4114800" cy="27288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0"/>
          <p:cNvSpPr/>
          <p:nvPr/>
        </p:nvSpPr>
        <p:spPr>
          <a:xfrm>
            <a:off x="5944680" y="4343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4952880" y="60199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ccentricity e = c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Eccentricities of El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3"/>
          <p:cNvSpPr/>
          <p:nvPr/>
        </p:nvSpPr>
        <p:spPr>
          <a:xfrm>
            <a:off x="609480" y="1219320"/>
            <a:ext cx="266724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3429000" y="1219320"/>
            <a:ext cx="274320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6324480" y="1219320"/>
            <a:ext cx="274320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6"/>
          <p:cNvSpPr/>
          <p:nvPr/>
        </p:nvSpPr>
        <p:spPr>
          <a:xfrm>
            <a:off x="1600200" y="3962520"/>
            <a:ext cx="289548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1219320" y="22240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3962520" y="22096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6858000" y="22096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2286000" y="49528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5715000" y="4952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4876920" y="3962520"/>
            <a:ext cx="335268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380880" y="1143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3352680" y="1143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6248520" y="1143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1219320" y="4191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7"/>
          <p:cNvSpPr/>
          <p:nvPr/>
        </p:nvSpPr>
        <p:spPr>
          <a:xfrm>
            <a:off x="4648320" y="4129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When did mankind first become interested in the science of astronom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62120" y="21333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 the advent of modern computer technology (mid-2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centu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 the development of the theory of relativity (early 2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centu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 the invention of the telescope (~ A.D. 16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uring the times of the ancient greeks (~ 400 – 300 B.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 the stone and bronze ages (several thousand years B.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Eccentricities of planetary or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990720" y="15238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rbits of planets are virtually indistinguishable from circ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"/>
          <p:cNvSpPr/>
          <p:nvPr/>
        </p:nvSpPr>
        <p:spPr>
          <a:xfrm>
            <a:off x="1219320" y="3809880"/>
            <a:ext cx="2666880" cy="266724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356120" y="31240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arth: e = 0.01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181480" y="274320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ost extreme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luto: e = 0.2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7"/>
          <p:cNvSpPr/>
          <p:nvPr/>
        </p:nvSpPr>
        <p:spPr>
          <a:xfrm>
            <a:off x="5486400" y="3962520"/>
            <a:ext cx="281952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Rectangle 6" descr=""/>
          <p:cNvPicPr/>
          <p:nvPr/>
        </p:nvPicPr>
        <p:blipFill>
          <a:blip r:embed="rId1"/>
          <a:stretch/>
        </p:blipFill>
        <p:spPr>
          <a:xfrm>
            <a:off x="841320" y="324000"/>
            <a:ext cx="7991640" cy="2022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20c"/>
          <p:cNvPicPr/>
          <p:nvPr/>
        </p:nvPicPr>
        <p:blipFill>
          <a:blip r:embed="rId2"/>
          <a:stretch/>
        </p:blipFill>
        <p:spPr>
          <a:xfrm>
            <a:off x="1752480" y="2081160"/>
            <a:ext cx="6019920" cy="3710160"/>
          </a:xfrm>
          <a:prstGeom prst="rect">
            <a:avLst/>
          </a:prstGeom>
          <a:ln w="0">
            <a:noFill/>
          </a:ln>
        </p:spPr>
      </p:pic>
      <p:sp>
        <p:nvSpPr>
          <p:cNvPr id="17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 rot="16200000">
            <a:off x="565200" y="31687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 rot="5400000">
            <a:off x="7421760" y="38545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0" y="64008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Are all four seasons equally l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33520" y="22860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summer is the longest; winter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fall is the longest; spring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winter is the longest; summer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spring is the longest; fall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15200" cy="14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Why is the summer longer than win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520" y="23623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of the precession of the Earth’s axis of ro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of the moon’s 5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inclination with respect to the Eclipt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the Earth is rotating around its axis more slowly in the summer 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nger days!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the Earth is closest to the sun in January and most distant from the sun in Ju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the Earth is closest to the sun in July and most distant from the sun in Janu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reeform 32"/>
          <p:cNvSpPr/>
          <p:nvPr/>
        </p:nvSpPr>
        <p:spPr>
          <a:xfrm>
            <a:off x="3962520" y="1066680"/>
            <a:ext cx="3657600" cy="281952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w="2304" h="1776">
                <a:moveTo>
                  <a:pt x="2256" y="1776"/>
                </a:moveTo>
                <a:lnTo>
                  <a:pt x="0" y="1776"/>
                </a:lnTo>
                <a:lnTo>
                  <a:pt x="0" y="96"/>
                </a:lnTo>
                <a:lnTo>
                  <a:pt x="357" y="23"/>
                </a:lnTo>
                <a:lnTo>
                  <a:pt x="672" y="0"/>
                </a:lnTo>
                <a:lnTo>
                  <a:pt x="960" y="0"/>
                </a:lnTo>
                <a:lnTo>
                  <a:pt x="1248" y="48"/>
                </a:lnTo>
                <a:lnTo>
                  <a:pt x="1584" y="192"/>
                </a:lnTo>
                <a:lnTo>
                  <a:pt x="1776" y="336"/>
                </a:lnTo>
                <a:lnTo>
                  <a:pt x="2021" y="571"/>
                </a:lnTo>
                <a:lnTo>
                  <a:pt x="2160" y="768"/>
                </a:lnTo>
                <a:lnTo>
                  <a:pt x="2267" y="1120"/>
                </a:lnTo>
                <a:lnTo>
                  <a:pt x="2304" y="1440"/>
                </a:lnTo>
                <a:cubicBezTo>
                  <a:pt x="2298" y="1492"/>
                  <a:pt x="2294" y="1544"/>
                  <a:pt x="2286" y="1595"/>
                </a:cubicBezTo>
                <a:cubicBezTo>
                  <a:pt x="2283" y="1614"/>
                  <a:pt x="2267" y="1650"/>
                  <a:pt x="2267" y="1650"/>
                </a:cubicBezTo>
                <a:lnTo>
                  <a:pt x="2256" y="177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31"/>
          <p:cNvSpPr/>
          <p:nvPr/>
        </p:nvSpPr>
        <p:spPr>
          <a:xfrm>
            <a:off x="1752480" y="3886200"/>
            <a:ext cx="2210040" cy="2286000"/>
          </a:xfrm>
          <a:custGeom>
            <a:avLst/>
            <a:gdLst>
              <a:gd name="textAreaLeft" fmla="*/ 0 w 2210040"/>
              <a:gd name="textAreaRight" fmla="*/ 2210040 w 221004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1392" h="1440">
                <a:moveTo>
                  <a:pt x="0" y="0"/>
                </a:moveTo>
                <a:lnTo>
                  <a:pt x="1392" y="0"/>
                </a:lnTo>
                <a:lnTo>
                  <a:pt x="1392" y="1440"/>
                </a:lnTo>
                <a:lnTo>
                  <a:pt x="1152" y="1392"/>
                </a:lnTo>
                <a:lnTo>
                  <a:pt x="960" y="1344"/>
                </a:lnTo>
                <a:lnTo>
                  <a:pt x="752" y="1246"/>
                </a:lnTo>
                <a:lnTo>
                  <a:pt x="576" y="1152"/>
                </a:lnTo>
                <a:lnTo>
                  <a:pt x="377" y="999"/>
                </a:lnTo>
                <a:lnTo>
                  <a:pt x="240" y="816"/>
                </a:lnTo>
                <a:lnTo>
                  <a:pt x="96" y="528"/>
                </a:lnTo>
                <a:lnTo>
                  <a:pt x="21" y="341"/>
                </a:lnTo>
                <a:lnTo>
                  <a:pt x="0" y="192"/>
                </a:lnTo>
                <a:lnTo>
                  <a:pt x="0" y="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7" descr="earth2"/>
          <p:cNvPicPr/>
          <p:nvPr/>
        </p:nvPicPr>
        <p:blipFill>
          <a:blip r:embed="rId1"/>
          <a:stretch/>
        </p:blipFill>
        <p:spPr>
          <a:xfrm>
            <a:off x="3429000" y="838080"/>
            <a:ext cx="1066680" cy="800280"/>
          </a:xfrm>
          <a:prstGeom prst="rect">
            <a:avLst/>
          </a:prstGeom>
          <a:ln w="0">
            <a:noFill/>
          </a:ln>
        </p:spPr>
      </p:pic>
      <p:sp>
        <p:nvSpPr>
          <p:cNvPr id="190" name="Oval 4"/>
          <p:cNvSpPr/>
          <p:nvPr/>
        </p:nvSpPr>
        <p:spPr>
          <a:xfrm rot="20298000">
            <a:off x="1676520" y="1143000"/>
            <a:ext cx="6019560" cy="4952880"/>
          </a:xfrm>
          <a:prstGeom prst="ellipse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6"/>
          <p:cNvSpPr/>
          <p:nvPr/>
        </p:nvSpPr>
        <p:spPr>
          <a:xfrm>
            <a:off x="3733920" y="365760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"/>
          <p:cNvSpPr/>
          <p:nvPr/>
        </p:nvSpPr>
        <p:spPr>
          <a:xfrm flipH="1" flipV="1">
            <a:off x="3657240" y="837720"/>
            <a:ext cx="609480" cy="76212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2"/>
          <p:cNvSpPr/>
          <p:nvPr/>
        </p:nvSpPr>
        <p:spPr>
          <a:xfrm>
            <a:off x="380880" y="3886200"/>
            <a:ext cx="8763120" cy="0"/>
          </a:xfrm>
          <a:prstGeom prst="line">
            <a:avLst/>
          </a:prstGeom>
          <a:ln w="1908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"/>
          <p:cNvSpPr/>
          <p:nvPr/>
        </p:nvSpPr>
        <p:spPr>
          <a:xfrm>
            <a:off x="3962520" y="0"/>
            <a:ext cx="0" cy="6858000"/>
          </a:xfrm>
          <a:prstGeom prst="line">
            <a:avLst/>
          </a:prstGeom>
          <a:ln w="1908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 flipH="1">
            <a:off x="4038120" y="685800"/>
            <a:ext cx="838440" cy="5335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4419720" y="3049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utumnal Equinox (beg. of f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6"/>
          <p:cNvSpPr/>
          <p:nvPr/>
        </p:nvSpPr>
        <p:spPr>
          <a:xfrm>
            <a:off x="1295280" y="2819520"/>
            <a:ext cx="457200" cy="9903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0" y="192096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inter solstice (beg. of win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8"/>
          <p:cNvSpPr/>
          <p:nvPr/>
        </p:nvSpPr>
        <p:spPr>
          <a:xfrm flipH="1">
            <a:off x="7619760" y="3276720"/>
            <a:ext cx="685800" cy="5331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7772400" y="172404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mmer solstice (beg. of summ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0"/>
          <p:cNvSpPr/>
          <p:nvPr/>
        </p:nvSpPr>
        <p:spPr>
          <a:xfrm flipH="1" flipV="1">
            <a:off x="3962520" y="6171840"/>
            <a:ext cx="2209680" cy="152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6095880" y="58831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ernal equinox (beg. of sp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2"/>
          <p:cNvSpPr/>
          <p:nvPr/>
        </p:nvSpPr>
        <p:spPr>
          <a:xfrm flipV="1">
            <a:off x="1219320" y="5028840"/>
            <a:ext cx="761760" cy="289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2286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anu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4"/>
          <p:cNvSpPr/>
          <p:nvPr/>
        </p:nvSpPr>
        <p:spPr>
          <a:xfrm flipV="1">
            <a:off x="6172200" y="1828440"/>
            <a:ext cx="762120" cy="289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5"/>
          <p:cNvSpPr/>
          <p:nvPr/>
        </p:nvSpPr>
        <p:spPr>
          <a:xfrm>
            <a:off x="5410080" y="1828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u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6"/>
          <p:cNvSpPr/>
          <p:nvPr/>
        </p:nvSpPr>
        <p:spPr>
          <a:xfrm>
            <a:off x="2666880" y="2895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2590920" y="4267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8"/>
          <p:cNvSpPr/>
          <p:nvPr/>
        </p:nvSpPr>
        <p:spPr>
          <a:xfrm>
            <a:off x="4343400" y="4267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p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9"/>
          <p:cNvSpPr/>
          <p:nvPr/>
        </p:nvSpPr>
        <p:spPr>
          <a:xfrm>
            <a:off x="434340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61 0.01364 C -0.1927 0.10497 -0.28229 0.32716 -0.22621 0.51075 C -0.16979 0.69503 0.01198 0.7711 0.17917 0.67907 C 0.34775 0.59029 0.43855 0.36462 0.38073 0.18081 C 0.32483 -0.00231999999999999 0.14393 -0.07607 -0.02361 0.01364 Z">
                                      <p:cBhvr>
                                        <p:cTn id="186" dur="10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96 0.00809 C -0.18871 0.09711 -0.27968 0.32 -0.2276 0.50312 C -0.17343 0.68833 0.00711999999999999 0.76717 0.17691 0.68 C 0.34323 0.59306 0.43768 0.37156 0.38455 0.18543 C 0.32969 0.00162000000000001 0.14879 -0.0763 -0.01996 0.00809 Z">
                                      <p:cBhvr>
                                        <p:cTn id="188" dur="10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200160" y="1219320"/>
            <a:ext cx="8076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planet’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rbital period (P) squared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s proportional to its averag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stance from the sun (a) cubed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4038480" y="259092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= 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AU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3962520" y="2590920"/>
            <a:ext cx="1904760" cy="609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858960" y="3405240"/>
            <a:ext cx="6781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P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period in years; a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AU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= distance in A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53352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Kepler’s Third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853920" y="418932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rbital perio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known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→ Calculate average distance to the sun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3581280" y="4738680"/>
            <a:ext cx="198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AU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 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838080" y="547056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Average distance to the sun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, known → Calculate orbital perio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P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3505320" y="603396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= 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AU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3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t takes 29.46 years for Saturn to orbit once around the sun. What is its average distance from the su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286000" y="2819160"/>
            <a:ext cx="5867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9.54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9.64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9.46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44.31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60.55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Think critically about Kepler’s Laws: Would you categorize his achievements as physics or mathematic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514600" y="3123720"/>
            <a:ext cx="4572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hy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Isaac Newton (1643 - 172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143000" y="3429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Major achieveme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685800" y="44197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vented Calcul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 necessary tool to solve mathematical problems related to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304920" y="1143000"/>
            <a:ext cx="5715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dding physics interpret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thematical descrip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stronomy by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pernicus, Galileo and Kep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685800" y="52578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ed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ree laws of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685800" y="57913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ed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iversal law of mutual grav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9" descr="newton"/>
          <p:cNvPicPr/>
          <p:nvPr/>
        </p:nvPicPr>
        <p:blipFill>
          <a:blip r:embed="rId1"/>
          <a:stretch/>
        </p:blipFill>
        <p:spPr>
          <a:xfrm>
            <a:off x="6031080" y="1143000"/>
            <a:ext cx="3036600" cy="312408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348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Newton’s Laws of Motion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584000"/>
            <a:ext cx="4038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od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tinues at rest or in uniform motion in a straight 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nl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ted upon by som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t fo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05a"/>
          <p:cNvPicPr/>
          <p:nvPr/>
        </p:nvPicPr>
        <p:blipFill>
          <a:blip r:embed="rId1"/>
          <a:stretch/>
        </p:blipFill>
        <p:spPr>
          <a:xfrm>
            <a:off x="5027760" y="1660680"/>
            <a:ext cx="3506760" cy="45259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990720" y="449568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tronaut floating in space will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loat forever in a straight 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less som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ternal 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ccelerating him/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Roots of Astr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ready in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tone and bronze 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human cultures realized the cyclic nature of motions in the sk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ument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ating back to ~ 3000 B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show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lignments with astronomical signific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monuments were probably used a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lenda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even to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edict eclip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Velocity and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03"/>
          <p:cNvPicPr/>
          <p:nvPr/>
        </p:nvPicPr>
        <p:blipFill>
          <a:blip r:embed="rId1"/>
          <a:stretch/>
        </p:blipFill>
        <p:spPr>
          <a:xfrm>
            <a:off x="762120" y="990720"/>
            <a:ext cx="1962000" cy="58672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3048120" y="114300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 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ange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body’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locity (v) with time (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971800" y="1981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=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/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3200400" y="251460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eloc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rected quant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vectors)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7"/>
          <p:cNvSpPr/>
          <p:nvPr/>
        </p:nvSpPr>
        <p:spPr>
          <a:xfrm>
            <a:off x="1219320" y="15238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8"/>
          <p:cNvSpPr/>
          <p:nvPr/>
        </p:nvSpPr>
        <p:spPr>
          <a:xfrm>
            <a:off x="1981080" y="3124080"/>
            <a:ext cx="0" cy="13716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838080" y="1676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19810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1"/>
          <p:cNvSpPr/>
          <p:nvPr/>
        </p:nvSpPr>
        <p:spPr>
          <a:xfrm>
            <a:off x="5410080" y="12193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2"/>
          <p:cNvSpPr/>
          <p:nvPr/>
        </p:nvSpPr>
        <p:spPr>
          <a:xfrm>
            <a:off x="51814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3"/>
          <p:cNvSpPr/>
          <p:nvPr/>
        </p:nvSpPr>
        <p:spPr>
          <a:xfrm>
            <a:off x="58672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4"/>
          <p:cNvSpPr/>
          <p:nvPr/>
        </p:nvSpPr>
        <p:spPr>
          <a:xfrm>
            <a:off x="5943600" y="1600200"/>
            <a:ext cx="3049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Which of the following involve(s) a (non-zero) acceler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600200" y="2819160"/>
            <a:ext cx="6324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creasing the speed of an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ra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niform motion on a circular p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l of the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ne of the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elocity and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03"/>
          <p:cNvPicPr/>
          <p:nvPr/>
        </p:nvPicPr>
        <p:blipFill>
          <a:blip r:embed="rId1"/>
          <a:stretch/>
        </p:blipFill>
        <p:spPr>
          <a:xfrm>
            <a:off x="762120" y="990720"/>
            <a:ext cx="1962000" cy="586728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3048120" y="114300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 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ange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body’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locity (v) with time (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3124080" y="426708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cceleration in the conventional sen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.e. increasing spe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2971800" y="1996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=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/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3048120" y="35812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cases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3200400" y="251460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eloc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rected quant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vectors)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3124080" y="571500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ange of the dir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motion (e.g., in circular mo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3124080" y="5105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celer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.e. decreasing spe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1"/>
          <p:cNvSpPr/>
          <p:nvPr/>
        </p:nvSpPr>
        <p:spPr>
          <a:xfrm>
            <a:off x="1219320" y="15238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2"/>
          <p:cNvSpPr/>
          <p:nvPr/>
        </p:nvSpPr>
        <p:spPr>
          <a:xfrm>
            <a:off x="1981080" y="3124080"/>
            <a:ext cx="0" cy="13716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3"/>
          <p:cNvSpPr/>
          <p:nvPr/>
        </p:nvSpPr>
        <p:spPr>
          <a:xfrm>
            <a:off x="838080" y="1676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19810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5"/>
          <p:cNvSpPr/>
          <p:nvPr/>
        </p:nvSpPr>
        <p:spPr>
          <a:xfrm>
            <a:off x="5410080" y="12193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51814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58672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8"/>
          <p:cNvSpPr/>
          <p:nvPr/>
        </p:nvSpPr>
        <p:spPr>
          <a:xfrm>
            <a:off x="5943600" y="1600200"/>
            <a:ext cx="3049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2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12204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 ball attached to a string is in a circular motion as shown. Which path will the ball follow if the string breaks at the marked poi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82"/>
          <p:cNvSpPr/>
          <p:nvPr/>
        </p:nvSpPr>
        <p:spPr>
          <a:xfrm>
            <a:off x="3962520" y="3187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83"/>
          <p:cNvSpPr/>
          <p:nvPr/>
        </p:nvSpPr>
        <p:spPr>
          <a:xfrm>
            <a:off x="4724280" y="3035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84"/>
          <p:cNvSpPr/>
          <p:nvPr/>
        </p:nvSpPr>
        <p:spPr>
          <a:xfrm>
            <a:off x="5486400" y="3492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85"/>
          <p:cNvSpPr/>
          <p:nvPr/>
        </p:nvSpPr>
        <p:spPr>
          <a:xfrm>
            <a:off x="5867280" y="4527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86"/>
          <p:cNvSpPr/>
          <p:nvPr/>
        </p:nvSpPr>
        <p:spPr>
          <a:xfrm>
            <a:off x="5105520" y="521352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5) Impossible to tell from the given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287"/>
          <p:cNvSpPr/>
          <p:nvPr/>
        </p:nvSpPr>
        <p:spPr>
          <a:xfrm>
            <a:off x="2666880" y="3645000"/>
            <a:ext cx="2590920" cy="2666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288"/>
          <p:cNvSpPr/>
          <p:nvPr/>
        </p:nvSpPr>
        <p:spPr>
          <a:xfrm>
            <a:off x="4191120" y="3187800"/>
            <a:ext cx="1079280" cy="1752480"/>
          </a:xfrm>
          <a:custGeom>
            <a:avLst/>
            <a:gdLst>
              <a:gd name="textAreaLeft" fmla="*/ 0 w 1079280"/>
              <a:gd name="textAreaRight" fmla="*/ 1079640 w 107928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680" h="1104">
                <a:moveTo>
                  <a:pt x="672" y="1104"/>
                </a:moveTo>
                <a:cubicBezTo>
                  <a:pt x="676" y="1072"/>
                  <a:pt x="680" y="1040"/>
                  <a:pt x="672" y="960"/>
                </a:cubicBezTo>
                <a:cubicBezTo>
                  <a:pt x="664" y="880"/>
                  <a:pt x="664" y="736"/>
                  <a:pt x="624" y="624"/>
                </a:cubicBezTo>
                <a:cubicBezTo>
                  <a:pt x="584" y="512"/>
                  <a:pt x="504" y="376"/>
                  <a:pt x="432" y="288"/>
                </a:cubicBezTo>
                <a:cubicBezTo>
                  <a:pt x="360" y="200"/>
                  <a:pt x="264" y="144"/>
                  <a:pt x="192" y="96"/>
                </a:cubicBezTo>
                <a:cubicBezTo>
                  <a:pt x="120" y="48"/>
                  <a:pt x="60" y="24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289"/>
          <p:cNvSpPr/>
          <p:nvPr/>
        </p:nvSpPr>
        <p:spPr>
          <a:xfrm>
            <a:off x="2590920" y="486396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90"/>
          <p:cNvSpPr/>
          <p:nvPr/>
        </p:nvSpPr>
        <p:spPr>
          <a:xfrm flipV="1">
            <a:off x="5257800" y="3111480"/>
            <a:ext cx="0" cy="19051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91"/>
          <p:cNvSpPr/>
          <p:nvPr/>
        </p:nvSpPr>
        <p:spPr>
          <a:xfrm>
            <a:off x="5105520" y="4863960"/>
            <a:ext cx="304560" cy="3049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92"/>
          <p:cNvSpPr/>
          <p:nvPr/>
        </p:nvSpPr>
        <p:spPr>
          <a:xfrm>
            <a:off x="2666880" y="494028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93"/>
          <p:cNvSpPr/>
          <p:nvPr/>
        </p:nvSpPr>
        <p:spPr>
          <a:xfrm>
            <a:off x="3886200" y="486396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94"/>
          <p:cNvSpPr/>
          <p:nvPr/>
        </p:nvSpPr>
        <p:spPr>
          <a:xfrm flipV="1">
            <a:off x="5257800" y="3492360"/>
            <a:ext cx="990720" cy="15242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95"/>
          <p:cNvSpPr/>
          <p:nvPr/>
        </p:nvSpPr>
        <p:spPr>
          <a:xfrm>
            <a:off x="5257800" y="5016600"/>
            <a:ext cx="12952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18 0.00578 C 0.00018 -0.10127 0.06407 -0.18867 0.14202 -0.18867 C 0.22014 -0.18867 0.28351 -0.10127 0.28351 0.00578 C 0.28351 0.11307 0.22014 0.19977 0.14202 0.19977 C 0.06407 0.19977 0.00018 0.11307 0.00018 0.00578 Z">
                                      <p:cBhvr>
                                        <p:cTn id="398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-21600000">
                                      <p:cBhvr>
                                        <p:cTn id="40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1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3.05556E-006 -2.42775E-006 C -3.05556E-006 -0.05225 0.03299 -0.0948 0.07309 -0.0948 C 0.11337 -0.0948 0.14584 -0.05225 0.14584 -2.42775E-006 C 0.14584 0.05226 0.11337 0.09411 0.07309 0.09411 C 0.03299 0.09411 -3.05556E-006 0.05226 -3.05556E-006 -2.42775E-006 Z">
                                      <p:cBhvr>
                                        <p:cTn id="402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334 0.0111 L 0.28334 -0.26636 E">
                                      <p:cBhvr>
                                        <p:cTn id="406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Newton’s Laws of Motion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33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cele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 body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versely proport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it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ss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rectly proport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t force 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 the same dir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the net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914400" y="57150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/m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= m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" descr="05b"/>
          <p:cNvPicPr/>
          <p:nvPr/>
        </p:nvPicPr>
        <p:blipFill>
          <a:blip r:embed="rId1"/>
          <a:stretch/>
        </p:blipFill>
        <p:spPr>
          <a:xfrm>
            <a:off x="5018040" y="1752480"/>
            <a:ext cx="3516480" cy="4419720"/>
          </a:xfrm>
          <a:prstGeom prst="rect">
            <a:avLst/>
          </a:prstGeom>
          <a:ln w="0">
            <a:noFill/>
          </a:ln>
        </p:spPr>
      </p:pic>
      <p:sp>
        <p:nvSpPr>
          <p:cNvPr id="30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7"/>
          <p:cNvSpPr/>
          <p:nvPr/>
        </p:nvSpPr>
        <p:spPr>
          <a:xfrm>
            <a:off x="4343400" y="1523880"/>
            <a:ext cx="2286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8"/>
          <p:cNvSpPr/>
          <p:nvPr/>
        </p:nvSpPr>
        <p:spPr>
          <a:xfrm>
            <a:off x="3124080" y="3962520"/>
            <a:ext cx="304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9"/>
          <p:cNvSpPr/>
          <p:nvPr/>
        </p:nvSpPr>
        <p:spPr>
          <a:xfrm>
            <a:off x="990720" y="5791320"/>
            <a:ext cx="30456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0"/>
          <p:cNvSpPr/>
          <p:nvPr/>
        </p:nvSpPr>
        <p:spPr>
          <a:xfrm>
            <a:off x="1676520" y="5791320"/>
            <a:ext cx="30456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1"/>
          <p:cNvSpPr/>
          <p:nvPr/>
        </p:nvSpPr>
        <p:spPr>
          <a:xfrm>
            <a:off x="3505320" y="579132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2"/>
          <p:cNvSpPr/>
          <p:nvPr/>
        </p:nvSpPr>
        <p:spPr>
          <a:xfrm>
            <a:off x="4648320" y="586728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321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Newton’s Laws of Motion (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62120" y="1952280"/>
            <a:ext cx="39621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very 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re is a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qual and opposite re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05c"/>
          <p:cNvPicPr/>
          <p:nvPr/>
        </p:nvPicPr>
        <p:blipFill>
          <a:blip r:embed="rId1"/>
          <a:stretch/>
        </p:blipFill>
        <p:spPr>
          <a:xfrm>
            <a:off x="4800600" y="1952640"/>
            <a:ext cx="4038480" cy="397188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5"/>
          <p:cNvSpPr/>
          <p:nvPr/>
        </p:nvSpPr>
        <p:spPr>
          <a:xfrm>
            <a:off x="990720" y="4390920"/>
            <a:ext cx="373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force that is accelerating the boy forward, is accelerating the skateboard back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Universal Law of Gra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two bodies are attracting each other through gravitation, with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rce proportional to the product of their masses and inversely proportional to the square of their dist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2895480" y="48769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 = -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5"/>
          <p:cNvSpPr/>
          <p:nvPr/>
        </p:nvSpPr>
        <p:spPr>
          <a:xfrm>
            <a:off x="4419720" y="5181480"/>
            <a:ext cx="5331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4343400" y="4724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4495680" y="5181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8"/>
          <p:cNvSpPr/>
          <p:nvPr/>
        </p:nvSpPr>
        <p:spPr>
          <a:xfrm>
            <a:off x="1676520" y="59436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 is the Universal constant of gravity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2743200" y="4648320"/>
            <a:ext cx="2514600" cy="10666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27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ccording to Newton’s universal law of gravity, the sun is attracting the Earth with a force of 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3.6*10</a:t>
            </a:r>
            <a:r>
              <a:rPr b="0" lang="en-US" sz="3600" spc="-1" strike="noStrike" u="sng" baseline="30000">
                <a:solidFill>
                  <a:srgbClr val="ffff00"/>
                </a:solidFill>
                <a:uFillTx/>
                <a:latin typeface="Arial"/>
              </a:rPr>
              <a:t>22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 N.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hat is the gravitational force that the Earth exerts on the su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990720" y="3124080"/>
            <a:ext cx="723888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.75*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18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.6*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.95*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9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pends on the relative speed of the Earth with respect to the 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stonehenge_aerial"/>
          <p:cNvPicPr/>
          <p:nvPr/>
        </p:nvPicPr>
        <p:blipFill>
          <a:blip r:embed="rId1"/>
          <a:stretch/>
        </p:blipFill>
        <p:spPr>
          <a:xfrm>
            <a:off x="-1295280" y="-449280"/>
            <a:ext cx="10972800" cy="7307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00"/>
                </a:solidFill>
                <a:uFillTx/>
                <a:latin typeface="Arial"/>
              </a:rPr>
              <a:t>Stonehen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Stoneh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01c"/>
          <p:cNvPicPr/>
          <p:nvPr/>
        </p:nvPicPr>
        <p:blipFill>
          <a:blip r:embed="rId1"/>
          <a:stretch/>
        </p:blipFill>
        <p:spPr>
          <a:xfrm>
            <a:off x="3944880" y="915840"/>
            <a:ext cx="5175360" cy="57913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8"/>
          <p:cNvSpPr/>
          <p:nvPr/>
        </p:nvSpPr>
        <p:spPr>
          <a:xfrm>
            <a:off x="0" y="3962520"/>
            <a:ext cx="388620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tructed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3000 – 1800 B.C. in Great Brit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ignments with locations of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sunset, sunrise, moonset and moonrise at summer and winter solst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ably used as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calenda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stonehenge_solstice"/>
          <p:cNvPicPr/>
          <p:nvPr/>
        </p:nvPicPr>
        <p:blipFill>
          <a:blip r:embed="rId2"/>
          <a:stretch/>
        </p:blipFill>
        <p:spPr>
          <a:xfrm>
            <a:off x="76320" y="933480"/>
            <a:ext cx="3733560" cy="280044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Other Examples around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02"/>
          <p:cNvPicPr/>
          <p:nvPr/>
        </p:nvPicPr>
        <p:blipFill>
          <a:blip r:embed="rId1"/>
          <a:stretch/>
        </p:blipFill>
        <p:spPr>
          <a:xfrm>
            <a:off x="152280" y="928800"/>
            <a:ext cx="8839440" cy="52149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1828800" y="62485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ig Horn Medicine Wheel (Wyom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Other Examples around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03a"/>
          <p:cNvPicPr/>
          <p:nvPr/>
        </p:nvPicPr>
        <p:blipFill>
          <a:blip r:embed="rId1"/>
          <a:stretch/>
        </p:blipFill>
        <p:spPr>
          <a:xfrm>
            <a:off x="152280" y="1523880"/>
            <a:ext cx="4038840" cy="43135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609480" y="60199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racol (Mexico); Maya culture, approx. A.D.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03b"/>
          <p:cNvPicPr/>
          <p:nvPr/>
        </p:nvPicPr>
        <p:blipFill>
          <a:blip r:embed="rId2"/>
          <a:stretch/>
        </p:blipFill>
        <p:spPr>
          <a:xfrm>
            <a:off x="4267080" y="2057400"/>
            <a:ext cx="4724640" cy="3438360"/>
          </a:xfrm>
          <a:prstGeom prst="rect">
            <a:avLst/>
          </a:prstGeom>
          <a:ln w="0">
            <a:noFill/>
          </a:ln>
        </p:spPr>
      </p:pic>
      <p:sp>
        <p:nvSpPr>
          <p:cNvPr id="7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Why is it so difficult to find out about the state of astronomical knowledge of bronze-age civiliza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09480" y="2362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ritten documents from that time are in a language that we don’t underst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re are no written documents documents from that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ifferent written documents about their astronomical knowledge often contradict each 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ue to the Earth’s precession, they had a completely different view of the sky than we have to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didn’t have any astronomical knowledge at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Ancient Greek Astrono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s were based 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pro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first principles”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lieved to be “obvious” and were not question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371600" y="2819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. Geocentric “Universe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ar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t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nter of the “Universe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371600" y="423864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. “Perfect Heavens”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motions of all celestial bodies can be described by motions involving objects of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perfect” sha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.e.,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pheres or circ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1T22:00:39Z</dcterms:created>
  <dc:creator>Markus Boettcher</dc:creator>
  <dc:description/>
  <dc:language>en-US</dc:language>
  <cp:lastModifiedBy>Legion</cp:lastModifiedBy>
  <dcterms:modified xsi:type="dcterms:W3CDTF">2017-01-26T09:14:22Z</dcterms:modified>
  <cp:revision>296</cp:revision>
  <dc:subject/>
  <dc:title>The Roots of Astronomy</dc:title>
</cp:coreProperties>
</file>