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F26A-E990-4233-8550-CB06D6D842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picyc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d to explai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retrograde (westward) mo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plane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ptolemaic syste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as considered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standard model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the Universe until 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269A-F7FE-47F8-AC0A-8929DB7C3B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t the time of Ptolemy, the introduction of epicycles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was considered a very elegant idea because 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46A0-ADBF-4BF9-9FF7-3DEEE28C42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D5B3-3170-4A69-91E8-2DE3AE71AD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 (and correct) explanation f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Retrogra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westward)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motion of a planet occu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when the Earth passes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r retrograde motion of the planet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ad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Ptolemy’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picyc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unnecessary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escribed in Copernicus’ famous book “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e Revolutionibus Orbium Coelestium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75EE-DD1C-430F-8BA0-D1621F16DE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In the Copernikan “Universe”, the orbits of pl</a:t>
            </a:r>
            <a:br>
              <a:rPr sz="1200"/>
            </a:b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anets and moons were …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1EA3-8DE3-4351-8C5A-61D05F906B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precise observational table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Tycho Brahe (1546 – 160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tudy planetary motion mathematicall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a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onsistent descrip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abandon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move around the sun on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elliptical path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with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non-uniform velo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3D6D-A4FD-4462-9301-AE49F61EF3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The orbits of the planets ar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llipses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with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n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at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cus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BC18-A91E-4964-A8C8-78FC0673C8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0CF6-5039-450F-991C-185D8E4D3F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en did mankind first become interested in the science of astronomy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advent of modern computer technology (mid-20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development of the theory of relativity (early 20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978E-0041-48CD-B017-B8936D8DD1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ccentricities 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Orbits of planets are virtually indistinguishable from circles</a:t>
            </a: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f planetary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837B-4CC6-407C-9528-364DFDBBF2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ne from a planet to the sun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sweeps ov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qual areas in equal intervals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826D-0FCC-44E8-A03D-A5C3043F78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Are all four seasons equally long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BA4B-25E2-424B-ACC5-D88DA0154E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y is the summer longer than winter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of the moon’s 5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o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rotating around its axis more slowly in the summer (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→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longer days!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EF39-722F-4DE9-8338-0AECA0FE49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 planet’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orbital period (P) squared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is proportional to its averag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stance from the sun (a) cubed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(P</a:t>
            </a:r>
            <a:r>
              <a:rPr b="0" lang="en-US" sz="1200" spc="-1" strike="noStrike" baseline="-25000">
                <a:solidFill>
                  <a:srgbClr val="c0504d"/>
                </a:solidFill>
                <a:latin typeface="Calibri"/>
              </a:rPr>
              <a:t>y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= period in years; a</a:t>
            </a:r>
            <a:r>
              <a:rPr b="0" lang="en-US" sz="1200" spc="-1" strike="noStrike" baseline="-25000">
                <a:solidFill>
                  <a:srgbClr val="c0504d"/>
                </a:solidFill>
                <a:latin typeface="Calibri"/>
              </a:rPr>
              <a:t>AU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= distance in A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Orbital perio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known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→ Calculate average distance to the sun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a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Calibri"/>
              </a:rPr>
              <a:t>AU</a:t>
            </a:r>
            <a:r>
              <a:rPr b="0" lang="en-US" sz="12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= P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1200" spc="-1" strike="noStrike" baseline="30000">
                <a:solidFill>
                  <a:srgbClr val="ff0000"/>
                </a:solidFill>
                <a:latin typeface="Calibri"/>
              </a:rPr>
              <a:t>2/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Average distance to the sun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a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, known → Calculate orbital perio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P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95EE-A058-4B55-8306-2B123B3E14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7129-4785-4447-A728-59ACA1B757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20D1-10CB-4E0D-A1F8-F60E1E9072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in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tone and bronze ag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ument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ating back to ~ 3000 B.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show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lignments with astronomical signific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monuments were probably used a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alenda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even to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predict eclips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CFFE-75BA-480D-AD5D-B48BF7D991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Velocity and Acceleration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 (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hange of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 body’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velocity (v) with time (t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Veloci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rected quantit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ases of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cceleration in the conventional sens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i.e. incre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 speed)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eceler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.e. de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hange of the dir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motion (e.g., in circular mo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FA01-2F8D-4493-8C0C-C25D3DABB9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C915-E45B-44EB-84F0-1AC3E5D9B9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ton’s Laws of Motion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body i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inversely proportio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it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mass 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rectly proportio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net force F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in the same dir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s th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D8FF-E55E-42F7-AE66-7626FA807D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ton’s Laws of Motion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very a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there is a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qual and opposite rea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978B-B3FB-40B1-878B-DFC69B6CBD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The Universal Law of Grav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two bodies are attracting each other through gravitation, with a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force proportional to the product of their masses and inversely proportional to the square of their dis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9684-B8C2-461F-BB98-5A11121FB3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ccording to Newton’s universal law of gravity, the sun is attracting the Earth with a force of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3.6*10</a:t>
            </a:r>
            <a:r>
              <a:rPr b="0" lang="en-US" sz="1200" spc="-1" strike="noStrike" u="sng" baseline="30000">
                <a:solidFill>
                  <a:srgbClr val="ffff00"/>
                </a:solidFill>
                <a:uFillTx/>
                <a:latin typeface="Calibri"/>
              </a:rPr>
              <a:t>22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 N.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55F1-50D9-47E2-B8B2-B7AD22BC10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3B51-5404-464D-8837-BA5C33513B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Stonehenge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ed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3000 – 1800 B.C.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ignments with location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used a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E3A4-B8AA-4C1A-90A8-DDFA0F085E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38CA-8630-477D-ADE8-A36D55C3EE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C7C7-2BCC-45A1-8819-1C7412D0C3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y is it so difficult to find out about the state of astronomical knowledge of bronze-age civilizations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9353-DBD7-47E1-B60E-9216245060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were based o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unprov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first principles”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1. Geocentric “Universe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Ear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at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enter of the “Universe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2. “Perfect Heavens”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e motions of all celestial bodies can be described by motions involving object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perfect” sha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.e.,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pheres or circ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3937-F3EF-48E4-931D-33473D048B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C3A-285A-42A5-9E09-7DE6B9F6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EA0F-5982-4938-B9FC-0AEFD99A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169-FB8B-45D9-B19D-CC979BC8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395-143A-4D20-9E14-EEF44780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11FA-DEB1-4861-9BC5-7A1FA33E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5788-338D-4105-B2CB-8572AF6B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06A-2FF7-4288-B83E-F6231C21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B02-3221-4F6E-964E-6086C1A8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743-A22C-4B92-B0E3-A8D28878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686C-CB1F-4B73-AA68-AA7934E1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646-FF0D-4406-BEB5-F9C395CC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39B-9412-4856-BED6-FFF55DBB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8908-03AA-4BD7-A579-FD64F4769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file:///retrograde.mov" TargetMode="External"/><Relationship Id="rId4" Type="http://schemas.openxmlformats.org/officeDocument/2006/relationships/hyperlink" Target="file:///retrograde.mo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file:///passing_car.m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onehenge_solstic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62120" y="4800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e pick up your assigned transmi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eedshistory044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135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8600" y="7632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tolem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centric model, includ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pi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6552720" y="762120"/>
            <a:ext cx="1219320" cy="1828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5410080" y="762120"/>
            <a:ext cx="23623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4343040" y="762120"/>
            <a:ext cx="34290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676520" y="5867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 Imperfect, changeable Ear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143000" y="6324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. Perfect Heavens (described by sph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209680" y="5334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ntral guiding princi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at were the epicycles in Ptolemy’s model supposed to expl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against the background of the st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the sun is moving against the background of the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seem to remain stationary for substantial amount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pi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dshistory043"/>
          <p:cNvPicPr/>
          <p:nvPr/>
        </p:nvPicPr>
        <p:blipFill>
          <a:blip r:embed="rId1"/>
          <a:stretch/>
        </p:blipFill>
        <p:spPr>
          <a:xfrm>
            <a:off x="152280" y="1046160"/>
            <a:ext cx="4343400" cy="352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295280" y="49230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tolemaic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onsider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standard model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Universe until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pernic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seedshistory042"/>
          <p:cNvPicPr/>
          <p:nvPr/>
        </p:nvPicPr>
        <p:blipFill>
          <a:blip r:embed="rId2"/>
          <a:stretch/>
        </p:blipFill>
        <p:spPr>
          <a:xfrm>
            <a:off x="4572000" y="1066680"/>
            <a:ext cx="4495680" cy="2560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572000" y="3733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o expla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trograde (westward) moti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6552720" y="2438280"/>
            <a:ext cx="12193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motion of the planets to the accuracy observable at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was consistent with the prevailing geocentric world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it did not openly contradict the teaching of the previous auth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Copernic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8"/>
          <p:cNvPicPr/>
          <p:nvPr/>
        </p:nvPicPr>
        <p:blipFill>
          <a:blip r:embed="rId1"/>
          <a:stretch/>
        </p:blipFill>
        <p:spPr>
          <a:xfrm>
            <a:off x="1295280" y="990720"/>
            <a:ext cx="29638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9a"/>
          <p:cNvPicPr/>
          <p:nvPr/>
        </p:nvPicPr>
        <p:blipFill>
          <a:blip r:embed="rId2"/>
          <a:stretch/>
        </p:blipFill>
        <p:spPr>
          <a:xfrm>
            <a:off x="4952880" y="990720"/>
            <a:ext cx="307044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457200" y="57150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icolaus Coperni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473 – 1543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iocentric 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un in the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ew (and correct) explanation for retrograde motion of the plan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9b"/>
          <p:cNvPicPr/>
          <p:nvPr/>
        </p:nvPicPr>
        <p:blipFill>
          <a:blip r:embed="rId1"/>
          <a:stretch/>
        </p:blipFill>
        <p:spPr>
          <a:xfrm>
            <a:off x="685800" y="1143000"/>
            <a:ext cx="25574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10"/>
          <p:cNvPicPr/>
          <p:nvPr/>
        </p:nvPicPr>
        <p:blipFill>
          <a:blip r:embed="rId2"/>
          <a:stretch/>
        </p:blipFill>
        <p:spPr>
          <a:xfrm>
            <a:off x="3448080" y="1143000"/>
            <a:ext cx="291924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367320" y="39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olem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cy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443640" y="12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ro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estward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on of a planet occ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hen the Earth passes the plan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6320" y="57308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d in Copernicus’ famous book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 Revolutionibus Orbium Coelesti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(“About the revolutions of celestial object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n the Copernikan “Universe”, the orbits of planets and moons we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3720" y="2514240"/>
            <a:ext cx="4876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ect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lip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i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990720" y="152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Johannes Kepler (1571 – 16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04920" y="99072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precise observational tables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cho Brahe (1546 – 160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dy planetary motion mathemat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990720" y="4038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ircular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0" y="5410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move around the sun 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lliptical p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n-uniform veloc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28600" y="3000240"/>
            <a:ext cx="502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nd a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onsistent descrip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abando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990720" y="4648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iform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kepler"/>
          <p:cNvPicPr/>
          <p:nvPr/>
        </p:nvPicPr>
        <p:blipFill>
          <a:blip r:embed="rId1"/>
          <a:stretch/>
        </p:blipFill>
        <p:spPr>
          <a:xfrm>
            <a:off x="5943600" y="1295280"/>
            <a:ext cx="283068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1752480" y="152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Kepler’s Laws of Planetary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Text Box 6" descr=""/>
          <p:cNvPicPr/>
          <p:nvPr/>
        </p:nvPicPr>
        <p:blipFill>
          <a:blip r:embed="rId1"/>
          <a:stretch/>
        </p:blipFill>
        <p:spPr>
          <a:xfrm>
            <a:off x="993600" y="1847880"/>
            <a:ext cx="7882200" cy="1596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20a"/>
          <p:cNvPicPr/>
          <p:nvPr/>
        </p:nvPicPr>
        <p:blipFill>
          <a:blip r:embed="rId2"/>
          <a:stretch/>
        </p:blipFill>
        <p:spPr>
          <a:xfrm>
            <a:off x="1160640" y="2819520"/>
            <a:ext cx="325908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b"/>
          <p:cNvPicPr/>
          <p:nvPr/>
        </p:nvPicPr>
        <p:blipFill>
          <a:blip r:embed="rId3"/>
          <a:stretch/>
        </p:blipFill>
        <p:spPr>
          <a:xfrm>
            <a:off x="4724280" y="3048120"/>
            <a:ext cx="411480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59446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952880" y="6019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centricity e = c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609480" y="1219320"/>
            <a:ext cx="266724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42900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32448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600200" y="3962520"/>
            <a:ext cx="28954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219320" y="22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962520" y="2209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2209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2860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715000" y="49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4876920" y="3962520"/>
            <a:ext cx="33526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808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3526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24852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219320" y="4191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64832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en did mankind first become interested in the science of astronom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6212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advent of modern computer technology (mid-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development of the theory of relativity (early 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invention of the telescope (~ A.D. 1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uring the times of the ancient greeks (~ 400 – 300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stone and bronze ages (several thousand years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planetary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907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bits of planets are virtually indistinguishable from cir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219320" y="3809880"/>
            <a:ext cx="2666880" cy="266724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356120" y="31240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th: e = 0.01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181480" y="27432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st extrem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to: e = 0.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486400" y="3962520"/>
            <a:ext cx="281952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6" descr=""/>
          <p:cNvPicPr/>
          <p:nvPr/>
        </p:nvPicPr>
        <p:blipFill>
          <a:blip r:embed="rId1"/>
          <a:stretch/>
        </p:blipFill>
        <p:spPr>
          <a:xfrm>
            <a:off x="841320" y="324000"/>
            <a:ext cx="7991640" cy="2022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20c"/>
          <p:cNvPicPr/>
          <p:nvPr/>
        </p:nvPicPr>
        <p:blipFill>
          <a:blip r:embed="rId2"/>
          <a:stretch/>
        </p:blipFill>
        <p:spPr>
          <a:xfrm>
            <a:off x="1752480" y="2081160"/>
            <a:ext cx="6019920" cy="3710160"/>
          </a:xfrm>
          <a:prstGeom prst="rect">
            <a:avLst/>
          </a:prstGeom>
          <a:ln w="0">
            <a:noFill/>
          </a:ln>
        </p:spPr>
      </p:pic>
      <p:sp>
        <p:nvSpPr>
          <p:cNvPr id="1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 rot="16200000">
            <a:off x="565200" y="3168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 rot="5400000">
            <a:off x="7421760" y="3854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6400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re all four seasons equally l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ummer is the longest; wint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fall is the longest; spring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winter is the longest; summ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pring is the longest; fall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y is the summer longer than wi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precession of the Earth’s axis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moon’s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nclination with respect to the Eclip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rotating around its axis more slowly in the summer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er days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32"/>
          <p:cNvSpPr/>
          <p:nvPr/>
        </p:nvSpPr>
        <p:spPr>
          <a:xfrm>
            <a:off x="3962520" y="1066680"/>
            <a:ext cx="3657600" cy="2819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304" h="1776">
                <a:moveTo>
                  <a:pt x="2256" y="1776"/>
                </a:moveTo>
                <a:lnTo>
                  <a:pt x="0" y="1776"/>
                </a:lnTo>
                <a:lnTo>
                  <a:pt x="0" y="96"/>
                </a:lnTo>
                <a:lnTo>
                  <a:pt x="357" y="23"/>
                </a:lnTo>
                <a:lnTo>
                  <a:pt x="672" y="0"/>
                </a:lnTo>
                <a:lnTo>
                  <a:pt x="960" y="0"/>
                </a:lnTo>
                <a:lnTo>
                  <a:pt x="1248" y="48"/>
                </a:lnTo>
                <a:lnTo>
                  <a:pt x="1584" y="192"/>
                </a:lnTo>
                <a:lnTo>
                  <a:pt x="1776" y="336"/>
                </a:lnTo>
                <a:lnTo>
                  <a:pt x="2021" y="571"/>
                </a:lnTo>
                <a:lnTo>
                  <a:pt x="2160" y="768"/>
                </a:lnTo>
                <a:lnTo>
                  <a:pt x="2267" y="1120"/>
                </a:lnTo>
                <a:lnTo>
                  <a:pt x="2304" y="1440"/>
                </a:lnTo>
                <a:cubicBezTo>
                  <a:pt x="2298" y="1492"/>
                  <a:pt x="2294" y="1544"/>
                  <a:pt x="2286" y="1595"/>
                </a:cubicBezTo>
                <a:cubicBezTo>
                  <a:pt x="2283" y="1614"/>
                  <a:pt x="2267" y="1650"/>
                  <a:pt x="2267" y="1650"/>
                </a:cubicBezTo>
                <a:lnTo>
                  <a:pt x="2256" y="177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1"/>
          <p:cNvSpPr/>
          <p:nvPr/>
        </p:nvSpPr>
        <p:spPr>
          <a:xfrm>
            <a:off x="1752480" y="3886200"/>
            <a:ext cx="2210040" cy="228600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392" h="1440">
                <a:moveTo>
                  <a:pt x="0" y="0"/>
                </a:moveTo>
                <a:lnTo>
                  <a:pt x="1392" y="0"/>
                </a:lnTo>
                <a:lnTo>
                  <a:pt x="1392" y="1440"/>
                </a:lnTo>
                <a:lnTo>
                  <a:pt x="1152" y="1392"/>
                </a:lnTo>
                <a:lnTo>
                  <a:pt x="960" y="1344"/>
                </a:lnTo>
                <a:lnTo>
                  <a:pt x="752" y="1246"/>
                </a:lnTo>
                <a:lnTo>
                  <a:pt x="576" y="1152"/>
                </a:lnTo>
                <a:lnTo>
                  <a:pt x="377" y="999"/>
                </a:lnTo>
                <a:lnTo>
                  <a:pt x="240" y="816"/>
                </a:lnTo>
                <a:lnTo>
                  <a:pt x="96" y="528"/>
                </a:lnTo>
                <a:lnTo>
                  <a:pt x="21" y="341"/>
                </a:lnTo>
                <a:lnTo>
                  <a:pt x="0" y="192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earth2"/>
          <p:cNvPicPr/>
          <p:nvPr/>
        </p:nvPicPr>
        <p:blipFill>
          <a:blip r:embed="rId1"/>
          <a:stretch/>
        </p:blipFill>
        <p:spPr>
          <a:xfrm>
            <a:off x="3429000" y="83808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 rot="20298000">
            <a:off x="1676520" y="1143000"/>
            <a:ext cx="6019560" cy="495288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733920" y="36576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 flipH="1" flipV="1">
            <a:off x="3657240" y="837720"/>
            <a:ext cx="609480" cy="762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80880" y="3886200"/>
            <a:ext cx="876312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>
            <a:off x="4038120" y="685800"/>
            <a:ext cx="83844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419720" y="304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tumnal Equinox (beg. of f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1295280" y="2819520"/>
            <a:ext cx="457200" cy="99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0" y="192096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 solstice (beg. of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7619760" y="3276720"/>
            <a:ext cx="685800" cy="533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7772400" y="17240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 solstice (beg. of su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H="1" flipV="1">
            <a:off x="3962520" y="6171840"/>
            <a:ext cx="220968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095880" y="5883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nal equinox (beg. of sp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1219320" y="5028840"/>
            <a:ext cx="76176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286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6172200" y="1828440"/>
            <a:ext cx="76212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54100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266688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25909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434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43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1364 C -0.1927 0.10497 -0.28229 0.32716 -0.22621 0.51075 C -0.16979 0.69503 0.01198 0.7711 0.17917 0.67907 C 0.34775 0.59029 0.43855 0.36462 0.38073 0.18081 C 0.32483 -0.00231999999999999 0.14393 -0.07607 -0.02361 0.01364 Z">
                                      <p:cBhvr>
                                        <p:cTn id="186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0809 C -0.18871 0.09711 -0.27968 0.32 -0.2276 0.50312 C -0.17343 0.68833 0.00711999999999999 0.76717 0.17691 0.68 C 0.34323 0.59306 0.43768 0.37156 0.38455 0.18543 C 0.32969 0.00162000000000001 0.14879 -0.0763 -0.01996 0.00809 Z">
                                      <p:cBhvr>
                                        <p:cTn id="188" dur="10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00160" y="121932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plane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bital period (P) squar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proportional to its averag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ance from the sun (a) cub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4038480" y="25909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62520" y="2590920"/>
            <a:ext cx="19047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858960" y="340524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period in years;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AU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distance in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Kepler’s Thir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53920" y="41893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know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→ Calculate 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581280" y="4738680"/>
            <a:ext cx="19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838080" y="547056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, known → Calculate 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505320" y="603396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0" y="28191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.5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.6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9.46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4.31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60.55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ink critically about Kepler’s Laws: Would you categorize his achievements as physics or mathemat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14600" y="312372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1430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Major achiev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5800" y="4419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ented Calcu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necessary tool to solve mathematical problems related to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04920" y="114300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ding physics interpre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hematical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stronomy b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pernicus, Galileo and Ke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580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e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5800" y="5791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versal law of mutual grav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newton"/>
          <p:cNvPicPr/>
          <p:nvPr/>
        </p:nvPicPr>
        <p:blipFill>
          <a:blip r:embed="rId1"/>
          <a:stretch/>
        </p:blipFill>
        <p:spPr>
          <a:xfrm>
            <a:off x="6031080" y="1143000"/>
            <a:ext cx="3036600" cy="312408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58400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d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inues at rest or in uniform motion in a straight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ed upon by 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05a"/>
          <p:cNvPicPr/>
          <p:nvPr/>
        </p:nvPicPr>
        <p:blipFill>
          <a:blip r:embed="rId1"/>
          <a:stretch/>
        </p:blipFill>
        <p:spPr>
          <a:xfrm>
            <a:off x="5027760" y="1660680"/>
            <a:ext cx="350676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90720" y="44956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tronaut floating in space wil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at forever in a straight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som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ternal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ccelerating him/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Roots of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 in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one and bronze 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uman cultures realized the cyclic nature of motions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ing back to ~ 3000 B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how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ignments with astronomical signific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monuments were probably used 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end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even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dict eclip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ich of the following involve(s) a (non-zero) accele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281916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ing the speed of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form motion on a circular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124080" y="4267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leration in the conventional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in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971800" y="1996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048120" y="3581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ase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5715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 the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tion (e.g., in circular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12408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ele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de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220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2"/>
          <p:cNvSpPr/>
          <p:nvPr/>
        </p:nvSpPr>
        <p:spPr>
          <a:xfrm>
            <a:off x="3962520" y="318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3"/>
          <p:cNvSpPr/>
          <p:nvPr/>
        </p:nvSpPr>
        <p:spPr>
          <a:xfrm>
            <a:off x="4724280" y="3035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4"/>
          <p:cNvSpPr/>
          <p:nvPr/>
        </p:nvSpPr>
        <p:spPr>
          <a:xfrm>
            <a:off x="5486400" y="3492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5"/>
          <p:cNvSpPr/>
          <p:nvPr/>
        </p:nvSpPr>
        <p:spPr>
          <a:xfrm>
            <a:off x="5867280" y="4527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6"/>
          <p:cNvSpPr/>
          <p:nvPr/>
        </p:nvSpPr>
        <p:spPr>
          <a:xfrm>
            <a:off x="5105520" y="52135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) Impossible to tell from the given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87"/>
          <p:cNvSpPr/>
          <p:nvPr/>
        </p:nvSpPr>
        <p:spPr>
          <a:xfrm>
            <a:off x="2666880" y="3645000"/>
            <a:ext cx="2590920" cy="2666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88"/>
          <p:cNvSpPr/>
          <p:nvPr/>
        </p:nvSpPr>
        <p:spPr>
          <a:xfrm>
            <a:off x="4191120" y="3187800"/>
            <a:ext cx="1079280" cy="175248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680" h="1104">
                <a:moveTo>
                  <a:pt x="672" y="1104"/>
                </a:moveTo>
                <a:cubicBezTo>
                  <a:pt x="676" y="1072"/>
                  <a:pt x="680" y="1040"/>
                  <a:pt x="672" y="960"/>
                </a:cubicBezTo>
                <a:cubicBezTo>
                  <a:pt x="664" y="880"/>
                  <a:pt x="664" y="736"/>
                  <a:pt x="624" y="624"/>
                </a:cubicBezTo>
                <a:cubicBezTo>
                  <a:pt x="584" y="512"/>
                  <a:pt x="504" y="376"/>
                  <a:pt x="432" y="288"/>
                </a:cubicBezTo>
                <a:cubicBezTo>
                  <a:pt x="360" y="200"/>
                  <a:pt x="264" y="144"/>
                  <a:pt x="192" y="96"/>
                </a:cubicBezTo>
                <a:cubicBezTo>
                  <a:pt x="120" y="48"/>
                  <a:pt x="60" y="2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89"/>
          <p:cNvSpPr/>
          <p:nvPr/>
        </p:nvSpPr>
        <p:spPr>
          <a:xfrm>
            <a:off x="2590920" y="4863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0"/>
          <p:cNvSpPr/>
          <p:nvPr/>
        </p:nvSpPr>
        <p:spPr>
          <a:xfrm flipV="1">
            <a:off x="5257800" y="3111480"/>
            <a:ext cx="0" cy="19051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91"/>
          <p:cNvSpPr/>
          <p:nvPr/>
        </p:nvSpPr>
        <p:spPr>
          <a:xfrm>
            <a:off x="5105520" y="4863960"/>
            <a:ext cx="30456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92"/>
          <p:cNvSpPr/>
          <p:nvPr/>
        </p:nvSpPr>
        <p:spPr>
          <a:xfrm>
            <a:off x="2666880" y="4940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3"/>
          <p:cNvSpPr/>
          <p:nvPr/>
        </p:nvSpPr>
        <p:spPr>
          <a:xfrm>
            <a:off x="3886200" y="48639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94"/>
          <p:cNvSpPr/>
          <p:nvPr/>
        </p:nvSpPr>
        <p:spPr>
          <a:xfrm flipV="1">
            <a:off x="5257800" y="3492360"/>
            <a:ext cx="990720" cy="152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5"/>
          <p:cNvSpPr/>
          <p:nvPr/>
        </p:nvSpPr>
        <p:spPr>
          <a:xfrm>
            <a:off x="5257800" y="501660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0.00578 C 0.00018 -0.10127 0.06407 -0.18867 0.14202 -0.18867 C 0.22014 -0.18867 0.28351 -0.10127 0.28351 0.00578 C 0.28351 0.11307 0.22014 0.19977 0.14202 0.19977 C 0.06407 0.19977 0.00018 0.11307 0.00018 0.00578 Z">
                                      <p:cBhvr>
                                        <p:cTn id="39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21600000">
                                      <p:cBhvr>
                                        <p:cTn id="4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-2.42775E-006 C -3.05556E-006 -0.05225 0.03299 -0.0948 0.07309 -0.0948 C 0.11337 -0.0948 0.14584 -0.05225 0.14584 -2.42775E-006 C 0.14584 0.05226 0.11337 0.09411 0.07309 0.09411 C 0.03299 0.09411 -3.05556E-006 0.05226 -3.05556E-006 -2.42775E-006 Z">
                                      <p:cBhvr>
                                        <p:cTn id="402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0.0111 L 0.28334 -0.26636 E">
                                      <p:cBhvr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body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t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s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the 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ne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914400" y="5715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05b"/>
          <p:cNvPicPr/>
          <p:nvPr/>
        </p:nvPicPr>
        <p:blipFill>
          <a:blip r:embed="rId1"/>
          <a:stretch/>
        </p:blipFill>
        <p:spPr>
          <a:xfrm>
            <a:off x="5018040" y="1752480"/>
            <a:ext cx="3516480" cy="4419720"/>
          </a:xfrm>
          <a:prstGeom prst="rect">
            <a:avLst/>
          </a:prstGeom>
          <a:ln w="0">
            <a:noFill/>
          </a:ln>
        </p:spPr>
      </p:pic>
      <p:sp>
        <p:nvSpPr>
          <p:cNvPr id="3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4343400" y="1523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3124080" y="39625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9907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6765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4648320" y="58672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2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952280"/>
            <a:ext cx="3962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nd opposite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05c"/>
          <p:cNvPicPr/>
          <p:nvPr/>
        </p:nvPicPr>
        <p:blipFill>
          <a:blip r:embed="rId1"/>
          <a:stretch/>
        </p:blipFill>
        <p:spPr>
          <a:xfrm>
            <a:off x="4800600" y="1952640"/>
            <a:ext cx="4038480" cy="39718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990720" y="439092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Universal Law of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ce proportional to the product of their masses and inversely proportional to the square of their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895480" y="487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 = -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4419720" y="5181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34340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4956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676520" y="5943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743200" y="4648320"/>
            <a:ext cx="25146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rding to Newton’s universal law of gravity, the sun is attracting the Earth with a force of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3.6*10</a:t>
            </a:r>
            <a:r>
              <a:rPr b="0" lang="en-US" sz="3600" spc="-1" strike="noStrike" u="sng" baseline="30000">
                <a:solidFill>
                  <a:srgbClr val="ffff00"/>
                </a:solidFill>
                <a:uFillTx/>
                <a:latin typeface="Arial"/>
              </a:rPr>
              <a:t>22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 N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gravitational force that the Earth exerts on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3124080"/>
            <a:ext cx="7238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7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6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9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s on the relative speed of the Earth with respect to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onehenge_aerial"/>
          <p:cNvPicPr/>
          <p:nvPr/>
        </p:nvPicPr>
        <p:blipFill>
          <a:blip r:embed="rId1"/>
          <a:stretch/>
        </p:blipFill>
        <p:spPr>
          <a:xfrm>
            <a:off x="-1295280" y="-449280"/>
            <a:ext cx="10972800" cy="7307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Stoneh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toneh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1c"/>
          <p:cNvPicPr/>
          <p:nvPr/>
        </p:nvPicPr>
        <p:blipFill>
          <a:blip r:embed="rId1"/>
          <a:stretch/>
        </p:blipFill>
        <p:spPr>
          <a:xfrm>
            <a:off x="3944880" y="915840"/>
            <a:ext cx="5175360" cy="5791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0" y="3962520"/>
            <a:ext cx="38862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ed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000 – 1800 B.C. in Great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gnments with locations of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unset, sunrise, moonset and moonrise at summer and winter sols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ly used as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le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stonehenge_solstice"/>
          <p:cNvPicPr/>
          <p:nvPr/>
        </p:nvPicPr>
        <p:blipFill>
          <a:blip r:embed="rId2"/>
          <a:stretch/>
        </p:blipFill>
        <p:spPr>
          <a:xfrm>
            <a:off x="76320" y="9334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152280" y="928800"/>
            <a:ext cx="8839440" cy="5214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828800" y="6248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g Horn Medicine Wheel (Wyo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03a"/>
          <p:cNvPicPr/>
          <p:nvPr/>
        </p:nvPicPr>
        <p:blipFill>
          <a:blip r:embed="rId1"/>
          <a:stretch/>
        </p:blipFill>
        <p:spPr>
          <a:xfrm>
            <a:off x="152280" y="1523880"/>
            <a:ext cx="4038840" cy="431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09480" y="6019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racol (Mexico); Maya culture, approx. A.D.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03b"/>
          <p:cNvPicPr/>
          <p:nvPr/>
        </p:nvPicPr>
        <p:blipFill>
          <a:blip r:embed="rId2"/>
          <a:stretch/>
        </p:blipFill>
        <p:spPr>
          <a:xfrm>
            <a:off x="4267080" y="2057400"/>
            <a:ext cx="4724640" cy="3438360"/>
          </a:xfrm>
          <a:prstGeom prst="rect">
            <a:avLst/>
          </a:prstGeom>
          <a:ln w="0">
            <a:noFill/>
          </a:ln>
        </p:spPr>
      </p:pic>
      <p:sp>
        <p:nvSpPr>
          <p:cNvPr id="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y is it so difficult to find out about the state of astronomical knowledge of bronze-age civiliz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itten documents from that time are in a language that we don’t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are no written documents documents from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didn’t have any astronomical knowledg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cient Greek Astron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were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pro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first principles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ieved to be “obvious” and were not questio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371600" y="2819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 Geocentric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 of the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371600" y="423864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 “Perfect Heavens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tions of all celestial bodies can be described by motions involving objects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perfect” 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heres or 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22:00:39Z</dcterms:created>
  <dc:creator>Markus Boettcher</dc:creator>
  <dc:description/>
  <dc:language>en-US</dc:language>
  <cp:lastModifiedBy>Legion</cp:lastModifiedBy>
  <dcterms:modified xsi:type="dcterms:W3CDTF">2017-01-26T09:14:22Z</dcterms:modified>
  <cp:revision>296</cp:revision>
  <dc:subject/>
  <dc:title>The Roots of Astronomy</dc:title>
</cp:coreProperties>
</file>