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-46080" bIns="-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pent most of his life trying to prove the theories of Coperni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irst to effectively use the tele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oman Catholic Philosoph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arth and humans are the center of all th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y would the Roman Catholics care whether the Earth was the center of the univer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is retrograde mo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is the difference between heliocentric and geocentr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was Ptolemy’s theor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y was Galileo importa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reek philosop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elieved the Earth was the center of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arth was surrounded by water, air, and f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e thought that the moon, sun, five planets, and the stars all revolved around the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eocentric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n is the center of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eliocentric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irst to measure the distance to the sun and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VOLUTION is the cycle in which a planet orbits the sun (one ye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OTATION is the cycle of a planet spinning on its axis; day to night (one day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maginary line on which an object ro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arth’s axis goes through its center from the North to the South P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is the major difference between the universe models of Aristotle and Aristarchu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is rotation different from revolu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greed with ARISTOTLE’S geocentric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trograde motion is the idea that a planet moves back and forth in a looping motion; “Mars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eliocentric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panded the ideas of Aristarch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dentified the positions of the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76B8-AEE3-4F1D-88EE-E7B6E1C63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2C95-DBE6-4477-B7E2-6F47F2494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C221-C431-4BBF-997F-B1929E438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5B1B-7506-4F62-AF11-F68C7AC1E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9C63A-F491-464C-91FE-C8FDF4233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20557-97CF-468B-B463-C80B4263B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94A7B-A059-4C45-AFFC-43070C027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56FF9-413C-4079-B667-1B58EEE1C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146DB-C26E-4C59-BE15-587FBFFF2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4CF9F-2DD5-46C4-92BD-68D7F28A6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53DC7-375F-4718-97D7-1D16FCB0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FCBF-D550-4828-8DBD-DC1E2272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32E30-DF88-49E4-913F-8705868B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4502D-F7C1-4834-B966-73F52A69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81763-D355-42E3-B4A4-3509735DF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CDF56-D6E1-484E-A730-FB1B685D8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30A17-1A5D-4779-B3ED-69809EAF6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EC92-63BF-4FD4-8558-C2FCFBCF2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5314-CCA6-4E76-BFB0-709DCB9C9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C1B4-E31C-4CA8-A7B7-C69E42EFF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08FC-4564-4C6A-9D44-B67FE82C5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6639-3B4C-42DF-9B8B-71C97913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A3E5-FEA6-49A7-BA56-DF64B8B6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C86B-415B-44B6-AA11-4556C43F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2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Comic Sans MS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Comic Sans MS"/>
              </a:endParaRPr>
            </a:p>
          </p:txBody>
        </p:sp>
        <p:sp>
          <p:nvSpPr>
            <p:cNvPr id="3" name="Arc 4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Comic Sans MS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Comic Sans MS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9BE7C-99BF-411A-9AE1-8B29F1C7074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6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2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Comic Sans MS"/>
              </a:endParaRPr>
            </a:p>
          </p:txBody>
        </p:sp>
        <p:sp>
          <p:nvSpPr>
            <p:cNvPr id="48" name="Arc 3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Comic Sans MS"/>
              </a:endParaRPr>
            </a:p>
          </p:txBody>
        </p:sp>
        <p:sp>
          <p:nvSpPr>
            <p:cNvPr id="49" name="Arc 4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Comic Sans MS"/>
              </a:endParaRPr>
            </a:p>
          </p:txBody>
        </p:sp>
        <p:sp>
          <p:nvSpPr>
            <p:cNvPr id="50" name="AutoShape 5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Comic Sans MS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4C1E2-2E06-47D0-B3A0-32656FC4595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Astronomy</a:t>
            </a:r>
            <a:br>
              <a:rPr sz="4400"/>
            </a:b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Ancient Philosophi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Galileo (1564-1642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Spent most of his life trying to prove the theories of Copernicu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First to effectively use the telescop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page 43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4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9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Roman Catholic Philosoph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Earth and humans are the center of all thing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Ques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Why would the Roman Catholics care whether the Earth was the center of the universe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What is retrograde motion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Ques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What is the difference between heliocentric and geocentric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What was Ptolemy’s theory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Why was Galileo important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6" dur="2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4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4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Aristotle (384-322) B.C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Greek philosopher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Believed the Earth was the center of the univers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Earth was surrounded by water, air, and fir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Aristot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He thought that the moon, sun, five planets, and the stars all revolved around the Earth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Geocentric model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Aristarchus (3rd Century B.C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Sun is the center of the univers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Heliocentric model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First to measure the distance to the sun and mo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Aristarchu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REVOLUTION is the cycle in which a planet orbits the sun (one year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ROTATION is the cycle of a planet spinning on its axis; day to night (one day)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What is an axis?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Imaginary line on which an object rotat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Earth’s axis goes through its center from the North to the South Pol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Ques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What is the major difference between the universe models of Aristotle and Aristarchus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How is rotation different from revolution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Ptolemy (2nd century A.D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Agreed with ARISTOTLE’S geocentric model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Retrograde motion is the idea that a planet moves back and forth in a looping motion; “Mars” (p.434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Comic Sans MS"/>
              </a:rPr>
              <a:t>Copernicus (1473-1543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Heliocentric model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Expanded the ideas of Aristarchu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Identified the positions of the plane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6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9T22:06:38Z</dcterms:created>
  <dc:creator>Newport News</dc:creator>
  <dc:description/>
  <dc:language>en-US</dc:language>
  <cp:lastModifiedBy>Legion</cp:lastModifiedBy>
  <dcterms:modified xsi:type="dcterms:W3CDTF">2017-01-26T09:03:56Z</dcterms:modified>
  <cp:revision>5</cp:revision>
  <dc:subject/>
  <dc:title>Astronomy </dc:title>
</cp:coreProperties>
</file>