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pent most of his life trying to prove the theories of Copern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effectively use th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man Catholic Philoso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and humans are the center of all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retrograde mo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difference between heliocentric and geocentr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as Ptolemy’s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as Galileo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eek philosop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lieved the Earth wa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was surrounded by water, air, and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n i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measure the distance to the sun and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VOLUTION is the cycle in which a planet orbits the sun (one y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maginary line on which an object ro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’s axis goes through its center from the North to the South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rotation different from rev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greed with ARISTOTLE’S 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trograde motion is the idea that a planet moves back and forth in a looping motion; “Mar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anded the ideas of Aristarc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ntified the positions of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FA3-9526-441E-A28F-430B64DD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A44-144A-402B-9D14-BE15DFEA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B461-4576-4503-B80C-C08A3418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430-8A7D-4685-958F-2787794C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D053-A980-439B-A61C-F26BE8E6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B14D-6DD8-449E-BD4A-048FE4DB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A869-A55B-4B64-A25F-D970510C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7B9A-3EAF-4A89-9AE0-21066574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D922-A739-4825-BF4E-67710D36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C16F-B6E1-429F-901F-E53A323E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3C90-6929-43F9-997F-3A0C014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8D2-0F2E-45C8-BD63-A309B993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5336-8704-4920-AFC5-DF183941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DDC4-0029-44C3-9C83-BB56421D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C2DA-2173-43E3-98AB-9400ADB6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9975-3D37-4B05-A652-D9D132FE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75AF-10C0-41C1-A639-F665C91E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7C4-8DA1-4238-B0A0-38F4C188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42F-8F2F-4107-957C-DC158016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FD7-EDEE-473B-BDE6-BC3B9B63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1919-07A6-4787-A25F-A1EB2A8D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7652-E222-4417-A4DF-6CFDE449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310-EB08-4640-9280-6DDD511C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5B9-5755-4EDF-8F02-26EBF2F7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DD96-02AF-4DBC-8686-736952E3B7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141F-4C6F-4689-9D0C-49FCF84B575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Astronomy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ncient Philosoph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Galileo (1564-164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ent most of his life trying to prove the theories of Copernic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effectively use the telescop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ge 43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Roman Catholic Philosop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and humans are the center of all thin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retrograde mo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difference between heliocentric and geocentric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was Ptolemy’s theor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as Galileo importan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 (384-322) B.C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reek philosopher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elieved the Earth wa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was surrounded by water, air, and fi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 (3rd Century B.C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un i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measure the distance to the sun and mo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VOLUTION is the cycle in which a planet orbits the sun (one year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What is an axi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maginary line on which an object rot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’s axis goes through its center from the North to the South Po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ow is rotation different from revolu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Ptolemy (2nd century A.D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greed with ARISTOTLE’S 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trograde motion is the idea that a planet moves back and forth in a looping motion; “Mars” (p.434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pernicus (1473-154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xpanded the ideas of Aristarch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dentified the positions of the plane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22:06:38Z</dcterms:created>
  <dc:creator>Newport News</dc:creator>
  <dc:description/>
  <dc:language>en-US</dc:language>
  <cp:lastModifiedBy>Legion</cp:lastModifiedBy>
  <dcterms:modified xsi:type="dcterms:W3CDTF">2017-01-26T09:03:56Z</dcterms:modified>
  <cp:revision>5</cp:revision>
  <dc:subject/>
  <dc:title>Astronomy </dc:title>
</cp:coreProperties>
</file>