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0249-963E-44C1-B142-0B8E5546E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365-1E06-496C-B0D2-97FB313D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BFB-9D57-4592-AFC5-CA51C3D7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BA5-547C-4CD3-99C8-6B080681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302-B031-48C8-9893-475A54A1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C60-E5F7-4B26-A28A-F6EB5984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A90-9D31-45FD-B15D-25E1D950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A07-BFB7-4DC9-9B87-2F0ECB1D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827-EA43-4F16-8C16-F57BE340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C3E-3350-48EE-81A6-D812885C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34B-5D0D-43D3-B522-E7A0A76B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EBE-4723-4533-BB6B-6B8C6A48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173-F46F-4002-A5D5-254644BA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9E10-521C-480F-9778-E88897D3F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400800" cy="39625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have a nucleus that contai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ns and 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contain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l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surround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is made of most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shells are filled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le Gase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element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8320" y="1600200"/>
          <a:ext cx="4038480" cy="4905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 Sh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ell containing electrons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th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nucleus is called the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 gases are us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they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ce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wo atoms to join together atoms mu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, lose or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with full valence shel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gain or los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ant to g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ill try to gain or lose electrons to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with a charge is called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2:43:07Z</dcterms:created>
  <dc:creator>Doug</dc:creator>
  <dc:description/>
  <dc:language>en-US</dc:language>
  <cp:lastModifiedBy>LEGION</cp:lastModifiedBy>
  <dcterms:modified xsi:type="dcterms:W3CDTF">2017-01-26T09:17:48Z</dcterms:modified>
  <cp:revision>4</cp:revision>
  <dc:subject/>
  <dc:title>Valence Electrons  &amp;  Bohr Diagrams</dc:title>
</cp:coreProperties>
</file>